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770D-02D4-470B-B45F-FAC4A080FCD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3BB0-47DC-431D-9EBB-E746409A3E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50E-DB1A-46A3-B06C-329DF895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387-4F7C-4138-983E-D2C0CD96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8622-C8C8-432B-AB84-88D7296D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4103-3C36-4074-802F-98A941C5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ABB2-9ABD-4808-9254-7F3743EE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9C1-86CD-4BA0-B53D-A98E3C5F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6D4-4D20-421C-8038-407571BF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AA6-0E10-4484-A8B4-C57FFE1B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7E1-B97E-4200-BAC6-9E46F96A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050A-72D6-465B-AEF3-F8411F89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4954-01A5-481A-9C39-1CFE42C0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5AF3-CD2F-4917-8AB7-24C01129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9317-8A5C-4EA3-B6EB-A6BC58BB8E4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31800" y="770040"/>
            <a:ext cx="1392120" cy="216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3382920" y="790560"/>
            <a:ext cx="2032200" cy="2158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6732720" y="836640"/>
            <a:ext cx="1657080" cy="216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4"/>
          <a:stretch/>
        </p:blipFill>
        <p:spPr>
          <a:xfrm>
            <a:off x="503280" y="3692520"/>
            <a:ext cx="1461960" cy="216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5"/>
          <a:stretch/>
        </p:blipFill>
        <p:spPr>
          <a:xfrm>
            <a:off x="3500280" y="3713040"/>
            <a:ext cx="1609920" cy="216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6"/>
          <a:stretch/>
        </p:blipFill>
        <p:spPr>
          <a:xfrm>
            <a:off x="6543720" y="3716280"/>
            <a:ext cx="1873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3:59:03Z</dcterms:modified>
  <cp:revision>118</cp:revision>
  <dc:subject/>
  <dc:title>TITLE</dc:title>
</cp:coreProperties>
</file>