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BB5B-6936-4380-B2D8-A590FB5238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FB9-D90D-4337-9D67-792C310EB3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2E5-3750-4988-9DFE-6D691832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700-FA1F-4772-8A1C-2BBAC53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011-20B7-4569-9949-6ED7BEC5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D82-BC01-4999-A342-C7832FD3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EB2-7FDD-43C4-9849-AD02A7C0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8C8-9F6A-4AE3-B630-F785EAE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F9A-FFAB-41FC-818D-1FE75F4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066-C0D5-4F2F-9B64-F077EEE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819-0B1D-458B-9FB6-87DBAF2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AF6-70E1-4D37-9B9D-E9B31AF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37C-9004-482F-9073-3CB06DB2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9B9-9D23-47DF-8A12-106ABC6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2CE-8486-4F5E-9351-EB0853E69A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31800" y="770040"/>
            <a:ext cx="13921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382920" y="790560"/>
            <a:ext cx="2032200" cy="215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732720" y="836640"/>
            <a:ext cx="16570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503280" y="3692520"/>
            <a:ext cx="14619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5"/>
          <a:stretch/>
        </p:blipFill>
        <p:spPr>
          <a:xfrm>
            <a:off x="3500280" y="3713040"/>
            <a:ext cx="16099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6"/>
          <a:stretch/>
        </p:blipFill>
        <p:spPr>
          <a:xfrm>
            <a:off x="6543720" y="371628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59:03Z</dcterms:modified>
  <cp:revision>118</cp:revision>
  <dc:subject/>
  <dc:title>TITLE</dc:title>
</cp:coreProperties>
</file>