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4B0B-828B-44D0-A72F-BCBB4298D3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8B73-8852-4D1C-AC77-EF3E78CD5D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0A4E-68CC-48BB-A39E-61EDFD8DB9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7F6C-043E-4871-A3BC-86FDF9FFF3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A801-E882-4386-8689-D540A42430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3313-F9A2-47C1-9BA4-7678122F91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4C24-EA07-420A-85E7-B9B11C9FDB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93C2-DBC4-4AB4-869C-DE2E41B63C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1CB7-7910-48A2-AE08-0C4497F9E0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1687-4070-4AAF-87D5-EB93BDCAD1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F4A1-46CC-4943-B702-9908A5F22B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53FF-8E1A-40C3-9906-DD762E8B26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9E76-E2D2-4996-B40F-08EF2A505D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9D61-71B1-446A-847C-3A5C8B0C65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27C0-6AFB-40A8-83D3-2D6A511183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6704-0888-45A1-A89E-D21988285A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220C-F8A3-409D-A3DF-B27B4998FE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7A6A-2CA5-40D6-897A-F517DA8695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1569-F4D4-424B-A35B-E1667E12A9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B0F9-641F-408B-B86C-C440449D60A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11B5-DDD6-4600-8592-06ACE399745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6ECF-0B96-4DCD-A51F-771308A71E3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539-D2AB-4BE8-8B5C-01896025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2F3-634B-41AE-876D-B016A301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459-6569-4B85-9743-94CF5622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5D9-ECA5-4EA5-AED7-5E8426FB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092-2942-4000-89B4-9081AD9F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2C1-64D3-4E9F-9F0C-FFDA1406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E41-5082-48E7-BC9D-BBE92844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2B7-9534-4B18-84BA-28683D0D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F8A-592B-40E8-9EE3-5DFBA900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74C-B625-46E4-9EF3-14B44BC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788-DA56-42DA-BB85-4A7DEA2C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9A6-D575-427A-AA1D-DF1B63A6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5C81-376A-4A1E-A770-A01BC132D1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51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243000" y="4521240"/>
            <a:ext cx="2147760" cy="2197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74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286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4640400" y="2338560"/>
            <a:ext cx="2147760" cy="2198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19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1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331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41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12760" y="115920"/>
            <a:ext cx="2147760" cy="2198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64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86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398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6829560" y="115920"/>
            <a:ext cx="2147760" cy="2198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09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421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31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6858000" y="2314440"/>
            <a:ext cx="2147760" cy="2197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54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6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444760" y="109440"/>
            <a:ext cx="2147760" cy="21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76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8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488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2427120" y="2365200"/>
            <a:ext cx="2148120" cy="21974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99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1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511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16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405160" y="4521240"/>
            <a:ext cx="2147760" cy="2197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61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47680" y="2314440"/>
            <a:ext cx="2147760" cy="2197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84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06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635360" y="109440"/>
            <a:ext cx="2148120" cy="21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04840" y="138240"/>
          <a:ext cx="8807400" cy="6589440"/>
        </p:xfrm>
        <a:graphic>
          <a:graphicData uri="http://schemas.openxmlformats.org/drawingml/2006/table">
            <a:tbl>
              <a:tblPr/>
              <a:tblGrid>
                <a:gridCol w="2201760"/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3"/>
          <p:cNvSpPr/>
          <p:nvPr/>
        </p:nvSpPr>
        <p:spPr>
          <a:xfrm>
            <a:off x="4608360" y="4537080"/>
            <a:ext cx="4427640" cy="2347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Box 20"/>
          <p:cNvSpPr/>
          <p:nvPr/>
        </p:nvSpPr>
        <p:spPr>
          <a:xfrm>
            <a:off x="21276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rcRect l="25044" t="0" r="3126" b="0"/>
          <a:stretch/>
        </p:blipFill>
        <p:spPr>
          <a:xfrm>
            <a:off x="5076720" y="2365200"/>
            <a:ext cx="1623960" cy="1508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rcRect l="29874" t="8683" r="30132" b="8200"/>
          <a:stretch/>
        </p:blipFill>
        <p:spPr>
          <a:xfrm>
            <a:off x="7380360" y="2365200"/>
            <a:ext cx="1008000" cy="1362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595440" y="4611600"/>
            <a:ext cx="1708200" cy="1149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4"/>
          <a:srcRect l="0" t="10574" r="12577" b="0"/>
          <a:stretch/>
        </p:blipFill>
        <p:spPr>
          <a:xfrm>
            <a:off x="3117960" y="4611600"/>
            <a:ext cx="1022400" cy="1395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2735280" y="260280"/>
            <a:ext cx="1692360" cy="1387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6"/>
          <a:stretch/>
        </p:blipFill>
        <p:spPr>
          <a:xfrm>
            <a:off x="577800" y="2395440"/>
            <a:ext cx="1725840" cy="1440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7"/>
          <a:srcRect l="0" t="0" r="36979" b="0"/>
          <a:stretch/>
        </p:blipFill>
        <p:spPr>
          <a:xfrm>
            <a:off x="2884320" y="2395440"/>
            <a:ext cx="1543320" cy="1630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8"/>
          <a:srcRect l="8772" t="0" r="8938" b="0"/>
          <a:stretch/>
        </p:blipFill>
        <p:spPr>
          <a:xfrm>
            <a:off x="7164360" y="189000"/>
            <a:ext cx="1803600" cy="1458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9"/>
          <a:srcRect l="7918" t="2723" r="10494" b="0"/>
          <a:stretch/>
        </p:blipFill>
        <p:spPr>
          <a:xfrm>
            <a:off x="495360" y="260280"/>
            <a:ext cx="1700280" cy="1349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"/>
          <p:cNvPicPr/>
          <p:nvPr/>
        </p:nvPicPr>
        <p:blipFill>
          <a:blip r:embed="rId10"/>
          <a:srcRect l="2796" t="10300" r="3343" b="38750"/>
          <a:stretch/>
        </p:blipFill>
        <p:spPr>
          <a:xfrm>
            <a:off x="5003640" y="189000"/>
            <a:ext cx="1729080" cy="1334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0"/>
          <p:cNvSpPr/>
          <p:nvPr/>
        </p:nvSpPr>
        <p:spPr>
          <a:xfrm>
            <a:off x="245124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Box 20"/>
          <p:cNvSpPr/>
          <p:nvPr/>
        </p:nvSpPr>
        <p:spPr>
          <a:xfrm>
            <a:off x="4643280" y="16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6858000" y="16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Box 20"/>
          <p:cNvSpPr/>
          <p:nvPr/>
        </p:nvSpPr>
        <p:spPr>
          <a:xfrm>
            <a:off x="27144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20"/>
          <p:cNvSpPr/>
          <p:nvPr/>
        </p:nvSpPr>
        <p:spPr>
          <a:xfrm>
            <a:off x="2509920" y="39355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20"/>
          <p:cNvSpPr/>
          <p:nvPr/>
        </p:nvSpPr>
        <p:spPr>
          <a:xfrm>
            <a:off x="4570560" y="3935520"/>
            <a:ext cx="22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6916680" y="3935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24"/>
          <p:cNvSpPr/>
          <p:nvPr/>
        </p:nvSpPr>
        <p:spPr>
          <a:xfrm>
            <a:off x="24768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2360520" y="6093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33:50Z</dcterms:modified>
  <cp:revision>163</cp:revision>
  <dc:subject/>
  <dc:title>TITLE</dc:title>
</cp:coreProperties>
</file>