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193-6349-46F2-B795-6D6B3B3144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6416-0DE3-49C3-ACDA-224B4DBE65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391-DC8E-4F0D-B367-188172E44B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BBEE-5BCC-46BA-9829-475295D0B2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1BB4-64EF-4ABD-A816-4D35F09960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B376-9FF1-433F-847D-70B30C349D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1E8-2D0E-4066-832E-58820FEA56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77B1-6CA1-4F0A-946C-120269B06E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661E-D2B1-4816-A358-B5BEB68977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993F-E3E2-4D0C-AD32-81485CA0A3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48A7-206D-4056-8B2B-7F7DE9AF23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4409-606B-4A11-8E7A-8F92A6EABB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DB8-370E-4461-99E3-4BD2680F01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297-BBFF-47D1-9080-E0CCFCCF81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A7DC-6433-448C-AF07-81D58074CF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490-7035-4F03-99AE-7ED9A5ABC1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6784-A529-4283-9804-59EFF06257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95E4-A3A7-4E1B-86C6-C83689CA2A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EA5E-F8FC-4D8B-A9D9-9E6D0F77F0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17ED-409F-4F85-A381-49EFFCD673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5C3-2051-4BDD-948A-F6B91F730D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BB7C-2546-4BC1-B285-EA0354C864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96F-38BE-4FA9-97FA-C84B8288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44B-5DA0-42E9-97E8-3DA4BB0D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039-0E98-438A-B9AC-60FA9B30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714-A388-4414-A183-7145972A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A03-3345-404E-9D4A-94A96AFD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3FE-652A-4BF9-AC34-20FEBAD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D4C-5BE8-4026-ACD6-75584F95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053-AD2E-4AD8-9E61-76C6BBCD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725-E2BF-4D28-B2EB-3AE79166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744-0B67-424D-8B95-9B3CE23E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6CD-1E7C-4994-8024-7C508ECF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701-F2F9-47E4-B009-F42FABE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EA93-8D72-49CC-A4BF-12AA8D71E5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243000" y="45212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7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4640400" y="2338560"/>
            <a:ext cx="2147760" cy="2198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1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4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12760" y="115920"/>
            <a:ext cx="2147760" cy="2198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6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8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6829560" y="115920"/>
            <a:ext cx="2147760" cy="2198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6858000" y="23144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5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444760" y="109440"/>
            <a:ext cx="2147760" cy="21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7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8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2427120" y="2365200"/>
            <a:ext cx="2148120" cy="21974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405160" y="45212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47680" y="23144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35360" y="109440"/>
            <a:ext cx="2148120" cy="21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3:50Z</dcterms:modified>
  <cp:revision>163</cp:revision>
  <dc:subject/>
  <dc:title>TITLE</dc:title>
</cp:coreProperties>
</file>