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F80B-1570-4B90-99E6-71B00DABB2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7E05-0D91-447D-98D3-891B0B6CC4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514-670B-4B07-B339-4DAE43B27B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EC3-0C84-4110-9A91-F6F33FE191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F02-0AF9-4247-9759-CFA9795711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0484-1039-4281-BE51-06859CD465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D99-D7DB-4597-B43D-48597DA3C4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7CF-5C0B-420E-8A1F-D9812BF63D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FC20-BB8D-4F20-B912-D7C95B0784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33D-FDEC-40BB-B6D0-7EAFC33E66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9FB-41AC-405D-96CA-EFC64A9E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3BC-FD59-44A0-ACBE-252DA9C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536-22C1-4B6C-9168-15CD13D4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427-5A49-4563-81FA-85BF0159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B63-8883-4A50-A860-4CE4D37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701-C3BD-4D1E-A5E0-C504F355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E7A-B84C-4ED8-BE22-889011F4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0EC-3AEB-471F-A379-F21527E8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C93-FA07-4B64-AD53-E8B329D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F82-3466-479B-94F7-AAAF05E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0F7-299E-4491-806A-425E4C2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92D-5B41-432B-870B-3814890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A12-A397-4030-AB79-509826EB35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9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 special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0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el 12 de octub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4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6"/>
                </a:solidFill>
                <a:latin typeface="Comic Sans MS"/>
              </a:rPr>
              <a:t>La Fiesta Nacional de Españ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24818" t="41565" r="39166" b="15334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24818" t="21149" r="39166" b="3858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8866" t="24564" r="55705" b="7752"/>
          <a:stretch/>
        </p:blipFill>
        <p:spPr>
          <a:xfrm>
            <a:off x="1619280" y="0"/>
            <a:ext cx="5743440" cy="6858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2371" t="24186" r="49207" b="19481"/>
          <a:stretch/>
        </p:blipFill>
        <p:spPr>
          <a:xfrm>
            <a:off x="0" y="0"/>
            <a:ext cx="9144000" cy="66484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371" t="25523" r="49207" b="19670"/>
          <a:stretch/>
        </p:blipFill>
        <p:spPr>
          <a:xfrm>
            <a:off x="0" y="0"/>
            <a:ext cx="9144000" cy="6469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14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6"/>
                </a:solidFill>
                <a:latin typeface="Comic Sans MS"/>
              </a:rPr>
              <a:t>Columbus Day</a:t>
            </a:r>
            <a:br>
              <a:rPr sz="8000"/>
            </a:br>
            <a:r>
              <a:rPr b="0" lang="en-GB" sz="8000" spc="-1" strike="noStrike">
                <a:solidFill>
                  <a:srgbClr val="ffccff"/>
                </a:solidFill>
                <a:latin typeface="Comic Sans MS"/>
              </a:rPr>
              <a:t>Día de la Ra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2276640"/>
            <a:ext cx="4321440" cy="2447640"/>
          </a:xfrm>
          <a:custGeom>
            <a:avLst/>
            <a:gdLst>
              <a:gd name="textAreaLeft" fmla="*/ 158400 w 4321440"/>
              <a:gd name="textAreaRight" fmla="*/ 4163040 w 4321440"/>
              <a:gd name="textAreaTop" fmla="*/ 158400 h 2447640"/>
              <a:gd name="textAreaBottom" fmla="*/ 2289240 h 2447640"/>
            </a:gdLst>
            <a:ahLst/>
            <a:rect l="textAreaLeft" t="textAreaTop" r="textAreaRight" b="textAreaBottom"/>
            <a:pathLst>
              <a:path w="38134" h="21600">
                <a:moveTo>
                  <a:pt x="0" y="0"/>
                </a:moveTo>
                <a:lnTo>
                  <a:pt x="38134" y="0"/>
                </a:lnTo>
                <a:lnTo>
                  <a:pt x="38134" y="21600"/>
                </a:lnTo>
                <a:lnTo>
                  <a:pt x="0" y="21600"/>
                </a:lnTo>
                <a:close/>
              </a:path>
              <a:path fill="lightenLess" w="38134" h="21600">
                <a:moveTo>
                  <a:pt x="0" y="0"/>
                </a:moveTo>
                <a:lnTo>
                  <a:pt x="38134" y="0"/>
                </a:lnTo>
                <a:lnTo>
                  <a:pt x="36734" y="1400"/>
                </a:lnTo>
                <a:lnTo>
                  <a:pt x="1400" y="1400"/>
                </a:lnTo>
                <a:close/>
              </a:path>
              <a:path fill="darken" w="38134" h="21600">
                <a:moveTo>
                  <a:pt x="38134" y="0"/>
                </a:moveTo>
                <a:lnTo>
                  <a:pt x="38134" y="21600"/>
                </a:lnTo>
                <a:lnTo>
                  <a:pt x="36734" y="20200"/>
                </a:lnTo>
                <a:lnTo>
                  <a:pt x="36734" y="1400"/>
                </a:lnTo>
                <a:close/>
              </a:path>
              <a:path fill="darkenLess" w="38134" h="21600">
                <a:moveTo>
                  <a:pt x="38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34" y="20200"/>
                </a:lnTo>
                <a:close/>
              </a:path>
              <a:path fill="lighten" w="38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34" h="21600">
                <a:moveTo>
                  <a:pt x="12060" y="7301"/>
                </a:moveTo>
                <a:lnTo>
                  <a:pt x="12974" y="7301"/>
                </a:lnTo>
                <a:lnTo>
                  <a:pt x="13357" y="7667"/>
                </a:lnTo>
                <a:lnTo>
                  <a:pt x="22566" y="7667"/>
                </a:lnTo>
                <a:lnTo>
                  <a:pt x="23123" y="8224"/>
                </a:lnTo>
                <a:lnTo>
                  <a:pt x="23123" y="8772"/>
                </a:lnTo>
                <a:lnTo>
                  <a:pt x="24968" y="8772"/>
                </a:lnTo>
                <a:lnTo>
                  <a:pt x="25333" y="8224"/>
                </a:lnTo>
                <a:lnTo>
                  <a:pt x="26073" y="8224"/>
                </a:lnTo>
                <a:lnTo>
                  <a:pt x="26073" y="13376"/>
                </a:lnTo>
                <a:lnTo>
                  <a:pt x="25333" y="13376"/>
                </a:lnTo>
                <a:lnTo>
                  <a:pt x="24968" y="12828"/>
                </a:lnTo>
                <a:lnTo>
                  <a:pt x="23123" y="12828"/>
                </a:lnTo>
                <a:lnTo>
                  <a:pt x="23123" y="14107"/>
                </a:lnTo>
                <a:lnTo>
                  <a:pt x="13540" y="14107"/>
                </a:lnTo>
                <a:lnTo>
                  <a:pt x="13540" y="9877"/>
                </a:lnTo>
                <a:lnTo>
                  <a:pt x="13357" y="9877"/>
                </a:lnTo>
                <a:lnTo>
                  <a:pt x="12974" y="10243"/>
                </a:lnTo>
                <a:lnTo>
                  <a:pt x="12060" y="10243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0133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The History of Columbus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0-20T08:20:30Z</dcterms:modified>
  <cp:revision>94</cp:revision>
  <dc:subject/>
  <dc:title>TITLE</dc:title>
</cp:coreProperties>
</file>