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D8A3-2D06-46C3-8262-A72D3C9F60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D450-8856-4BE0-BDBE-27AC0FD92F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AC4A-CAD6-4743-98E7-9C3D22E64D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668-1D40-464C-8E70-177F945BF2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0DDD-ECAA-4E62-945F-B868279CE1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1FF1-AA47-4877-9809-2D47CC6B61A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9C08-DB9E-487D-A3A6-82FCD463CD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1016-EE08-4A36-A90E-83B62D9AC9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198-B007-4711-BF19-8A65E22FFA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136E-00B6-454F-93D8-92CDFD1A2E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3E6-9C4A-4A96-9CC9-6F275684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63B-2EEA-463E-84DE-CA2057D0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EE6-FCB3-4254-AF7B-27DD3D79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3E9-06E6-456D-B122-01B7A00D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DBF-C9F2-48AB-B4F7-31A6DD4C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9C6-774C-49EF-815D-A5916A1B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848-E2BC-425A-B1FF-DA5AF6F8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5F1-D5C4-4639-9654-ACB27A4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B04-171E-440E-A5B5-10339EB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1F8-EDF0-4103-AFAF-A6B4887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E64-DBD2-4833-B2C1-654EE76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E86-E089-478F-AC2F-0818382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EF20-0462-4E6F-8136-3993BB5DE1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6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d9"/>
                </a:solidFill>
                <a:latin typeface="Comic Sans MS"/>
              </a:rPr>
              <a:t>un día especi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9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a special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0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el 12 de octub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6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d9"/>
                </a:solidFill>
                <a:latin typeface="Comic Sans MS"/>
              </a:rPr>
              <a:t>un día especi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149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6"/>
                </a:solidFill>
                <a:latin typeface="Comic Sans MS"/>
              </a:rPr>
              <a:t>La Fiesta Nacional de Españ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24818" t="41565" r="39166" b="15334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24818" t="21149" r="39166" b="38585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8866" t="24564" r="55705" b="7752"/>
          <a:stretch/>
        </p:blipFill>
        <p:spPr>
          <a:xfrm>
            <a:off x="1619280" y="0"/>
            <a:ext cx="5743440" cy="68580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2371" t="24186" r="49207" b="19481"/>
          <a:stretch/>
        </p:blipFill>
        <p:spPr>
          <a:xfrm>
            <a:off x="0" y="0"/>
            <a:ext cx="9144000" cy="66484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371" t="25523" r="49207" b="19670"/>
          <a:stretch/>
        </p:blipFill>
        <p:spPr>
          <a:xfrm>
            <a:off x="0" y="0"/>
            <a:ext cx="9144000" cy="64692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6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d9"/>
                </a:solidFill>
                <a:latin typeface="Comic Sans MS"/>
              </a:rPr>
              <a:t>un día especi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149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66"/>
                </a:solidFill>
                <a:latin typeface="Comic Sans MS"/>
              </a:rPr>
              <a:t>Columbus Day</a:t>
            </a:r>
            <a:br>
              <a:rPr sz="8000"/>
            </a:br>
            <a:r>
              <a:rPr b="0" lang="en-GB" sz="8000" spc="-1" strike="noStrike">
                <a:solidFill>
                  <a:srgbClr val="ffccff"/>
                </a:solidFill>
                <a:latin typeface="Comic Sans MS"/>
              </a:rPr>
              <a:t>Día de la Raz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2276640"/>
            <a:ext cx="4321440" cy="2447640"/>
          </a:xfrm>
          <a:custGeom>
            <a:avLst/>
            <a:gdLst>
              <a:gd name="textAreaLeft" fmla="*/ 158400 w 4321440"/>
              <a:gd name="textAreaRight" fmla="*/ 4163040 w 4321440"/>
              <a:gd name="textAreaTop" fmla="*/ 158400 h 2447640"/>
              <a:gd name="textAreaBottom" fmla="*/ 2289240 h 2447640"/>
            </a:gdLst>
            <a:ahLst/>
            <a:rect l="textAreaLeft" t="textAreaTop" r="textAreaRight" b="textAreaBottom"/>
            <a:pathLst>
              <a:path w="38134" h="21600">
                <a:moveTo>
                  <a:pt x="0" y="0"/>
                </a:moveTo>
                <a:lnTo>
                  <a:pt x="38134" y="0"/>
                </a:lnTo>
                <a:lnTo>
                  <a:pt x="38134" y="21600"/>
                </a:lnTo>
                <a:lnTo>
                  <a:pt x="0" y="21600"/>
                </a:lnTo>
                <a:close/>
              </a:path>
              <a:path fill="lightenLess" w="38134" h="21600">
                <a:moveTo>
                  <a:pt x="0" y="0"/>
                </a:moveTo>
                <a:lnTo>
                  <a:pt x="38134" y="0"/>
                </a:lnTo>
                <a:lnTo>
                  <a:pt x="36734" y="1400"/>
                </a:lnTo>
                <a:lnTo>
                  <a:pt x="1400" y="1400"/>
                </a:lnTo>
                <a:close/>
              </a:path>
              <a:path fill="darken" w="38134" h="21600">
                <a:moveTo>
                  <a:pt x="38134" y="0"/>
                </a:moveTo>
                <a:lnTo>
                  <a:pt x="38134" y="21600"/>
                </a:lnTo>
                <a:lnTo>
                  <a:pt x="36734" y="20200"/>
                </a:lnTo>
                <a:lnTo>
                  <a:pt x="36734" y="1400"/>
                </a:lnTo>
                <a:close/>
              </a:path>
              <a:path fill="darkenLess" w="38134" h="21600">
                <a:moveTo>
                  <a:pt x="38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34" y="20200"/>
                </a:lnTo>
                <a:close/>
              </a:path>
              <a:path fill="lighten" w="38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34" h="21600">
                <a:moveTo>
                  <a:pt x="12060" y="7301"/>
                </a:moveTo>
                <a:lnTo>
                  <a:pt x="12974" y="7301"/>
                </a:lnTo>
                <a:lnTo>
                  <a:pt x="13357" y="7667"/>
                </a:lnTo>
                <a:lnTo>
                  <a:pt x="22566" y="7667"/>
                </a:lnTo>
                <a:lnTo>
                  <a:pt x="23123" y="8224"/>
                </a:lnTo>
                <a:lnTo>
                  <a:pt x="23123" y="8772"/>
                </a:lnTo>
                <a:lnTo>
                  <a:pt x="24968" y="8772"/>
                </a:lnTo>
                <a:lnTo>
                  <a:pt x="25333" y="8224"/>
                </a:lnTo>
                <a:lnTo>
                  <a:pt x="26073" y="8224"/>
                </a:lnTo>
                <a:lnTo>
                  <a:pt x="26073" y="13376"/>
                </a:lnTo>
                <a:lnTo>
                  <a:pt x="25333" y="13376"/>
                </a:lnTo>
                <a:lnTo>
                  <a:pt x="24968" y="12828"/>
                </a:lnTo>
                <a:lnTo>
                  <a:pt x="23123" y="12828"/>
                </a:lnTo>
                <a:lnTo>
                  <a:pt x="23123" y="14107"/>
                </a:lnTo>
                <a:lnTo>
                  <a:pt x="13540" y="14107"/>
                </a:lnTo>
                <a:lnTo>
                  <a:pt x="13540" y="9877"/>
                </a:lnTo>
                <a:lnTo>
                  <a:pt x="13357" y="9877"/>
                </a:lnTo>
                <a:lnTo>
                  <a:pt x="12974" y="10243"/>
                </a:lnTo>
                <a:lnTo>
                  <a:pt x="12060" y="10243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0133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The History of Columbus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09-10-20T08:20:30Z</dcterms:modified>
  <cp:revision>94</cp:revision>
  <dc:subject/>
  <dc:title>TITLE</dc:title>
</cp:coreProperties>
</file>