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D8E8-16CD-483A-8921-D8311AA06A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170B-A7DA-4454-8C1F-940557FE10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603-35F6-4BEC-847C-1649FAC2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4B1-05F6-46D9-99E4-615FD98E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ABB-7228-41EB-8494-A00DE0C9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281-7F9B-4ED4-B94B-0D7264B6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CB7-A46B-4802-92EE-FCD3266C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275-9A83-4239-97DB-839B69A2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B17-8953-4F32-BB61-51B17934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782-F858-4FD1-A3BC-8A928C81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260-BB4B-4E2B-BFA5-7E45451B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B23-51CD-4975-9F96-B602857F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499-7CD5-4CF4-BE19-0C8C50B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C8D-9EAC-4865-B56E-71DB7CC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F6FD-D865-4F13-B7D0-FD0DE714F0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17:17Z</dcterms:modified>
  <cp:revision>200</cp:revision>
  <dc:subject/>
  <dc:title>TITLE</dc:title>
</cp:coreProperties>
</file>