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EE39-DD9D-47E1-AD2D-0E196F722F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C724-4834-4233-B812-17E8F6CD26B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480-94D2-451A-971D-B8D6F984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A6F-92CB-4730-8668-43C6F3AD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DAA-78B6-4255-A27E-1A64628D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5C7-0CA6-4485-8D1D-AC357131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1EBB-F86A-404B-AB31-4635F1FE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B03-390E-467C-989C-AD77510C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A2C-C8A9-4E92-AC5E-7965BD1A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CFE-9E39-4D4C-AEAA-91FDE7A0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844-A40A-4ABC-96C7-738A45B7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A542-4801-4E19-9179-BCE755F7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7BF-9697-4C70-9A27-EAA103A0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EDA-9B60-4E85-AB7A-D9F686AE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5F5F-C9B1-44AE-B129-3D15B9D8A7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3-02T13:17:17Z</dcterms:modified>
  <cp:revision>200</cp:revision>
  <dc:subject/>
  <dc:title>TITLE</dc:title>
</cp:coreProperties>
</file>