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CD46-7DFC-42F7-85D0-1CE2E7E765B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54A2-840F-45D4-BDF5-013CBD04E08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6C74-F9EE-41DC-AAC0-392358AF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4984-51C4-4044-856E-F9F2E170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6ADB-7182-41A8-A20E-E4FA595C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7D98-3821-49F9-8742-BFDBE5A6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6F02-BA15-4FE0-99D5-57032DBB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5E22-7418-419D-A8CD-6C1FB7B9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78AE-DB1D-49AB-8D3B-2D36457D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2EF5-D421-4E81-AE25-CAE29586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AA2D-A32A-489B-A5A1-526D544D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7935-AA76-4028-83AA-B2091ACB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5B86-8387-4316-94A8-78667059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02DB-96D4-4C3E-B104-710A446C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C32E-A137-46AE-8761-ABF4D23E118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49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61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75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6"/>
          <a:stretch/>
        </p:blipFill>
        <p:spPr>
          <a:xfrm>
            <a:off x="106200" y="4946760"/>
            <a:ext cx="1976760" cy="18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26T11:52:41Z</dcterms:modified>
  <cp:revision>189</cp:revision>
  <dc:subject/>
  <dc:title>TITLE</dc:title>
</cp:coreProperties>
</file>