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1305-A54B-4F22-9773-730C5A26A8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6AF-BEFC-4439-849C-4616A889E2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3B4-9CCC-4E15-84EE-2537A5F7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B66-B14E-4F9F-9605-50460573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4A3-D601-4003-9B0B-60DF08B1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AD4-74B3-4F17-81FB-8D521973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815-40F8-4D28-A050-DADF5695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0BE-C3B5-49CD-9E6E-88A815DE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531-1585-45E8-BF93-0FD5BED7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092-C826-4F34-AAE2-74D3B904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472-2172-4445-9833-E1C7B9C8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115-0888-4D19-8777-E222CE48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DEB-4EFE-417F-B390-49F7F03F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AE0-07EF-4EDC-B49D-E971C9C2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017A-E549-4040-BCDF-657FC8C1B9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2:41Z</dcterms:modified>
  <cp:revision>189</cp:revision>
  <dc:subject/>
  <dc:title>TITLE</dc:title>
</cp:coreProperties>
</file>