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AFE9-8BA6-45BC-B9C5-4F134C5227A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B41C-DA41-4AD4-A89A-2ED82113D8C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85A0-53BA-46FB-BDCA-9966FA81A0B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BF53-35C8-48E8-BD0A-F178AEFB95A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4C22-9FF1-4C14-8DEC-C5371C808B6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7A7B-8E8B-42AF-808B-14428E3E9D5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6DC9-71E5-4B16-B4FE-7E50D73E81F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0D14-3AB9-4C3B-B55B-80B9E165705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4483-EF6D-43A6-BC06-3CCE3E737AE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8A2B-32D6-4E1A-9F0F-33F4E641D79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FD28-0E28-466D-9500-5D43406EFB9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AF4D-23C3-454D-8B71-A7AEE5336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024D-E6BD-46F2-8970-E38C59F4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151B-EE74-4C5C-BD9D-C91400AB9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CEBB-469A-44D7-B48A-0C314F093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D340-B92D-4367-A2E4-A5306777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52CF-CF6B-4021-9B85-39CD1700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9FD1-77E0-4665-8093-868366F9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9F6D-9492-4ECD-B2FC-96B65DC0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9FAF-63EF-4093-979A-4481846D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E894-B731-4F7D-8EC5-4A1CD67D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27B6-4C4D-467E-83F6-5A416546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03FC-5378-46D2-B411-10CB2954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E1EA-261A-4697-9D6C-E3A50F98791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395280" y="404640"/>
            <a:ext cx="9367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95280" y="2633760"/>
          <a:ext cx="8424720" cy="159048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15904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51" name="Rectangle 5"/>
          <p:cNvSpPr/>
          <p:nvPr/>
        </p:nvSpPr>
        <p:spPr>
          <a:xfrm>
            <a:off x="6732720" y="2924280"/>
            <a:ext cx="1295280" cy="884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395280" y="404640"/>
            <a:ext cx="9367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95280" y="2633760"/>
          <a:ext cx="8424720" cy="159048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15904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87" name="Rectangle 5"/>
          <p:cNvSpPr/>
          <p:nvPr/>
        </p:nvSpPr>
        <p:spPr>
          <a:xfrm>
            <a:off x="1116000" y="2924280"/>
            <a:ext cx="1295280" cy="884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395280" y="404640"/>
            <a:ext cx="9367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95280" y="2633760"/>
          <a:ext cx="8424720" cy="159048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15904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55" name="Rectangle 5"/>
          <p:cNvSpPr/>
          <p:nvPr/>
        </p:nvSpPr>
        <p:spPr>
          <a:xfrm>
            <a:off x="1187280" y="2924280"/>
            <a:ext cx="1297080" cy="884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395280" y="404640"/>
            <a:ext cx="9367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95280" y="2633760"/>
          <a:ext cx="8424720" cy="159048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15904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59" name="Rectangle 5"/>
          <p:cNvSpPr/>
          <p:nvPr/>
        </p:nvSpPr>
        <p:spPr>
          <a:xfrm>
            <a:off x="3924360" y="2987640"/>
            <a:ext cx="1295280" cy="8827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395280" y="404640"/>
            <a:ext cx="9367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95280" y="2633760"/>
          <a:ext cx="8424720" cy="159048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15904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63" name="Rectangle 5"/>
          <p:cNvSpPr/>
          <p:nvPr/>
        </p:nvSpPr>
        <p:spPr>
          <a:xfrm>
            <a:off x="3924360" y="2987640"/>
            <a:ext cx="1295280" cy="8827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395280" y="404640"/>
            <a:ext cx="9367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95280" y="2633760"/>
          <a:ext cx="8424720" cy="159048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15904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67" name="Rectangle 5"/>
          <p:cNvSpPr/>
          <p:nvPr/>
        </p:nvSpPr>
        <p:spPr>
          <a:xfrm>
            <a:off x="1187280" y="2987640"/>
            <a:ext cx="1297080" cy="8827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395280" y="404640"/>
            <a:ext cx="9367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95280" y="2633760"/>
          <a:ext cx="8424720" cy="159048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15904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71" name="Rectangle 5"/>
          <p:cNvSpPr/>
          <p:nvPr/>
        </p:nvSpPr>
        <p:spPr>
          <a:xfrm>
            <a:off x="6659640" y="2987640"/>
            <a:ext cx="1297080" cy="8827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395280" y="404640"/>
            <a:ext cx="9367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95280" y="2633760"/>
          <a:ext cx="8424720" cy="159048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15904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5"/>
          <p:cNvSpPr/>
          <p:nvPr/>
        </p:nvSpPr>
        <p:spPr>
          <a:xfrm>
            <a:off x="1116000" y="2924280"/>
            <a:ext cx="1295280" cy="884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95280" y="404640"/>
            <a:ext cx="9367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95280" y="2633760"/>
          <a:ext cx="8424720" cy="159048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15904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79" name="Rectangle 5"/>
          <p:cNvSpPr/>
          <p:nvPr/>
        </p:nvSpPr>
        <p:spPr>
          <a:xfrm>
            <a:off x="6659640" y="2987640"/>
            <a:ext cx="1297080" cy="8827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395280" y="404640"/>
            <a:ext cx="9367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95280" y="2633760"/>
          <a:ext cx="8424720" cy="159048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15904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83" name="Rectangle 5"/>
          <p:cNvSpPr/>
          <p:nvPr/>
        </p:nvSpPr>
        <p:spPr>
          <a:xfrm>
            <a:off x="4067280" y="2987640"/>
            <a:ext cx="1296720" cy="8827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21-10-01T09:16:20Z</dcterms:modified>
  <cp:revision>122</cp:revision>
  <dc:subject/>
  <dc:title>TITLE</dc:title>
</cp:coreProperties>
</file>