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1C4F-5576-480F-AF29-39FA37FD6A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DFC5-8B3A-45B9-BA3F-F68CADD42B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C94E-58FA-406B-8192-622C868C9B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6CA5-0D2E-448D-AA57-D81D27DD8B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2F06-52CA-4D6F-9505-EF51BC1926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CCE5-1C01-4168-B2DB-5DEB3BA3B4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6C14-F095-4F31-930D-52A247EA04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A3BF-3CF1-4BED-87D1-4633ED781E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C75-A7A9-46A1-B574-79F2091781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3FF4-C3DA-4089-9FCE-BA3CD9EB4D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49C8-CE8F-446D-A1B3-0AF4A75A61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FA1-FC3B-48EB-81F2-7E437647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8A5-C91E-4325-9C69-B4230FB7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586-88DD-4C75-83D0-30BB9472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F36-FF0A-4554-9B89-B324B140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0C6-4EF3-4E63-8B14-46AAC086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D0B-7160-4E1B-BC6E-D2437D6A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73A-0A07-4296-9470-38BB445A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710-B0F7-4B0B-9601-A13A1B62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1F4-2BD3-4459-8876-880F8643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3FE-4229-4E64-9B51-3880EAEC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B0E-9FE9-45E3-834D-6BE2D6BC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86A-81DB-4661-9B50-D9485F82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42B2-61AE-4777-9478-955AB1EFE0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1" name="Rectangle 5"/>
          <p:cNvSpPr/>
          <p:nvPr/>
        </p:nvSpPr>
        <p:spPr>
          <a:xfrm>
            <a:off x="6732720" y="2924280"/>
            <a:ext cx="1295280" cy="884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7" name="Rectangle 5"/>
          <p:cNvSpPr/>
          <p:nvPr/>
        </p:nvSpPr>
        <p:spPr>
          <a:xfrm>
            <a:off x="1116000" y="2924280"/>
            <a:ext cx="1295280" cy="884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5"/>
          <p:cNvSpPr/>
          <p:nvPr/>
        </p:nvSpPr>
        <p:spPr>
          <a:xfrm>
            <a:off x="1187280" y="2924280"/>
            <a:ext cx="1297080" cy="884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5"/>
          <p:cNvSpPr/>
          <p:nvPr/>
        </p:nvSpPr>
        <p:spPr>
          <a:xfrm>
            <a:off x="3924360" y="2987640"/>
            <a:ext cx="1295280" cy="882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5"/>
          <p:cNvSpPr/>
          <p:nvPr/>
        </p:nvSpPr>
        <p:spPr>
          <a:xfrm>
            <a:off x="3924360" y="2987640"/>
            <a:ext cx="1295280" cy="882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7" name="Rectangle 5"/>
          <p:cNvSpPr/>
          <p:nvPr/>
        </p:nvSpPr>
        <p:spPr>
          <a:xfrm>
            <a:off x="1187280" y="2987640"/>
            <a:ext cx="1297080" cy="882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5"/>
          <p:cNvSpPr/>
          <p:nvPr/>
        </p:nvSpPr>
        <p:spPr>
          <a:xfrm>
            <a:off x="6659640" y="2987640"/>
            <a:ext cx="1297080" cy="882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5"/>
          <p:cNvSpPr/>
          <p:nvPr/>
        </p:nvSpPr>
        <p:spPr>
          <a:xfrm>
            <a:off x="1116000" y="2924280"/>
            <a:ext cx="1295280" cy="884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9" name="Rectangle 5"/>
          <p:cNvSpPr/>
          <p:nvPr/>
        </p:nvSpPr>
        <p:spPr>
          <a:xfrm>
            <a:off x="6659640" y="2987640"/>
            <a:ext cx="1297080" cy="882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3" name="Rectangle 5"/>
          <p:cNvSpPr/>
          <p:nvPr/>
        </p:nvSpPr>
        <p:spPr>
          <a:xfrm>
            <a:off x="4067280" y="2987640"/>
            <a:ext cx="1296720" cy="882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1-10-01T09:16:20Z</dcterms:modified>
  <cp:revision>122</cp:revision>
  <dc:subject/>
  <dc:title>TITLE</dc:title>
</cp:coreProperties>
</file>