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F80-04C0-4A15-9225-0B2A41E527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148-18A3-4B70-A3EE-1C209982F3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D32D-C7FF-4F39-8279-137524695F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10F-DA35-48BC-AD3B-9D783CC760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9C4-5931-4226-9453-FA54EB1AD3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E9F8-72FC-4634-B956-F2D53DCB2E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64B-EDEE-46D2-AF60-9E9A9957BB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00F-B339-41D4-90D6-74A27B099C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686-71EC-4B54-8EA2-84BBAE8F53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8FD8-2235-4649-98E8-7BE417BEA1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EAC-E958-4F8F-86BD-3A9533BDB0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9A6-A6C2-400B-8371-D1CFE6B33C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668-2BD4-47DD-BA44-82845E84AD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955-B636-4721-857A-E541F3BB2C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174-0DA4-4382-BCD2-E1045B023F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288-E142-4CD4-B114-474FEB5D0A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E95C-6D0D-4C8D-A0CA-8D38EACA07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728A-C4C2-457D-9DA2-21CF2E3B69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773-1ADC-483C-9A86-D42FB03340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663-2624-424B-9B8E-81EAF15173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6028-5589-41AA-9364-A64085E5F4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A67-C332-4C1B-A418-BFFEAFA0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DE7-5783-48E6-91DD-52A24BC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896-3899-4971-8279-163EA7C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2CC-77EA-4A08-AB74-F805C029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49E-0FF7-48EE-904E-9A18DF93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7668-B771-4272-822A-768F1004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6E0A-8F1F-4E51-8B35-0E6F312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E6B-405E-4C21-8305-47C4FE2E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49B-737A-4BB3-96B7-A37AB34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2F56-2B51-4E2B-81BA-E478F0CF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CF4-0197-4A04-89EC-6BB1348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21C-53C7-49E1-8184-A752588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A637-DE77-4AD8-B125-6A13D6D4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F97-D043-4F13-8C25-9BA0BCF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7BC2-104C-445C-BC5D-B894D98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3BA-4A20-498F-8D42-B9A27BA3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9DCD-D13E-454F-B578-92523C29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D97-A32A-4AAD-868F-F30E882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BCC-29A7-44E9-8526-B5515FB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6E2-E341-4B6F-B7A3-3D67CD0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E00-C2BA-49B5-BBD4-48CEC57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C70-6BB3-4C2D-B6AD-A01E4DE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0DA-2E6A-436A-98D9-95E2F85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925-5387-457F-B008-74DEE67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720C-57B7-4CC6-8957-04AEDC84FA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5E5-16F9-47FF-A6F3-9C7412CB11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7:08Z</dcterms:modified>
  <cp:revision>123</cp:revision>
  <dc:subject/>
  <dc:title>TITLE</dc:title>
</cp:coreProperties>
</file>