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7D2B-5A3B-46A9-8C19-58383B9ECA8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9E49-B156-4C70-80C2-8FD29AB2E2E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0FF0-8D3D-411D-BB7C-CA4140CEBE9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CEF4-6E26-44B5-B599-8CD2567540C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4394-5DEF-462D-AB6E-84841F49127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911F-5946-4E09-9C3D-EDC201DE3FD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98D3-F48E-47A3-92B9-30AAE640BC9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3ECF-7167-4D6E-A11F-1BD6B9D965D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B35F-8A8F-46A1-AEB8-9AADCA2AB85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2AB3-779E-4EE2-A3B3-7BED6DA4980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BF72-D2B6-4C86-A645-1D122898AD8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D74B-9039-4B56-9B38-F59FD1ECB9B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08DC-11B3-4D5A-B423-84B8099E679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974A-C3A3-46CC-A2CF-2B3F7F48819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1300-A1D6-4857-AC9A-8105127CAEF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232E-2935-407E-9731-03189AECB83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4BEE-8054-4EF2-B368-26D3712ECB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241D-2CA7-414A-A0D4-0E7C7B556D4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3BF2-8FA3-41F4-B3F0-53DD008C685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4F9B-3DEC-43E1-8F00-52C21B5F4CF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943D-969F-461D-B9BB-40B276B5B9F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5F6-F99D-4315-813F-FAF86120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18F2-FF33-4A63-88D2-21DF31C0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8073-5C1C-4EDF-9AE1-61849F31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E42F-5587-4265-BBBF-4A4865A2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A62C-E4F7-440D-B834-4BE6CFEF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7BB7-98BD-4318-A419-D1959A86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CA25-1D11-4C6B-B48C-C7391653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AF45-EBE0-422F-9957-B72FB7F0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B38A-3AE4-40DB-BF4F-1B745097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F84A-067D-49AE-A093-AD3706B8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96C6-050E-48D4-99D2-DF64E72D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15C-743D-410D-AAAC-76A5426E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09C3-5975-4866-A0F1-58A83256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EF95-4EB6-4FB7-8034-9D403CD8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31FF-6017-42A3-8B71-D484AB0E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7C5E-A05E-483A-B7E5-A1B50F00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2552-D010-4F2C-9EAE-A5B28CC7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0609-5424-4036-867A-30ADA66F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C182-0024-4178-AE8A-CACAA1A6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E688-92FF-460A-AAEA-F4587ADC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D8D2-9640-4C8E-BF8F-77253424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A3D0-3884-449E-AA2C-9A97285B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67A1-4548-40A7-8206-DCF290D0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6D7-FC8B-481A-9043-DEAA0314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83BA-ABDF-49B1-BEE9-8A5B894C1D5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B94C-DAAC-4868-9D6C-93FC941CF50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4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0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2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5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7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6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3:47:08Z</dcterms:modified>
  <cp:revision>123</cp:revision>
  <dc:subject/>
  <dc:title>TITLE</dc:title>
</cp:coreProperties>
</file>