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10CF-3EC9-4C45-B4CD-23A10A8C25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A591-8DEC-487A-A59A-1B230DDFFC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063-7935-4F45-8B4C-582F1ED728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EF81-B6CB-46B2-9606-19A787B84B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558F-3EF0-4D5F-8DBD-2E73D0303F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17D-BA09-40D8-AA7E-8A6ED372DD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7D2F-62A7-4A27-BF2D-1D98AF3503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CA60-ADA5-4D8A-8A3A-BEFB1DD1F6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4DE-D463-4D8A-9D62-1FF5F938A2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438-B036-4A0B-BA18-2DDD17A916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F37-4778-4BB4-9B37-EABF9A4C5B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FC6-2538-4BD3-B627-18B664B59F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0F88-E956-47C5-8BB8-8220AA0304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E01A-A676-4FA4-9A83-50CB4A5B10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44E5-3B3D-42FA-B4BB-52E5F0236B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3513-DF6F-41F9-B60E-6209567555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DCC-5C76-49B2-A2EA-1CCF37EE79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CD8C-5687-4E1C-B327-C0C72845B7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05D-3941-49CE-858F-191DAE4F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175-B62A-4A97-BB72-A14AF2B1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3E7-06C0-4029-8051-6FD20987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DD9-AAF1-43AE-A17E-70978956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F629-B183-4711-8C71-78450DDB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BA1B-52B6-422D-9B79-DE1D316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F825-00D9-4BD2-967F-27950723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1E65-C36F-4433-807B-0CF715FA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E7E3-3647-40C5-B790-229DE141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DFD5-9D42-4140-AF03-D2AB61B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C037-C37C-42DF-B12B-3A9CAAF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F12-5CD2-421D-9CF2-1141761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24B-3F46-4D2B-BD59-799627C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D897-A1A6-480B-BCAB-BA97E18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259C-C5B6-4FF7-8C6D-0440536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377-338A-4B19-B20C-57F7C4F7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5967-F323-49DA-9910-E89AED0E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0470-7598-4A6F-AE92-763FD574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F836-0F4D-4374-BEA0-07373AA5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EB7B-89D9-424D-8A94-77C57025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8345-DF5B-4006-9ABA-04657FC0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346B-4328-43B0-A20F-AFBCBDE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3A6-073E-4C53-BD3E-218F985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5BE2-BD42-42E4-AAC8-99798780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C396-6046-40AF-AA77-7E0DD61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761D-CC80-45AD-9582-0F686257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7057-C148-42F9-9139-A04C875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46AB-6A9E-4D68-BC7F-A3F4300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6927-1BD4-4DC4-B3CF-8834ED6F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5A5D-18E9-44BE-9A13-D22B008E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7CF-0375-40CA-878E-1AC8A7AA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02A-DDCB-4A65-82B1-2764864D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0BF-1649-44F2-9B51-B3430CE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2FF-5871-478C-BC39-38686928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ADB-B09B-4069-A2A5-DC6657E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2E2-A664-4AC5-83EC-3747DCC4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64C3-713C-434E-B4C8-F71D2AD5E0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FB78-8B99-4D3D-834F-C21BC81185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0F01-95C5-424A-9C1F-1CAA79D005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979640" y="73080"/>
            <a:ext cx="2376360" cy="6451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356000" y="551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omic Sans MS"/>
              </a:rPr>
              <a:t>cognate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979640" y="4797360"/>
            <a:ext cx="2376360" cy="172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979640" y="5373720"/>
            <a:ext cx="2376360" cy="1150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979640" y="5877000"/>
            <a:ext cx="2376360" cy="647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804000" y="620640"/>
            <a:ext cx="2376360" cy="28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804000" y="1165320"/>
            <a:ext cx="2376360" cy="23349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804000" y="1700280"/>
            <a:ext cx="2376360" cy="180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79640" y="692280"/>
            <a:ext cx="2376360" cy="583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979640" y="1150920"/>
            <a:ext cx="2376360" cy="5373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979640" y="1700280"/>
            <a:ext cx="2376360" cy="4824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979640" y="2244600"/>
            <a:ext cx="2376360" cy="42800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979640" y="2708280"/>
            <a:ext cx="237636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79640" y="3244680"/>
            <a:ext cx="2376360" cy="32799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979640" y="3789360"/>
            <a:ext cx="2376360" cy="27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4920" y="58680"/>
            <a:ext cx="2089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pequeñ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animad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ranqui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modern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histór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viej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nuev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limp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suc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boni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fe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356000" y="58680"/>
            <a:ext cx="266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interesan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turístic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Comic Sans MS"/>
              </a:rPr>
              <a:t>ruidos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124000" y="73080"/>
            <a:ext cx="2448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bi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smal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live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alm, quie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moder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histori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ol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dir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pret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ug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6804000" y="73080"/>
            <a:ext cx="244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interes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touris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Comic Sans MS"/>
              </a:rPr>
              <a:t>nois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5040360" y="4508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ff"/>
                </a:solidFill>
                <a:latin typeface="Comic Sans MS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979640" y="4292640"/>
            <a:ext cx="2376360" cy="2232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804000" y="44280"/>
            <a:ext cx="237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7:35Z</dcterms:modified>
  <cp:revision>249</cp:revision>
  <dc:subject/>
  <dc:title>TITLE</dc:title>
</cp:coreProperties>
</file>