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FEA0-7D9B-469A-A1C5-26BE38A6BFB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CA1D-4115-457A-AD8D-E33B686E041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FF9D-9DB8-4EDE-8CCB-894E5C0063F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DDEF-4121-4C7A-ABD7-8CFC18FEB8C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1DCF-3016-49F5-8674-ABAB48AE117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4C6F-A39A-4AAA-9263-F8809EB0BC8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7DCD-8AF0-4B40-83E6-E4E6CE08CB8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5BE1-5A96-4174-A099-2DD632A300B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2CEF-917A-4A8E-9E34-EEE70C0A3B5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EBF4-CE1C-472D-964F-760DCFD3F6B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42A4-BECF-42D9-BEAB-CF885523F51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E313-7DAE-4537-A121-E9F55183AFF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8927-5E24-434D-A766-8B14463856D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8A99-B561-4CF4-8EBF-E1176BB6373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7893-C5A7-4178-87E5-242944A3B75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0E1B-8EF2-4281-B2F0-49DB15F2F4D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CFCE-2B8D-4E7E-AABC-9408BA453D1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16B4-8907-48C4-8C4D-8F0A4F3F45E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A882-292B-4158-A5DB-6BE97AAB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A8EF-69BE-413C-B5FB-72FB9269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5F69-8A54-4ACB-A639-E4785EEF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95FE-A869-4CD8-9EAA-04CDAF23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9429-05C1-4F89-9419-3FC3F5C5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FF8E-2207-456E-A4D5-FE9AA223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4C07-91C0-48C9-9443-AE4866E4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4773-D923-43B5-865B-39837A54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E12D-59A2-4901-9512-E955DC55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5566-7296-492B-96E1-00C0C6FF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F38C-34F8-4DAD-B646-6F1083F4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7AB1-9A66-47C7-895E-4A47D23F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20E0-66A7-4EC9-9BEF-C2567396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E15D-12A9-4784-ADD8-5868A3FB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1A81-F594-46A3-9D4E-040D52A1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1970-51F3-4093-B823-58F6FA72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2318-27DD-4311-A835-7DDF9014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EBFEA-58B8-460E-9658-208D0292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21D4D-E669-4C15-89A9-B1B238FF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C355B-0ED1-474E-AC3A-4247A593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C9713-E1AE-428C-9CD8-9CB5BFB8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E2091-1483-4721-818E-878CCA11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7739-6E91-4DFA-A22F-7D865666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8D498-BE33-4AA4-9BE6-11B44FBF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7EBF9-626B-4ADE-9442-A2A6A0AF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C0A78-9287-4285-B906-C59A9C2C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A123B-A922-4429-B491-2E910E3D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B3CCE-0894-4D3C-817F-961AFC4F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32A6D-7F3D-4765-B821-D53B23D1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CD067-AA2D-404F-8F23-64DADD6C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17D4-6FD6-4786-9DDE-E8BB423E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E4C7-E81D-48B5-9332-0F300425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ED05-7805-4C5D-AEFE-F1871084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875A-877F-4DCA-8F86-71646E66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52E3-20EC-48F0-AC54-C701A6C4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5EC1-42DE-4661-AC8F-025C4E38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884A-531A-46D6-B0D6-273003528D0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DDD4-09C5-44EE-ABEF-5310F5BC7A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D524-8979-41CD-845D-7655F2BB366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979640" y="73080"/>
            <a:ext cx="2376360" cy="6451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6804000" y="44280"/>
            <a:ext cx="2376360" cy="34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4356000" y="551664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2d050"/>
                </a:solidFill>
                <a:latin typeface="Comic Sans MS"/>
              </a:rPr>
              <a:t>cognates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1979640" y="4797360"/>
            <a:ext cx="2376360" cy="1727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804000" y="44280"/>
            <a:ext cx="2376360" cy="34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1979640" y="5373720"/>
            <a:ext cx="2376360" cy="1150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6804000" y="44280"/>
            <a:ext cx="2376360" cy="34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1979640" y="5877000"/>
            <a:ext cx="2376360" cy="647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6804000" y="44280"/>
            <a:ext cx="2376360" cy="34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6804000" y="44280"/>
            <a:ext cx="2376360" cy="34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6804000" y="620640"/>
            <a:ext cx="2376360" cy="2879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6804000" y="1165320"/>
            <a:ext cx="2376360" cy="23349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6804000" y="1700280"/>
            <a:ext cx="2376360" cy="1800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979640" y="692280"/>
            <a:ext cx="2376360" cy="5832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804000" y="44280"/>
            <a:ext cx="2376360" cy="34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979640" y="1150920"/>
            <a:ext cx="2376360" cy="5373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804000" y="44280"/>
            <a:ext cx="2376360" cy="34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979640" y="1700280"/>
            <a:ext cx="2376360" cy="4824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804000" y="44280"/>
            <a:ext cx="2376360" cy="34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979640" y="2244600"/>
            <a:ext cx="2376360" cy="42800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804000" y="44280"/>
            <a:ext cx="2376360" cy="34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979640" y="2708280"/>
            <a:ext cx="2376360" cy="3816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6804000" y="44280"/>
            <a:ext cx="2376360" cy="34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979640" y="3244680"/>
            <a:ext cx="2376360" cy="32799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804000" y="44280"/>
            <a:ext cx="2376360" cy="34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979640" y="3789360"/>
            <a:ext cx="2376360" cy="2735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6804000" y="44280"/>
            <a:ext cx="2376360" cy="34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1979640" y="4292640"/>
            <a:ext cx="2376360" cy="2232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6804000" y="44280"/>
            <a:ext cx="2376360" cy="34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0-19T08:07:35Z</dcterms:modified>
  <cp:revision>249</cp:revision>
  <dc:subject/>
  <dc:title>TITLE</dc:title>
</cp:coreProperties>
</file>