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AEB-F425-4F3A-B42F-886DC884BA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202-9AC1-4DE3-BC02-8A2604CCE8DB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5D7-2116-4D3A-ADD7-65B190D0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C86-5294-4ADE-9430-9E36695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440-8B28-4660-A938-CCE5FA1A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5D0-22A3-46EF-A950-2DC99F39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FB0-9F36-494F-8F57-C6524A6D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7CA0-5497-46C2-AF5D-83C4873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02F9-B994-4AC4-AE72-B1B09ACB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19B-8B6C-4C55-B41C-2A893C8E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E335-51C9-4A58-9AFA-754F573B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0A70-E232-4ADC-88FB-58B1907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194A-5C33-4CB1-B0A9-254721D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EF1-0C80-4FB5-9D9E-D8F7873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B03A-8A67-4EFB-B340-23E2390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F6EF-FCCE-4B87-8289-4015564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7F76-9BEC-41CB-9059-861EBF22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AA0-AE03-44B0-AF45-3AD2945C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0AB4-102C-4286-8E54-E6C5C39F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47BA-1B0A-40BA-ABC3-61A00FF9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EE77-A7BA-407F-B1E8-6066D18B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C0D9-6A90-4D87-9A88-41B74C5D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F998-2533-402A-98C4-6AC43F5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EA90-4A11-4B2E-A274-920FC0EE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CB8-47F9-472D-8EDE-30E80F3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8FFB-6F10-4BDB-B174-473A3546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9E6F-02D6-4BFF-8077-1256AD0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D207-7B7C-4BC9-9D14-FAB0D6C2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0B81-4194-44F0-9D27-1202F9A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0E6F-70DA-497E-B4F5-3B2E265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251B-238E-4D54-9965-70A7495F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E6C3-4B51-45CC-B0AF-25C425E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8A8-5D5A-49B9-AA6B-CC567E2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8B8-C056-4E7F-816A-797E3DCB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328-B1FC-4FF3-98BB-2398421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EAE-41BC-4670-9C4B-61D6F553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04E-ADDB-4F3E-B237-DD0CD54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72F-54E9-4E9D-91AA-B7E900A6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C72B-7DBC-421C-8DB6-F163DF1FDD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A81A-ABA8-4FA9-8C6F-1EC4C8B537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C12-A224-4EF8-9BFC-45AEFB0C81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08000" y="4428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Hay que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ntrar y salir de forma ordenada al salón de clase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ener una actitud atenta durante las clase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scuchar a los demá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scuchar y atender a los maestro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ayudar a los compañero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hablar en voz baj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cuidar el material de estudio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ser puntu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respetar los turno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Rounded Rectangle 2"/>
          <p:cNvSpPr/>
          <p:nvPr/>
        </p:nvSpPr>
        <p:spPr>
          <a:xfrm>
            <a:off x="684360" y="692280"/>
            <a:ext cx="151128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ounded Rectangle 5"/>
          <p:cNvSpPr/>
          <p:nvPr/>
        </p:nvSpPr>
        <p:spPr>
          <a:xfrm>
            <a:off x="2556000" y="689040"/>
            <a:ext cx="115236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ounded Rectangle 6"/>
          <p:cNvSpPr/>
          <p:nvPr/>
        </p:nvSpPr>
        <p:spPr>
          <a:xfrm>
            <a:off x="722160" y="1828800"/>
            <a:ext cx="125748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722160" y="2897280"/>
            <a:ext cx="197820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Rounded Rectangle 8"/>
          <p:cNvSpPr/>
          <p:nvPr/>
        </p:nvSpPr>
        <p:spPr>
          <a:xfrm>
            <a:off x="687240" y="3402000"/>
            <a:ext cx="201312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Rounded Rectangle 9"/>
          <p:cNvSpPr/>
          <p:nvPr/>
        </p:nvSpPr>
        <p:spPr>
          <a:xfrm>
            <a:off x="3152880" y="3402000"/>
            <a:ext cx="177948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ounded Rectangle 10"/>
          <p:cNvSpPr/>
          <p:nvPr/>
        </p:nvSpPr>
        <p:spPr>
          <a:xfrm>
            <a:off x="669960" y="3911760"/>
            <a:ext cx="1596960" cy="50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Rounded Rectangle 11"/>
          <p:cNvSpPr/>
          <p:nvPr/>
        </p:nvSpPr>
        <p:spPr>
          <a:xfrm>
            <a:off x="669960" y="4508640"/>
            <a:ext cx="151272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Rounded Rectangle 12"/>
          <p:cNvSpPr/>
          <p:nvPr/>
        </p:nvSpPr>
        <p:spPr>
          <a:xfrm>
            <a:off x="669960" y="5084640"/>
            <a:ext cx="1512720" cy="5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ounded Rectangle 13"/>
          <p:cNvSpPr/>
          <p:nvPr/>
        </p:nvSpPr>
        <p:spPr>
          <a:xfrm>
            <a:off x="674640" y="5594400"/>
            <a:ext cx="87300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Rounded Rectangle 14"/>
          <p:cNvSpPr/>
          <p:nvPr/>
        </p:nvSpPr>
        <p:spPr>
          <a:xfrm>
            <a:off x="669960" y="6103800"/>
            <a:ext cx="2030400" cy="5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3:57Z</dcterms:modified>
  <cp:revision>286</cp:revision>
  <dc:subject/>
  <dc:title>TITLE</dc:title>
</cp:coreProperties>
</file>