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331-0E1A-425B-B7FD-2B4E760697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EF75-D791-4CFE-B712-E310FA5ACA19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E56-23EF-4F89-A64B-3BFAC966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C36-2DC7-44AF-AB5A-EE6FB4A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DFD-0583-4041-9408-D219D00E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350-3693-419A-ACAF-C88F54B9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982-1288-4620-B6E3-F582728E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E44-CB09-4259-93F2-DA4E8267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2094-4557-4AC9-9B02-C707A23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3C9A-7919-4F49-BE00-0E25E8E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3202-471B-4942-B3C5-AE70AF3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6E73-88BE-48BD-828B-FDF7215E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FE1B-0C4D-4CE7-9A86-853088D0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BD7-2890-4BA2-9B64-8E518BF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0D0-A94D-4153-B794-DF96FAB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240-03D3-486E-B6AC-DFA2B31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8DA-8FA0-4BDC-B7EF-E8127FF7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836-030E-4BF3-A270-252D3D99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7C06-7B7A-4FFC-A96E-FFC53360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36684-0AFD-466C-AA09-BD3F6BC7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B899-9F71-43A6-AD93-F0DCE92E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2BC4-DC6F-4370-93DF-F337A1C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760D-E72B-49B7-A636-C6B299B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626F-C23E-4F51-9B6E-5C158FEC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7EC-5109-4C95-B0FE-5E7A155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895B-DCD6-4F50-B9A5-397D7C0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52F5-F696-4C5F-B97A-0BCE3D2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2417-2F48-486D-98FB-0D76CA4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A5F1-6338-4149-91F2-E977D28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8212-27BE-4993-9B45-0139F44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20C1-D825-43CF-BCC2-F4D4FF1A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642F-9B41-4224-B9C5-A37B7FD1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75-7334-4363-AA32-58F947B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944-249A-46EB-9055-58CA026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F34-D033-4182-AF60-D85F5AC4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E3B-8041-459F-B42C-143BD33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F41-0B59-476F-B064-87C4D8B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4A6-158C-499A-9C67-5CD74BD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74F-285F-4CD4-BF0E-66D4FD36C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5B07-8499-412F-80A6-C6471057B2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13F4-BCD1-4AA1-B925-14663DCB6AC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08000" y="4428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Hay que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ntrar y salir de forma ordenada al salón de clas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ener una actitud atenta durante las clase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scuchar a los demá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scuchar y atender a los maestr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ayudar a los compañer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hablar en voz baj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cuidar el material de estudio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ser puntu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respetar los turno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ounded Rectangle 2"/>
          <p:cNvSpPr/>
          <p:nvPr/>
        </p:nvSpPr>
        <p:spPr>
          <a:xfrm>
            <a:off x="684360" y="692280"/>
            <a:ext cx="151128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ounded Rectangle 5"/>
          <p:cNvSpPr/>
          <p:nvPr/>
        </p:nvSpPr>
        <p:spPr>
          <a:xfrm>
            <a:off x="2556000" y="689040"/>
            <a:ext cx="115236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ounded Rectangle 6"/>
          <p:cNvSpPr/>
          <p:nvPr/>
        </p:nvSpPr>
        <p:spPr>
          <a:xfrm>
            <a:off x="722160" y="1828800"/>
            <a:ext cx="125748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722160" y="2897280"/>
            <a:ext cx="197820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Rounded Rectangle 8"/>
          <p:cNvSpPr/>
          <p:nvPr/>
        </p:nvSpPr>
        <p:spPr>
          <a:xfrm>
            <a:off x="687240" y="3402000"/>
            <a:ext cx="201312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Rounded Rectangle 9"/>
          <p:cNvSpPr/>
          <p:nvPr/>
        </p:nvSpPr>
        <p:spPr>
          <a:xfrm>
            <a:off x="3152880" y="3402000"/>
            <a:ext cx="177948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ounded Rectangle 10"/>
          <p:cNvSpPr/>
          <p:nvPr/>
        </p:nvSpPr>
        <p:spPr>
          <a:xfrm>
            <a:off x="669960" y="3911760"/>
            <a:ext cx="1596960" cy="50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Rounded Rectangle 11"/>
          <p:cNvSpPr/>
          <p:nvPr/>
        </p:nvSpPr>
        <p:spPr>
          <a:xfrm>
            <a:off x="669960" y="4508640"/>
            <a:ext cx="151272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ounded Rectangle 12"/>
          <p:cNvSpPr/>
          <p:nvPr/>
        </p:nvSpPr>
        <p:spPr>
          <a:xfrm>
            <a:off x="669960" y="5084640"/>
            <a:ext cx="1512720" cy="5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ounded Rectangle 13"/>
          <p:cNvSpPr/>
          <p:nvPr/>
        </p:nvSpPr>
        <p:spPr>
          <a:xfrm>
            <a:off x="674640" y="5594400"/>
            <a:ext cx="87300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ounded Rectangle 14"/>
          <p:cNvSpPr/>
          <p:nvPr/>
        </p:nvSpPr>
        <p:spPr>
          <a:xfrm>
            <a:off x="669960" y="6103800"/>
            <a:ext cx="2030400" cy="5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3:57Z</dcterms:modified>
  <cp:revision>286</cp:revision>
  <dc:subject/>
  <dc:title>TITLE</dc:title>
</cp:coreProperties>
</file>