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7AA6-04F9-43EA-88E8-02B1F1E234A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9F2C-DECE-4225-BD72-6862857680B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69AD-34D0-4696-8C2F-9E7F5CB8078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1077-2D07-4FB0-BF47-4038E0F1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E338-CC97-43DC-98E0-E2B086B0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FEEB-1AE4-459F-AC08-51DF3B17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8EC2-1B5B-4A52-9D23-1085B30D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42C3-C59C-4813-98EF-F7FF1A73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37A6-719E-482E-ABC9-915C7226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8397-7B0F-486C-B29F-E396757A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662A-EC2B-433D-A3BF-67941B74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360C-4672-47E8-88B0-AAF0CC03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C392-3F6F-4DB3-BF84-74C484D3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3CFF-37F6-4359-A33E-7B3907C0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5FC5-33D7-4459-BA85-F07A2967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56D2-961C-4FB8-BCC9-AF7AED81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7E47-8E89-4468-A551-279AD5BF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603D-98EA-4D51-8A4F-3DC900F1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38F7-57E8-4686-8681-7652F4AB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FC30-83E6-48B4-A8A9-0BA8A7C3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CF6D3-7125-49CB-9BA9-E9DFCFE1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5ECCB-7C37-4EA3-82E5-F58AEDE8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DBDAB-2BC2-4A17-B3EA-0CBF2FE4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6BFD1-9155-4E97-ADC3-BF5EE905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CEF3E-4354-4DCB-B64E-A395B21A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AF4A-92DB-4FC0-83B3-78E543C7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9944F-A28B-4766-9832-5B074C91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A0ABD-A48F-4E8B-A6E7-B251DF68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34E55-22B5-45D3-B8EF-B39FC61F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F9B09-4965-45AB-A528-41B9F7D9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D431D-50DF-41E8-B3A7-D5D9A77C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71E34-267E-4042-B15C-054B26DE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D107C-2061-4BFC-B6F2-A39827E8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6D0B-F07C-4004-8087-1192FECA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22AF-D767-4D20-B8FC-2F668E8D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FFD7-40D8-4AA4-9D64-13483AA5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BED5-1D6C-47E3-994E-83652BFD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6498-D92A-498E-AB74-1799FD49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5238-E194-400B-BF06-3CB93C8A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E932-5751-4192-BB01-D72B4B46AE0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26E6-9B25-4EC0-8490-718ECF188B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779E-CBFC-4B9D-97CD-0CCF1590A1D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3240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32" name="Picture 17" descr="biblioteca"/>
          <p:cNvPicPr/>
          <p:nvPr/>
        </p:nvPicPr>
        <p:blipFill>
          <a:blip r:embed="rId1"/>
          <a:stretch/>
        </p:blipFill>
        <p:spPr>
          <a:xfrm>
            <a:off x="468360" y="765000"/>
            <a:ext cx="2535120" cy="1906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colegio"/>
          <p:cNvPicPr/>
          <p:nvPr/>
        </p:nvPicPr>
        <p:blipFill>
          <a:blip r:embed="rId2"/>
          <a:stretch/>
        </p:blipFill>
        <p:spPr>
          <a:xfrm>
            <a:off x="3384720" y="749160"/>
            <a:ext cx="2520720" cy="1922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correos"/>
          <p:cNvPicPr/>
          <p:nvPr/>
        </p:nvPicPr>
        <p:blipFill>
          <a:blip r:embed="rId3"/>
          <a:stretch/>
        </p:blipFill>
        <p:spPr>
          <a:xfrm>
            <a:off x="6588000" y="644400"/>
            <a:ext cx="1941480" cy="2027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iglesia"/>
          <p:cNvPicPr/>
          <p:nvPr/>
        </p:nvPicPr>
        <p:blipFill>
          <a:blip r:embed="rId4"/>
          <a:stretch/>
        </p:blipFill>
        <p:spPr>
          <a:xfrm>
            <a:off x="1011240" y="3573360"/>
            <a:ext cx="1447920" cy="2301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1" descr="río"/>
          <p:cNvPicPr/>
          <p:nvPr/>
        </p:nvPicPr>
        <p:blipFill>
          <a:blip r:embed="rId5"/>
          <a:stretch/>
        </p:blipFill>
        <p:spPr>
          <a:xfrm>
            <a:off x="6254640" y="4125960"/>
            <a:ext cx="2608200" cy="1411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2" descr="plaza"/>
          <p:cNvPicPr/>
          <p:nvPr/>
        </p:nvPicPr>
        <p:blipFill>
          <a:blip r:embed="rId6"/>
          <a:stretch/>
        </p:blipFill>
        <p:spPr>
          <a:xfrm>
            <a:off x="3276720" y="4005360"/>
            <a:ext cx="2736720" cy="20574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>
            <a:off x="250920" y="2882880"/>
            <a:ext cx="27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una bibliote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3195720" y="6093000"/>
            <a:ext cx="27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una plaz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250920" y="6093000"/>
            <a:ext cx="27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una igles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3195720" y="2882880"/>
            <a:ext cx="27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un coleg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Box 14"/>
          <p:cNvSpPr/>
          <p:nvPr/>
        </p:nvSpPr>
        <p:spPr>
          <a:xfrm>
            <a:off x="6130800" y="2882880"/>
            <a:ext cx="27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un corre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Box 15"/>
          <p:cNvSpPr/>
          <p:nvPr/>
        </p:nvSpPr>
        <p:spPr>
          <a:xfrm>
            <a:off x="6100920" y="6093000"/>
            <a:ext cx="27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un rí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3240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46" name="Picture 17" descr="biblioteca"/>
          <p:cNvPicPr/>
          <p:nvPr/>
        </p:nvPicPr>
        <p:blipFill>
          <a:blip r:embed="rId1"/>
          <a:stretch/>
        </p:blipFill>
        <p:spPr>
          <a:xfrm>
            <a:off x="468360" y="765000"/>
            <a:ext cx="2535120" cy="190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8" descr="colegio"/>
          <p:cNvPicPr/>
          <p:nvPr/>
        </p:nvPicPr>
        <p:blipFill>
          <a:blip r:embed="rId2"/>
          <a:stretch/>
        </p:blipFill>
        <p:spPr>
          <a:xfrm>
            <a:off x="3384720" y="749160"/>
            <a:ext cx="2520720" cy="1922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9" descr="correos"/>
          <p:cNvPicPr/>
          <p:nvPr/>
        </p:nvPicPr>
        <p:blipFill>
          <a:blip r:embed="rId3"/>
          <a:stretch/>
        </p:blipFill>
        <p:spPr>
          <a:xfrm>
            <a:off x="6588000" y="644400"/>
            <a:ext cx="1941480" cy="2027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iglesia"/>
          <p:cNvPicPr/>
          <p:nvPr/>
        </p:nvPicPr>
        <p:blipFill>
          <a:blip r:embed="rId4"/>
          <a:stretch/>
        </p:blipFill>
        <p:spPr>
          <a:xfrm>
            <a:off x="1011240" y="3573360"/>
            <a:ext cx="1447920" cy="2301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1" descr="río"/>
          <p:cNvPicPr/>
          <p:nvPr/>
        </p:nvPicPr>
        <p:blipFill>
          <a:blip r:embed="rId5"/>
          <a:stretch/>
        </p:blipFill>
        <p:spPr>
          <a:xfrm>
            <a:off x="6254640" y="4125960"/>
            <a:ext cx="2608200" cy="1411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2" descr="plaza"/>
          <p:cNvPicPr/>
          <p:nvPr/>
        </p:nvPicPr>
        <p:blipFill>
          <a:blip r:embed="rId6"/>
          <a:stretch/>
        </p:blipFill>
        <p:spPr>
          <a:xfrm>
            <a:off x="3276720" y="4005360"/>
            <a:ext cx="2736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1-23T09:43:19Z</dcterms:modified>
  <cp:revision>279</cp:revision>
  <dc:subject/>
  <dc:title>TITLE</dc:title>
</cp:coreProperties>
</file>