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FB06-552E-4D57-89F8-13A25B3CD03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27AA-C323-42A2-83D2-0E9AE71E5C4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A781-12A0-4D20-A650-5B979EDC83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493-F432-4070-B806-E719C2B5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E5F-EC34-4310-8DE9-8E7E98C1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901-FCE7-464A-8FF7-671E560A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ABF7-3107-45F8-B468-0E3F5643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2D55-D81A-44F6-805C-C4207B1C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AB31-EA52-4E37-BDAD-03AE6F2B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069E-8535-424E-A95E-CBED3F59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1198-6F6F-4E31-BDA0-FFB6A004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4602-73B9-453D-ADDE-E977CA93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EEDE-78E1-4BBA-A71E-64790DB2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D7BE-0CF9-4A87-8105-0BF1E5F9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34E-3070-4F9D-94E6-D982B3F2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5A4B-4BE8-4407-9F20-C8DD7D05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3951-E0D6-498F-9615-467A8974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B9D4-2DFA-4802-94A7-8E5AC6FA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BB74-5458-4C95-A624-F598B0D8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0F26-41DD-48B4-AF14-E8324EAA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65E02-1D54-4BC7-B305-37AC5C00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E0D28-73F0-43F2-B492-C8DA32CE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E7F20-8FAE-4649-B556-A3AD59BF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A45CF-A58E-4402-A68E-D9681F36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25DA1-FA20-4FBF-81D1-D54B3F4E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DFA-21D2-4329-BF2D-B454F7A8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C0E69-6439-44F7-830E-F3704342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3E88-C471-4913-B01E-79E4B686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461C5-B201-4FA8-8FD1-1FAA4D87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A91B0-6389-41C2-934F-BB3E1144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567C0-C92E-4C1B-9C1E-9B656359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0B30D-2C13-4C70-AD81-83F10B72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44168-DE76-458D-8504-89590A4F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4DA-15C8-4F76-82D5-E64AC417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95E-8EA7-415F-9E7B-3407B0E9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E755-D23F-439F-B2BE-19B5A6F2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F3C8-EB52-41A4-ACA1-1AA3C37F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542-433E-497D-96D6-5E8D2612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E5A-54A3-43C3-A765-F8BEB799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D8B6-7C1E-46C4-8584-3E9B725646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ED41-C4C5-4B96-9EFA-22FA0ACF14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55C7-9CED-426D-AC01-36057596D33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3240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17" descr="biblioteca"/>
          <p:cNvPicPr/>
          <p:nvPr/>
        </p:nvPicPr>
        <p:blipFill>
          <a:blip r:embed="rId1"/>
          <a:stretch/>
        </p:blipFill>
        <p:spPr>
          <a:xfrm>
            <a:off x="468360" y="765000"/>
            <a:ext cx="2535120" cy="190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colegio"/>
          <p:cNvPicPr/>
          <p:nvPr/>
        </p:nvPicPr>
        <p:blipFill>
          <a:blip r:embed="rId2"/>
          <a:stretch/>
        </p:blipFill>
        <p:spPr>
          <a:xfrm>
            <a:off x="3384720" y="749160"/>
            <a:ext cx="2520720" cy="1922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correos"/>
          <p:cNvPicPr/>
          <p:nvPr/>
        </p:nvPicPr>
        <p:blipFill>
          <a:blip r:embed="rId3"/>
          <a:stretch/>
        </p:blipFill>
        <p:spPr>
          <a:xfrm>
            <a:off x="6588000" y="644400"/>
            <a:ext cx="1941480" cy="2027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iglesia"/>
          <p:cNvPicPr/>
          <p:nvPr/>
        </p:nvPicPr>
        <p:blipFill>
          <a:blip r:embed="rId4"/>
          <a:stretch/>
        </p:blipFill>
        <p:spPr>
          <a:xfrm>
            <a:off x="1011240" y="3573360"/>
            <a:ext cx="1447920" cy="2301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río"/>
          <p:cNvPicPr/>
          <p:nvPr/>
        </p:nvPicPr>
        <p:blipFill>
          <a:blip r:embed="rId5"/>
          <a:stretch/>
        </p:blipFill>
        <p:spPr>
          <a:xfrm>
            <a:off x="6254640" y="4125960"/>
            <a:ext cx="2608200" cy="1411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2" descr="plaza"/>
          <p:cNvPicPr/>
          <p:nvPr/>
        </p:nvPicPr>
        <p:blipFill>
          <a:blip r:embed="rId6"/>
          <a:stretch/>
        </p:blipFill>
        <p:spPr>
          <a:xfrm>
            <a:off x="3276720" y="4005360"/>
            <a:ext cx="2736720" cy="20574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250920" y="2882880"/>
            <a:ext cx="27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a bibliote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3195720" y="6093000"/>
            <a:ext cx="27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a plaz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250920" y="6093000"/>
            <a:ext cx="27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a igles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3195720" y="2882880"/>
            <a:ext cx="27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un coleg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6130800" y="2882880"/>
            <a:ext cx="27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un corre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6100920" y="6093000"/>
            <a:ext cx="27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un rí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3240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6" name="Picture 17" descr="biblioteca"/>
          <p:cNvPicPr/>
          <p:nvPr/>
        </p:nvPicPr>
        <p:blipFill>
          <a:blip r:embed="rId1"/>
          <a:stretch/>
        </p:blipFill>
        <p:spPr>
          <a:xfrm>
            <a:off x="468360" y="765000"/>
            <a:ext cx="2535120" cy="190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colegio"/>
          <p:cNvPicPr/>
          <p:nvPr/>
        </p:nvPicPr>
        <p:blipFill>
          <a:blip r:embed="rId2"/>
          <a:stretch/>
        </p:blipFill>
        <p:spPr>
          <a:xfrm>
            <a:off x="3384720" y="749160"/>
            <a:ext cx="2520720" cy="1922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correos"/>
          <p:cNvPicPr/>
          <p:nvPr/>
        </p:nvPicPr>
        <p:blipFill>
          <a:blip r:embed="rId3"/>
          <a:stretch/>
        </p:blipFill>
        <p:spPr>
          <a:xfrm>
            <a:off x="6588000" y="644400"/>
            <a:ext cx="1941480" cy="202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iglesia"/>
          <p:cNvPicPr/>
          <p:nvPr/>
        </p:nvPicPr>
        <p:blipFill>
          <a:blip r:embed="rId4"/>
          <a:stretch/>
        </p:blipFill>
        <p:spPr>
          <a:xfrm>
            <a:off x="1011240" y="3573360"/>
            <a:ext cx="1447920" cy="2301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río"/>
          <p:cNvPicPr/>
          <p:nvPr/>
        </p:nvPicPr>
        <p:blipFill>
          <a:blip r:embed="rId5"/>
          <a:stretch/>
        </p:blipFill>
        <p:spPr>
          <a:xfrm>
            <a:off x="6254640" y="4125960"/>
            <a:ext cx="2608200" cy="1411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2" descr="plaza"/>
          <p:cNvPicPr/>
          <p:nvPr/>
        </p:nvPicPr>
        <p:blipFill>
          <a:blip r:embed="rId6"/>
          <a:stretch/>
        </p:blipFill>
        <p:spPr>
          <a:xfrm>
            <a:off x="3276720" y="4005360"/>
            <a:ext cx="273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1-23T09:43:19Z</dcterms:modified>
  <cp:revision>279</cp:revision>
  <dc:subject/>
  <dc:title>TITLE</dc:title>
</cp:coreProperties>
</file>