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E65C-16FD-4302-8705-0AAA6C35796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8A24-B484-4588-B79B-998035E9297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73D4-A548-439A-9DA5-E2786286775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62EA-B359-406D-BF93-E42A29D76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7024-DE68-4D46-B3A0-E860BAE1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7363-9C11-4683-A5A2-1391139E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A3C0-9906-4945-B286-46C7786D7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6469-CC64-4C41-BD23-785499CC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DFBC-DFC7-4993-9785-9C5C7C7E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98A8-0914-4AE9-82B6-67CB4736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6D8F-6E13-4926-B2ED-0546E5DB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8429-CC8C-4548-8184-DB409851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A33E-D3CE-4DF3-BA3C-91BA5614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09E3-EA9C-44EC-823A-C2AC8ADF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A1C9-D4FC-496D-8BFC-DA2BE3B3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9074-D2FF-43C9-A8D6-A2F9E05D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44BA-D11F-43D8-9FC7-C886A886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3B7D-4CFD-4C16-901D-6C1710E1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81BD-DC53-4B4C-ACF4-1D4C4162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3BA1-F605-46B3-8115-80002A20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367DB-B550-4D6B-9162-3E8B2705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ADFC9-156C-4A00-B989-DDE26BFC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9E5C9-24DA-4E1C-9E71-5AAC1EDF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BEE41-BC4A-4CC1-A1B2-1B9E93E2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F8DAC-C3C7-42B3-A1D2-587E9383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9429-4F8A-47CD-B928-5D61BF30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EFA62-5F46-4F56-8851-048CA916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2596D-503F-49FA-AE5F-B9378E1F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F4B96-8CC2-41AA-B464-F69E10C5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53453-71D3-4CEC-94A8-9E16E149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5E254-6893-4A04-82A5-4D28ADE3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EC197-5675-4B9F-9071-2DC0DCDB3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1B3EE-9DFA-4A3B-8842-3707C30C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1AEF-057E-46DB-91FA-6FC1B713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6BA7-019A-4782-9F1D-60831C58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34B-54ED-4925-B77A-DB7C0911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2402-DFE4-4ED6-A797-C4954211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9BF8-D95A-43E9-B445-300DFA39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40F1-1B46-4A7C-9957-89F088C9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7931-E525-4C7D-8F39-25F397EF001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C65B-2BB0-462A-B864-8D24D7C35B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6DCD-04C0-4018-8099-DBDECD7782A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1692360" y="-100080"/>
            <a:ext cx="583236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a"/>
                </a:solidFill>
                <a:latin typeface="Comic Sans MS"/>
              </a:rPr>
              <a:t>un banc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a"/>
                </a:solidFill>
                <a:latin typeface="Comic Sans MS"/>
              </a:rPr>
              <a:t>una cafeterí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a"/>
                </a:solidFill>
                <a:latin typeface="Comic Sans MS"/>
              </a:rPr>
              <a:t>una estació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a"/>
                </a:solidFill>
                <a:latin typeface="Comic Sans MS"/>
              </a:rPr>
              <a:t>un hospita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a"/>
                </a:solidFill>
                <a:latin typeface="Comic Sans MS"/>
              </a:rPr>
              <a:t>un mercad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a"/>
                </a:solidFill>
                <a:latin typeface="Comic Sans MS"/>
              </a:rPr>
              <a:t>un muse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a"/>
                </a:solidFill>
                <a:latin typeface="Comic Sans MS"/>
              </a:rPr>
              <a:t>un parqu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a"/>
                </a:solidFill>
                <a:latin typeface="Comic Sans MS"/>
              </a:rPr>
              <a:t>un supermercad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22320" y="58680"/>
            <a:ext cx="51260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f0"/>
                </a:solidFill>
                <a:latin typeface="Comic Sans MS"/>
              </a:rPr>
              <a:t>un banco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f0"/>
                </a:solidFill>
                <a:latin typeface="Comic Sans MS"/>
              </a:rPr>
              <a:t>un hospita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f0"/>
                </a:solidFill>
                <a:latin typeface="Comic Sans MS"/>
              </a:rPr>
              <a:t>un mercado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f0"/>
                </a:solidFill>
                <a:latin typeface="Comic Sans MS"/>
              </a:rPr>
              <a:t>un museo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f0"/>
                </a:solidFill>
                <a:latin typeface="Comic Sans MS"/>
              </a:rPr>
              <a:t>un parqu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f0"/>
                </a:solidFill>
                <a:latin typeface="Comic Sans MS"/>
              </a:rPr>
              <a:t>un supermercado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4284720" y="58680"/>
            <a:ext cx="5124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99cc"/>
                </a:solidFill>
                <a:latin typeface="Comic Sans MS"/>
              </a:rPr>
              <a:t>una cafetería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99cc"/>
                </a:solidFill>
                <a:latin typeface="Comic Sans MS"/>
              </a:rPr>
              <a:t>una estació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0-19T08:08:18Z</dcterms:modified>
  <cp:revision>252</cp:revision>
  <dc:subject/>
  <dc:title>TITLE</dc:title>
</cp:coreProperties>
</file>