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A1DE-0348-40A4-86E4-FECE35ED2E9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D445-48F7-4A93-905B-2ADCA214E8A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B526-87CB-4EBF-922C-FA8650926E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8E7-CDFA-4CA8-9EC1-4E76D855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240-B6E9-4D2A-973D-CF84DE5E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E1CA-D06F-4580-918F-F9AF80F3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3D4B-9824-493E-9154-FACD999D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D8C1-CC43-4054-BC57-78BCD957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4AAE-17B2-4DC9-B61C-D4E0936F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0BF6-07F4-4667-A8A5-76B403E9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3D20-0510-4034-B695-A80C89A1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CBF8-0EFC-4406-8BF8-7F33691E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F81C-15C9-49AC-8A39-C61873BC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0EE3-3CDF-4CAD-87BC-E500FE06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4D68-4CA4-4F73-963E-97435F61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995D-4E34-45EA-B611-0613B49C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1E0C-8B55-40D5-A11D-9AF33B91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7333-045F-4811-8274-B180332A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9904-16F1-4F1B-900B-2FDB9E39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77B5-DABB-4628-B0FA-31B6E044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797D8-A8F8-45FD-B8CE-77A123AB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E0BE2-DB1E-4652-8832-AF77322D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9E054-9E70-4CED-AD4B-0B6070AF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615B6-8E20-4517-A3FB-5672330C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1ECD9-82C5-44CA-A252-2B307313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3920-01E2-4F27-98B8-6D214FE1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C2BF6-78B4-434F-9EFF-480CB190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57376-35EA-4CC0-BFAC-C61BF336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47B20-044E-445E-AE97-78BA4951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88D6E-2592-4D7A-B55E-F3477013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EC51C-F65A-473C-8C3A-32EBAFD5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33B12-CE7C-4734-95E2-586CE92B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63928-6C05-4D67-B516-86D6A9B8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85DB-3D2C-4079-98AA-70C8529A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8A0-6B22-4D4C-8CC1-410E6AB8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46D5-A5A7-4BCA-AE00-99BB873A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131-5687-49F9-978F-616B3095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94D-D3C0-44FF-90DF-5B8616F8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D26-49D7-487D-93B5-3969473C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AF28-E0B1-4E23-AB55-491CC11DBF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274F-0AD9-4B4B-828A-2671DB0837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46BE-241C-4186-B838-0B426CE27DB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1692360" y="-100080"/>
            <a:ext cx="583236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un banc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una cafeterí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una estació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un hospita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un mercad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un muse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un parqu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un supermercad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22320" y="58680"/>
            <a:ext cx="51260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f0"/>
                </a:solidFill>
                <a:latin typeface="Comic Sans MS"/>
              </a:rPr>
              <a:t>un banco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f0"/>
                </a:solidFill>
                <a:latin typeface="Comic Sans MS"/>
              </a:rPr>
              <a:t>un hospita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f0"/>
                </a:solidFill>
                <a:latin typeface="Comic Sans MS"/>
              </a:rPr>
              <a:t>un mercado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f0"/>
                </a:solidFill>
                <a:latin typeface="Comic Sans MS"/>
              </a:rPr>
              <a:t>un museo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f0"/>
                </a:solidFill>
                <a:latin typeface="Comic Sans MS"/>
              </a:rPr>
              <a:t>un parqu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f0"/>
                </a:solidFill>
                <a:latin typeface="Comic Sans MS"/>
              </a:rPr>
              <a:t>un supermercado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4284720" y="58680"/>
            <a:ext cx="5124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99cc"/>
                </a:solidFill>
                <a:latin typeface="Comic Sans MS"/>
              </a:rPr>
              <a:t>una cafetería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99cc"/>
                </a:solidFill>
                <a:latin typeface="Comic Sans MS"/>
              </a:rPr>
              <a:t>una estació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0-19T08:08:18Z</dcterms:modified>
  <cp:revision>252</cp:revision>
  <dc:subject/>
  <dc:title>TITLE</dc:title>
</cp:coreProperties>
</file>