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C63-EDF0-4BF7-AD9A-F8F5FB98F2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604-0566-4D55-A867-61EF7E5C59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D12-3497-4A6F-AD29-9705D806D5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E14E-73E5-4292-BEA3-ED99BCE3C9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E808-026D-41F6-8DF2-E74EA5FB6C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541-1CED-4783-8DC0-669CC6B337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68A-AEA8-4166-BD0F-71E3E5CB89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2BB0-FD3E-48EB-A22D-2E281A3D40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299-EFC2-4556-9172-E6FBB82B38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89D3-490C-4E2A-B54C-4FD41719C7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6E6F-2263-4D81-A0C2-A802600E11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CA1-0BC7-4EF4-879D-7AC107C87C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CA2-26F2-4520-B85C-1F718049CD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D40-76CC-4714-AC21-2F9A2A3A54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868-6F0F-447C-8020-887D22F120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E3A1-CD68-4091-9A27-10D0AD234F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224-7C6F-413F-90E2-414C9F6C91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A8A-B5DD-4129-A619-20EB02AA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C11-ACF9-4DBA-8072-32199E5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91E-E29E-4DCA-A2DD-E8F5923E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1E4-73D3-42F7-876C-780CADDE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ACA-4A77-4324-A666-36C695AA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9C5-490A-4FBE-94F6-6D1276E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F0C-98CB-4DCE-8561-AAB89D3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304-C379-4E36-A72B-ADBFB4E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915-26C8-41E6-A921-FCA09E8B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EE5-A24D-4589-A90B-2EBA0A5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A3A-F870-4ECC-BE14-7A843B8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DAC-7339-4144-816B-73FBC82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E88-96AC-437F-96FC-DFB2FDDDF0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9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09308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45"/>
          <p:cNvSpPr/>
          <p:nvPr/>
        </p:nvSpPr>
        <p:spPr>
          <a:xfrm>
            <a:off x="709308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6"/>
          <p:cNvSpPr/>
          <p:nvPr/>
        </p:nvSpPr>
        <p:spPr>
          <a:xfrm>
            <a:off x="2556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8:57Z</dcterms:modified>
  <cp:revision>102</cp:revision>
  <dc:subject/>
  <dc:title>TITLE</dc:title>
</cp:coreProperties>
</file>