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783D-4C9E-4CE4-8556-D506170F27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130F-70C2-4DB7-B0C0-CD6037AB56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14AD-4C07-49D3-B624-B6B96632AC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2BE1-4ECF-4CE9-B9D6-743DB89BAA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8FA1-C4ED-48D6-A6AF-E0F0EDE311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7345-1AC5-4929-B62F-FD540DE9E7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C05B-B6C4-48CB-A77A-C6FBA564FA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605C-A0A4-477A-9BDA-EA584C50CD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94A2-1E83-4274-990D-A70FC6823D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7623-D955-4100-9148-5AA449BE7F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A467-C697-4FD0-AFCF-32022F79FE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F8E-6872-43D1-87CC-8D1156CE4D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F2EE-AB22-448E-A94C-F9F3913B3F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9E28-5612-4C4C-B19B-5B4292811F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DEE3-0B19-42A2-98BB-C007833F82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21E1-B35E-43E9-A2F1-15F3666E81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BB14-5871-460E-B7E0-F21CC31EF20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E81-FE15-4E01-94BD-F5B4D3DB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9E8-DAFE-4393-9B4A-A8310936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46E-7983-4882-844F-47FD3949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E93-D1D9-4768-8CD8-0275685B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7F3-C58E-4ADF-88D0-D8851A4B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33B-51E0-497D-9A40-3D273C2F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4A0-D0D8-41CC-AF7D-F61AB37C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E83-1F81-4804-85AC-564FBDC6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9EF-8B29-495F-B16F-4B51EBD6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22F-63D1-4B6C-B114-22BE988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E63-1786-40C2-A532-7C28244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BC4-EA9A-4273-93D4-AB17EBA7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98B-3F67-409F-BF98-AE5AD1EA7A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0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43"/>
          <p:cNvSpPr/>
          <p:nvPr/>
        </p:nvSpPr>
        <p:spPr>
          <a:xfrm>
            <a:off x="111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4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3"/>
          <p:cNvSpPr/>
          <p:nvPr/>
        </p:nvSpPr>
        <p:spPr>
          <a:xfrm>
            <a:off x="111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4"/>
          <p:cNvSpPr/>
          <p:nvPr/>
        </p:nvSpPr>
        <p:spPr>
          <a:xfrm>
            <a:off x="7020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9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3"/>
          <p:cNvSpPr/>
          <p:nvPr/>
        </p:nvSpPr>
        <p:spPr>
          <a:xfrm>
            <a:off x="111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7020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09308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556000" y="3357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565164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2"/>
          <p:cNvSpPr/>
          <p:nvPr/>
        </p:nvSpPr>
        <p:spPr>
          <a:xfrm>
            <a:off x="406728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43"/>
          <p:cNvSpPr/>
          <p:nvPr/>
        </p:nvSpPr>
        <p:spPr>
          <a:xfrm>
            <a:off x="111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7020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45"/>
          <p:cNvSpPr/>
          <p:nvPr/>
        </p:nvSpPr>
        <p:spPr>
          <a:xfrm>
            <a:off x="709308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6"/>
          <p:cNvSpPr/>
          <p:nvPr/>
        </p:nvSpPr>
        <p:spPr>
          <a:xfrm>
            <a:off x="2556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26920" y="765000"/>
          <a:ext cx="7490160" cy="469764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32"/>
          <p:cNvSpPr/>
          <p:nvPr/>
        </p:nvSpPr>
        <p:spPr>
          <a:xfrm>
            <a:off x="255600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5580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558000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35"/>
          <p:cNvSpPr/>
          <p:nvPr/>
        </p:nvSpPr>
        <p:spPr>
          <a:xfrm>
            <a:off x="1042920" y="3284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7020000" y="98100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042920" y="450864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38"/>
          <p:cNvSpPr/>
          <p:nvPr/>
        </p:nvSpPr>
        <p:spPr>
          <a:xfrm>
            <a:off x="1116000" y="9079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39"/>
          <p:cNvSpPr/>
          <p:nvPr/>
        </p:nvSpPr>
        <p:spPr>
          <a:xfrm>
            <a:off x="4067280" y="2133720"/>
            <a:ext cx="1008000" cy="790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1-10T09:48:57Z</dcterms:modified>
  <cp:revision>102</cp:revision>
  <dc:subject/>
  <dc:title>TITLE</dc:title>
</cp:coreProperties>
</file>