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BBBC-FC72-41D8-8BED-3279C267370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4298-6C98-4E6D-A997-D5A9AA8D3EA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8CDE-66B6-4D3D-B222-EC133B07934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2DD3-210F-4444-8FF9-796A516F04E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A679-F81B-42F6-A83B-FA0C5CFED8E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A08F-3C97-4F3A-82ED-4117C0E2D1C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CAFA-B0BC-4AFB-ADCC-3B693C1B711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C71D-068F-4393-88FA-E49AC7F598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4AD3-2B77-41C5-8B15-A46CA570873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D9A9-6475-49AD-8519-11FC46D0318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D845-1495-4DFA-A8A2-B884B43CBE9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E8E3-F8CB-42E9-9AAB-2D611FA8EA4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BC96-6496-4266-BAF0-C2C0F08959C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1572-EB43-4CA0-A72E-0C9E6F2A951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6CC2-8BEC-48F2-A3F9-A04ABE444AE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7C29-20E0-4EC3-8868-1D8B2ADF22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11F1-976E-46F0-AFE8-B1E3F04338A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D68A-11E6-4217-8CDE-5369EFB0554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E9C7-AE7E-445C-9E7F-6578B3E6CF2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91E9-41E9-4DE8-8116-F246D9E4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1E1E-749D-4F2E-BF4E-0B79FA4D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3E5E-E80B-447A-AA01-AC2644C2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0CE4-491A-4A70-8C0A-0A5060CA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A41-7C18-4F46-85FD-55108413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2EA-D2B4-4E1A-BFD4-2838241E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5E39-AEF4-4CB1-BF5E-B9C36028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0820-F472-4EB1-8C5B-7522B1A9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6C7B-5F94-4830-84AE-5521D760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F5C-26E7-4B67-A372-675A2279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2B3-E182-4C55-BBBE-00CD718D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DCB-16C0-4952-85A1-7651DA5D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CC07-1D8D-4E0D-999C-2BA81B8146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2205000"/>
          <a:ext cx="8207280" cy="40482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nzal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iluz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li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cí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0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zan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isc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cí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ésar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8360" y="2205000"/>
          <a:ext cx="8207280" cy="40482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Gon</a:t>
                      </a:r>
                      <a:r>
                        <a:rPr b="0" lang="en-GB" sz="5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al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arilu</a:t>
                      </a:r>
                      <a:r>
                        <a:rPr b="0" lang="en-GB" sz="5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z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e</a:t>
                      </a: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i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u</a:t>
                      </a:r>
                      <a:r>
                        <a:rPr b="0" lang="en-GB" sz="5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í</a:t>
                      </a: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0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I</a:t>
                      </a:r>
                      <a:r>
                        <a:rPr b="0" lang="en-GB" sz="5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an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Fran</a:t>
                      </a:r>
                      <a:r>
                        <a:rPr b="0" lang="en-GB" sz="5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i</a:t>
                      </a: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sc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o</a:t>
                      </a:r>
                      <a:r>
                        <a:rPr b="0" lang="en-GB" sz="5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í</a:t>
                      </a: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é</a:t>
                      </a: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sar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-108000" y="1908000"/>
            <a:ext cx="2725920" cy="2725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6157800" y="65707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a"/>
                </a:solidFill>
                <a:latin typeface="Arial Rounded MT Bold"/>
              </a:rPr>
              <a:t>image from flaticon.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ounded Rectangular Callout 3"/>
          <p:cNvSpPr/>
          <p:nvPr/>
        </p:nvSpPr>
        <p:spPr>
          <a:xfrm>
            <a:off x="2916360" y="1908000"/>
            <a:ext cx="5976720" cy="1656000"/>
          </a:xfrm>
          <a:prstGeom prst="wedgeRoundRectCallout">
            <a:avLst>
              <a:gd name="adj1" fmla="val -58847"/>
              <a:gd name="adj2" fmla="val 32435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Me llamo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ran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ci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co. 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eng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ocho años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79280" y="4643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Francis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6157800" y="65707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a"/>
                </a:solidFill>
                <a:latin typeface="Arial Rounded MT Bold"/>
              </a:rPr>
              <a:t>image from flaticon.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ounded Rectangular Callout 3"/>
          <p:cNvSpPr/>
          <p:nvPr/>
        </p:nvSpPr>
        <p:spPr>
          <a:xfrm>
            <a:off x="2916360" y="1908000"/>
            <a:ext cx="5976720" cy="1656000"/>
          </a:xfrm>
          <a:prstGeom prst="wedgeRoundRectCallout">
            <a:avLst>
              <a:gd name="adj1" fmla="val -58847"/>
              <a:gd name="adj2" fmla="val 32435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Me llamo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ilu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z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eng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nueve años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179280" y="4643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Marilu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71280" y="206064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6157800" y="65707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a"/>
                </a:solidFill>
                <a:latin typeface="Arial Rounded MT Bold"/>
              </a:rPr>
              <a:t>image from flaticon.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ounded Rectangular Callout 3"/>
          <p:cNvSpPr/>
          <p:nvPr/>
        </p:nvSpPr>
        <p:spPr>
          <a:xfrm>
            <a:off x="2916360" y="1908000"/>
            <a:ext cx="5976720" cy="1656000"/>
          </a:xfrm>
          <a:prstGeom prst="wedgeRoundRectCallout">
            <a:avLst>
              <a:gd name="adj1" fmla="val -58847"/>
              <a:gd name="adj2" fmla="val 32435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Me llamo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cí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. 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eng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once años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179280" y="4643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Rocí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210960" y="1773360"/>
            <a:ext cx="286992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6157800" y="65707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a"/>
                </a:solidFill>
                <a:latin typeface="Arial Rounded MT Bold"/>
              </a:rPr>
              <a:t>image from flaticon.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ounded Rectangular Callout 3"/>
          <p:cNvSpPr/>
          <p:nvPr/>
        </p:nvSpPr>
        <p:spPr>
          <a:xfrm>
            <a:off x="2916360" y="1908000"/>
            <a:ext cx="5976720" cy="1656000"/>
          </a:xfrm>
          <a:prstGeom prst="wedgeRoundRectCallout">
            <a:avLst>
              <a:gd name="adj1" fmla="val -58847"/>
              <a:gd name="adj2" fmla="val 32435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Me llamo 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Cé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r. 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eng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siete años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79280" y="4643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Cés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-171360" y="1828800"/>
            <a:ext cx="27892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-108000" y="1908000"/>
            <a:ext cx="2725920" cy="2725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6157800" y="65707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a"/>
                </a:solidFill>
                <a:latin typeface="Arial Rounded MT Bold"/>
              </a:rPr>
              <a:t>image from flaticon.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ounded Rectangular Callout 3"/>
          <p:cNvSpPr/>
          <p:nvPr/>
        </p:nvSpPr>
        <p:spPr>
          <a:xfrm>
            <a:off x="2916360" y="1908000"/>
            <a:ext cx="5976720" cy="1656000"/>
          </a:xfrm>
          <a:prstGeom prst="wedgeRoundRectCallout">
            <a:avLst>
              <a:gd name="adj1" fmla="val -58847"/>
              <a:gd name="adj2" fmla="val 32435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Me llamo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ran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ci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co. 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eng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ocho años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79280" y="4643280"/>
            <a:ext cx="20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Francis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brot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916360" y="4443480"/>
            <a:ext cx="5976720" cy="21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c7876"/>
                </a:solidFill>
                <a:latin typeface="Comic Sans MS"/>
              </a:rPr>
              <a:t>Mi hermano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se llama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ran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ci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c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ien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ocho año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6157800" y="65707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a"/>
                </a:solidFill>
                <a:latin typeface="Arial Rounded MT Bold"/>
              </a:rPr>
              <a:t>image from flaticon.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ounded Rectangular Callout 3"/>
          <p:cNvSpPr/>
          <p:nvPr/>
        </p:nvSpPr>
        <p:spPr>
          <a:xfrm>
            <a:off x="2916360" y="1908000"/>
            <a:ext cx="5976720" cy="1656000"/>
          </a:xfrm>
          <a:prstGeom prst="wedgeRoundRectCallout">
            <a:avLst>
              <a:gd name="adj1" fmla="val -58847"/>
              <a:gd name="adj2" fmla="val 32435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Me llamo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ilu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z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eng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nueve años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179280" y="4643280"/>
            <a:ext cx="20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Marilu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ous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71280" y="206064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2916360" y="4443480"/>
            <a:ext cx="5976720" cy="21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c7876"/>
                </a:solidFill>
                <a:latin typeface="Comic Sans MS"/>
              </a:rPr>
              <a:t>Mi prima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se llama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rilu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z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ien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nueve año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6157800" y="65707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a"/>
                </a:solidFill>
                <a:latin typeface="Arial Rounded MT Bold"/>
              </a:rPr>
              <a:t>image from flaticon.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Rounded Rectangular Callout 3"/>
          <p:cNvSpPr/>
          <p:nvPr/>
        </p:nvSpPr>
        <p:spPr>
          <a:xfrm>
            <a:off x="2916360" y="1908000"/>
            <a:ext cx="5976720" cy="1656000"/>
          </a:xfrm>
          <a:prstGeom prst="wedgeRoundRectCallout">
            <a:avLst>
              <a:gd name="adj1" fmla="val -58847"/>
              <a:gd name="adj2" fmla="val 32435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Me llamo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cí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. 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eng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once años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179280" y="4643280"/>
            <a:ext cx="20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Rocí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-210960" y="1773360"/>
            <a:ext cx="2869920" cy="28699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2916360" y="4443480"/>
            <a:ext cx="5976720" cy="21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c7876"/>
                </a:solidFill>
                <a:latin typeface="Comic Sans MS"/>
              </a:rPr>
              <a:t>Mi amiga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se llama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cí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ien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once año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6157800" y="65707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a"/>
                </a:solidFill>
                <a:latin typeface="Arial Rounded MT Bold"/>
              </a:rPr>
              <a:t>image from flaticon.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ounded Rectangular Callout 3"/>
          <p:cNvSpPr/>
          <p:nvPr/>
        </p:nvSpPr>
        <p:spPr>
          <a:xfrm>
            <a:off x="2916360" y="1908000"/>
            <a:ext cx="5976720" cy="1656000"/>
          </a:xfrm>
          <a:prstGeom prst="wedgeRoundRectCallout">
            <a:avLst>
              <a:gd name="adj1" fmla="val -58847"/>
              <a:gd name="adj2" fmla="val 32435"/>
              <a:gd name="adj3" fmla="val 16667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Me llamo 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Cé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r. 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eng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siete años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179280" y="4643280"/>
            <a:ext cx="20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Cés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ous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-171360" y="1828800"/>
            <a:ext cx="2789280" cy="27892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2916360" y="4443480"/>
            <a:ext cx="5976720" cy="21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c7876"/>
                </a:solidFill>
                <a:latin typeface="Comic Sans MS"/>
              </a:rPr>
              <a:t>Mi primo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se llama </a:t>
            </a: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Cé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Tien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siete año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8360" y="2205000"/>
          <a:ext cx="8207280" cy="40482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Gonzal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iluz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li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cí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0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zan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isc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cí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ésar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8360" y="2205000"/>
          <a:ext cx="8207280" cy="40482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Gonzal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iluz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eli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cí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0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zan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isc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cí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ésar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2205000"/>
          <a:ext cx="8207280" cy="40482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Gonzal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iluz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eli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cí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0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Izan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isc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cí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ésar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2205000"/>
          <a:ext cx="8207280" cy="40482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Gonzal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iluz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eli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cí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0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Izan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isc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ocí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ésar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2205000"/>
          <a:ext cx="8207280" cy="40482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Gonzal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ariluz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eli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cí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0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Izan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isc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ocí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ésar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2205000"/>
          <a:ext cx="8207280" cy="40482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Gonzal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ariluz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eli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ucí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0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Izan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isc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ocí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ésar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2205000"/>
          <a:ext cx="8207280" cy="40482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Gonzal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ariluz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eli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ucí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0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Izan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Francisc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ocí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ésar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5724360" y="4797360"/>
            <a:ext cx="3419640" cy="20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2205000"/>
          <a:ext cx="8207280" cy="40482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Gonzal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ariluz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eli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ucía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0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Izan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Francisc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ocí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César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3-02T13:16:09Z</dcterms:modified>
  <cp:revision>213</cp:revision>
  <dc:subject/>
  <dc:title>TITLE</dc:title>
</cp:coreProperties>
</file>