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4CE3-FCE4-456D-8276-9BA63455F0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AC62-95B6-410D-97EA-08A193B105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1296-6E5C-4858-9089-2DB822D27D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8EEC-0208-4590-834F-46CFA549C1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3BB-F405-46B2-A00C-7E8B736953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D719-10EF-4835-B1E8-616F1C35BE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B025-9823-41BA-9076-D16678AB5C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1C04-6515-48B1-9827-EA433FD56F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68BD-1AB5-4A41-A5D4-90A9535C03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81AF-EBF2-49BA-A77E-D33DB95D12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AA1A-6AE2-4045-976C-28EC6B33CF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8BEB-5794-45F2-B38E-87AA26E370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89A5-0B99-4A32-B19E-683CCFFB4F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2A07-4A2E-4442-9E95-B7574DA861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C10C-4F37-4A82-BB56-218F34C7AC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2253-7099-4D0B-BCDE-A1C4AFA7C6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A306-E792-4714-86F3-FE0360B2BE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8822-CD81-4022-8AE0-82D303C0FC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E232-F984-49D2-9DB5-88D983051F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B12-D6E2-4119-816A-BEACD423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1EF-8879-4070-B79D-9457F185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80B-31BE-431C-8FB5-685CDAB3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15D-052A-42B4-B31D-2C37B5A4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5C5-3D78-46CC-B452-8338A2E6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96D-7164-4B89-8CFF-BA9B1CAE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F10-CDC1-4F2C-9693-BB24E5A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371-921C-4060-B505-4FD669D1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48F-5FF6-4DDF-9432-6954BEDB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121-C02E-4638-92F7-6CF286B4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792-EDB4-402E-9C95-44C05C32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427-F7E2-4C0C-BE0D-3E4FB02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0C6A-D67B-4CE5-9105-BDDE4E5128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e</a:t>
                      </a: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í</a:t>
                      </a: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Fran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i</a:t>
                      </a: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í</a:t>
                      </a: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é</a:t>
                      </a: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108000" y="1908000"/>
            <a:ext cx="2725920" cy="2725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co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cho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79280" y="4643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ilu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nuev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79280" y="4643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Marilu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71280" y="206064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í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nc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79280" y="4643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Rocí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210960" y="1773360"/>
            <a:ext cx="28699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é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iet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79280" y="4643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Cés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-171360" y="1828800"/>
            <a:ext cx="27892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-108000" y="1908000"/>
            <a:ext cx="2725920" cy="27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co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cho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79280" y="4643280"/>
            <a:ext cx="20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br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16360" y="4443480"/>
            <a:ext cx="5976720" cy="21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7876"/>
                </a:solidFill>
                <a:latin typeface="Comic Sans MS"/>
              </a:rPr>
              <a:t>Mi hermano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se llama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cho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ilu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nuev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79280" y="4643280"/>
            <a:ext cx="20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Marilu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us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71280" y="206064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2916360" y="4443480"/>
            <a:ext cx="5976720" cy="21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7876"/>
                </a:solidFill>
                <a:latin typeface="Comic Sans MS"/>
              </a:rPr>
              <a:t>Mi prima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se llama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ilu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nueve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í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nc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79280" y="4643280"/>
            <a:ext cx="20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Rocí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-210960" y="1773360"/>
            <a:ext cx="2869920" cy="2869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2916360" y="4443480"/>
            <a:ext cx="5976720" cy="21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7876"/>
                </a:solidFill>
                <a:latin typeface="Comic Sans MS"/>
              </a:rPr>
              <a:t>Mi amiga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se llama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í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nce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é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iet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79280" y="4643280"/>
            <a:ext cx="20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Cés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us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-171360" y="1828800"/>
            <a:ext cx="2789280" cy="2789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2916360" y="4443480"/>
            <a:ext cx="5976720" cy="21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7876"/>
                </a:solidFill>
                <a:latin typeface="Comic Sans MS"/>
              </a:rPr>
              <a:t>Mi primo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se llama 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é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iete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16:09Z</dcterms:modified>
  <cp:revision>213</cp:revision>
  <dc:subject/>
  <dc:title>TITLE</dc:title>
</cp:coreProperties>
</file>