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A401-0133-49B3-AB05-028F1B2D38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EBF6-05BA-46D3-ABBE-FCCA4A8AF0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1826-C5CF-47AB-8F72-6E9FF82115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2E9-2B74-40A6-BDA1-BB34E0A9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2FE-B925-4F8D-BF3A-477C4E45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EA6-446B-4F19-A5FB-038C01BF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26C-00FC-429E-8957-F447001E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0F2-C210-415C-B20F-3C5445A9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7C0-BE92-4A40-BC24-9CB60F41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E36-C741-4E1F-96D1-B6E2B5C1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F4C-FDF2-4DEB-93C4-A4F41214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04E-356A-41C1-A2DF-624EC6C4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F11-BB7C-4A69-B768-B9E02742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0D8-D47F-470C-897B-A472353E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4F4-CD05-4A4A-9E66-AC9AE817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E40B-5E59-4459-8180-D68E2C2EFC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9892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056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472428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516720" y="1196640"/>
            <a:ext cx="0" cy="1871640"/>
          </a:xfrm>
          <a:prstGeom prst="line">
            <a:avLst/>
          </a:prstGeom>
          <a:ln w="190440">
            <a:solidFill>
              <a:srgbClr val="fffff7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3573360"/>
            <a:ext cx="71280" cy="1800360"/>
          </a:xfrm>
          <a:prstGeom prst="line">
            <a:avLst/>
          </a:prstGeom>
          <a:ln w="190440">
            <a:solidFill>
              <a:srgbClr val="fffff7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189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e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7632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2924280"/>
            <a:ext cx="352764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9"/>
                </a:solidFill>
                <a:latin typeface="Comic Sans MS"/>
              </a:rPr>
              <a:t>+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9"/>
                </a:solidFill>
                <a:latin typeface="Comic Sans MS"/>
              </a:rPr>
              <a:t>-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e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40:49Z</dcterms:modified>
  <cp:revision>80</cp:revision>
  <dc:subject/>
  <dc:title>TITLE</dc:title>
</cp:coreProperties>
</file>