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ABC6-A313-41F3-9EDA-F21D1B5862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E1A-2F4E-4C15-AF41-171451C902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561C-AACE-4538-AD38-929B973134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DBE-1BDE-466E-8771-FE53E463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F8D-8BB8-4FF5-B259-04679831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809-BD29-461F-A082-EA88687E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793-F3EA-41D9-BA53-4856BD5A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98D-3B96-4B58-A75E-CCCEF16D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269-4430-4C0E-BCF1-978F0345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B82-48D2-4FEE-B1A5-51A490B4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578-CDF5-4EA2-875C-18590F70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DDE-55F6-49F4-AB00-1DB0371E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5A2-0AFF-4BA4-93AD-C9622573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B7B-D364-4A4A-8E63-15C4DCD8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A36-B233-4510-8D6C-84FCEC03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63E4-5A2F-4A7B-BE87-34551797B7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472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98920" y="472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0560" y="472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472428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516720" y="1196640"/>
            <a:ext cx="0" cy="1871640"/>
          </a:xfrm>
          <a:prstGeom prst="line">
            <a:avLst/>
          </a:prstGeom>
          <a:ln w="190440">
            <a:solidFill>
              <a:srgbClr val="fffff7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3573360"/>
            <a:ext cx="71280" cy="1800360"/>
          </a:xfrm>
          <a:prstGeom prst="line">
            <a:avLst/>
          </a:prstGeom>
          <a:ln w="190440">
            <a:solidFill>
              <a:srgbClr val="fffff7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189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23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e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7632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2924280"/>
            <a:ext cx="352764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9"/>
                </a:solidFill>
                <a:latin typeface="Comic Sans MS"/>
              </a:rPr>
              <a:t>+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9"/>
                </a:solidFill>
                <a:latin typeface="Comic Sans MS"/>
              </a:rPr>
              <a:t>-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e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40:49Z</dcterms:modified>
  <cp:revision>80</cp:revision>
  <dc:subject/>
  <dc:title>TITLE</dc:title>
</cp:coreProperties>
</file>