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258E-7EBA-422F-AE2B-EC670DE697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A65B-1BC5-4844-8EAE-F4CA31E845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40AD-2C56-45FA-B1D6-2EFC68DCA64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262B-6ABD-4366-9CD7-E9D5E45A90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BDFC-E203-4D44-A97C-E121518E9D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BC95-F3C2-48E9-9611-92685C1DEF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E354-A7CC-4AD9-B70F-4CC4B71D9CD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2A97-EF57-4B2B-8FC3-727680DD78C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EB8D-374C-43B3-A46A-8A8059910DC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B439-14A8-4E90-AA4C-D1B8A8EFC81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9588-687E-4DCA-8415-06640D2F30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DCA6-02BA-4F02-998B-204BD12CA7A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629E-6134-4ED4-9C89-142F567404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FABC-619D-4681-9406-3706FCDD36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7209-7A47-4F18-A06C-92C047E03DC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D52F-CF10-4538-84EB-19123822B1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4CB-EAA5-4F57-932D-0D4E2700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2F4-5A72-4A7B-A7A8-9A156816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17F-C0F4-4B5B-B230-549A6110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F2E-6B36-4BE1-97D0-13848EE9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9C4-517F-4DCA-93EF-71446796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1A6-222F-48D5-8EE2-4297BE61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5E43-E533-431C-A658-4CC7780F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6DD-CD27-47AE-A829-ED05E258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F45-F162-49F4-A302-F091A2B1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43A-49C8-45B3-A9BB-1C289752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FD87-2245-4A5F-8F64-1C4A7073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0FF-818F-416D-AE21-CAB1DF95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8A55-6AE3-49B0-8D93-E575BAA120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5640" y="549360"/>
            <a:ext cx="457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788000" y="357336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6360" y="4437000"/>
            <a:ext cx="5763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740720" y="4653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51280" y="5734080"/>
            <a:ext cx="649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11280" y="1916280"/>
            <a:ext cx="5763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451640" y="333360"/>
            <a:ext cx="649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348000" y="620640"/>
            <a:ext cx="719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227640" y="3141720"/>
            <a:ext cx="720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5640" y="549360"/>
            <a:ext cx="457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788000" y="357336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76360" y="4437000"/>
            <a:ext cx="5763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740720" y="4653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51280" y="5734080"/>
            <a:ext cx="649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451640" y="333360"/>
            <a:ext cx="649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348000" y="620640"/>
            <a:ext cx="719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27640" y="3141720"/>
            <a:ext cx="720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55640" y="549360"/>
            <a:ext cx="457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788000" y="357336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76360" y="4437000"/>
            <a:ext cx="5763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740720" y="4653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51280" y="5734080"/>
            <a:ext cx="649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348000" y="620640"/>
            <a:ext cx="719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27640" y="3141720"/>
            <a:ext cx="720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55640" y="549360"/>
            <a:ext cx="457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788000" y="357336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76360" y="4437000"/>
            <a:ext cx="5763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740720" y="4653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348000" y="620640"/>
            <a:ext cx="719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227640" y="3141720"/>
            <a:ext cx="720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5640" y="549360"/>
            <a:ext cx="457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76360" y="4437000"/>
            <a:ext cx="5763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740720" y="4653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348000" y="620640"/>
            <a:ext cx="719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27640" y="3141720"/>
            <a:ext cx="720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55640" y="549360"/>
            <a:ext cx="457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740720" y="4653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348000" y="620640"/>
            <a:ext cx="719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27640" y="3141720"/>
            <a:ext cx="720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5640" y="549360"/>
            <a:ext cx="457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348000" y="620640"/>
            <a:ext cx="719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227640" y="3141720"/>
            <a:ext cx="720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55640" y="549360"/>
            <a:ext cx="457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227640" y="3141720"/>
            <a:ext cx="720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27640" y="3141720"/>
            <a:ext cx="720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12-01T15:29:00Z</dcterms:modified>
  <cp:revision>114</cp:revision>
  <dc:subject/>
  <dc:title>TITLE</dc:title>
</cp:coreProperties>
</file>