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AE6C-F75C-4B36-96E1-C18E74E58E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FF7F-4116-4EA8-BAE3-3A40BAD1297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EE5F-E8C4-4763-A93D-5A09E0DE18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3C09-2A4C-4E59-950D-2D3CA9F056A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DE67-C7C9-4882-B680-865C37D0B06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5360-DD8B-4379-8C71-F71A5659CB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F929-9236-4940-A072-DB04A6D1D93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C3EA-BA04-4314-BBAB-E62F29F1086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FE93-53DC-4F13-B5CF-7C349EFBC0C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B24C-A545-4C6A-B25D-87B6577C336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1CCC-B32D-45D9-B480-83C4C27B38E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1B7F-9B84-414D-A96C-BC63A44FCC2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97B5-FCC6-4055-8DE5-876920E3559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D8D6-5D27-4C1C-BBBE-B2E0F86A69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27F9-368C-40D1-8D17-4DCD7EF126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0B26-D8EE-410C-8C5E-7067F1CAE34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1FE-93DF-4BCB-8D39-54D95C51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4EA-94E1-4FED-9876-6BD15F96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613-57FA-4266-BECF-E3551854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5B2-7336-4351-9A3E-3EDD9C1F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173-99AD-4D26-9647-AD8AEB3F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64C-FAE5-401B-B4AE-5B9038E0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56C-A18F-493D-9C81-B10B3B66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1E9-4205-4263-BA93-958903A6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19D-D981-4783-B444-EE0DF024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EE2-7C8B-467D-A5F5-19427040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144-6937-48BD-A79C-7B283E0E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E01-FFDB-4A03-BCDC-02342629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28BB-2150-43BE-8195-22C0CDDCDE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788000" y="357336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360" y="4437000"/>
            <a:ext cx="576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740720" y="4653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51280" y="5734080"/>
            <a:ext cx="649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11280" y="1916280"/>
            <a:ext cx="576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451640" y="333360"/>
            <a:ext cx="649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348000" y="620640"/>
            <a:ext cx="719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788000" y="357336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76360" y="4437000"/>
            <a:ext cx="576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40720" y="4653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51280" y="5734080"/>
            <a:ext cx="649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451640" y="333360"/>
            <a:ext cx="649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348000" y="620640"/>
            <a:ext cx="719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788000" y="357336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76360" y="4437000"/>
            <a:ext cx="576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740720" y="4653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51280" y="5734080"/>
            <a:ext cx="649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348000" y="620640"/>
            <a:ext cx="719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788000" y="357336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76360" y="4437000"/>
            <a:ext cx="576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740720" y="4653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348000" y="620640"/>
            <a:ext cx="719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360" y="4437000"/>
            <a:ext cx="576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40720" y="4653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348000" y="620640"/>
            <a:ext cx="719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740720" y="4653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348000" y="620640"/>
            <a:ext cx="719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348000" y="620640"/>
            <a:ext cx="719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55640" y="549360"/>
            <a:ext cx="457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51640" y="1484280"/>
            <a:ext cx="649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2997360"/>
            <a:ext cx="57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96360" y="2421000"/>
            <a:ext cx="64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627280" y="350028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724360" y="5157720"/>
            <a:ext cx="64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3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27640" y="3141720"/>
            <a:ext cx="7207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4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1280" y="5445000"/>
            <a:ext cx="647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P.Seccombe</cp:lastModifiedBy>
  <dcterms:modified xsi:type="dcterms:W3CDTF">2009-12-01T15:29:00Z</dcterms:modified>
  <cp:revision>114</cp:revision>
  <dc:subject/>
  <dc:title>TITLE</dc:title>
</cp:coreProperties>
</file>