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AA51-D386-46D1-9CB3-357B6C8615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A02-FDCE-4EFC-87C3-BD9E7A77AC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BBB-0855-46E1-BEB4-88E58120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833-01B0-411A-9C0E-5B256178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1E5-B601-4EA2-B404-3754B82A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9DC-CF75-41B4-B859-221CB693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E94-773C-4E04-BC3F-67E57A65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9E73-F6C5-4294-B670-37CD7B5C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275D-3913-406D-B464-7F2403AA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DC73-3CBA-47B0-9348-96EDCE9E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CA20-15BE-4D25-9A66-DFC18E50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489E-15DD-450B-AFAB-6F2745D0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BF6-F233-48F9-9F6F-74478035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CDF-7CAC-459A-90BD-BA88A1C9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3011-97A4-4D39-AC78-8ED83953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C4EC-2729-42AB-8EBB-3C98454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0E3B-A2CC-4236-B766-D8AF13CD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CBB2-D9AC-45DC-8E2F-CB70F4E6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4854-B524-41CD-88A0-D894890F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8C73-50BA-4547-9F95-A0C9B785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CD6B-4340-4CFE-B2B1-D80B71F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E107-4097-477F-B565-E30F97C1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7A13-3A8A-4B1B-BD9D-50618AE6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B313-240F-42A4-8F7E-AEAEFD0C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787-0E3D-40F1-86DC-704888F3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C0C7-5DEF-49C0-8C39-FBA2D6B9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6492-7685-4C45-931C-13F6D76F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7C65-588C-44BA-8CCE-78A92013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328C-0191-4F8D-9629-39584A4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060F-19DD-48D0-91D2-925B6F04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F39A-883D-4745-A07A-6D9EFE1A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649D-A813-46E8-9409-1769C21F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E58-82CF-4598-9DBF-0FAC6DC2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0A2-732E-4F74-BFC4-61FA368B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449-94CE-4506-A882-67960B8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568-1FBF-48F6-923E-F372BB02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C15-1C1D-4493-9109-95623D5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5BF-3F53-4FC1-B437-3F8E797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29EE-2D54-4DBE-9DC7-9C46B9B5A0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2414-5D79-4CEF-B757-A324762484F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9264-8E76-4925-8FBE-73E95F8DCDF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0920" y="1700280"/>
            <a:ext cx="210528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67080" y="310824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372360" y="260280"/>
            <a:ext cx="203328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3141720"/>
            <a:ext cx="203328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732720" y="4292640"/>
            <a:ext cx="203328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486900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33336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588000" y="2276640"/>
            <a:ext cx="2033640" cy="16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716360" y="494172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067280" y="47628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9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57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4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65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9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1000"/>
                            </p:stCondLst>
                            <p:childTnLst>
                              <p:par>
                                <p:cTn id="73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4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6000"/>
                            </p:stCondLst>
                            <p:childTnLst>
                              <p:par>
                                <p:cTn id="81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38:44Z</dcterms:modified>
  <cp:revision>238</cp:revision>
  <dc:subject/>
  <dc:title>TITLE</dc:title>
</cp:coreProperties>
</file>