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F2E-C04D-4299-8095-EA74C87B95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57BB-68E7-483F-9EB2-3C772A30B8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F34-8354-443A-9B0F-2C7DE479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580-8FB4-4690-8626-BE49F51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F4C-46A7-402B-93AF-17149C3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3B0-7F3E-41DA-9BC3-CA21ACCE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11F-C83C-484B-BB4E-FD82AAAF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D9DF-7ED7-437B-9384-17E3A5F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18B4-CC59-43D3-A51C-34FE5546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DE9E-10A8-488F-A431-85865172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B01-E9CB-4B14-B78D-3E01B27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422-47FD-458E-AFE0-1D0ADF39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BC09-E700-45D0-83AD-27D54DEE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692-0B4C-42B8-8611-52A05F96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E3CE-B34F-40C9-928A-55292BE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EB23-7B3F-44AF-9497-34DA462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EC64-E36C-4AE3-92B7-C1660F4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EB5-F073-495B-B66E-F2F15AD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DA7-38DB-4DEA-936D-AFAE9C8D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4E32-A077-4528-A192-ECD462CA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9CED-7430-410E-8CEE-DDB1691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B982-59DB-403E-AB87-04879973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A164-73FD-4C42-8D18-CDA8047F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F175-36E7-40ED-9422-0A2AD71A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B8D-EBA6-43A7-A6E5-D236ADD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922E-0EDF-49D2-8CB6-5EF9CC90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4BFA-8D93-4346-8A76-4C0206F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BD55-3D31-4838-9C04-9F55624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8597-4822-431C-8D6F-98B5084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4414-C0F5-4331-8DBE-AEA2B53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6A8D-EE30-44FE-9321-5C13BC25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8123-2499-4E63-95F9-F20D98B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ECE-103A-423A-ADE2-B48D544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5D3-88E3-44DB-B264-839B208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6E2-6685-4DCD-ABD9-337536CA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E8D-8D3A-4629-98BF-4D74151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8F8-0A14-471F-A950-1BFACD0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C97-D315-4B52-99A1-9DDA626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176-AB2E-40F9-85BB-BE691A2891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47AC-8C63-4971-A8D3-C55D60D43C8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8B24-80CC-405E-A899-42E9169C6CC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0920" y="1700280"/>
            <a:ext cx="210528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67080" y="310824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372360" y="26028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14172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732720" y="4292640"/>
            <a:ext cx="203328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486900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33336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588000" y="2276640"/>
            <a:ext cx="2033640" cy="16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716360" y="494172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67280" y="476280"/>
            <a:ext cx="203364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5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65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1000"/>
                            </p:stCondLst>
                            <p:childTnLst>
                              <p:par>
                                <p:cTn id="73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000"/>
                            </p:stCondLst>
                            <p:childTnLst>
                              <p:par>
                                <p:cTn id="81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38:44Z</dcterms:modified>
  <cp:revision>238</cp:revision>
  <dc:subject/>
  <dc:title>TITLE</dc:title>
</cp:coreProperties>
</file>