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7E7C-C98F-421C-8F27-D5BE596912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18DF-D9AD-4D61-92EB-3E56B6C32B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8E1B-AE6A-449F-B8E6-654D215853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3AD1-CC13-4C91-BA17-E5953B46EC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7BF0-967B-4C9E-BF60-3FC8605BBE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0454-4446-4085-B221-C0EC8CD60F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2DF-BBCD-47C0-ADD5-0D79D531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72B-9F37-4635-AC61-C4AF30EC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3A4-3352-4325-8861-96E8C304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A69-01A1-48EC-95D7-32CC5578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681-EF19-405A-A510-7FE9DDAC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1F1-7C94-4DD9-AC35-3833FEF9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A00-67B7-4BA3-86C2-C3F8490B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9B9-62A1-4ED1-AD0A-E54B84DC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F54-11D1-407C-AA28-CB7E4D28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E87-121E-4CB2-B95D-B6DB76D9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FAA-D9CC-4460-B38A-A68A49E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490-5274-4B0F-9AF5-AF00D837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974E-8C84-4BF6-817E-57E6781796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15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5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50" name="TextBox 5"/>
          <p:cNvSpPr/>
          <p:nvPr/>
        </p:nvSpPr>
        <p:spPr>
          <a:xfrm>
            <a:off x="1344600" y="765000"/>
            <a:ext cx="2722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468360" y="765000"/>
            <a:ext cx="8762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54" name="TextBox 5"/>
          <p:cNvSpPr/>
          <p:nvPr/>
        </p:nvSpPr>
        <p:spPr>
          <a:xfrm>
            <a:off x="1403280" y="393372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527040" y="3933720"/>
            <a:ext cx="876240" cy="782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555920" y="692280"/>
            <a:ext cx="193644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rcRect l="29874" t="8702" r="30126" b="8197"/>
          <a:stretch/>
        </p:blipFill>
        <p:spPr>
          <a:xfrm>
            <a:off x="1009800" y="692280"/>
            <a:ext cx="56988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60" name="TextBox 5"/>
          <p:cNvSpPr/>
          <p:nvPr/>
        </p:nvSpPr>
        <p:spPr>
          <a:xfrm>
            <a:off x="1403280" y="393372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527040" y="3933720"/>
            <a:ext cx="876240" cy="782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1187280" y="4753080"/>
            <a:ext cx="193680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rcRect l="29874" t="8702" r="30126" b="8197"/>
          <a:stretch/>
        </p:blipFill>
        <p:spPr>
          <a:xfrm>
            <a:off x="641520" y="4753080"/>
            <a:ext cx="569880" cy="769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2308320" y="836640"/>
            <a:ext cx="1471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1163520" y="836640"/>
            <a:ext cx="1144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68" name="TextBox 5"/>
          <p:cNvSpPr/>
          <p:nvPr/>
        </p:nvSpPr>
        <p:spPr>
          <a:xfrm>
            <a:off x="1403280" y="393372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527040" y="3933720"/>
            <a:ext cx="876240" cy="782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1187280" y="4753080"/>
            <a:ext cx="193680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rcRect l="29874" t="8702" r="30126" b="8197"/>
          <a:stretch/>
        </p:blipFill>
        <p:spPr>
          <a:xfrm>
            <a:off x="641520" y="4753080"/>
            <a:ext cx="569880" cy="769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1736640" y="5732640"/>
            <a:ext cx="1471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92200" y="5732640"/>
            <a:ext cx="1144440" cy="769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"/>
          <p:cNvSpPr/>
          <p:nvPr/>
        </p:nvSpPr>
        <p:spPr>
          <a:xfrm>
            <a:off x="1252440" y="76500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4"/>
          <a:srcRect l="0" t="10586" r="12542" b="0"/>
          <a:stretch/>
        </p:blipFill>
        <p:spPr>
          <a:xfrm>
            <a:off x="684360" y="765000"/>
            <a:ext cx="56340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78" name="TextBox 5"/>
          <p:cNvSpPr/>
          <p:nvPr/>
        </p:nvSpPr>
        <p:spPr>
          <a:xfrm>
            <a:off x="1403280" y="393372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527040" y="3933720"/>
            <a:ext cx="876240" cy="782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1187280" y="4753080"/>
            <a:ext cx="193680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rcRect l="29874" t="8702" r="30126" b="8197"/>
          <a:stretch/>
        </p:blipFill>
        <p:spPr>
          <a:xfrm>
            <a:off x="641520" y="4753080"/>
            <a:ext cx="569880" cy="769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8"/>
          <p:cNvSpPr/>
          <p:nvPr/>
        </p:nvSpPr>
        <p:spPr>
          <a:xfrm>
            <a:off x="1736640" y="5732640"/>
            <a:ext cx="1471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592200" y="5732640"/>
            <a:ext cx="1144440" cy="769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5364000" y="3997440"/>
            <a:ext cx="2722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4"/>
          <a:srcRect l="0" t="10586" r="12542" b="0"/>
          <a:stretch/>
        </p:blipFill>
        <p:spPr>
          <a:xfrm>
            <a:off x="4794120" y="3997440"/>
            <a:ext cx="563760" cy="769680"/>
          </a:xfrm>
          <a:prstGeom prst="rect">
            <a:avLst/>
          </a:prstGeom>
          <a:ln w="0">
            <a:noFill/>
          </a:ln>
        </p:spPr>
      </p:pic>
      <p:sp>
        <p:nvSpPr>
          <p:cNvPr id="86" name="Oval Callout 12"/>
          <p:cNvSpPr/>
          <p:nvPr/>
        </p:nvSpPr>
        <p:spPr>
          <a:xfrm>
            <a:off x="468360" y="189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6:35Z</dcterms:modified>
  <cp:revision>148</cp:revision>
  <dc:subject/>
  <dc:title>TITLE</dc:title>
</cp:coreProperties>
</file>