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040D-7FB2-40C0-8096-576335C490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517-22C2-4C42-9FAB-87CD66F215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5F49-7EE0-4FAD-B115-19C99F2FA8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138-A78F-42F3-B7EE-CBA582663B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805-F332-40B4-8616-BC883EDB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682-56BF-4049-97C2-A37A807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C14-2044-4FFC-ABA4-68B41ACC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E5F-1D01-4EF1-BFE1-9E4020BD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B6B-C069-4FB8-AD8B-9F04508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2CE-2336-4BB3-A1B4-696D5B1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4CA-19EB-4A1F-A90C-1E24A55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903-422D-4CCE-B29B-BFCCA08A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414-3AE9-430F-AD8C-4C5BD98A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192-9672-4034-8563-CEB0EA7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BCB-1506-4E9E-8F7E-6D016AF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02F-D08A-4AE3-B69A-397C58C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79E1-9C6C-4679-A335-62CDF4F905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08360" y="3473280"/>
            <a:ext cx="1800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80000" y="3473280"/>
            <a:ext cx="1800000" cy="245772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12"/>
          <p:cNvSpPr/>
          <p:nvPr/>
        </p:nvSpPr>
        <p:spPr>
          <a:xfrm>
            <a:off x="0" y="206064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33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mascu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ight Arrow 13"/>
          <p:cNvSpPr/>
          <p:nvPr/>
        </p:nvSpPr>
        <p:spPr>
          <a:xfrm>
            <a:off x="0" y="525636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femin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7320" y="189000"/>
          <a:ext cx="5919480" cy="6408720"/>
        </p:xfrm>
        <a:graphic>
          <a:graphicData uri="http://schemas.openxmlformats.org/drawingml/2006/table">
            <a:tbl>
              <a:tblPr/>
              <a:tblGrid>
                <a:gridCol w="2960640"/>
                <a:gridCol w="295884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24000" y="2565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33"/>
                </a:solidFill>
                <a:latin typeface="Comic Sans MS"/>
              </a:rPr>
              <a:t>h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330372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rcRect l="25047" t="0" r="3120" b="0"/>
          <a:stretch/>
        </p:blipFill>
        <p:spPr>
          <a:xfrm>
            <a:off x="468360" y="260280"/>
            <a:ext cx="2590920" cy="240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29875" t="8688" r="30127" b="8193"/>
          <a:stretch/>
        </p:blipFill>
        <p:spPr>
          <a:xfrm>
            <a:off x="3780000" y="293760"/>
            <a:ext cx="1655640" cy="223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68600" cy="17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rcRect l="0" t="10561" r="12563" b="0"/>
          <a:stretch/>
        </p:blipFill>
        <p:spPr>
          <a:xfrm>
            <a:off x="3780000" y="3473280"/>
            <a:ext cx="1800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5:31Z</dcterms:modified>
  <cp:revision>148</cp:revision>
  <dc:subject/>
  <dc:title>TITLE</dc:title>
</cp:coreProperties>
</file>