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7E13-6CCE-4066-9F86-1512B1D917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0712-628C-4B9A-8514-2AF152328F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49CE-65E1-4C3F-B1F4-FCC40D7C41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F65C-35E0-46A1-851E-01FB82F208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AD8-914A-49E2-A532-5877EB09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294-CF4D-4ECD-942B-BF68FE9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993-2BA4-46BD-BC06-C87B0ED8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DC2-A92A-46BC-82A6-F696CDE1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6D0-69BB-4E4A-BF9B-CA791A3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5C8-5328-4861-AD73-0ADBC45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FBE-CDD7-4648-AB11-7403F87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A37-5045-4306-A740-1054D6C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680-4423-49C5-A1D0-CB5C817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C37-4E0F-4BC0-8A19-01F4FE3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728-CF52-42A2-8806-1EE6275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A18-CDB5-491D-8E21-D3857DDD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E18-A2A5-4E6B-A401-6F85F132B8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08360" y="3473280"/>
            <a:ext cx="1800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80000" y="3473280"/>
            <a:ext cx="1800000" cy="245772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12"/>
          <p:cNvSpPr/>
          <p:nvPr/>
        </p:nvSpPr>
        <p:spPr>
          <a:xfrm>
            <a:off x="0" y="206064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33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mascu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ight Arrow 13"/>
          <p:cNvSpPr/>
          <p:nvPr/>
        </p:nvSpPr>
        <p:spPr>
          <a:xfrm>
            <a:off x="0" y="525636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femin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33"/>
                </a:solidFill>
                <a:latin typeface="Comic Sans MS"/>
              </a:rPr>
              <a:t>h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80000" y="3473280"/>
            <a:ext cx="1800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5:31Z</dcterms:modified>
  <cp:revision>148</cp:revision>
  <dc:subject/>
  <dc:title>TITLE</dc:title>
</cp:coreProperties>
</file>