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017-C5F3-4D28-9F94-FF420048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B9D-B007-469D-9128-E6C5BD6B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A7D-032E-4592-9DC1-46CD901F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565-25D2-458D-9FAD-F5C0264E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762A-68ED-4B4C-8C8E-19EFBD99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10C-0D4E-4EDD-9366-773038D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D2D-51AD-42DE-9EA9-E09AF12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90A-71CF-425C-9842-7F65140E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64D-5E41-41DE-B71D-726C4EB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C477-C5E9-4478-BBB5-62B3130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FF6E-8588-4029-B56C-347EA5E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290-1742-4405-BA6E-0DFBBC2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C4D0-78C0-40BD-96A8-7BD9E5C7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13A-6FB8-4F6F-9EE5-2532B91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65C7-29AF-4CDE-BC3B-6D0DBBE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DD34-5ADD-445B-89FF-4165479C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3234-5981-4197-B5AA-DAAED48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2F8-A048-434C-BAA0-FEA08310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FB1-63D8-4DAA-A080-3318AD5F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09F-1350-4E76-98B5-8105AD6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F3F-A57E-41A8-B1D5-EC3308BB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15D-61E8-4D9A-B4F1-D37FDB49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AE6-D2F4-4D72-ADC3-4F87EA3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2D4-9860-4732-8F55-54C011C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F51-1FB6-4E23-8B74-B45CF1533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76C4-A4A3-4D87-AA81-6D893ED287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03280" y="1557360"/>
          <a:ext cx="6096240" cy="5300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6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National First Font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2"/>
          <p:cNvSpPr/>
          <p:nvPr/>
        </p:nvSpPr>
        <p:spPr>
          <a:xfrm>
            <a:off x="108000" y="115920"/>
            <a:ext cx="59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National First Font"/>
              </a:rPr>
              <a:t>las verdura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0" descr="cucumber[1]"/>
          <p:cNvPicPr/>
          <p:nvPr/>
        </p:nvPicPr>
        <p:blipFill>
          <a:blip r:embed="rId1"/>
          <a:stretch/>
        </p:blipFill>
        <p:spPr>
          <a:xfrm>
            <a:off x="1835280" y="170028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H03396I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5003640" y="1681200"/>
            <a:ext cx="2016360" cy="2432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1476360" y="4797360"/>
            <a:ext cx="2879640" cy="190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4572000" y="4797360"/>
            <a:ext cx="2855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22:04Z</dcterms:modified>
  <cp:revision>152</cp:revision>
  <dc:subject/>
  <dc:title>TITLE</dc:title>
</cp:coreProperties>
</file>