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7EE-84A8-41C0-B44D-10ECD41B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429-E530-45D3-ADAE-8548848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EA7-EC81-4992-95D1-C371954E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B98-498E-4298-A131-218E605F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2800-73AC-4453-B9EB-5ECE9DD5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4B55-0A21-442B-A550-916E3B08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0BC5-A17A-48A4-AC3D-5E7F0C74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5290-EBEE-47FC-957F-7A25C77A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DE07-5FAF-4F8A-BE8A-988337C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878D-B271-4D50-A62B-E8808BFA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D19C-E063-44EF-A831-6B9AA5CA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E8C-910B-4208-8636-3C5D8B57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67CA-E801-4DE8-B24D-C8E36D6C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D4AF-27FA-451C-9C38-81ABCD1A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F2EF-4D92-4311-961D-4742154E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C6B1-4D22-41B9-BB32-D0C136E9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DC64-2B4A-45BF-BD94-3AF17019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03F-9860-4E84-870E-EB74C3BF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4DB-FD28-4D37-91B7-202A2694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97A-8A7C-4AC8-A311-859BC92D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097-1293-48F0-841F-A1E95CC9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7B2-380A-4AFA-A869-F44AF876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6B4-806B-4FF7-9D6A-A805F65E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35B-AC42-4271-B56A-47E714C0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A15C-292B-4A08-A7C1-680B59A290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9E53-EC09-4EF6-9834-CE495510DF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403280" y="1557360"/>
          <a:ext cx="6096240" cy="5300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6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2"/>
          <p:cNvSpPr/>
          <p:nvPr/>
        </p:nvSpPr>
        <p:spPr>
          <a:xfrm>
            <a:off x="108000" y="115920"/>
            <a:ext cx="59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National First Font"/>
              </a:rPr>
              <a:t>las verdura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20" descr="cucumber[1]"/>
          <p:cNvPicPr/>
          <p:nvPr/>
        </p:nvPicPr>
        <p:blipFill>
          <a:blip r:embed="rId1"/>
          <a:stretch/>
        </p:blipFill>
        <p:spPr>
          <a:xfrm>
            <a:off x="1835280" y="170028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PH03396I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5003640" y="1681200"/>
            <a:ext cx="2016360" cy="2432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1476360" y="4797360"/>
            <a:ext cx="2879640" cy="190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4572000" y="4797360"/>
            <a:ext cx="2855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22:04Z</dcterms:modified>
  <cp:revision>152</cp:revision>
  <dc:subject/>
  <dc:title>TITLE</dc:title>
</cp:coreProperties>
</file>