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916E-EBC8-4E44-A2A5-F930AA52E9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0F86-83D2-4FDF-BC4E-0A316FA426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3288-E07F-4050-8204-C98838C918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0E26-3541-46DF-B063-B911803813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D73-8A01-4475-AF3E-1F1C9371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1E0-A308-4AB6-A026-AC7BDFD8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FCC-35EB-44A8-A40D-DE787BCF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6DA-8A48-4744-8F44-54E72B25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8D1-3CCE-42C3-AF49-9C45040A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B41-CA20-46EF-86B3-D35EEF3A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AFA-B845-460F-AD0A-B612E1B5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772-AC09-4B4A-9C0C-62C6998B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100-CD9F-46EE-8518-1A4CA4CA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A44-2A34-42DC-8DCA-040083A3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EBF-C1B7-45A9-A6F5-483DF51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7E5-CFA2-4B80-B4E2-CFD4F5FC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8857-D7DE-4ED7-A652-F6A34A80C5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15992" t="0" r="15485" b="0"/>
          <a:stretch/>
        </p:blipFill>
        <p:spPr>
          <a:xfrm>
            <a:off x="3508200" y="271440"/>
            <a:ext cx="2467080" cy="20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3492360" y="3500280"/>
            <a:ext cx="2502000" cy="208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rcRect l="0" t="0" r="21619" b="0"/>
          <a:stretch/>
        </p:blipFill>
        <p:spPr>
          <a:xfrm>
            <a:off x="6424560" y="3500280"/>
            <a:ext cx="246852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4"/>
          <a:srcRect l="8772" t="0" r="8938" b="0"/>
          <a:stretch/>
        </p:blipFill>
        <p:spPr>
          <a:xfrm>
            <a:off x="495360" y="3500280"/>
            <a:ext cx="2581200" cy="208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5"/>
          <a:srcRect l="7915" t="2740" r="10493" b="0"/>
          <a:stretch/>
        </p:blipFill>
        <p:spPr>
          <a:xfrm>
            <a:off x="495360" y="260280"/>
            <a:ext cx="2539800" cy="201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6"/>
          <a:srcRect l="2798" t="10294" r="3335" b="38756"/>
          <a:stretch/>
        </p:blipFill>
        <p:spPr>
          <a:xfrm>
            <a:off x="6424560" y="260280"/>
            <a:ext cx="2468520" cy="1906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240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62532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330372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628020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5992" t="0" r="15485" b="0"/>
          <a:stretch/>
        </p:blipFill>
        <p:spPr>
          <a:xfrm>
            <a:off x="3508200" y="271440"/>
            <a:ext cx="2467080" cy="20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3492360" y="3500280"/>
            <a:ext cx="2502000" cy="208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rcRect l="0" t="0" r="21619" b="0"/>
          <a:stretch/>
        </p:blipFill>
        <p:spPr>
          <a:xfrm>
            <a:off x="6424560" y="3500280"/>
            <a:ext cx="2468520" cy="209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rcRect l="8772" t="0" r="8938" b="0"/>
          <a:stretch/>
        </p:blipFill>
        <p:spPr>
          <a:xfrm>
            <a:off x="495360" y="3500280"/>
            <a:ext cx="2581200" cy="208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5"/>
          <a:srcRect l="7915" t="2740" r="10493" b="0"/>
          <a:stretch/>
        </p:blipFill>
        <p:spPr>
          <a:xfrm>
            <a:off x="495360" y="260280"/>
            <a:ext cx="2539800" cy="201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6"/>
          <a:srcRect l="2798" t="10294" r="3335" b="38756"/>
          <a:stretch/>
        </p:blipFill>
        <p:spPr>
          <a:xfrm>
            <a:off x="6424560" y="260280"/>
            <a:ext cx="2468520" cy="1906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240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que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jam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62532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zu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330372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628020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ight Arrow 4"/>
          <p:cNvSpPr/>
          <p:nvPr/>
        </p:nvSpPr>
        <p:spPr>
          <a:xfrm>
            <a:off x="0" y="2060640"/>
            <a:ext cx="2016000" cy="6858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0033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Comic Sans MS"/>
              </a:rPr>
              <a:t>mascu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ight Arrow 17"/>
          <p:cNvSpPr/>
          <p:nvPr/>
        </p:nvSpPr>
        <p:spPr>
          <a:xfrm>
            <a:off x="0" y="5256360"/>
            <a:ext cx="2016000" cy="6858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2556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a"/>
                </a:solidFill>
                <a:latin typeface="Comic Sans MS"/>
              </a:rPr>
              <a:t>femin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57320" y="189000"/>
          <a:ext cx="8878680" cy="6408720"/>
        </p:xfrm>
        <a:graphic>
          <a:graphicData uri="http://schemas.openxmlformats.org/drawingml/2006/table">
            <a:tbl>
              <a:tblPr/>
              <a:tblGrid>
                <a:gridCol w="2958840"/>
                <a:gridCol w="2960640"/>
                <a:gridCol w="2959200"/>
              </a:tblGrid>
              <a:tr h="32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320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a"/>
                    </a:solidFill>
                  </a:tcPr>
                </a:tc>
              </a:tr>
            </a:tbl>
          </a:graphicData>
        </a:graphic>
      </p:graphicFrame>
      <p:sp>
        <p:nvSpPr>
          <p:cNvPr id="7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rcRect l="15992" t="0" r="15485" b="0"/>
          <a:stretch/>
        </p:blipFill>
        <p:spPr>
          <a:xfrm>
            <a:off x="3508200" y="271440"/>
            <a:ext cx="2467080" cy="202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492360" y="3500280"/>
            <a:ext cx="2502000" cy="20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rcRect l="0" t="0" r="21619" b="0"/>
          <a:stretch/>
        </p:blipFill>
        <p:spPr>
          <a:xfrm>
            <a:off x="6424560" y="3500280"/>
            <a:ext cx="2468520" cy="209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rcRect l="8772" t="0" r="8938" b="0"/>
          <a:stretch/>
        </p:blipFill>
        <p:spPr>
          <a:xfrm>
            <a:off x="495360" y="3500280"/>
            <a:ext cx="2581200" cy="2089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rcRect l="7915" t="2740" r="10493" b="0"/>
          <a:stretch/>
        </p:blipFill>
        <p:spPr>
          <a:xfrm>
            <a:off x="495360" y="260280"/>
            <a:ext cx="2539800" cy="2016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6"/>
          <a:srcRect l="2798" t="10294" r="3335" b="38756"/>
          <a:stretch/>
        </p:blipFill>
        <p:spPr>
          <a:xfrm>
            <a:off x="6424560" y="260280"/>
            <a:ext cx="2468520" cy="1906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240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qu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e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3276720" y="2565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j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am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6253200" y="2565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omic Sans MS"/>
              </a:rPr>
              <a:t>z</a:t>
            </a: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u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35100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3303720" y="577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e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6280200" y="5778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imona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0T14:13:42Z</dcterms:modified>
  <cp:revision>141</cp:revision>
  <dc:subject/>
  <dc:title>TITLE</dc:title>
</cp:coreProperties>
</file>