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A9D-E8E7-49A6-AB3A-2EF69E6282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9AD-3FF7-4F0D-A54C-8FE18D83B7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A1F-847E-4B08-BE99-0099F7B128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9B7-32C1-497E-980C-8B69D5FCD3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2DB-DD5B-4B33-915B-4546D6B4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BFE-32F2-47B6-94C0-9A295EF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F23-4168-4777-909D-D181339C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783-2B61-49A5-AB69-D5C5979C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F5-BE3A-4EFF-B56D-26422738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81B-CFF5-4D66-9A11-D551A23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617-99F0-48D7-820A-1C72BAF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DC6-20B8-4E70-9841-E64483F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664-EFF6-43E5-BE3C-4C159F5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450-4D63-4CE0-8238-A7F9A58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767-CD44-4158-BE99-91FB3DE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2F4-5E4A-49F4-9A8C-90CF185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958-416F-4F4D-9D0C-C5066D3C5F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0" y="206064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33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mascu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ight Arrow 17"/>
          <p:cNvSpPr/>
          <p:nvPr/>
        </p:nvSpPr>
        <p:spPr>
          <a:xfrm>
            <a:off x="0" y="525636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femin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qu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3:42Z</dcterms:modified>
  <cp:revision>141</cp:revision>
  <dc:subject/>
  <dc:title>TITLE</dc:title>
</cp:coreProperties>
</file>