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B8810-8E5E-4928-AC0D-DD864AF8A90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E14EA-77DD-476E-992D-908D4E3BA92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B077-9C7B-4BB1-A76D-925ABABD1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C19A-A4DF-4E9D-88BF-297B40A91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CEBD-324F-490C-BC58-CF11210E1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AFBC-DB0E-4628-8E47-7FA4E1A51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6F36-367E-44A5-B2CC-76CE98A19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BF08-B9FE-407F-98DE-91D4F62DE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4C9D-FA33-4FCE-A81C-32827DB89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2AB5-E51E-4CF5-80DA-60A6E3920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535C-7A7E-4224-81B8-0C1CF7EF0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75E3-D1D8-496D-BC31-363F278A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8C13-59C3-4494-819E-21FAE3367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470F-450B-4E72-AABF-CFE537299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F3795-F97A-4603-A051-7F7B693CC2D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157320" y="189000"/>
          <a:ext cx="8878680" cy="6408720"/>
        </p:xfrm>
        <a:graphic>
          <a:graphicData uri="http://schemas.openxmlformats.org/drawingml/2006/table">
            <a:tbl>
              <a:tblPr/>
              <a:tblGrid>
                <a:gridCol w="2958840"/>
                <a:gridCol w="2960640"/>
                <a:gridCol w="2959200"/>
              </a:tblGrid>
              <a:tr h="3205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03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9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324000" y="277164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Comic Sans MS"/>
              </a:rPr>
              <a:t>los pepin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TextBox 18"/>
          <p:cNvSpPr/>
          <p:nvPr/>
        </p:nvSpPr>
        <p:spPr>
          <a:xfrm>
            <a:off x="3132000" y="2771640"/>
            <a:ext cx="28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las fres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TextBox 19"/>
          <p:cNvSpPr/>
          <p:nvPr/>
        </p:nvSpPr>
        <p:spPr>
          <a:xfrm>
            <a:off x="6253200" y="277164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las </a:t>
            </a: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ci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ruel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TextBox 20"/>
          <p:cNvSpPr/>
          <p:nvPr/>
        </p:nvSpPr>
        <p:spPr>
          <a:xfrm>
            <a:off x="179280" y="5940360"/>
            <a:ext cx="28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las naran</a:t>
            </a: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j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TextBox 21"/>
          <p:cNvSpPr/>
          <p:nvPr/>
        </p:nvSpPr>
        <p:spPr>
          <a:xfrm>
            <a:off x="3132000" y="5940360"/>
            <a:ext cx="288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las </a:t>
            </a: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z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ana</a:t>
            </a: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h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ori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TextBox 22"/>
          <p:cNvSpPr/>
          <p:nvPr/>
        </p:nvSpPr>
        <p:spPr>
          <a:xfrm>
            <a:off x="6280200" y="594036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las pirulet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" name="Picture 2" descr="Image 11 - Choose Favourite Flavour Chupa Chups Lolly Sweets Lollies 12g (5, 10 or 30 )"/>
          <p:cNvPicPr/>
          <p:nvPr/>
        </p:nvPicPr>
        <p:blipFill>
          <a:blip r:embed="rId1"/>
          <a:srcRect l="26246" t="0" r="27818" b="4613"/>
          <a:stretch/>
        </p:blipFill>
        <p:spPr>
          <a:xfrm>
            <a:off x="6408720" y="3573360"/>
            <a:ext cx="1139760" cy="2367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Image 11 - Choose Favourite Flavour Chupa Chups Lolly Sweets Lollies 12g (5, 10 or 30 )"/>
          <p:cNvPicPr/>
          <p:nvPr/>
        </p:nvPicPr>
        <p:blipFill>
          <a:blip r:embed="rId2"/>
          <a:srcRect l="26246" t="0" r="27818" b="4613"/>
          <a:stretch/>
        </p:blipFill>
        <p:spPr>
          <a:xfrm>
            <a:off x="7577280" y="3573360"/>
            <a:ext cx="1139760" cy="2367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PH02772J"/>
          <p:cNvPicPr/>
          <p:nvPr/>
        </p:nvPicPr>
        <p:blipFill>
          <a:blip r:embed="rId3"/>
          <a:stretch/>
        </p:blipFill>
        <p:spPr>
          <a:xfrm>
            <a:off x="3203640" y="3860640"/>
            <a:ext cx="2808360" cy="2173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cucumber[1]"/>
          <p:cNvPicPr/>
          <p:nvPr/>
        </p:nvPicPr>
        <p:blipFill>
          <a:blip r:embed="rId4"/>
          <a:srcRect l="0" t="7500" r="0" b="6260"/>
          <a:stretch/>
        </p:blipFill>
        <p:spPr>
          <a:xfrm>
            <a:off x="523800" y="584280"/>
            <a:ext cx="2535480" cy="2187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ING-plums-3_sql[1]"/>
          <p:cNvPicPr/>
          <p:nvPr/>
        </p:nvPicPr>
        <p:blipFill>
          <a:blip r:embed="rId5"/>
          <a:srcRect l="0" t="1798" r="0" b="13514"/>
          <a:stretch/>
        </p:blipFill>
        <p:spPr>
          <a:xfrm>
            <a:off x="6365880" y="628560"/>
            <a:ext cx="2506680" cy="2122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j0430479"/>
          <p:cNvPicPr/>
          <p:nvPr/>
        </p:nvPicPr>
        <p:blipFill>
          <a:blip r:embed="rId6"/>
          <a:srcRect l="0" t="8675" r="0" b="6374"/>
          <a:stretch/>
        </p:blipFill>
        <p:spPr>
          <a:xfrm>
            <a:off x="3419640" y="628560"/>
            <a:ext cx="2574720" cy="2189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oranges[1]"/>
          <p:cNvPicPr/>
          <p:nvPr/>
        </p:nvPicPr>
        <p:blipFill>
          <a:blip r:embed="rId7"/>
          <a:srcRect l="0" t="0" r="0" b="5709"/>
          <a:stretch/>
        </p:blipFill>
        <p:spPr>
          <a:xfrm>
            <a:off x="523800" y="3610080"/>
            <a:ext cx="2538360" cy="23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6-07T12:48:04Z</dcterms:modified>
  <cp:revision>244</cp:revision>
  <dc:subject/>
  <dc:title>TITLE</dc:title>
</cp:coreProperties>
</file>