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DC58-AC6B-4A88-846A-299C58F93E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754-C70A-4A6B-87C8-8B196D9F08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35E-1D3A-4B70-B6E5-9982775A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55E-A8D1-4B4A-93A5-A15E0F49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9E8-9D0F-4CBF-B949-90D553C0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0A1-1CB3-4BD3-BF97-31999AE0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9EB-127C-468E-B875-AB0B4F0A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D75-C653-42A9-AF57-F0A2655C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C09-F09A-49DE-B683-65FA5F95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26C-15CF-43E3-AC51-A7D042D7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90D-F96B-444B-867F-65BC304C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66E-0F99-46D5-91A7-977248C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C53-0B81-40C2-BAD7-D1D38D2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FD9-0426-4F33-81E1-2B46C789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DEA0-280B-433E-A187-9D5301CB7D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240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los pepi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3132000" y="2771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fres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6253200" y="2771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ci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uel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179280" y="5940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naran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3132000" y="594036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z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na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or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6280200" y="5940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las pirul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Image 11 - Choose Favourite Flavour Chupa Chups Lolly Sweets Lollies 12g (5, 10 or 30 )"/>
          <p:cNvPicPr/>
          <p:nvPr/>
        </p:nvPicPr>
        <p:blipFill>
          <a:blip r:embed="rId1"/>
          <a:srcRect l="26246" t="0" r="27818" b="4613"/>
          <a:stretch/>
        </p:blipFill>
        <p:spPr>
          <a:xfrm>
            <a:off x="6408720" y="3573360"/>
            <a:ext cx="1139760" cy="236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Image 11 - Choose Favourite Flavour Chupa Chups Lolly Sweets Lollies 12g (5, 10 or 30 )"/>
          <p:cNvPicPr/>
          <p:nvPr/>
        </p:nvPicPr>
        <p:blipFill>
          <a:blip r:embed="rId2"/>
          <a:srcRect l="26246" t="0" r="27818" b="4613"/>
          <a:stretch/>
        </p:blipFill>
        <p:spPr>
          <a:xfrm>
            <a:off x="7577280" y="3573360"/>
            <a:ext cx="1139760" cy="236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PH02772J"/>
          <p:cNvPicPr/>
          <p:nvPr/>
        </p:nvPicPr>
        <p:blipFill>
          <a:blip r:embed="rId3"/>
          <a:stretch/>
        </p:blipFill>
        <p:spPr>
          <a:xfrm>
            <a:off x="3203640" y="3860640"/>
            <a:ext cx="2808360" cy="217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ucumber[1]"/>
          <p:cNvPicPr/>
          <p:nvPr/>
        </p:nvPicPr>
        <p:blipFill>
          <a:blip r:embed="rId4"/>
          <a:srcRect l="0" t="7500" r="0" b="6260"/>
          <a:stretch/>
        </p:blipFill>
        <p:spPr>
          <a:xfrm>
            <a:off x="523800" y="584280"/>
            <a:ext cx="253548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NG-plums-3_sql[1]"/>
          <p:cNvPicPr/>
          <p:nvPr/>
        </p:nvPicPr>
        <p:blipFill>
          <a:blip r:embed="rId5"/>
          <a:srcRect l="0" t="1798" r="0" b="13514"/>
          <a:stretch/>
        </p:blipFill>
        <p:spPr>
          <a:xfrm>
            <a:off x="6365880" y="628560"/>
            <a:ext cx="2506680" cy="212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30479"/>
          <p:cNvPicPr/>
          <p:nvPr/>
        </p:nvPicPr>
        <p:blipFill>
          <a:blip r:embed="rId6"/>
          <a:srcRect l="0" t="8675" r="0" b="6374"/>
          <a:stretch/>
        </p:blipFill>
        <p:spPr>
          <a:xfrm>
            <a:off x="3419640" y="628560"/>
            <a:ext cx="2574720" cy="218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oranges[1]"/>
          <p:cNvPicPr/>
          <p:nvPr/>
        </p:nvPicPr>
        <p:blipFill>
          <a:blip r:embed="rId7"/>
          <a:srcRect l="0" t="0" r="0" b="5709"/>
          <a:stretch/>
        </p:blipFill>
        <p:spPr>
          <a:xfrm>
            <a:off x="523800" y="3610080"/>
            <a:ext cx="2538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8:04Z</dcterms:modified>
  <cp:revision>244</cp:revision>
  <dc:subject/>
  <dc:title>TITLE</dc:title>
</cp:coreProperties>
</file>