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B625-B0EE-40C8-A27D-08ED83AD6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ite si es correcto activity.  True/false? questioning.  Either/or? question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ed slide – traditional kim’s game or palabra mágica activity to reinforce pronunciation (say the name of the fruit three times to ‘magically’ make it re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ed: Through the keyho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¿Qué se 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erlink the wordart to the notepad file for a labelling dra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 sheet for a laminated table mat for lower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nt off individual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out the fruit in SP and see if pupils recognise any of the cognates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808-2134-44A7-91AF-DDD42E97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367-FD32-42B6-8638-81C4A1C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15A-EF45-4211-8FE4-3EB83829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5CC-85EC-489E-8EF4-B2401644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7F0-A8B0-4640-A3CC-B751401C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668-28BC-4B3A-ACB4-09AFC6C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9A8-EDFA-486A-9C28-4C90C11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970-4FF0-4159-8143-F751D51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BF6-39C3-43F8-B5AB-F7B96814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A80-7115-4936-A5DC-1D40F74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179-C227-4BD1-8DDE-39F5D64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2B4-2D59-4A7F-A220-A4AF45B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1908-4DEA-4BA4-AAB6-12C47A9E2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22860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fruta</a:t>
            </a:r>
            <a:endParaRPr b="0" lang="en-US" sz="1800" spc="1" strike="noStrike">
              <a:ln w="6336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517760" cy="150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315200" y="4952880"/>
            <a:ext cx="1517760" cy="15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5530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JTidmarsh 2014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5"/>
              </a:rPr>
              <a:t>http://www.lightbulblanguages.co.u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ambu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me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s u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914400" y="1295280"/>
            <a:ext cx="7429680" cy="5143680"/>
            <a:chOff x="914400" y="1295280"/>
            <a:chExt cx="7429680" cy="51436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129528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017520" y="1489320"/>
              <a:ext cx="11530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849560" y="3106800"/>
              <a:ext cx="152640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967560" y="5047920"/>
              <a:ext cx="142452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2814120" y="3042000"/>
              <a:ext cx="152640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613560" y="3106800"/>
              <a:ext cx="152676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81520" y="1295280"/>
              <a:ext cx="142452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6817320" y="129528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1049760" y="3106800"/>
              <a:ext cx="152676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1728360" y="498312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5867280" y="4853520"/>
              <a:ext cx="1526400" cy="14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 txBox="1"/>
          <p:nvPr/>
        </p:nvSpPr>
        <p:spPr>
          <a:xfrm>
            <a:off x="3048120" y="304920"/>
            <a:ext cx="298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ite si es correct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862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590920" y="2514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85800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094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37160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6019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73392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5760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0988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88620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80988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657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657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365760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274320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57200" y="457200"/>
            <a:ext cx="8344080" cy="6058080"/>
            <a:chOff x="457200" y="457200"/>
            <a:chExt cx="8344080" cy="60580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2819520" y="68580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76920" y="259092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3886200" y="487692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2590920" y="251460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685800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4800600" y="45720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7086600" y="457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9"/>
            <a:stretch/>
          </p:blipFill>
          <p:spPr>
            <a:xfrm>
              <a:off x="60948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>
              <a:off x="1371600" y="48006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1"/>
            <a:stretch/>
          </p:blipFill>
          <p:spPr>
            <a:xfrm>
              <a:off x="6019920" y="464832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 txBox="1"/>
          <p:nvPr/>
        </p:nvSpPr>
        <p:spPr>
          <a:xfrm>
            <a:off x="2133720" y="1066680"/>
            <a:ext cx="4876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W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514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629400" y="2514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0948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68580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6400800" y="44956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s cer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1981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li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frambu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p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267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os plát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mel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s u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meloco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1066680"/>
          <a:ext cx="4343400" cy="505800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3840"/>
                <a:gridCol w="393840"/>
                <a:gridCol w="395280"/>
                <a:gridCol w="396720"/>
                <a:gridCol w="395280"/>
                <a:gridCol w="393840"/>
                <a:gridCol w="393480"/>
                <a:gridCol w="395280"/>
                <a:gridCol w="39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4952880" y="1295280"/>
            <a:ext cx="3733920" cy="4876920"/>
            <a:chOff x="4952880" y="1295280"/>
            <a:chExt cx="3733920" cy="4876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15200" y="160020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7391520" y="4038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5638680" y="167616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236196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7315200" y="23619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7391520" y="327636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5638680" y="480060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5638680" y="388620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5715000" y="56386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0"/>
            <a:stretch/>
          </p:blipFill>
          <p:spPr>
            <a:xfrm>
              <a:off x="5562720" y="3124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181480" y="1752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2514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32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39621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3352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1752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25905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48765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5562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1295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ertic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295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izon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048120" y="304920"/>
            <a:ext cx="298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a crucigram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862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90920" y="2514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5800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094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37160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6019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anz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na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s ce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i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os plát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meloco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34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Seccombe</cp:lastModifiedBy>
  <dcterms:modified xsi:type="dcterms:W3CDTF">2014-05-20T09:34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