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54D3-A287-46F7-A136-8CF63F04A8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ite si es correcto activity.  True/false? questioning.  Either/or? question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ed slide – traditional kim’s game or palabra mágica activity to reinforce pronunciation (say the name of the fruit three times to ‘magically’ make it reapp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ed: Through the keyho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¿Qué se 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erlink the wordart to the notepad file for a labelling drag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 sheet for a laminated table mat for lower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nt off individual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out the fruit in SP and see if pupils recognise any of the cognates et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sh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sh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sh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sh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sh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sh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sh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B03-4224-491B-A22C-5A657580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4CE-38FE-496E-8F59-7CA6FEEE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22A-2F6E-412D-97D9-08F2CD65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51A-D724-4DC9-9A2F-80DA6DC7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F71-04FD-4450-94B4-27C89CEF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DA6-7E45-4296-A828-42029F76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02F-388D-4454-9BD9-B8C21474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46C-B231-4F03-80D1-0FCF3243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47D0-6F99-464F-B29D-F1583290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7B3-22F7-4049-8B92-77F7B75A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9EE-DE21-4B24-99FE-C0D50EFA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C88-62A4-459F-AAE0-953DA7E4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64F7-67FB-49D1-BB97-37DEDEDB67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lightbulblanguages.co.uk/" TargetMode="External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3880" y="228600"/>
            <a:ext cx="59436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3360">
                  <a:solidFill>
                    <a:srgbClr val="99cc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 fruta</a:t>
            </a:r>
            <a:endParaRPr b="0" lang="en-US" sz="1800" spc="1" strike="noStrike">
              <a:ln w="63360">
                <a:solidFill>
                  <a:srgbClr val="99cc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517760" cy="1509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4876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315200" y="4952880"/>
            <a:ext cx="1517760" cy="1509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65530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Light Bulb Languages/JTidmarsh 2014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ea typeface="Arial"/>
                <a:hlinkClick r:id="rId5"/>
              </a:rPr>
              <a:t>http://www.lightbulblanguages.co.u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frambu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mel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5105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s u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914400" y="1295280"/>
            <a:ext cx="7429680" cy="5143680"/>
            <a:chOff x="914400" y="1295280"/>
            <a:chExt cx="7429680" cy="51436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914400" y="1295280"/>
              <a:ext cx="1526760" cy="14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3017520" y="1489320"/>
              <a:ext cx="1153080" cy="10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4849560" y="3106800"/>
              <a:ext cx="1526400" cy="14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3967560" y="5047920"/>
              <a:ext cx="142452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2814120" y="3042000"/>
              <a:ext cx="1526400" cy="14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6613560" y="3106800"/>
              <a:ext cx="1526760" cy="14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4781520" y="1295280"/>
              <a:ext cx="142452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6817320" y="1295280"/>
              <a:ext cx="1526760" cy="14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9"/>
            <a:stretch/>
          </p:blipFill>
          <p:spPr>
            <a:xfrm>
              <a:off x="1049760" y="3106800"/>
              <a:ext cx="1526760" cy="14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0"/>
            <a:stretch/>
          </p:blipFill>
          <p:spPr>
            <a:xfrm>
              <a:off x="1728360" y="4983120"/>
              <a:ext cx="1526760" cy="14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1"/>
            <a:stretch/>
          </p:blipFill>
          <p:spPr>
            <a:xfrm>
              <a:off x="5867280" y="4853520"/>
              <a:ext cx="1526400" cy="145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 txBox="1"/>
          <p:nvPr/>
        </p:nvSpPr>
        <p:spPr>
          <a:xfrm>
            <a:off x="3048120" y="304920"/>
            <a:ext cx="2981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pite si es correct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876920" y="2590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886200" y="4876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590920" y="25146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6858000" y="2590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4800600" y="457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086600" y="457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609480" y="2590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1371600" y="4800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6019920" y="46483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733920" y="2438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038480" y="2362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733920" y="2438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657600" y="2362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809880" y="22860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886200" y="2362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809880" y="2362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3657600" y="2438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3657600" y="2438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3657600" y="2362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2"/>
          <a:stretch/>
        </p:blipFill>
        <p:spPr>
          <a:xfrm>
            <a:off x="2743200" y="13716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57200" y="457200"/>
            <a:ext cx="8344080" cy="6058080"/>
            <a:chOff x="457200" y="457200"/>
            <a:chExt cx="8344080" cy="60580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57200" y="457200"/>
              <a:ext cx="171468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2819520" y="685800"/>
              <a:ext cx="12952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876920" y="2590920"/>
              <a:ext cx="171432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3886200" y="4876920"/>
              <a:ext cx="1600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2590920" y="2514600"/>
              <a:ext cx="171432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6"/>
            <a:stretch/>
          </p:blipFill>
          <p:spPr>
            <a:xfrm>
              <a:off x="6858000" y="2590920"/>
              <a:ext cx="171468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7"/>
            <a:stretch/>
          </p:blipFill>
          <p:spPr>
            <a:xfrm>
              <a:off x="4800600" y="457200"/>
              <a:ext cx="1600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8"/>
            <a:stretch/>
          </p:blipFill>
          <p:spPr>
            <a:xfrm>
              <a:off x="7086600" y="457200"/>
              <a:ext cx="171468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9"/>
            <a:stretch/>
          </p:blipFill>
          <p:spPr>
            <a:xfrm>
              <a:off x="609480" y="2590920"/>
              <a:ext cx="171468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10"/>
            <a:stretch/>
          </p:blipFill>
          <p:spPr>
            <a:xfrm>
              <a:off x="1371600" y="4800600"/>
              <a:ext cx="171468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11"/>
            <a:stretch/>
          </p:blipFill>
          <p:spPr>
            <a:xfrm>
              <a:off x="6019920" y="4648320"/>
              <a:ext cx="1714320" cy="17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 txBox="1"/>
          <p:nvPr/>
        </p:nvSpPr>
        <p:spPr>
          <a:xfrm>
            <a:off x="2133720" y="1066680"/>
            <a:ext cx="48765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WB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876920" y="2590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581280" y="4724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2514600" y="2438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6629400" y="2514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4800600" y="457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7086600" y="457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609480" y="2438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685800" y="4648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6400800" y="44956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" y="1981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133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s cere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19810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1520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li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4191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 frambu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 p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4267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 f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os plát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6172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mel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s u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meloco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80880" y="1066680"/>
          <a:ext cx="4343400" cy="5058000"/>
        </p:xfrm>
        <a:graphic>
          <a:graphicData uri="http://schemas.openxmlformats.org/drawingml/2006/table">
            <a:tbl>
              <a:tblPr/>
              <a:tblGrid>
                <a:gridCol w="395280"/>
                <a:gridCol w="395280"/>
                <a:gridCol w="393840"/>
                <a:gridCol w="393840"/>
                <a:gridCol w="395280"/>
                <a:gridCol w="396720"/>
                <a:gridCol w="395280"/>
                <a:gridCol w="393840"/>
                <a:gridCol w="393480"/>
                <a:gridCol w="395280"/>
                <a:gridCol w="395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2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4952880" y="1295280"/>
            <a:ext cx="3733920" cy="4876920"/>
            <a:chOff x="4952880" y="1295280"/>
            <a:chExt cx="3733920" cy="487692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7315200" y="1600200"/>
              <a:ext cx="5335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7391520" y="4038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5638680" y="1676160"/>
              <a:ext cx="6098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5638680" y="2361960"/>
              <a:ext cx="6098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5"/>
            <a:stretch/>
          </p:blipFill>
          <p:spPr>
            <a:xfrm>
              <a:off x="7315200" y="236196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7391520" y="327636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7"/>
            <a:stretch/>
          </p:blipFill>
          <p:spPr>
            <a:xfrm>
              <a:off x="5638680" y="4800600"/>
              <a:ext cx="6480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8"/>
            <a:stretch/>
          </p:blipFill>
          <p:spPr>
            <a:xfrm>
              <a:off x="5638680" y="388620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9"/>
            <a:stretch/>
          </p:blipFill>
          <p:spPr>
            <a:xfrm>
              <a:off x="5715000" y="56386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0"/>
            <a:stretch/>
          </p:blipFill>
          <p:spPr>
            <a:xfrm>
              <a:off x="5562720" y="3124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181480" y="1752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81480" y="25146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52880" y="32763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05520" y="39621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0" y="3352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1680" y="1752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0" y="41907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1680" y="25905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2880" y="48765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05520" y="55623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05720" y="12952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Vertic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12952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rizon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 txBox="1"/>
          <p:nvPr/>
        </p:nvSpPr>
        <p:spPr>
          <a:xfrm>
            <a:off x="3048120" y="304920"/>
            <a:ext cx="2981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na crucigram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76920" y="2590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886200" y="4876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590920" y="25146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858000" y="2590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4800600" y="457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7086600" y="457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609480" y="2590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1371600" y="4800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6019920" y="46483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manz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na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s cere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lim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os plát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melocot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342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f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re Seccombe</cp:lastModifiedBy>
  <dcterms:modified xsi:type="dcterms:W3CDTF">2014-05-20T09:34:5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