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5CB-8C5E-4587-927C-F1883258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B58-CAF3-40D3-A900-CD22107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CF1-3B77-4F5C-8BE8-C3A2EC16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ED5-9392-4EA8-8DDD-085843EC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FD8-FDDF-43DC-A927-F745456F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85F9-C25B-4ED8-9B4D-2BB32D17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3FC-385E-4044-B82E-9441BA43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EDA-640A-49C4-B79E-99DFC69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F47E-F507-4A39-AB4E-B3AD8BC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AD0-8A88-48E1-8E7A-0FB936D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D3F7-A904-45FE-A9EF-1A05D43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0B1-6057-477B-A5E1-C8E184B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A48-E600-4EB9-9E30-6DFA98A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83B8-01EA-49C8-B748-77F0700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7095-20CA-4F7E-A7F2-6FC6EAB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739B-2B12-4BD9-8F8B-962F6F5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4A7F-2117-4620-8201-5A0EC6B5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B7A-4CF4-4021-AC44-68DE366E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09B-8844-4D7A-AC0F-2655353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B04-B9CA-4A84-988E-4643B43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4E-D348-47C0-9334-0897693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441-25B6-4C66-9A09-8C60CA7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E01-E640-430F-8E2D-2AE596E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1BE-7A19-4F6F-9FCD-3F69578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1F9-C83D-4D81-93BC-C9436B1196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D6DF-CCE6-40E4-A203-1B22ACA0B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08000" y="1557360"/>
          <a:ext cx="8856720" cy="53006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2"/>
          <p:cNvSpPr/>
          <p:nvPr/>
        </p:nvSpPr>
        <p:spPr>
          <a:xfrm>
            <a:off x="108000" y="115920"/>
            <a:ext cx="59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</a:rPr>
              <a:t>las verdur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0" descr="cucumber[1]"/>
          <p:cNvPicPr/>
          <p:nvPr/>
        </p:nvPicPr>
        <p:blipFill>
          <a:blip r:embed="rId1"/>
          <a:stretch/>
        </p:blipFill>
        <p:spPr>
          <a:xfrm>
            <a:off x="358920" y="1700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H03396I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3527280" y="1674720"/>
            <a:ext cx="2016360" cy="243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6084720" y="2219400"/>
            <a:ext cx="2806920" cy="185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138240" y="4791240"/>
            <a:ext cx="2855880" cy="190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 rot="19079400">
            <a:off x="3017880" y="4382640"/>
            <a:ext cx="3120840" cy="182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6"/>
          <a:stretch/>
        </p:blipFill>
        <p:spPr>
          <a:xfrm>
            <a:off x="6083280" y="4770360"/>
            <a:ext cx="27352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5:55Z</dcterms:modified>
  <cp:revision>166</cp:revision>
  <dc:subject/>
  <dc:title>TITLE</dc:title>
</cp:coreProperties>
</file>