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50C-E579-40E4-B91F-8B72C9A9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815-070B-4DA9-A1A6-0EE86DF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5D3-6F71-4C27-AC8B-73526C4A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59F-25A1-4846-8EC3-6C510670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1D48-5FDD-42BA-82EC-A2EDE944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986-4D1A-4B34-AD16-6AF79CA7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0AE2-F2CB-472A-8033-D3A36A9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10BB-3FF6-4A61-809A-1F0A7C91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3B6-4322-4355-8472-D4B3F5B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678-1340-4DCC-B2B8-A0DB0B94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E55-1121-42D8-A8C4-FC2D1B0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33C-411A-4E1B-82D4-81536E2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F528-FD21-4127-ADA8-B3CE22E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1C5A-08B8-475C-94C4-57B0B01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F8DB-B184-4F76-9E12-AF12F06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AE2-2CC6-4F50-98B5-84E8869D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240-16E4-4396-B25D-07AC6D1D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F99-B098-4A77-9E3B-8962CB9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5BA-EF7C-43BC-8F98-80C9E06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82F-32EE-4553-A86F-F45CC8F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0E0-1716-4BC1-BA92-615C169D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73D-320F-412B-B30B-00F6B39E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A6A-3FCC-4FC6-AD4C-A89C99B1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0C2-0F55-4B90-B8C2-8D34316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BFC2-4331-4A93-94B8-49409BABB3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9931-CCDD-46C2-8AAF-16389E50B6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08000" y="1557360"/>
          <a:ext cx="8856720" cy="53006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2"/>
          <p:cNvSpPr/>
          <p:nvPr/>
        </p:nvSpPr>
        <p:spPr>
          <a:xfrm>
            <a:off x="108000" y="115920"/>
            <a:ext cx="59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</a:rPr>
              <a:t>las verdur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0" descr="cucumber[1]"/>
          <p:cNvPicPr/>
          <p:nvPr/>
        </p:nvPicPr>
        <p:blipFill>
          <a:blip r:embed="rId1"/>
          <a:stretch/>
        </p:blipFill>
        <p:spPr>
          <a:xfrm>
            <a:off x="358920" y="1700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H03396I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3527280" y="1674720"/>
            <a:ext cx="2016360" cy="243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6084720" y="2219400"/>
            <a:ext cx="2806920" cy="185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138240" y="4791240"/>
            <a:ext cx="2855880" cy="190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 rot="19079400">
            <a:off x="3017880" y="4382640"/>
            <a:ext cx="3120840" cy="182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6"/>
          <a:stretch/>
        </p:blipFill>
        <p:spPr>
          <a:xfrm>
            <a:off x="6083280" y="4770360"/>
            <a:ext cx="27352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5:55Z</dcterms:modified>
  <cp:revision>166</cp:revision>
  <dc:subject/>
  <dc:title>TITLE</dc:title>
</cp:coreProperties>
</file>