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4680-6216-440F-8D23-AAC1C9A7D0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ABEC-4855-4FD8-A6F1-AFA831E4A2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2D6D-5407-4996-AADD-BA76648B223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5CA3-40F7-4EE1-94FA-F169FDBE7B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8BD6-CE86-4353-99E1-655F023844E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D6D0-C848-4272-A2DF-F1AEF3BB35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0ED8-7770-4566-B4D8-80A43AF1DA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B0F8-E969-46EB-AAD8-B2626B1622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6D4E-B239-425D-A0F8-76C9F5209A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D5D5-6DD2-4BF3-A750-F458B3AFE0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925B-6937-4E8A-B6CA-6031E3145A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A0FB-1CE2-4C1B-B7E6-3C91F2C7D43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1304-6071-4DEC-BF65-FD86A5B53F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BAC0-C240-4D0F-B7D1-453C248599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2802-9274-4421-9092-10850DF302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1B86-F568-417E-B838-F70895490F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8AE6-D3D5-4446-936D-30E834E733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7501-A53F-4651-B9A4-C317E1874E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541F-6248-4D4F-8425-D29A7D1BFC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2D13-23D4-4931-8AD7-9B26225C6F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9F76-BFC6-4DA8-842D-97899E56F5C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9F0B-18D4-4592-BF60-C51753A7BC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537-7959-4133-B02C-ECD544B2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79C-5209-4A65-9A64-A1B44928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584-1416-4858-A1BD-C93C6918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DA9-329C-4AFF-B332-F112BEB9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7E91-3955-49FC-8121-5AAE554A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9075-8144-4D5B-9BD9-F8CB88CE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6AFB-2BDB-4EE2-ADCB-0309B175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092D-DE31-4637-9C8F-BA213E53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AFAA-2E0F-40CF-84E1-A9B70101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51E2-7723-4A45-86E1-55D4F048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B781-11AE-4036-BACA-11FDD0F3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92E-E84C-496B-90EB-A9B10905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9B5D-0F81-4243-A298-3282E5E9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5747-B5ED-4EFE-9A0C-7756535F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6DE6-21F8-42C2-A24D-580394E2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98FE-8B43-4680-827A-0ADB2574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C0E7-F79D-4FA5-807E-B814F7BB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0BF-8351-4D1B-B0DE-9DC6948C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761-FCC0-4F44-8714-F8A21180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B72-01F2-420A-9176-740FAE8C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310-DCD2-4D0F-A4BA-B2505A7E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E64-C902-4CA5-8AA1-D6252075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739-8A21-4C93-85BB-F6B58D77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80C-59B9-4612-9AEA-97EE4B9B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F54F-5CC1-432A-9AFF-141790A6FE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23EE-9717-4A25-99B8-49C7B3F254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11"/>
          <a:stretch/>
        </p:blipFill>
        <p:spPr>
          <a:xfrm>
            <a:off x="1598760" y="4995720"/>
            <a:ext cx="20588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38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"/>
          <p:cNvPicPr/>
          <p:nvPr/>
        </p:nvPicPr>
        <p:blipFill>
          <a:blip r:embed="rId11"/>
          <a:stretch/>
        </p:blipFill>
        <p:spPr>
          <a:xfrm>
            <a:off x="3646440" y="4950000"/>
            <a:ext cx="206064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67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81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"/>
          <p:cNvPicPr/>
          <p:nvPr/>
        </p:nvPicPr>
        <p:blipFill>
          <a:blip r:embed="rId11"/>
          <a:stretch/>
        </p:blipFill>
        <p:spPr>
          <a:xfrm>
            <a:off x="5713560" y="4950000"/>
            <a:ext cx="20602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96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10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"/>
          <p:cNvPicPr/>
          <p:nvPr/>
        </p:nvPicPr>
        <p:blipFill>
          <a:blip r:embed="rId11"/>
          <a:stretch/>
        </p:blipFill>
        <p:spPr>
          <a:xfrm>
            <a:off x="6789600" y="3073320"/>
            <a:ext cx="20606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25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39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"/>
          <p:cNvPicPr/>
          <p:nvPr/>
        </p:nvPicPr>
        <p:blipFill>
          <a:blip r:embed="rId11"/>
          <a:stretch/>
        </p:blipFill>
        <p:spPr>
          <a:xfrm>
            <a:off x="2631960" y="3073320"/>
            <a:ext cx="20606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11"/>
          <a:stretch/>
        </p:blipFill>
        <p:spPr>
          <a:xfrm>
            <a:off x="568440" y="2959200"/>
            <a:ext cx="205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68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11"/>
          <a:stretch/>
        </p:blipFill>
        <p:spPr>
          <a:xfrm>
            <a:off x="3641760" y="1063800"/>
            <a:ext cx="205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11"/>
          <a:stretch/>
        </p:blipFill>
        <p:spPr>
          <a:xfrm>
            <a:off x="4730760" y="2949480"/>
            <a:ext cx="20588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11"/>
          <a:stretch/>
        </p:blipFill>
        <p:spPr>
          <a:xfrm>
            <a:off x="5749920" y="1050840"/>
            <a:ext cx="2060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11"/>
          <a:stretch/>
        </p:blipFill>
        <p:spPr>
          <a:xfrm>
            <a:off x="1558800" y="1090440"/>
            <a:ext cx="20592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49:11Z</dcterms:modified>
  <cp:revision>147</cp:revision>
  <dc:subject/>
  <dc:title>TITLE</dc:title>
</cp:coreProperties>
</file>