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674-37F6-4BA9-ACBB-1132ED3EC8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602-3635-4B68-836E-945002D1B3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AD1-1022-4F6B-9DA1-AECE0DA4D7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DABF-F56F-450F-81BA-A9C2204EE1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B4F-81B1-4347-80A8-F94D2BF0CD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733D-AAE3-43F9-8F65-16E66A99D9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214-15DE-4DD2-AF96-24F03D2D78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CA40-B8BA-43E5-90A6-11EA6B8B6A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BA63-163D-427D-8EE4-A168814C6B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05B2-7BF6-44DC-9127-877BC8A188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F570-D689-43DD-B1ED-0A690C7F3F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AEA-FF6D-4008-9B18-9042C0FE2B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2CE-BBA3-47F4-A032-AD23118D74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AAD1-8699-40D2-BC50-EB1FF69ADA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96A-3BBD-422F-A05D-F46ECCCD2D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85BB-F694-4989-B7BB-59F0637F256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BB4-DB41-4773-96C5-1AFFB467FB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3DB0-D655-4643-919F-64755718E9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06CE-0F19-4FCA-8653-65E8653E4C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6F9-4CBD-4CDE-BA77-66E72ACFFF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654-86E3-47B1-BECB-F03A469F2C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75C2-E4E8-4D29-9086-0847773F01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D5F-C9AF-49D4-A5CE-44F4037A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942-1797-4DCC-B3FC-C0A2B68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DFC-2333-4465-A3CF-258A8DB8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189-3E59-4F2C-8DE0-4D08E41D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DAE-C66E-490A-9B98-F346B65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ACC-4BBA-4637-A2BA-51834783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04A-A726-423D-81AB-2A010E7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5AB2-3442-4899-B2F5-1027A198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307-1AE4-45C1-8767-8203C90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2D6B-1F19-4B41-984A-76C9207F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34D5-4E2D-470C-83E5-9B45A61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8C1-FB02-4A3E-B0C1-DB02DA89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489-CF2D-454E-9681-57CD3F2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2FCB-0BFA-43AE-89D7-37992C0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47F8-B71A-4F45-B27C-B3F4AB8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847-3A69-474B-8FDD-3E61E6C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3E5-13C9-48C8-8E81-BCF0C611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967-B2F3-4C11-8967-759BED3E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5D4-95EE-4C12-8D2F-05C16FD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08B-CE95-45B4-93FA-F748C00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479-AA9F-4DC1-8525-79C9736C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CE7-A68E-464F-BDF5-8515399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183-7AF3-46C6-B0F2-92EE7E0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CEA-9059-4EE0-A0E6-04EA243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BBE-B011-4811-A600-70BEB1441E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01B-C673-4E3B-A6B3-47AE665294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11"/>
          <a:stretch/>
        </p:blipFill>
        <p:spPr>
          <a:xfrm>
            <a:off x="1598760" y="4995720"/>
            <a:ext cx="20588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11"/>
          <a:stretch/>
        </p:blipFill>
        <p:spPr>
          <a:xfrm>
            <a:off x="3646440" y="4950000"/>
            <a:ext cx="2060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11"/>
          <a:stretch/>
        </p:blipFill>
        <p:spPr>
          <a:xfrm>
            <a:off x="5713560" y="4950000"/>
            <a:ext cx="20602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11"/>
          <a:stretch/>
        </p:blipFill>
        <p:spPr>
          <a:xfrm>
            <a:off x="6789600" y="3073320"/>
            <a:ext cx="2060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11"/>
          <a:stretch/>
        </p:blipFill>
        <p:spPr>
          <a:xfrm>
            <a:off x="2631960" y="3073320"/>
            <a:ext cx="2060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11"/>
          <a:stretch/>
        </p:blipFill>
        <p:spPr>
          <a:xfrm>
            <a:off x="568440" y="2959200"/>
            <a:ext cx="205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11"/>
          <a:stretch/>
        </p:blipFill>
        <p:spPr>
          <a:xfrm>
            <a:off x="3641760" y="1063800"/>
            <a:ext cx="205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11"/>
          <a:stretch/>
        </p:blipFill>
        <p:spPr>
          <a:xfrm>
            <a:off x="4730760" y="2949480"/>
            <a:ext cx="20588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11"/>
          <a:stretch/>
        </p:blipFill>
        <p:spPr>
          <a:xfrm>
            <a:off x="5749920" y="1050840"/>
            <a:ext cx="2060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11"/>
          <a:stretch/>
        </p:blipFill>
        <p:spPr>
          <a:xfrm>
            <a:off x="1558800" y="1090440"/>
            <a:ext cx="20592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9:11Z</dcterms:modified>
  <cp:revision>147</cp:revision>
  <dc:subject/>
  <dc:title>TITLE</dc:title>
</cp:coreProperties>
</file>