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D02C-B7CC-44A4-B5C3-362AE5B750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A3B0-60D8-418F-92C0-83D750F273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2B50-76E4-4027-9E20-F1562D0D83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3A1-05A5-4AF0-867B-3EF1619FFD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986-CD6D-4C47-A18E-8358A01D36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F75B-567E-46E1-8DB5-4EB9CC744C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8D73-1963-4213-AB84-D34A41C40D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9728-44C5-45A4-9A8C-DC49CB6B27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CC4A-B6FA-40FA-9E32-88CF3D2657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7F7A-7C8C-466E-B6A3-238DED0DBE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2182-1CDA-4811-A12A-A9112009D1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561F-C385-4E57-876E-AB1493F5B9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213B-A591-411C-B839-07DE21AEE1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85F-D2F6-4049-9689-981B260A65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3AE5-5181-4D36-8FEE-833AEB64D1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1A7B-0169-4346-9E87-B7EF5FEB5E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A3D-0F1C-4725-856C-95A0399A2B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C2D6-4419-420D-9B2C-10BCF32BBF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AC4-A2A5-4F30-99AE-9764DF9DB7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93D-24BF-4197-9C5D-12BB8CDA5C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8FD-134B-452C-A160-E8F479B9D5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5B8D-4EC6-4E22-BC74-A1066C3F46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44A5-ACD6-419A-9A27-D7F051BF53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52C-C7B0-4950-9E32-AF8D011F5E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9A3-C0BB-4ABE-823C-0118C2B05C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0BB0-5206-40F8-ACBA-C09B6902C0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3D2-50F3-49C2-A9B4-3673C5D96A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C88-69D6-43A8-85BF-DBF6D1F93E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0875-950D-48AF-9240-6EBB268074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90F-47E4-4DC0-A1D2-8C57BBFAE0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CACB-ED26-4204-A819-CD9A3DF232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4EFA-56B5-4966-946F-82AE262238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72B9-CD91-4DBC-9364-D63C78ABBE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F3E-6A27-4946-AB04-9C5F1F36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415-5176-4560-B435-344B87FF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D6F-766F-4605-9DA1-9DE66425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079-C333-47B2-A476-08839CE9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5D96-E8A0-4AB2-A1CC-6A05D7E0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6306-5C0A-4BFF-8334-8788E77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134E-15C1-4AD0-9E9F-7A9350FA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ECF7-51C9-41E0-8EFF-5A012B3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107C-3F77-40A6-B37C-D98FCDF0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34C1-FD6D-45B8-AE64-8452C44D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129D-D736-477F-A0E8-65F5D073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D3E-68F0-4FF4-B4D8-90D9DF8D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5E76-8947-43FA-A6C2-1A6F332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EC9F-B7AB-429F-B386-353C4718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7383-41E0-4EDE-BA69-2C3B20B4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E125-EA4D-449E-9B54-F9FD1DB6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4610-9F96-413C-B1CD-6CCC8763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311-1AF0-4FDB-805A-E01F7365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CDB-B81F-4DA5-8960-A850C7D2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C3D-23DF-4626-86BE-9618EB70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5B8-E65B-4916-AD7C-8041BA9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97D-7605-4DD8-9F96-929CF83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501-E2EA-46B5-AD1C-E999794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DBF-5B3B-46B2-8328-661C7AF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1F9C-F1F5-4427-B21B-333664A217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578-65BB-4322-B656-B22B9BCE8F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6.png"/><Relationship Id="rId17" Type="http://schemas.openxmlformats.org/officeDocument/2006/relationships/image" Target="../media/image28.png"/><Relationship Id="rId18" Type="http://schemas.openxmlformats.org/officeDocument/2006/relationships/image" Target="../media/image27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03" name="Oval Callout 1"/>
          <p:cNvSpPr/>
          <p:nvPr/>
        </p:nvSpPr>
        <p:spPr>
          <a:xfrm>
            <a:off x="2987640" y="692280"/>
            <a:ext cx="2448000" cy="1384200"/>
          </a:xfrm>
          <a:prstGeom prst="wedgeEllipseCallout">
            <a:avLst>
              <a:gd name="adj1" fmla="val -54851"/>
              <a:gd name="adj2" fmla="val 78203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cabal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38" name="Oval Callout 1"/>
          <p:cNvSpPr/>
          <p:nvPr/>
        </p:nvSpPr>
        <p:spPr>
          <a:xfrm>
            <a:off x="6529320" y="3844800"/>
            <a:ext cx="2449440" cy="1384560"/>
          </a:xfrm>
          <a:prstGeom prst="wedgeEllipseCallout">
            <a:avLst>
              <a:gd name="adj1" fmla="val -22314"/>
              <a:gd name="adj2" fmla="val 80162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716360" y="3844800"/>
            <a:ext cx="422460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ac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781520" y="3933720"/>
            <a:ext cx="4092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0000"/>
                </a:solidFill>
                <a:latin typeface="Comic Sans MS"/>
              </a:rPr>
              <a:t>cocodrilo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11600" y="4076640"/>
            <a:ext cx="43038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4788000" y="3046320"/>
            <a:ext cx="42386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1"/>
          <p:cNvSpPr/>
          <p:nvPr/>
        </p:nvSpPr>
        <p:spPr>
          <a:xfrm>
            <a:off x="5211720" y="115920"/>
            <a:ext cx="2448000" cy="1384200"/>
          </a:xfrm>
          <a:prstGeom prst="wedgeEllipseCallout">
            <a:avLst>
              <a:gd name="adj1" fmla="val -60402"/>
              <a:gd name="adj2" fmla="val 74277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vac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abal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619520" y="3429000"/>
            <a:ext cx="4278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z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zor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627440" y="3716280"/>
            <a:ext cx="434196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op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4194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rangutá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4788000" y="3632040"/>
            <a:ext cx="4138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á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águi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4849920" y="4005360"/>
            <a:ext cx="40719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33" name="Oval Callout 1"/>
          <p:cNvSpPr/>
          <p:nvPr/>
        </p:nvSpPr>
        <p:spPr>
          <a:xfrm>
            <a:off x="4160880" y="115920"/>
            <a:ext cx="2449440" cy="1384200"/>
          </a:xfrm>
          <a:prstGeom prst="wedgeEllipseCallout">
            <a:avLst>
              <a:gd name="adj1" fmla="val 40550"/>
              <a:gd name="adj2" fmla="val 63152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zorr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4683240" y="3789360"/>
            <a:ext cx="4279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7"/>
          <a:stretch/>
        </p:blipFill>
        <p:spPr>
          <a:xfrm>
            <a:off x="692460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12"/>
          <a:stretch/>
        </p:blipFill>
        <p:spPr>
          <a:xfrm>
            <a:off x="2075040" y="3741840"/>
            <a:ext cx="2269800" cy="2782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13"/>
          <a:stretch/>
        </p:blipFill>
        <p:spPr>
          <a:xfrm>
            <a:off x="4019400" y="440064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"/>
          <p:cNvPicPr/>
          <p:nvPr/>
        </p:nvPicPr>
        <p:blipFill>
          <a:blip r:embed="rId14"/>
          <a:stretch/>
        </p:blipFill>
        <p:spPr>
          <a:xfrm>
            <a:off x="5207040" y="488484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"/>
          <p:cNvPicPr/>
          <p:nvPr/>
        </p:nvPicPr>
        <p:blipFill>
          <a:blip r:embed="rId15"/>
          <a:stretch/>
        </p:blipFill>
        <p:spPr>
          <a:xfrm>
            <a:off x="6732720" y="5246640"/>
            <a:ext cx="753840" cy="528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"/>
          <p:cNvPicPr/>
          <p:nvPr/>
        </p:nvPicPr>
        <p:blipFill>
          <a:blip r:embed="rId16"/>
          <a:stretch/>
        </p:blipFill>
        <p:spPr>
          <a:xfrm>
            <a:off x="7494480" y="522756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17"/>
          <a:stretch/>
        </p:blipFill>
        <p:spPr>
          <a:xfrm>
            <a:off x="6308640" y="3147840"/>
            <a:ext cx="1119240" cy="771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18"/>
          <a:stretch/>
        </p:blipFill>
        <p:spPr>
          <a:xfrm>
            <a:off x="6732720" y="602784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19"/>
          <a:stretch/>
        </p:blipFill>
        <p:spPr>
          <a:xfrm>
            <a:off x="5508720" y="6102360"/>
            <a:ext cx="874440" cy="65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3" descr=""/>
          <p:cNvPicPr/>
          <p:nvPr/>
        </p:nvPicPr>
        <p:blipFill>
          <a:blip r:embed="rId20"/>
          <a:stretch/>
        </p:blipFill>
        <p:spPr>
          <a:xfrm>
            <a:off x="4788000" y="630252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4" descr=""/>
          <p:cNvPicPr/>
          <p:nvPr/>
        </p:nvPicPr>
        <p:blipFill>
          <a:blip r:embed="rId21"/>
          <a:stretch/>
        </p:blipFill>
        <p:spPr>
          <a:xfrm>
            <a:off x="4067280" y="639288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5" descr=""/>
          <p:cNvPicPr/>
          <p:nvPr/>
        </p:nvPicPr>
        <p:blipFill>
          <a:blip r:embed="rId22"/>
          <a:stretch/>
        </p:blipFill>
        <p:spPr>
          <a:xfrm>
            <a:off x="755640" y="4043520"/>
            <a:ext cx="2270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250920" y="198900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85e0e0"/>
                </a:solidFill>
                <a:latin typeface="Comic Sans MS"/>
              </a:rPr>
              <a:t>¡ Muy bien 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Buen trabajo hoy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250920" y="63514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a"/>
                </a:solidFill>
                <a:latin typeface="Arial Rounded MT Bold"/>
              </a:rPr>
              <a:t>© Ideas Education Ltd 202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48" name="Oval Callout 1"/>
          <p:cNvSpPr/>
          <p:nvPr/>
        </p:nvSpPr>
        <p:spPr>
          <a:xfrm>
            <a:off x="58680" y="1951200"/>
            <a:ext cx="2448000" cy="1384200"/>
          </a:xfrm>
          <a:prstGeom prst="wedgeEllipseCallout">
            <a:avLst>
              <a:gd name="adj1" fmla="val 34263"/>
              <a:gd name="adj2" fmla="val 899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codril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63" name="Oval Callout 1"/>
          <p:cNvSpPr/>
          <p:nvPr/>
        </p:nvSpPr>
        <p:spPr>
          <a:xfrm>
            <a:off x="1074600" y="1936800"/>
            <a:ext cx="2449800" cy="1384200"/>
          </a:xfrm>
          <a:prstGeom prst="wedgeEllipseCallout">
            <a:avLst>
              <a:gd name="adj1" fmla="val 34263"/>
              <a:gd name="adj2" fmla="val 899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angutá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78" name="Oval Callout 1"/>
          <p:cNvSpPr/>
          <p:nvPr/>
        </p:nvSpPr>
        <p:spPr>
          <a:xfrm>
            <a:off x="4218120" y="1962000"/>
            <a:ext cx="2447640" cy="1384560"/>
          </a:xfrm>
          <a:prstGeom prst="wedgeEllipseCallout">
            <a:avLst>
              <a:gd name="adj1" fmla="val 34263"/>
              <a:gd name="adj2" fmla="val 899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93" name="Oval Callout 1"/>
          <p:cNvSpPr/>
          <p:nvPr/>
        </p:nvSpPr>
        <p:spPr>
          <a:xfrm>
            <a:off x="6588000" y="1700280"/>
            <a:ext cx="2448000" cy="1384200"/>
          </a:xfrm>
          <a:prstGeom prst="wedgeEllipseCallout">
            <a:avLst>
              <a:gd name="adj1" fmla="val 7638"/>
              <a:gd name="adj2" fmla="val 91287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águil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08" name="Oval Callout 1"/>
          <p:cNvSpPr/>
          <p:nvPr/>
        </p:nvSpPr>
        <p:spPr>
          <a:xfrm>
            <a:off x="68400" y="3645000"/>
            <a:ext cx="2447640" cy="1384200"/>
          </a:xfrm>
          <a:prstGeom prst="wedgeEllipseCallout">
            <a:avLst>
              <a:gd name="adj1" fmla="val 32787"/>
              <a:gd name="adj2" fmla="val 84745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23" name="Oval Callout 1"/>
          <p:cNvSpPr/>
          <p:nvPr/>
        </p:nvSpPr>
        <p:spPr>
          <a:xfrm>
            <a:off x="3708360" y="3801960"/>
            <a:ext cx="2448000" cy="1384560"/>
          </a:xfrm>
          <a:prstGeom prst="wedgeEllipseCallout">
            <a:avLst>
              <a:gd name="adj1" fmla="val -9370"/>
              <a:gd name="adj2" fmla="val 7100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op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8:17Z</dcterms:modified>
  <cp:revision>147</cp:revision>
  <dc:subject/>
  <dc:title>TITLE</dc:title>
</cp:coreProperties>
</file>