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7C61-0CCA-4032-8B4C-50F0DDC83B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E0BC-87C4-491F-94BD-D5F98F40CF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130-855F-4115-B437-D2EA7B99F02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8395-4F4B-418B-9E26-403330DD4ED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934-8CA7-4BB9-B2DF-32EA959DA01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EE92-9E59-4FC8-9A08-4BEFC46AC0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5EB2-D97A-48CE-84EF-76CA30429A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4FB-ADE6-4F93-A35F-473A3860D02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0768-21EC-41C1-AB7A-7FE5E07DA5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416A-7739-432C-B767-110930FC40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CED8-D30A-416F-8F7E-F3F7799EBE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644C-4D72-4D4C-B7DC-D9C7573B51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751-3DBC-4DDB-B600-8122D1EF86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6491-0B5D-4617-8076-0F43D38B50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ECE6-E1D2-4254-8848-8226F6FA71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0E4-635F-4AB7-9941-69CB409665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2D7-C0A1-4EC0-A000-A0E29287B9D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4F8-6AEF-4D0A-B585-B17A05785DC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05D-A53B-4ED6-9461-411D67B82C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5D5-D827-4650-B55C-44FADF0866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733-86B4-4E69-B289-6E8510AFAD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EF5-6158-4449-A237-4D21D59807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33C-FB3F-436E-9873-DB40A5D13D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81E2-28D6-4593-8AAC-3E174ADB146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1A0-92DE-4C46-B803-67FA5213285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D820-6428-4803-8794-A49BB3C22C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704-D3F3-4A75-BEF8-6276B35C4B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BE6-6BDD-42B0-A19F-E1EDFAB7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A12-333A-4083-B2B2-2703CC5D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8D2-E920-4B89-A6A7-F89AF914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096-B032-4132-98D8-9DB221E3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1EF-9A82-4BEB-B14F-9A98E40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FD0-0583-4BAF-BC53-7062399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1BE-6A45-4EB2-BD56-ACFBF1A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5BA-1F19-4139-BF16-BC1A680C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7D8-E929-4BDE-8AD4-5466C8C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D11-D9C7-47D7-A476-8B10FBA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400-7BFE-4275-9F77-CB66516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ABB-BD74-43E1-BB55-D85EE0A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2CE-9904-4E77-9B89-6031663AB2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1528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Rounded Rectangular Callout 18"/>
          <p:cNvSpPr/>
          <p:nvPr/>
        </p:nvSpPr>
        <p:spPr>
          <a:xfrm>
            <a:off x="2916360" y="1916280"/>
            <a:ext cx="5832360" cy="2304720"/>
          </a:xfrm>
          <a:prstGeom prst="wedgeRoundRectCallout">
            <a:avLst>
              <a:gd name="adj1" fmla="val -65305"/>
              <a:gd name="adj2" fmla="val 87606"/>
              <a:gd name="adj3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e gusta el jamó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30"/>
          <p:cNvSpPr/>
          <p:nvPr/>
        </p:nvSpPr>
        <p:spPr>
          <a:xfrm>
            <a:off x="3059280" y="2565360"/>
            <a:ext cx="2773080" cy="115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traight Connector 51200"/>
          <p:cNvSpPr/>
          <p:nvPr/>
        </p:nvSpPr>
        <p:spPr>
          <a:xfrm>
            <a:off x="6659640" y="3573360"/>
            <a:ext cx="17287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36"/>
          <p:cNvSpPr/>
          <p:nvPr/>
        </p:nvSpPr>
        <p:spPr>
          <a:xfrm>
            <a:off x="5832360" y="2565360"/>
            <a:ext cx="836640" cy="1150920"/>
          </a:xfrm>
          <a:custGeom>
            <a:avLst/>
            <a:gdLst>
              <a:gd name="textAreaLeft" fmla="*/ 40680 w 836640"/>
              <a:gd name="textAreaRight" fmla="*/ 795960 w 836640"/>
              <a:gd name="textAreaTop" fmla="*/ 40680 h 1150920"/>
              <a:gd name="textAreaBottom" fmla="*/ 1110240 h 1150920"/>
            </a:gdLst>
            <a:ahLst/>
            <a:rect l="textAreaLeft" t="textAreaTop" r="textAreaRight" b="textAreaBottom"/>
            <a:pathLst>
              <a:path w="21600" h="29710">
                <a:moveTo>
                  <a:pt x="3600" y="0"/>
                </a:moveTo>
                <a:arcTo wR="3600" hR="3600" stAng="16200000" swAng="-5400000"/>
                <a:lnTo>
                  <a:pt x="0" y="26110"/>
                </a:lnTo>
                <a:arcTo wR="3600" hR="3600" stAng="10800000" swAng="-5400000"/>
                <a:lnTo>
                  <a:pt x="18000" y="29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51204"/>
          <p:cNvSpPr/>
          <p:nvPr/>
        </p:nvSpPr>
        <p:spPr>
          <a:xfrm>
            <a:off x="3419640" y="508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a"/>
                </a:solidFill>
                <a:latin typeface="Comic Sans MS"/>
              </a:rPr>
              <a:t>I like the h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1205" descr=""/>
          <p:cNvPicPr/>
          <p:nvPr/>
        </p:nvPicPr>
        <p:blipFill>
          <a:blip r:embed="rId2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206" descr=""/>
          <p:cNvPicPr/>
          <p:nvPr/>
        </p:nvPicPr>
        <p:blipFill>
          <a:blip r:embed="rId3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95280" y="33336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324000" y="260280"/>
            <a:ext cx="15112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01680" y="26028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281160" y="18900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235080" y="18900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231840" y="1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185760" y="189000"/>
            <a:ext cx="15825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324000" y="333360"/>
            <a:ext cx="20332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26360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22724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87804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168560" y="1989000"/>
            <a:ext cx="147924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220680" y="189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304920" y="260280"/>
            <a:ext cx="2023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31840" y="26028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272880" y="260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325440" y="260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-c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35892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420840" y="393372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384120" y="3284640"/>
            <a:ext cx="1438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um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445080" y="4581360"/>
            <a:ext cx="15116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izz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6389640" y="3933720"/>
            <a:ext cx="1620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6280200" y="3284640"/>
            <a:ext cx="18414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ona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34920" y="2639880"/>
            <a:ext cx="205884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325440" y="1989000"/>
            <a:ext cx="147960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6408720" y="26128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218280" y="1989000"/>
            <a:ext cx="203508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1928880" y="4518000"/>
            <a:ext cx="1506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g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1928880" y="3870360"/>
            <a:ext cx="20257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scad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340000" y="3225960"/>
            <a:ext cx="14796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24"/>
          <p:cNvSpPr/>
          <p:nvPr/>
        </p:nvSpPr>
        <p:spPr>
          <a:xfrm>
            <a:off x="2287440" y="2573280"/>
            <a:ext cx="158292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rr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09680" y="1916280"/>
            <a:ext cx="161136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8000" y="44280"/>
          <a:ext cx="8928000" cy="48247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4160"/>
                <a:gridCol w="1785960"/>
                <a:gridCol w="1785960"/>
              </a:tblGrid>
              <a:tr h="160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3"/>
          <p:cNvSpPr/>
          <p:nvPr/>
        </p:nvSpPr>
        <p:spPr>
          <a:xfrm>
            <a:off x="7524720" y="6415200"/>
            <a:ext cx="1511280" cy="4698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246240" y="11970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1"/>
          <a:srcRect l="25051" t="0" r="3120" b="0"/>
          <a:stretch/>
        </p:blipFill>
        <p:spPr>
          <a:xfrm>
            <a:off x="2268360" y="1716120"/>
            <a:ext cx="1233720" cy="1147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rcRect l="29872" t="8703" r="30133" b="8179"/>
          <a:stretch/>
        </p:blipFill>
        <p:spPr>
          <a:xfrm>
            <a:off x="4141800" y="1716120"/>
            <a:ext cx="861840" cy="1163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3"/>
          <a:stretch/>
        </p:blipFill>
        <p:spPr>
          <a:xfrm>
            <a:off x="5751360" y="1916280"/>
            <a:ext cx="1347840" cy="906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4"/>
          <a:srcRect l="0" t="10562" r="12571" b="0"/>
          <a:stretch/>
        </p:blipFill>
        <p:spPr>
          <a:xfrm>
            <a:off x="7837560" y="1716120"/>
            <a:ext cx="838080" cy="1144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5"/>
          <a:srcRect l="15985" t="0" r="15477" b="0"/>
          <a:stretch/>
        </p:blipFill>
        <p:spPr>
          <a:xfrm>
            <a:off x="2239920" y="130320"/>
            <a:ext cx="1262160" cy="1036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6"/>
          <a:stretch/>
        </p:blipFill>
        <p:spPr>
          <a:xfrm>
            <a:off x="7578720" y="95400"/>
            <a:ext cx="1284120" cy="107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7"/>
          <a:srcRect l="0" t="0" r="36967" b="0"/>
          <a:stretch/>
        </p:blipFill>
        <p:spPr>
          <a:xfrm>
            <a:off x="498600" y="1716120"/>
            <a:ext cx="1158840" cy="1227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8"/>
          <a:srcRect l="8781" t="0" r="8932" b="0"/>
          <a:stretch/>
        </p:blipFill>
        <p:spPr>
          <a:xfrm>
            <a:off x="5891040" y="111240"/>
            <a:ext cx="1303560" cy="1055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9"/>
          <a:srcRect l="7936" t="2713" r="10496" b="0"/>
          <a:stretch/>
        </p:blipFill>
        <p:spPr>
          <a:xfrm>
            <a:off x="452520" y="14616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0"/>
          <a:srcRect l="2792" t="10297" r="3329" b="38746"/>
          <a:stretch/>
        </p:blipFill>
        <p:spPr>
          <a:xfrm>
            <a:off x="4033800" y="95400"/>
            <a:ext cx="1389240" cy="10713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0"/>
          <p:cNvSpPr/>
          <p:nvPr/>
        </p:nvSpPr>
        <p:spPr>
          <a:xfrm>
            <a:off x="1992240" y="1197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3854520" y="1197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0"/>
          <p:cNvSpPr/>
          <p:nvPr/>
        </p:nvSpPr>
        <p:spPr>
          <a:xfrm>
            <a:off x="558180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0"/>
          <p:cNvSpPr/>
          <p:nvPr/>
        </p:nvSpPr>
        <p:spPr>
          <a:xfrm>
            <a:off x="7308720" y="119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0"/>
          <p:cNvSpPr/>
          <p:nvPr/>
        </p:nvSpPr>
        <p:spPr>
          <a:xfrm>
            <a:off x="150840" y="2822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1919160" y="2822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3765600" y="28224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hel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Box 24"/>
          <p:cNvSpPr/>
          <p:nvPr/>
        </p:nvSpPr>
        <p:spPr>
          <a:xfrm>
            <a:off x="5508720" y="28224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7353360" y="282240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a-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23" descr=""/>
          <p:cNvPicPr/>
          <p:nvPr/>
        </p:nvPicPr>
        <p:blipFill>
          <a:blip r:embed="rId11"/>
          <a:srcRect l="42687" t="14940" r="20110" b="25404"/>
          <a:stretch/>
        </p:blipFill>
        <p:spPr>
          <a:xfrm>
            <a:off x="571680" y="3349800"/>
            <a:ext cx="9759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"/>
          <p:cNvPicPr/>
          <p:nvPr/>
        </p:nvPicPr>
        <p:blipFill>
          <a:blip r:embed="rId12"/>
          <a:srcRect l="26786" t="8571" r="0" b="0"/>
          <a:stretch/>
        </p:blipFill>
        <p:spPr>
          <a:xfrm>
            <a:off x="2428920" y="3349800"/>
            <a:ext cx="1184400" cy="987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5" descr=""/>
          <p:cNvPicPr/>
          <p:nvPr/>
        </p:nvPicPr>
        <p:blipFill>
          <a:blip r:embed="rId13"/>
          <a:srcRect l="25165" t="11180" r="24345" b="7833"/>
          <a:stretch/>
        </p:blipFill>
        <p:spPr>
          <a:xfrm>
            <a:off x="4199040" y="3317760"/>
            <a:ext cx="928440" cy="987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6" descr=""/>
          <p:cNvPicPr/>
          <p:nvPr/>
        </p:nvPicPr>
        <p:blipFill>
          <a:blip r:embed="rId14"/>
          <a:stretch/>
        </p:blipFill>
        <p:spPr>
          <a:xfrm>
            <a:off x="5940360" y="3624120"/>
            <a:ext cx="1203480" cy="784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7" descr=""/>
          <p:cNvPicPr/>
          <p:nvPr/>
        </p:nvPicPr>
        <p:blipFill>
          <a:blip r:embed="rId15"/>
          <a:srcRect l="0" t="0" r="0" b="47157"/>
          <a:stretch/>
        </p:blipFill>
        <p:spPr>
          <a:xfrm>
            <a:off x="7740720" y="3432240"/>
            <a:ext cx="1251000" cy="8827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0"/>
          <p:cNvSpPr/>
          <p:nvPr/>
        </p:nvSpPr>
        <p:spPr>
          <a:xfrm>
            <a:off x="195120" y="44085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1952640" y="4408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e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3789360" y="4408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ol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24"/>
          <p:cNvSpPr/>
          <p:nvPr/>
        </p:nvSpPr>
        <p:spPr>
          <a:xfrm>
            <a:off x="5519880" y="4408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b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7353360" y="44085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6"/>
          <a:stretch/>
        </p:blipFill>
        <p:spPr>
          <a:xfrm>
            <a:off x="106200" y="4946760"/>
            <a:ext cx="1976760" cy="187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2441520" y="5224320"/>
          <a:ext cx="4753080" cy="1311480"/>
        </p:xfrm>
        <a:graphic>
          <a:graphicData uri="http://schemas.openxmlformats.org/drawingml/2006/table">
            <a:tbl>
              <a:tblPr/>
              <a:tblGrid>
                <a:gridCol w="1008000"/>
                <a:gridCol w="1873440"/>
                <a:gridCol w="18716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11" descr=""/>
          <p:cNvPicPr/>
          <p:nvPr/>
        </p:nvPicPr>
        <p:blipFill>
          <a:blip r:embed="rId17"/>
          <a:stretch/>
        </p:blipFill>
        <p:spPr>
          <a:xfrm>
            <a:off x="7670880" y="5224320"/>
            <a:ext cx="13208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1205" descr=""/>
          <p:cNvPicPr/>
          <p:nvPr/>
        </p:nvPicPr>
        <p:blipFill>
          <a:blip r:embed="rId1"/>
          <a:stretch/>
        </p:blipFill>
        <p:spPr>
          <a:xfrm>
            <a:off x="1649520" y="200160"/>
            <a:ext cx="1544400" cy="170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1206" descr=""/>
          <p:cNvPicPr/>
          <p:nvPr/>
        </p:nvPicPr>
        <p:blipFill>
          <a:blip r:embed="rId2"/>
          <a:stretch/>
        </p:blipFill>
        <p:spPr>
          <a:xfrm>
            <a:off x="100080" y="200160"/>
            <a:ext cx="154296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68360" y="2492280"/>
          <a:ext cx="8207280" cy="3529080"/>
        </p:xfrm>
        <a:graphic>
          <a:graphicData uri="http://schemas.openxmlformats.org/drawingml/2006/table">
            <a:tbl>
              <a:tblPr/>
              <a:tblGrid>
                <a:gridCol w="1942920"/>
                <a:gridCol w="3097440"/>
                <a:gridCol w="316692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/ a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297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pSp>
        <p:nvGrpSpPr>
          <p:cNvPr id="77" name="Oval 2"/>
          <p:cNvGrpSpPr/>
          <p:nvPr/>
        </p:nvGrpSpPr>
        <p:grpSpPr>
          <a:xfrm>
            <a:off x="-384120" y="4029120"/>
            <a:ext cx="10051920" cy="2841480"/>
            <a:chOff x="-384120" y="4029120"/>
            <a:chExt cx="10051920" cy="2841480"/>
          </a:xfrm>
        </p:grpSpPr>
        <p:pic>
          <p:nvPicPr>
            <p:cNvPr id="78" name="Oval 2" descr=""/>
            <p:cNvPicPr/>
            <p:nvPr/>
          </p:nvPicPr>
          <p:blipFill>
            <a:blip r:embed="rId3"/>
            <a:stretch/>
          </p:blipFill>
          <p:spPr>
            <a:xfrm>
              <a:off x="-384120" y="4029120"/>
              <a:ext cx="1005192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428840" y="4782960"/>
              <a:ext cx="64213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27040" y="47628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aa"/>
          </a:solidFill>
          <a:ln w="9360">
            <a:solidFill>
              <a:srgbClr val="fff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52280" y="3189240"/>
            <a:ext cx="3963960" cy="387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364000" y="3189240"/>
            <a:ext cx="3962520" cy="3873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97164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300720" y="5300640"/>
            <a:ext cx="1871640" cy="76428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1201680" y="4541760"/>
            <a:ext cx="1411200" cy="58140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395280" y="404640"/>
            <a:ext cx="1363680" cy="1068840"/>
          </a:xfrm>
          <a:prstGeom prst="rect">
            <a:avLst/>
          </a:prstGeom>
          <a:solidFill>
            <a:srgbClr val="ffff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m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55:16Z</dcterms:modified>
  <cp:revision>189</cp:revision>
  <dc:subject/>
  <dc:title>TITLE</dc:title>
</cp:coreProperties>
</file>