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EF31-C079-4CA7-828B-CB1FDECEAB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B83C-AA7E-430E-A3C6-ECE5C65776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FF04-A43C-4C8B-AC8B-2123881D81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3005-377E-416E-A059-D5B0B7DB38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5851-2164-4EA6-8763-42B8DEC6AC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E8DC-B0E5-46CA-8C03-5F578F33BE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73F6-AFC9-4FE5-A84A-70C457CF4F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97FC-EDB9-4B1C-88AF-8379C15F25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738C-519F-46F9-9B62-DC099931AD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241B-6BF2-46F6-BD22-484CCFC241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D0A2-FFCB-4AAE-83F5-676E656BD7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DCE4-82B8-4697-BB79-8A0AE8D70B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AF46-27D5-4B76-9761-ABD87C1C94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09A1-55D1-4F4B-AB4A-F191C012A6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2833-F1A5-431D-9FA5-87FAE80B89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9CB6-EEC5-4395-9DDF-121DE4ED16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9591-FAC1-43C3-B615-650E69050E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2682-01A4-4EEB-BCF4-DFD82C95AB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54CB-43C2-418B-A26A-918393A7E4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8F3E-9F0A-4C3D-A9F5-CB15A321D5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5DED-07D0-48F2-9543-69DB3CD908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7D6-D3FE-4B0A-A2C7-C5E4EB8825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949E-9D44-4597-B55D-84B286EF25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5EBD-A998-4B0A-91D0-8AB2849A91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20E7-EE9E-4643-8203-13B1ECE0EF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CAEB-EC66-4398-9D88-3DB0988E7E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C98F-05AC-48B7-B893-8E4B592FC5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ED8-E4D4-46A2-854C-51712E1C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F0A-842A-47EA-99DB-7AD5D359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4AA-30C6-43DB-8AEC-9CFC6768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6E3-63CC-4E21-B274-046668E4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6E9-81A1-4417-82DA-7C8E9E03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95A-A7C4-45D1-AE1E-E815C0CB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FBE-48A7-4F3F-8081-FDDF446C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086-64BD-4043-B19A-0318A19B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4C3-DE88-4401-A8DC-6DB2AE06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E2F-569A-433A-BF0F-0C3869B4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1A9-7B62-48F5-B669-3F72418A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6F7-EFD9-4CE6-B3EE-0BD3E70F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DF19-F0B5-40FD-B102-E3E084C1E3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50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el jamó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ounded Rectangle 30"/>
          <p:cNvSpPr/>
          <p:nvPr/>
        </p:nvSpPr>
        <p:spPr>
          <a:xfrm>
            <a:off x="3059280" y="2565360"/>
            <a:ext cx="2773080" cy="1150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Straight Connector 51200"/>
          <p:cNvSpPr/>
          <p:nvPr/>
        </p:nvSpPr>
        <p:spPr>
          <a:xfrm>
            <a:off x="6659640" y="3573360"/>
            <a:ext cx="17287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ounded Rectangle 36"/>
          <p:cNvSpPr/>
          <p:nvPr/>
        </p:nvSpPr>
        <p:spPr>
          <a:xfrm>
            <a:off x="5832360" y="2565360"/>
            <a:ext cx="836640" cy="1150920"/>
          </a:xfrm>
          <a:custGeom>
            <a:avLst/>
            <a:gdLst>
              <a:gd name="textAreaLeft" fmla="*/ 40680 w 836640"/>
              <a:gd name="textAreaRight" fmla="*/ 795960 w 836640"/>
              <a:gd name="textAreaTop" fmla="*/ 40680 h 1150920"/>
              <a:gd name="textAreaBottom" fmla="*/ 1110240 h 1150920"/>
            </a:gdLst>
            <a:ahLst/>
            <a:rect l="textAreaLeft" t="textAreaTop" r="textAreaRight" b="textAreaBottom"/>
            <a:pathLst>
              <a:path w="21600" h="29710">
                <a:moveTo>
                  <a:pt x="3600" y="0"/>
                </a:moveTo>
                <a:arcTo wR="3600" hR="3600" stAng="16200000" swAng="-5400000"/>
                <a:lnTo>
                  <a:pt x="0" y="26110"/>
                </a:lnTo>
                <a:arcTo wR="3600" hR="3600" stAng="10800000" swAng="-5400000"/>
                <a:lnTo>
                  <a:pt x="18000" y="29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51204"/>
          <p:cNvSpPr/>
          <p:nvPr/>
        </p:nvSpPr>
        <p:spPr>
          <a:xfrm>
            <a:off x="3419640" y="50846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395280" y="33336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324000" y="260280"/>
            <a:ext cx="15112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01680" y="26028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281160" y="18900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20"/>
          <p:cNvSpPr/>
          <p:nvPr/>
        </p:nvSpPr>
        <p:spPr>
          <a:xfrm>
            <a:off x="235080" y="18900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87804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0"/>
          <p:cNvSpPr/>
          <p:nvPr/>
        </p:nvSpPr>
        <p:spPr>
          <a:xfrm>
            <a:off x="231840" y="1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87804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1168560" y="1989000"/>
            <a:ext cx="147924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24"/>
          <p:cNvSpPr/>
          <p:nvPr/>
        </p:nvSpPr>
        <p:spPr>
          <a:xfrm>
            <a:off x="185760" y="189000"/>
            <a:ext cx="158256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87804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0"/>
          <p:cNvSpPr/>
          <p:nvPr/>
        </p:nvSpPr>
        <p:spPr>
          <a:xfrm>
            <a:off x="1168560" y="1989000"/>
            <a:ext cx="147924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324000" y="333360"/>
            <a:ext cx="20332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87804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1168560" y="1989000"/>
            <a:ext cx="147924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20"/>
          <p:cNvSpPr/>
          <p:nvPr/>
        </p:nvSpPr>
        <p:spPr>
          <a:xfrm>
            <a:off x="220680" y="189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304920" y="260280"/>
            <a:ext cx="2023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360" y="2492280"/>
          <a:ext cx="8207280" cy="3529080"/>
        </p:xfrm>
        <a:graphic>
          <a:graphicData uri="http://schemas.openxmlformats.org/drawingml/2006/table">
            <a:tbl>
              <a:tblPr/>
              <a:tblGrid>
                <a:gridCol w="1942920"/>
                <a:gridCol w="3097440"/>
                <a:gridCol w="316692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7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231840" y="26028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2340000" y="322596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Box 24"/>
          <p:cNvSpPr/>
          <p:nvPr/>
        </p:nvSpPr>
        <p:spPr>
          <a:xfrm>
            <a:off x="272880" y="2602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r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2340000" y="322596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2287440" y="25732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r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Box 20"/>
          <p:cNvSpPr/>
          <p:nvPr/>
        </p:nvSpPr>
        <p:spPr>
          <a:xfrm>
            <a:off x="325440" y="260280"/>
            <a:ext cx="161136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20"/>
          <p:cNvSpPr/>
          <p:nvPr/>
        </p:nvSpPr>
        <p:spPr>
          <a:xfrm>
            <a:off x="2340000" y="322596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Box 24"/>
          <p:cNvSpPr/>
          <p:nvPr/>
        </p:nvSpPr>
        <p:spPr>
          <a:xfrm>
            <a:off x="2287440" y="25732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r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20"/>
          <p:cNvSpPr/>
          <p:nvPr/>
        </p:nvSpPr>
        <p:spPr>
          <a:xfrm>
            <a:off x="2209680" y="1916280"/>
            <a:ext cx="161136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2340000" y="322596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Box 24"/>
          <p:cNvSpPr/>
          <p:nvPr/>
        </p:nvSpPr>
        <p:spPr>
          <a:xfrm>
            <a:off x="2287440" y="25732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rr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Box 20"/>
          <p:cNvSpPr/>
          <p:nvPr/>
        </p:nvSpPr>
        <p:spPr>
          <a:xfrm>
            <a:off x="2209680" y="1916280"/>
            <a:ext cx="161136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32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2340000" y="322596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Box 24"/>
          <p:cNvSpPr/>
          <p:nvPr/>
        </p:nvSpPr>
        <p:spPr>
          <a:xfrm>
            <a:off x="2287440" y="25732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rr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2209680" y="1916280"/>
            <a:ext cx="161136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41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3" name=""/>
          <p:cNvGraphicFramePr/>
          <p:nvPr/>
        </p:nvGraphicFramePr>
        <p:xfrm>
          <a:off x="2441520" y="5224320"/>
          <a:ext cx="4753080" cy="1311480"/>
        </p:xfrm>
        <a:graphic>
          <a:graphicData uri="http://schemas.openxmlformats.org/drawingml/2006/table">
            <a:tbl>
              <a:tblPr/>
              <a:tblGrid>
                <a:gridCol w="1008000"/>
                <a:gridCol w="1873440"/>
                <a:gridCol w="187164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62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74" name="Picture 11" descr=""/>
          <p:cNvPicPr/>
          <p:nvPr/>
        </p:nvPicPr>
        <p:blipFill>
          <a:blip r:embed="rId17"/>
          <a:stretch/>
        </p:blipFill>
        <p:spPr>
          <a:xfrm>
            <a:off x="7670880" y="5224320"/>
            <a:ext cx="13208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68360" y="2492280"/>
          <a:ext cx="8207280" cy="3529080"/>
        </p:xfrm>
        <a:graphic>
          <a:graphicData uri="http://schemas.openxmlformats.org/drawingml/2006/table">
            <a:tbl>
              <a:tblPr/>
              <a:tblGrid>
                <a:gridCol w="1942920"/>
                <a:gridCol w="3097440"/>
                <a:gridCol w="316692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7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68360" y="2492280"/>
          <a:ext cx="8207280" cy="3529080"/>
        </p:xfrm>
        <a:graphic>
          <a:graphicData uri="http://schemas.openxmlformats.org/drawingml/2006/table">
            <a:tbl>
              <a:tblPr/>
              <a:tblGrid>
                <a:gridCol w="1942920"/>
                <a:gridCol w="3097440"/>
                <a:gridCol w="316692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7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68360" y="2492280"/>
          <a:ext cx="8207280" cy="3529080"/>
        </p:xfrm>
        <a:graphic>
          <a:graphicData uri="http://schemas.openxmlformats.org/drawingml/2006/table">
            <a:tbl>
              <a:tblPr/>
              <a:tblGrid>
                <a:gridCol w="1942920"/>
                <a:gridCol w="3097440"/>
                <a:gridCol w="316692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7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68360" y="2492280"/>
          <a:ext cx="8207280" cy="3529080"/>
        </p:xfrm>
        <a:graphic>
          <a:graphicData uri="http://schemas.openxmlformats.org/drawingml/2006/table">
            <a:tbl>
              <a:tblPr/>
              <a:tblGrid>
                <a:gridCol w="1942920"/>
                <a:gridCol w="3097440"/>
                <a:gridCol w="316692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7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pSp>
        <p:nvGrpSpPr>
          <p:cNvPr id="77" name="Oval 2"/>
          <p:cNvGrpSpPr/>
          <p:nvPr/>
        </p:nvGrpSpPr>
        <p:grpSpPr>
          <a:xfrm>
            <a:off x="-384120" y="4029120"/>
            <a:ext cx="10051920" cy="2841480"/>
            <a:chOff x="-384120" y="4029120"/>
            <a:chExt cx="10051920" cy="2841480"/>
          </a:xfrm>
        </p:grpSpPr>
        <p:pic>
          <p:nvPicPr>
            <p:cNvPr id="78" name="Oval 2" descr=""/>
            <p:cNvPicPr/>
            <p:nvPr/>
          </p:nvPicPr>
          <p:blipFill>
            <a:blip r:embed="rId3"/>
            <a:stretch/>
          </p:blipFill>
          <p:spPr>
            <a:xfrm>
              <a:off x="-384120" y="4029120"/>
              <a:ext cx="10051920" cy="28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428840" y="4782960"/>
              <a:ext cx="642132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27040" y="47628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395280" y="40464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5:16Z</dcterms:modified>
  <cp:revision>189</cp:revision>
  <dc:subject/>
  <dc:title>TITLE</dc:title>
</cp:coreProperties>
</file>