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D83F-370D-42E0-BEF9-D8866311A9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BE11-7D23-4AF0-9618-CA98FBFC01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CD7-BE95-4737-895E-63EBBAA0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C2E-3FFD-4418-842A-F7FAEF38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971-6C63-4118-93C9-A11976E5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1E0-9584-4083-AD35-78C581A0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1723-42BC-4062-B905-0207C80A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F563-3272-4C26-8589-FC309B73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D29E-6583-4103-9A14-CF435A77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64B-162B-44B0-A583-93D99F5A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EF44-84C8-4676-802B-C239E412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9123-1681-4A9B-AD5B-CBE3B5EB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0DCB-7DA2-4C24-86AF-846C029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D6F-4906-4AE6-8A5A-A987DAB1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F35B-10BF-49B4-9655-AFFD8CC7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3B95-F6B4-4599-92BD-AE1E71FF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C2CC-E0F0-4070-A70E-61598DC3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9F4-DD2C-4D9E-84B5-4A7E73AB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42BB-EF34-4BFB-879A-5A389D6F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0678-A352-47CA-B9BE-05794A66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CADD-4DFE-43D0-BAF3-3DC4254E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AC51-1F5D-4EA0-A525-BA9EAB7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89F4-958E-4990-949C-F0CCBA56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D3E51-12D8-47FB-A4D6-11BB97D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3EE-F14B-414E-B7AE-5C9B1232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89A46-2269-44B6-B80F-F08596DE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02A2-BDF7-4125-AEFC-5750A523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A1D5-1DB1-437A-8F05-3F2275A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9E03-53E5-42DC-A6E8-CE79AF4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5707-6993-49D2-9057-E0BEAAB2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D955-5360-4081-9784-0D980093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644C-5F9D-41EC-86F3-3B53C369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76E-CFFD-4479-AFD1-FA4AD110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98B-D574-4CF4-9053-5C45EA12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CB0-9BBD-45D5-923B-607D186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563-8879-4A3E-B0DE-C2392F0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CBD-00B2-4CF5-9FF6-AF8885EC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F32-6666-4157-9345-4344655D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8681-6EDF-43C9-A4D3-476A3CB892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AB24-6ADD-4145-8630-C3E3A1B46A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1C79-0824-499D-9CA4-E5DE08EFDBF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46436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108000" y="115920"/>
            <a:ext cx="885672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Es un chico alto, divertido y simpático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106200" y="1773360"/>
            <a:ext cx="885672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cfc00"/>
                </a:solidFill>
                <a:latin typeface="Comic Sans MS"/>
              </a:rPr>
              <a:t>He is a tall, funny and nice boy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108000" y="5380200"/>
            <a:ext cx="885672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cfc00"/>
                </a:solidFill>
                <a:latin typeface="Comic Sans MS"/>
              </a:rPr>
              <a:t>She is a tall, funny and nice girl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08000" y="34988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1042920" y="349884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2340000" y="34988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chic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18"/>
          <p:cNvSpPr/>
          <p:nvPr/>
        </p:nvSpPr>
        <p:spPr>
          <a:xfrm>
            <a:off x="4211640" y="34988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alta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19"/>
          <p:cNvSpPr/>
          <p:nvPr/>
        </p:nvSpPr>
        <p:spPr>
          <a:xfrm>
            <a:off x="5867280" y="349884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divertid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115920" y="4300560"/>
            <a:ext cx="43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y simpática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934920" y="1120680"/>
            <a:ext cx="7274160" cy="33858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7200" spc="-1" strike="noStrike" u="sng">
                <a:solidFill>
                  <a:srgbClr val="0033cc"/>
                </a:solidFill>
                <a:uFillTx/>
                <a:latin typeface="Comic Sans MS"/>
              </a:rPr>
              <a:t>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0033cc"/>
                </a:solidFill>
                <a:latin typeface="Comic Sans MS"/>
              </a:rPr>
              <a:t>masc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fem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934920" y="115920"/>
            <a:ext cx="7274160" cy="19227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6000" spc="-1" strike="noStrike" u="sng">
                <a:solidFill>
                  <a:srgbClr val="0033cc"/>
                </a:solidFill>
                <a:uFillTx/>
                <a:latin typeface="Comic Sans MS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33cc"/>
                </a:solidFill>
                <a:latin typeface="Comic Sans MS"/>
              </a:rPr>
              <a:t>masc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60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fem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4520" y="2189160"/>
          <a:ext cx="8454960" cy="4572000"/>
        </p:xfrm>
        <a:graphic>
          <a:graphicData uri="http://schemas.openxmlformats.org/drawingml/2006/table">
            <a:tbl>
              <a:tblPr/>
              <a:tblGrid>
                <a:gridCol w="533520"/>
                <a:gridCol w="3693960"/>
                <a:gridCol w="1058760"/>
                <a:gridCol w="3168720"/>
              </a:tblGrid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rtill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illo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to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oj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ón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ed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llet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el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16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all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rbuj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1692360" y="115920"/>
            <a:ext cx="61196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692360" y="115920"/>
            <a:ext cx="611964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torti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plat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el baló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gallet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la medall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anillo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reloj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moned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el pastel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ond_ es la burbu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1-28T12:22:11Z</dcterms:modified>
  <cp:revision>442</cp:revision>
  <dc:subject/>
  <dc:title>TITLE</dc:title>
</cp:coreProperties>
</file>