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8B8B-71BF-4AD1-926D-549E3E43A1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BBD9-9389-4091-9FE6-EBB115BA6D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434-62D4-4117-A803-3C3B112F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468-F919-4F23-B324-41916095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D8A-D1AC-4596-9164-65E2700A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C5A-B6FD-4B4A-B722-2CBBFC42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92B3-3706-47F6-B778-42FCE250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CD0B-9913-4AC1-9AC8-6247D280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BB99-C012-463E-97BB-025BD877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C70D-8706-4855-A671-33E0A6D3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C954-8A35-4A5D-94DF-C09A82FB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4381-A264-4202-B6F6-91285211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8EC8-9DC6-4270-A315-26236252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6B9-56EF-4F25-BC8F-A8F9FCB3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91A1-72DF-47A4-82EF-2AEB2290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18D5-740F-477F-9B43-15295C34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70AE-8728-49F0-8085-B1CDD973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7976-4DDC-48FC-BEA1-58947A4F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DF0F-B885-425B-9EBD-6BC40528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382FC-861C-4F55-AB0A-AF89DA17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17634-EC12-453F-B2F4-0787972B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165BD-9976-451B-B698-0BDA0DDE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F54C-FD97-449B-BAE1-811D7321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AE8F7-FA32-4996-BCF0-D11A417F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217-7152-4EBF-9AC5-445B8E3A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02E5-DBD1-4E27-A2A7-24AF1BC7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F74F0-923E-4C83-B801-774990EF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58EA3-5DC7-496A-812B-8AF71246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C93D2-018A-4BE2-BE10-0DA9105A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60AD6-A9CB-4D4A-A77E-6670492E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7B427-330F-4A54-968C-D275ABB8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8EE17-21D1-4B46-8604-B89225C1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10E-8647-482F-90C7-005023FF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EEA-DCF9-4C7F-8CAB-30CA5AF2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610-D1F0-41BF-9B9E-6F2E15F6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8BE-BDE3-4499-9E0A-5D6760F3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9C8-55E4-41D6-ACEC-01D37688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1FA-34FB-4632-834E-21776D59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7578-B4BE-4765-A5EC-10D3D88550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16FF-066C-46FB-B19E-303DA33F83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A300-DD6F-44B7-84C3-747B06067E6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268360" y="0"/>
            <a:ext cx="446436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692360" y="115920"/>
            <a:ext cx="611964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1692360" y="115920"/>
            <a:ext cx="611964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692360" y="115920"/>
            <a:ext cx="611964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1692360" y="115920"/>
            <a:ext cx="611964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1692360" y="115920"/>
            <a:ext cx="611964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108000" y="115920"/>
            <a:ext cx="885672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Es un chico alto, divertido y simpático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12"/>
          <p:cNvSpPr/>
          <p:nvPr/>
        </p:nvSpPr>
        <p:spPr>
          <a:xfrm>
            <a:off x="106200" y="1773360"/>
            <a:ext cx="885672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cfc00"/>
                </a:solidFill>
                <a:latin typeface="Comic Sans MS"/>
              </a:rPr>
              <a:t>He is a tall, funny and nice boy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108000" y="5380200"/>
            <a:ext cx="885672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cfc00"/>
                </a:solidFill>
                <a:latin typeface="Comic Sans MS"/>
              </a:rPr>
              <a:t>She is a tall, funny and nice girl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108000" y="34988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1042920" y="3498840"/>
            <a:ext cx="12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17"/>
          <p:cNvSpPr/>
          <p:nvPr/>
        </p:nvSpPr>
        <p:spPr>
          <a:xfrm>
            <a:off x="2340000" y="34988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chic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18"/>
          <p:cNvSpPr/>
          <p:nvPr/>
        </p:nvSpPr>
        <p:spPr>
          <a:xfrm>
            <a:off x="4211640" y="34988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alta,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19"/>
          <p:cNvSpPr/>
          <p:nvPr/>
        </p:nvSpPr>
        <p:spPr>
          <a:xfrm>
            <a:off x="5867280" y="349884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divertid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115920" y="4300560"/>
            <a:ext cx="431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y simpática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934920" y="1120680"/>
            <a:ext cx="7274160" cy="338580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7200" spc="-1" strike="noStrike" u="sng">
                <a:solidFill>
                  <a:srgbClr val="0033cc"/>
                </a:solidFill>
                <a:uFillTx/>
                <a:latin typeface="Comic Sans MS"/>
              </a:rPr>
              <a:t>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200" spc="-1" strike="noStrike">
                <a:solidFill>
                  <a:srgbClr val="0033cc"/>
                </a:solidFill>
                <a:latin typeface="Comic Sans MS"/>
              </a:rPr>
              <a:t>masc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72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fem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934920" y="115920"/>
            <a:ext cx="7274160" cy="19227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6000" spc="-1" strike="noStrike" u="sng">
                <a:solidFill>
                  <a:srgbClr val="0033cc"/>
                </a:solidFill>
                <a:uFillTx/>
                <a:latin typeface="Comic Sans MS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0033cc"/>
                </a:solidFill>
                <a:latin typeface="Comic Sans MS"/>
              </a:rPr>
              <a:t>masc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60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fem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4520" y="2189160"/>
          <a:ext cx="8454960" cy="4572000"/>
        </p:xfrm>
        <a:graphic>
          <a:graphicData uri="http://schemas.openxmlformats.org/drawingml/2006/table">
            <a:tbl>
              <a:tblPr/>
              <a:tblGrid>
                <a:gridCol w="533520"/>
                <a:gridCol w="3693960"/>
                <a:gridCol w="1058760"/>
                <a:gridCol w="3168720"/>
              </a:tblGrid>
              <a:tr h="9169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rtilla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illo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169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to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oj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169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lón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eda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169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lleta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el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169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alla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rbuja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692360" y="115920"/>
            <a:ext cx="611964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1692360" y="115920"/>
            <a:ext cx="611964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1692360" y="115920"/>
            <a:ext cx="611964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_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1692360" y="115920"/>
            <a:ext cx="611964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1692360" y="115920"/>
            <a:ext cx="611964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1692360" y="115920"/>
            <a:ext cx="611964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22-01-28T12:22:11Z</dcterms:modified>
  <cp:revision>442</cp:revision>
  <dc:subject/>
  <dc:title>TITLE</dc:title>
</cp:coreProperties>
</file>