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61A9-A2D0-49AB-8E42-52629822AE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ich adjective will NOT 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35E9-9455-4B47-AB46-109240E375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3892-9374-421E-880B-746DBDFE01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ich adjective will NOT 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43B2-3990-4CC6-8A95-0CE7D654C0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6CC9-C658-47CB-8879-98E874D3AA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F7E-1C8D-495B-A976-FB6A263E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7D0-AEE8-4913-B61A-7F81C22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747-0ACC-47CA-AF41-93150865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0D4-DFCF-49D9-AFC1-9690FD39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6ADB4-8327-4E0E-8F0B-54DC2958D7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F8F71-4C62-439A-8782-6F4DCD101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6F963-1B6C-4E73-9259-97E866B14F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10CBF-F62F-4847-8974-A579942C6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2E82E-1222-4A41-8935-265AC0571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6A8D6-7FE4-4681-BE2A-CBF8BB54E8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213C4-3C96-4FBD-B44B-0E05E9FD8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18E-84F2-4A80-99FD-E12DE14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36181-2A2B-4EEC-939F-8FA2FF91D0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2AC3F-6A1D-41F9-8C6D-3B0301D710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8F13D-5A5E-4063-886C-6822FE564D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0158-13C9-450D-84A6-23D30F5D05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3C7E-1FA8-4DCA-A602-865CB7A31E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D187E-5B68-4D44-9136-4ED6EB68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F5C26-EB1B-4B01-A947-783E4DA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61991-9A76-4873-951B-D7F3AA94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8F050-67FF-418A-A7AF-3878369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BDB84-C59A-4267-8376-0D5B16B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FCA-93CA-41CC-A9D6-951F5EF1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B2B59-2911-451C-AD73-B3E38888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20E5E-9516-4F2E-9986-CFBD525F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77171-BF83-47AF-962E-71FAAC1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0198F-69F5-4AC2-9B6B-91B9299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87F3E-75C9-4C9D-B89F-6465BCD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06F78-38F0-4640-AA0E-7FA2735B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FA4ED-F334-4E55-9C31-241B224E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1F37E-BB42-4828-94DE-F9C391D39A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B5B94-82CE-4EA4-A7D8-A3ABF8CD3A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8CAB7-9859-4A39-8FF2-655E7C035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3D4-FAF4-4F94-B65F-F7D3F65B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567CF-0EBC-4C1B-8D21-83D4484A23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79604-D531-4D35-A411-22FF873FCE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DFE64-F7E6-457A-9567-62A9B6FD8C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57AA1-8FF7-4206-8222-EC8C630A90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507BF-06AD-49C6-8873-B4708198AA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323B7-18B5-43DB-AF85-0E5C137E64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688A8-E7FA-42E1-9607-052D31D6A6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A1630-9C1A-4C9D-B261-2D78F8F219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AE660-E05A-4507-9221-B9557DCCE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936-A42D-40E9-92CC-6FF05132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E2C-CA37-4881-A062-69B04B8A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ECA-64A5-48F2-A171-6CA529C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AEE-80D3-4330-9A9E-89C7794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551-D6B0-4D34-81E8-A0881EE2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83C-8C93-415B-9F75-8B60E1C81A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9274-20E2-4370-A221-99833BB3C73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0F6-D046-41F3-8CCF-5D364F92CE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A27-C6B7-4287-B267-C2F4BD13550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ch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niñ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5724360" y="3060720"/>
            <a:ext cx="364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4427640" y="2349360"/>
            <a:ext cx="493848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abu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1403280" y="3051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1476360" y="490212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5761080" y="29973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abu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1403280" y="3051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1476360" y="490212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5761080" y="29973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-84240" y="2403360"/>
            <a:ext cx="5160960" cy="2376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ch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1436760" y="321804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1436760" y="50515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862600" y="32068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5862600" y="5051520"/>
            <a:ext cx="33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ch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1436760" y="321804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1436760" y="50515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5862600" y="32068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862600" y="5051520"/>
            <a:ext cx="33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0" y="4276800"/>
            <a:ext cx="457200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profes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1619280" y="305100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550880" y="507996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5938920" y="30607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6012000" y="507996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profes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"/>
          <p:cNvSpPr/>
          <p:nvPr/>
        </p:nvSpPr>
        <p:spPr>
          <a:xfrm>
            <a:off x="1619280" y="305100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1550880" y="507996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5938920" y="30607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6012000" y="507996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Oval 12"/>
          <p:cNvSpPr/>
          <p:nvPr/>
        </p:nvSpPr>
        <p:spPr>
          <a:xfrm>
            <a:off x="4649760" y="2403360"/>
            <a:ext cx="3673440" cy="2376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ch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"/>
          <p:cNvSpPr/>
          <p:nvPr/>
        </p:nvSpPr>
        <p:spPr>
          <a:xfrm>
            <a:off x="4427640" y="2349360"/>
            <a:ext cx="367344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tí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tí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0" y="2381400"/>
            <a:ext cx="367200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per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1332000" y="3060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per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1332000" y="3060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54000" y="2403360"/>
            <a:ext cx="4949640" cy="2376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muj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1403280" y="3060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muj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403280" y="3060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-38160" y="4276800"/>
            <a:ext cx="367344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niñ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724360" y="3060720"/>
            <a:ext cx="364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2-01T10:38:21Z</dcterms:modified>
  <cp:revision>462</cp:revision>
  <dc:subject/>
  <dc:title>TITLE</dc:title>
</cp:coreProperties>
</file>