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6853-278B-4BE7-82E5-1EB1D4A44E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ich adjective will NOT f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AE85-0963-4B5D-A28B-3363168ED8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3B38-B056-4F59-BD64-9C49DB6207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ich adjective will NOT f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9AB4-5EF4-4428-9A52-C868C5588B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CDE-DC6F-48A8-8144-081F1A4B58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B44-B116-4A25-861B-FC260F6C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C15-64B5-4EC6-8173-D063EA17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1D6-4275-478C-8C8E-885B3C30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56C-D808-4117-8444-F93A0E21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85BE7-B5DD-4CAA-A737-E94574320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6BC64-AF15-4C24-90CD-97C942E81F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213A7-F021-47B3-B8C9-A818B2A101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70844-583D-4770-9DEE-557C60A244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CCD8A-0767-4EBC-81EB-DDC1FF4624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2080B-AE5E-41CB-8038-F599F85C63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2A182-E8EE-4126-BBE5-634708F28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729-1839-45C5-A189-EB052C1E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E12C1-2261-4B6D-86E8-749A332DD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AB965-AF7D-4773-A1FB-AD7F716851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F93F7-E198-47B8-903D-112C5E53BD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121D0-95F1-4CD3-87BD-15C45F612E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C4AF6-8D35-4029-AB56-63825C5202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CF0B8-85EF-41A0-82E8-9C581D92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E38EB-A429-447B-AE18-6A030788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FBA82-ACB0-48A6-AAF7-43C7ACBF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283A73-5343-4472-AC44-04A1EC3E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A2A57-C096-4D19-81ED-22D64D58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2A1-0E2D-404F-B4C6-7C5145F1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059103-0FC0-49C6-90C6-FA5963D6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9E4B3-2ADA-4528-B22A-3B9FA11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B32F90-25AB-4504-8B8E-FE646750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EAB91-B579-4E03-AA20-A759859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0BE879-B7AE-445B-BBED-C84C69B7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D505C-B193-4540-BAAF-D9D66DF2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A2D8C-56AF-4594-9BFE-5DC35044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0D029-0141-4F28-B353-B257BE6406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8BE1F-8741-45B4-B486-837C0EA592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CAA9F-DCA0-4C39-AE01-0934C93AD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839-EDC6-43F5-ABA2-14F6E01E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C455C-E6A8-4737-8994-F08C180887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9C364-20B6-4F73-90B7-BC1E33E568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35333-2253-422C-9618-656115C0AD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25DBB-CDAA-4B59-8B2E-1B8C18F6FE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94A7F-C60E-405F-AADC-96028BDC65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4CA6F-BAEC-4100-98EE-79A1CEB39A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DA817-917B-417B-AA9E-286CEF5CDC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A4359-4D05-4909-AD2D-2CC1ABAE32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BD6D3-C850-4ED8-96CE-3BF892830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1A4-12C0-4113-858E-DC7A543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3A1-AF7D-4AA1-81B5-228E567C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AA0-B5FE-4331-8D94-F6C25A5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2B3-603F-4686-A3EB-7B2F508E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8E6-FA1A-431F-AF29-401B303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26DE-9376-4852-9630-0FA6DD6EBE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7072-CFD6-41BE-B2C2-2573EA2DA86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8460-907E-4C15-ADC2-7C2B3072E4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AFC4-B088-4BC9-9CE5-A7B7CE39A2A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ch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niñ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1614600" y="49561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5724360" y="3060720"/>
            <a:ext cx="364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4427640" y="2349360"/>
            <a:ext cx="493848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abue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1403280" y="3051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portist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1476360" y="490212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5761080" y="299736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abue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1403280" y="3051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portist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1476360" y="490212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5761080" y="299736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a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-84240" y="2403360"/>
            <a:ext cx="5160960" cy="23767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ch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1436760" y="321804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1436760" y="505152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862600" y="32068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5862600" y="5051520"/>
            <a:ext cx="331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portist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ch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1436760" y="321804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1436760" y="505152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5862600" y="32068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5862600" y="5051520"/>
            <a:ext cx="331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portist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0" y="4276800"/>
            <a:ext cx="457200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profes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1619280" y="305100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550880" y="507996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5938920" y="306072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6012000" y="507996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profes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2"/>
          <p:cNvSpPr/>
          <p:nvPr/>
        </p:nvSpPr>
        <p:spPr>
          <a:xfrm>
            <a:off x="1619280" y="305100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1550880" y="507996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5938920" y="3060720"/>
            <a:ext cx="29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6012000" y="507996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Oval 12"/>
          <p:cNvSpPr/>
          <p:nvPr/>
        </p:nvSpPr>
        <p:spPr>
          <a:xfrm>
            <a:off x="4649760" y="2403360"/>
            <a:ext cx="3673440" cy="23767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ch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1"/>
          <p:cNvSpPr/>
          <p:nvPr/>
        </p:nvSpPr>
        <p:spPr>
          <a:xfrm>
            <a:off x="4427640" y="2349360"/>
            <a:ext cx="367344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tí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tí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0" y="2381400"/>
            <a:ext cx="367200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per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1332000" y="30607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 per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" descr="classpoplogo-01-02.png"/>
          <p:cNvPicPr/>
          <p:nvPr/>
        </p:nvPicPr>
        <p:blipFill>
          <a:blip r:embed="rId4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1332000" y="30607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ligente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54000" y="2403360"/>
            <a:ext cx="4949640" cy="23767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muj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1403280" y="3060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1614600" y="49561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muj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403280" y="3060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t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614600" y="49561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t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14"/>
          <p:cNvSpPr/>
          <p:nvPr/>
        </p:nvSpPr>
        <p:spPr>
          <a:xfrm>
            <a:off x="601200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-38160" y="4276800"/>
            <a:ext cx="3673440" cy="237492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una niñ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1619280" y="30607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1614600" y="4956120"/>
            <a:ext cx="29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ímid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5724360" y="3060720"/>
            <a:ext cx="364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pátic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2-01T10:38:21Z</dcterms:modified>
  <cp:revision>462</cp:revision>
  <dc:subject/>
  <dc:title>TITLE</dc:title>
</cp:coreProperties>
</file>