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C6C3-2337-47C3-813F-4B315C92B29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6160-3C16-4B6E-BA34-9C3BCF2A1F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829D-9815-4E4C-A5F5-6426CACF0C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C593-4C20-4FE7-94FB-72D9E2EB6D5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3EF-1168-4F2E-9E6E-02099207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E72C-08EF-4293-BA68-ACC642AA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2716-B0A8-4F17-BE8D-59D76CDE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231-5790-48A8-9C7D-D90BDC71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360D-7AA0-4CF2-8AEA-64B8B70A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D800-482B-498F-9078-1FDE2452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94DA-AFB2-4076-BE6D-DAA37195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A0B5-8448-41E0-8469-D87ED4EF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EEA4-0D50-4139-A5C0-ABDD4372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3A49-7FA3-47A0-93D7-64CDF5F3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2F2F-7F9F-4D14-B114-8B6E0C7E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058-CD0B-408A-B3E2-1C091EC7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30C0-3A6A-4BC8-92DC-F0D4F073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708F-AAB6-4281-8F3A-AB6AD629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33AF-05E6-47D8-95E8-DA2AA5AF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1E16-3DC5-45AB-8512-998D2154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5058-A460-41BD-B875-B8B28A68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A2DC0-A70C-421B-83EB-648DFA3F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F07A3-F69C-4B90-974B-BBC18581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2B4DA-F24E-4C9A-8705-64A5E013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B63A3-7998-422D-823E-9862C4B5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EA8AE-AF4E-42B8-A452-8C9DBB76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181-7160-473C-990E-4744C682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A729E-9772-40B3-91A4-39A7B7BF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E8F95-F997-4D80-B504-C4C350BF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2693-F7E7-493E-B503-9E58AC31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3F2BD-1CE6-4B5B-8026-C644F7A4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F3B0B-2528-4324-9C05-BD9459EA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479E2-F365-4FAB-A826-C51FDD61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10690-D320-46CE-B487-D0607613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1FF6-6C18-40E9-9E29-C5E0F87C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872-6F4E-43E6-BE78-044F0F5A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D52-4608-4270-AC02-0B231378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F75-E011-4A81-A563-FB19BD2D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869-E158-4F85-8510-253A9AA1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524-0D60-4EED-9AE3-97013150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9A05-DDD7-492C-9558-147F338D490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86C9-5E49-4C85-8C45-3898A3E953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63C3-70A4-4BC1-8448-29596B055C2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11240"/>
          <a:ext cx="8928000" cy="202248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853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mascu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emin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t su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16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</a:tr>
            </a:tbl>
          </a:graphicData>
        </a:graphic>
      </p:graphicFrame>
      <p:sp>
        <p:nvSpPr>
          <p:cNvPr id="132" name="TextBox 5"/>
          <p:cNvSpPr/>
          <p:nvPr/>
        </p:nvSpPr>
        <p:spPr>
          <a:xfrm>
            <a:off x="971640" y="2421000"/>
            <a:ext cx="352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amos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lan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gor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jóv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iej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4211640" y="2421000"/>
            <a:ext cx="4105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popul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nteresan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oni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gu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or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8000" y="111240"/>
          <a:ext cx="8928000" cy="414468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mascu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emin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t su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338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mos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v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ej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anc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rd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i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óv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pula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esant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nd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8000" y="111240"/>
          <a:ext cx="8928000" cy="414468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mascu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emin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t su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338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mos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v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ej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anc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rd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i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óv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pula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esant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nd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</a:tr>
            </a:tbl>
          </a:graphicData>
        </a:graphic>
      </p:graphicFrame>
      <p:sp>
        <p:nvSpPr>
          <p:cNvPr id="138" name="Arrow: Down 1"/>
          <p:cNvSpPr/>
          <p:nvPr/>
        </p:nvSpPr>
        <p:spPr>
          <a:xfrm>
            <a:off x="1258920" y="4437000"/>
            <a:ext cx="792000" cy="93672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0c8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50920" y="5373720"/>
            <a:ext cx="302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efinitely mascu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Arrow: Down 5"/>
          <p:cNvSpPr/>
          <p:nvPr/>
        </p:nvSpPr>
        <p:spPr>
          <a:xfrm>
            <a:off x="4280040" y="4408560"/>
            <a:ext cx="792000" cy="93672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0c8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3271680" y="5345280"/>
            <a:ext cx="30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efinitely femin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Arrow: Down 7"/>
          <p:cNvSpPr/>
          <p:nvPr/>
        </p:nvSpPr>
        <p:spPr>
          <a:xfrm>
            <a:off x="7159680" y="4411800"/>
            <a:ext cx="792000" cy="9363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00c8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6151680" y="5229360"/>
            <a:ext cx="30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both masculine and femin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29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250920" y="-171360"/>
            <a:ext cx="864216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I am lively (m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I am generous (f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I am not adventurous (f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I am not nervous (m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I am pleasant (f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I am not thoughtful (m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I am not selfish (m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I am smart (f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995640" y="4221000"/>
            <a:ext cx="5148360" cy="2608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250920" y="115920"/>
            <a:ext cx="8785080" cy="58546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agradable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2060"/>
                </a:solidFill>
                <a:latin typeface="Comic Sans MS"/>
              </a:rPr>
              <a:t>pleasant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aventurero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2060"/>
                </a:solidFill>
                <a:latin typeface="Comic Sans MS"/>
              </a:rPr>
              <a:t>adventurous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considerado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2060"/>
                </a:solidFill>
                <a:latin typeface="Comic Sans MS"/>
              </a:rPr>
              <a:t>thoughtful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egoísta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2060"/>
                </a:solidFill>
                <a:latin typeface="Comic Sans MS"/>
              </a:rPr>
              <a:t>selfish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elegante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2060"/>
                </a:solidFill>
                <a:latin typeface="Comic Sans MS"/>
              </a:rPr>
              <a:t>elegant, smart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generoso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2060"/>
                </a:solidFill>
                <a:latin typeface="Comic Sans MS"/>
              </a:rPr>
              <a:t>generous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nervioso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2060"/>
                </a:solidFill>
                <a:latin typeface="Comic Sans MS"/>
              </a:rPr>
              <a:t>nervous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vivaz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2060"/>
                </a:solidFill>
                <a:latin typeface="Comic Sans MS"/>
              </a:rPr>
              <a:t>lively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6829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250920" y="44280"/>
            <a:ext cx="633708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3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soy vivaz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soy genero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no soy aventure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no soy nervios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soy agradab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no soy considerad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no soy egoís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soy elegan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22-01-25T11:29:22Z</dcterms:modified>
  <cp:revision>453</cp:revision>
  <dc:subject/>
  <dc:title>TITLE</dc:title>
</cp:coreProperties>
</file>