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5ABF-3148-4872-9D61-9E6796CDE19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4FCF-AEE0-4265-8033-C2F293DA203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EFF7-F017-4CF8-BDC0-B6A9B0C0B2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B72C-D9A3-4EDA-B0E7-62E9470F8ED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E5D-B348-4431-8A0C-E9EE5863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0C84-FCE6-4D4B-8CBA-9CF40A1C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2CA-0135-4A78-A504-E8325C9E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C72-A472-4EED-A023-ECEBEA20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2F51-F0A9-4843-87D5-F5C22912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AE58-7AB0-4DE1-B328-9084811F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5162-8E3A-4318-ABEE-165875DA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1152-60D2-4A3E-A8BE-EDC94925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948E-C433-4CD2-8742-93C7FFDA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12E6-CE71-4A2E-9211-D81D2503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7F1C-B108-49F2-B71A-0E71E91A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E44-ABE4-4261-8FE9-5F436DBE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F9EA-171E-4182-9819-4CDCF10E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5447-4543-4E8C-9145-158174A3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81D7-A627-47BB-BA6C-352DA870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1879-2A23-45E7-9551-3E47223B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CF13-64F2-4D71-A933-18EE013B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15222-A5ED-43DE-A387-480D55B7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26BFA-A372-4F93-ACD4-07D6C8CA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B0C69-A302-4A33-A988-DCF7574B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37497-3866-45EF-904C-B63ED853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FFEA2-82CA-45C5-BD31-17808635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BE4-A17F-42D0-B5D5-35EE6E4A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7BF22-0C7B-407C-842C-5344B20C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D19EF-C797-4033-B329-7277C1EB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8052C-A23A-4D0A-8077-BC49D940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5600A-C8C5-4C14-9996-5C3E45C2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6CF73-7A65-4123-A195-C0C0B0F9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F979B-EC3B-4A02-8C19-7814E611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9194E-83DE-4D12-944B-001ABB71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BF4-DD30-44AF-A6E3-A51411FF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160-BA23-4AFF-9427-B9B8B5A2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3873-6B3A-48A9-A5BC-BDFC6C96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84B4-BDA8-4267-BE49-FE14C786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BE9-1EF7-4667-9FF7-2256BD3E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8CE-619B-4C80-B4D4-8975386A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104B-9E90-422C-B153-9C8C66F4DD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9350-5314-4299-BBA5-8229D18C86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5331-6A88-40A7-BE71-ECA0F8CFA32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11240"/>
          <a:ext cx="8928000" cy="202248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853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mascu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emin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t su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16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</a:tr>
            </a:tbl>
          </a:graphicData>
        </a:graphic>
      </p:graphicFrame>
      <p:sp>
        <p:nvSpPr>
          <p:cNvPr id="132" name="TextBox 5"/>
          <p:cNvSpPr/>
          <p:nvPr/>
        </p:nvSpPr>
        <p:spPr>
          <a:xfrm>
            <a:off x="971640" y="2421000"/>
            <a:ext cx="352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amos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lan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or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jóv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ie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4211640" y="2421000"/>
            <a:ext cx="4105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popul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nteresan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oni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u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or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8000" y="111240"/>
          <a:ext cx="8928000" cy="414468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mascu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emin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t su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338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mos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v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ej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anc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rd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i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óv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pula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esant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nd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8000" y="111240"/>
          <a:ext cx="8928000" cy="414468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mascu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emin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t su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338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mos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v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ej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anc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rd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i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óv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pula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esant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nd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9"/>
                    </a:solidFill>
                  </a:tcPr>
                </a:tc>
              </a:tr>
            </a:tbl>
          </a:graphicData>
        </a:graphic>
      </p:graphicFrame>
      <p:sp>
        <p:nvSpPr>
          <p:cNvPr id="138" name="Arrow: Down 1"/>
          <p:cNvSpPr/>
          <p:nvPr/>
        </p:nvSpPr>
        <p:spPr>
          <a:xfrm>
            <a:off x="1258920" y="4437000"/>
            <a:ext cx="792000" cy="93672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0c8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50920" y="5373720"/>
            <a:ext cx="302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efinitely mascu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Arrow: Down 5"/>
          <p:cNvSpPr/>
          <p:nvPr/>
        </p:nvSpPr>
        <p:spPr>
          <a:xfrm>
            <a:off x="4280040" y="4408560"/>
            <a:ext cx="792000" cy="93672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0c8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3271680" y="5345280"/>
            <a:ext cx="30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efinitely femin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Arrow: Down 7"/>
          <p:cNvSpPr/>
          <p:nvPr/>
        </p:nvSpPr>
        <p:spPr>
          <a:xfrm>
            <a:off x="7159680" y="4411800"/>
            <a:ext cx="792000" cy="9363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0c8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6151680" y="5229360"/>
            <a:ext cx="30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both masculine and femin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29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250920" y="-171360"/>
            <a:ext cx="864216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am lively (m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am generous (f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am not adventurous (f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am not nervous (m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am pleasant (f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am not thoughtful (m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am not selfish (m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am smart (f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995640" y="4221000"/>
            <a:ext cx="5148360" cy="2608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250920" y="115920"/>
            <a:ext cx="8785080" cy="58546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agradable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2060"/>
                </a:solidFill>
                <a:latin typeface="Comic Sans MS"/>
              </a:rPr>
              <a:t>pleasant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aventurero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2060"/>
                </a:solidFill>
                <a:latin typeface="Comic Sans MS"/>
              </a:rPr>
              <a:t>adventurous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considerado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2060"/>
                </a:solidFill>
                <a:latin typeface="Comic Sans MS"/>
              </a:rPr>
              <a:t>thoughtful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egoísta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2060"/>
                </a:solidFill>
                <a:latin typeface="Comic Sans MS"/>
              </a:rPr>
              <a:t>selfish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elegante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2060"/>
                </a:solidFill>
                <a:latin typeface="Comic Sans MS"/>
              </a:rPr>
              <a:t>elegant, smart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generoso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2060"/>
                </a:solidFill>
                <a:latin typeface="Comic Sans MS"/>
              </a:rPr>
              <a:t>generous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nervioso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2060"/>
                </a:solidFill>
                <a:latin typeface="Comic Sans MS"/>
              </a:rPr>
              <a:t>nervous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vivaz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200" spc="-1" strike="noStrike">
                <a:solidFill>
                  <a:srgbClr val="002060"/>
                </a:solidFill>
                <a:latin typeface="Comic Sans MS"/>
              </a:rPr>
              <a:t>lively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6829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250920" y="44280"/>
            <a:ext cx="633708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3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soy vivaz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soy genero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no soy aventure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no soy nervios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soy agrada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no soy considerad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no soy egoís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soy elega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22-01-25T11:29:22Z</dcterms:modified>
  <cp:revision>453</cp:revision>
  <dc:subject/>
  <dc:title>TITLE</dc:title>
</cp:coreProperties>
</file>