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D572-18EC-4C8E-A8DB-98CE07CAB7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2B8D-74B6-4E21-A2E8-BD81743A43F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96E7-860F-4781-A1FA-10E5D1F96C0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86A1-3EEB-493E-B0F0-450CC11B14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94DD-49DC-4866-AB2C-7CC07960E7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DEF6-A142-428B-93E1-8BBF32F8DF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C91D-6364-4834-AA64-C373587A71B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5B1B-A2B9-4D44-B665-333570FD3DD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A2E6-3D2B-483C-BEAA-56B50496DF7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DA5B-5521-4699-97EA-9A7D3CA0B45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D0E3-5728-4542-9E7F-6BC57D286B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587F-6133-4EE0-B54B-2D9B27473B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E984-D4FA-4369-BCC0-03650E8E07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AF66-DCA1-45B3-B2C6-B367D83076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BD2C-694D-4913-AE80-284DB46A0EB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CA3-F264-4CB8-A81A-F2E30524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1A4-2D53-4E61-AD37-26962CE1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0AB-D805-4E86-9EB4-6E86DAF3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BBD8-55E9-4818-BFA9-05DA6508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65CE-2F96-4AB3-BAC0-D498B82B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DF27-ADB8-4CF7-B790-441C62C6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631D-D859-416A-8AC3-00F6AA83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F9A8-F44B-4CF0-B289-4B413951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B3C3-5349-4864-A685-00C98D58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6B63-BCD6-46F0-9B92-9E66364B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D847-7CEF-4B4C-AFF9-46738519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E48E-EBDC-425F-BBDB-6F0C7120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E6B7-AC20-4070-AFA4-55097B0B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EB0D-8B1E-4ABC-911E-9A671D7C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2EFF-B219-4AB5-A0F8-A53DC853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0156-5DB1-4CD1-A57B-08800A60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F1AA-385A-45C1-96DD-BB74FCAD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6C2CF-C644-4DB5-AEF7-96EE6298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9291B-2843-490F-A50D-5EA232ED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C570E-5097-442F-8AB0-3E1DECED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D48EF-7011-4A5C-B125-3311139B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43D12-B057-4113-9D8F-968DECA1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4E88-5AF6-4320-B8FC-D25C3568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78341-80B0-467B-B12B-558B2F65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973A4-5976-4226-B6CC-C0F7404F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0B6EB-1508-4431-B8F9-C7E482AB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C1A08-960A-4F84-A8D3-70741D06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37D0C-20FD-4985-8DFD-19B8FB40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B5E8A-1168-499C-B9CA-39AF6A04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1657B-0578-47DC-8E24-117C1EFF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EE5-EAA2-47E6-9485-B66B3F46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773A-8675-4260-BEB1-152B7956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8D2-735E-4261-8917-3E0A4EED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A117-776D-40C8-9CD9-FF1782D2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1EF-2851-4206-B56C-AAA7D224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1A2-1D94-4228-BF6B-1D242AD7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357D-B895-4B99-924E-20193E3517F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B1D5-3540-4918-9E07-6793A9DFA5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66EF-BD56-4AA1-992B-A9A44FAE706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0" y="2349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ow much do you know about Spanish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249640" y="3879720"/>
            <a:ext cx="464472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8000" y="861840"/>
          <a:ext cx="8928000" cy="438948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essentially a mixture of Latin and Arab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alphabet has 27 let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Spanish there are 4 ways of saying “you”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9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8000" y="861840"/>
          <a:ext cx="8928000" cy="438948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essentially a mixture of Latin and Arab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alphabet has 27 let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Spanish there are 4 ways of saying “you”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62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8000" y="861840"/>
          <a:ext cx="8928000" cy="438948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essentially a mixture of Latin and Arab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alphabet has 27 let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Spanish there are 4 ways of saying “you”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65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8000" y="861840"/>
          <a:ext cx="8928000" cy="438948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essentially a mixture of Latin and Arab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alphabet has 27 let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Spanish there are 4 ways of saying “you”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68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484200" y="155412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ow many Spanish-speaking countries can you nam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Countdown - 6713.mp4" descr=""/>
          <p:cNvPicPr/>
          <p:nvPr/>
        </p:nvPicPr>
        <p:blipFill>
          <a:blip r:embed="rId1"/>
          <a:stretch/>
        </p:blipFill>
        <p:spPr>
          <a:xfrm>
            <a:off x="2077920" y="3000240"/>
            <a:ext cx="501984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861840"/>
          <a:ext cx="8928000" cy="51768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5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8000" y="861840"/>
          <a:ext cx="8928000" cy="146376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8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8000" y="861840"/>
          <a:ext cx="8928000" cy="240840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41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8000" y="861840"/>
          <a:ext cx="8928000" cy="335304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essentially a mixture of Latin and Arab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44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8000" y="861840"/>
          <a:ext cx="8928000" cy="387036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essentially a mixture of Latin and Arab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alphabet has 27 let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8000" y="861840"/>
          <a:ext cx="8928000" cy="438948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essentially a mixture of Latin and Arab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alphabet has 27 let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Spanish there are 4 ways of saying “you”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0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8000" y="861840"/>
          <a:ext cx="8928000" cy="438948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essentially a mixture of Latin and Arab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alphabet has 27 let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Spanish there are 4 ways of saying “you”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3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08000" y="861840"/>
          <a:ext cx="8928000" cy="438948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one of at least 4 languages spoken in Sp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spoken in Spain is also known as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tellano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essentially a mixture of Latin and Arab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panish alphabet has 27 let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Spanish there are 4 ways of saying “you”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6" name="TextBox 4"/>
          <p:cNvSpPr/>
          <p:nvPr/>
        </p:nvSpPr>
        <p:spPr>
          <a:xfrm>
            <a:off x="108000" y="4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57:02Z</dcterms:modified>
  <cp:revision>359</cp:revision>
  <dc:subject/>
  <dc:title>TITLE</dc:title>
</cp:coreProperties>
</file>