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CD70-2ECB-4C3B-8627-B4AC638A5E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4390-67BC-4ECF-82A2-AF8D4843484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22C3-175D-424F-8A83-E0BEE02588A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9E01-10D0-43CD-A8ED-7A14F733E3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DD0F-89B1-45B3-96F0-5BFDE657EB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F35F-398C-4357-8E75-837A6AE7F3D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C918-F168-41F5-B73C-A30F07F1D4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6D48-A015-4148-99DB-544669947EC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586E-8870-4771-A1F5-986F2392492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E9EE-9158-4F84-A2DF-6F737127F2E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CA68-6DE9-4960-99BD-6402059FEE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1CC7-50CF-4890-AD9A-EB00B16A93D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9803-F67B-414A-B532-C2BDB37F7A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01A6-D0E1-4BA8-988C-AABAB8FAE4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E273-56D8-465A-9255-8A5985AEBF8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2253-E67E-4F4B-9937-A4B04F26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A19-2087-40B5-B650-B5E0053B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670-A28D-4653-AAD5-C629116B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01D3-678E-44D9-929E-C1E39D66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9A02-F814-4A2C-AB3E-C70B27E2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B173-C183-4068-86F3-48DAC36A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2EBA-4387-4B07-BDC3-5960B5D0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374B-1733-449A-844E-036C9017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132F-8C08-4AC8-AA3C-2C736A54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53E4-48F1-46CB-83CB-B886FDFE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5EC1-19BE-4B44-99A1-B01497CE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B10-7C79-44E0-97A3-6F4FDAEC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F03B-1E18-4B49-A5C1-C5EC7BB0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D2E2-CA11-4D80-9E09-A78FC9C8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7FB7-5563-4A54-A63D-F1B2D3D6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4514-CDB7-43AC-B2F6-4AD2690A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1495-E65F-4BED-9250-657F4E9E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7BD9D-9647-41A9-92E9-662A5A2D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DBF9A-8E0A-4B9F-B975-110971ED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6B7B5-8D6F-4F1F-AB87-F04A78F8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78B0F-12C6-498A-9DFE-BEEACE06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83EA6-1EF7-464A-AD75-EB308C55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759-EF4E-4447-A216-2586D626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D16E3-EACB-4E64-B5F0-A8E4C17B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F7B9F-8248-4057-84A1-7F18BE82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C9176-3145-4EB2-916F-7450CB07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CE286-CC13-4972-9CC9-85B7562D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F9439-1462-42E2-841F-0FDC1A36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67B23-3154-4651-99E2-F70D370D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FD2B6-E20E-4576-8584-5BD565D4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712-EDE9-450B-8C54-EA729007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06D5-527A-4FB9-89C1-7FFF399B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3F7A-734C-45C3-8036-1A669A66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FE6A-63E0-4C37-AB8F-6AC62EF3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381A-78F4-47A6-A67D-89732FDC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871E-A86D-491C-A1CC-3E8F04AC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39F0-E952-4351-AB3C-B8B37EE2EC4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E245-4288-4160-B9E3-E6DCC44FAF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EDCD-070C-46E9-AC93-5E8A658FF2F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0" y="2349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ow much do you know about Spanish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249640" y="3879720"/>
            <a:ext cx="464472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8000" y="861840"/>
          <a:ext cx="8928000" cy="438948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spoken in Spain is also known as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tellan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essentially a mixture of Latin and Arabi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alphabet has 27 let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Spanish there are 4 ways of saying “you”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59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8000" y="861840"/>
          <a:ext cx="8928000" cy="438948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spoken in Spain is also known as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tellan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essentially a mixture of Latin and Arabi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alphabet has 27 let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Spanish there are 4 ways of saying “you”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62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8000" y="861840"/>
          <a:ext cx="8928000" cy="438948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spoken in Spain is also known as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tellan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essentially a mixture of Latin and Arabi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alphabet has 27 let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Spanish there are 4 ways of saying “you”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65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08000" y="861840"/>
          <a:ext cx="8928000" cy="438948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spoken in Spain is also known as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tellan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essentially a mixture of Latin and Arabi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alphabet has 27 let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Spanish there are 4 ways of saying “you”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68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484200" y="1554120"/>
            <a:ext cx="82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ow many Spanish-speaking countries can you nam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Countdown - 6713.mp4" descr=""/>
          <p:cNvPicPr/>
          <p:nvPr/>
        </p:nvPicPr>
        <p:blipFill>
          <a:blip r:embed="rId1"/>
          <a:stretch/>
        </p:blipFill>
        <p:spPr>
          <a:xfrm>
            <a:off x="2077920" y="3000240"/>
            <a:ext cx="501984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861840"/>
          <a:ext cx="8928000" cy="51768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5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8000" y="861840"/>
          <a:ext cx="8928000" cy="146376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8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8000" y="861840"/>
          <a:ext cx="8928000" cy="240840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spoken in Spain is also known as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tellan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41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8000" y="861840"/>
          <a:ext cx="8928000" cy="335304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spoken in Spain is also known as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tellan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essentially a mixture of Latin and Arabi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44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8000" y="861840"/>
          <a:ext cx="8928000" cy="387036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spoken in Spain is also known as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tellan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essentially a mixture of Latin and Arabi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alphabet has 27 let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08000" y="861840"/>
          <a:ext cx="8928000" cy="438948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spoken in Spain is also known as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tellan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essentially a mixture of Latin and Arabi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alphabet has 27 let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Spanish there are 4 ways of saying “you”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50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8000" y="861840"/>
          <a:ext cx="8928000" cy="438948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spoken in Spain is also known as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tellan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essentially a mixture of Latin and Arabi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alphabet has 27 let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Spanish there are 4 ways of saying “you”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53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08000" y="861840"/>
          <a:ext cx="8928000" cy="438948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spoken in Spain is also known as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tellan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essentially a mixture of Latin and Arabi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alphabet has 27 let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Spanish there are 4 ways of saying “you”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56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57:02Z</dcterms:modified>
  <cp:revision>359</cp:revision>
  <dc:subject/>
  <dc:title>TITLE</dc:title>
</cp:coreProperties>
</file>