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4980-CF3B-47BA-BD84-E15A545ADB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26D6-CCA9-44F9-ADAF-02B0254B5D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576A-3606-4D1F-A182-D3487A6D2A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D6A4-5782-46C4-80A4-E331135F7AA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2F44-6D74-418A-8A8C-0FBC0C50CF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408C-9059-49A6-88D8-6F3AEFEC0C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851-17B3-4682-AFA1-78D09F72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484-E2F3-4357-82DA-F3713942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6B0-39ED-4FFF-8F25-D6A45C8D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FA9-3E8C-4A2D-A6F0-B34D88EA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A80-EB90-430E-A252-C52BACC3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BE7-E456-4574-9E3C-920CD6D1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C5F-289D-48C7-9ECC-C39EA8EB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F78-3296-4053-AF37-86120298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8717-1FD8-4599-B497-2B9E46D9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CE76-EBCD-4117-A1B0-A8725804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F229-E559-4FF8-BB68-9F445762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9AC9-6EEE-422E-9DF9-2FC16C57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BDC4-A7AA-4694-9CD1-BD562AA1A8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¿ Cuántos años tiene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1800" y="1197000"/>
            <a:ext cx="15876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651640" y="3573360"/>
            <a:ext cx="144756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51280" y="119700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195640" y="3573360"/>
            <a:ext cx="144756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7236000" y="1197000"/>
            <a:ext cx="1447560" cy="1828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3068640"/>
            <a:ext cx="187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v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9 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3141720"/>
            <a:ext cx="20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elén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11 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20000" y="3141720"/>
            <a:ext cx="187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uis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6 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5425920"/>
            <a:ext cx="187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Felipe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8 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542592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aco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12 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203640" cy="4157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64000" y="33336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¿ Cuántos años tiene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637000"/>
            <a:ext cx="2376720" cy="2808000"/>
          </a:xfrm>
          <a:prstGeom prst="wedgeRoundRectCallout">
            <a:avLst>
              <a:gd name="adj1" fmla="val -105175"/>
              <a:gd name="adj2" fmla="val -7037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2852640"/>
            <a:ext cx="1655640" cy="23799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33336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¿ Cuántos años tiene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2637000"/>
            <a:ext cx="2376720" cy="2808000"/>
          </a:xfrm>
          <a:prstGeom prst="wedgeRoundRectCallout">
            <a:avLst>
              <a:gd name="adj1" fmla="val -105175"/>
              <a:gd name="adj2" fmla="val -7037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5640" y="2852640"/>
            <a:ext cx="1655640" cy="23799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02436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64000" y="33336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¿ Cuántos años tiene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2637000"/>
            <a:ext cx="2951280" cy="2808000"/>
          </a:xfrm>
          <a:prstGeom prst="wedgeRoundRectCallout">
            <a:avLst>
              <a:gd name="adj1" fmla="val -94430"/>
              <a:gd name="adj2" fmla="val -7037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2852640"/>
            <a:ext cx="2592360" cy="23799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28782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64000" y="33336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¿ Cuántos años tiene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2637000"/>
            <a:ext cx="2376720" cy="2808000"/>
          </a:xfrm>
          <a:prstGeom prst="wedgeRoundRectCallout">
            <a:avLst>
              <a:gd name="adj1" fmla="val -105175"/>
              <a:gd name="adj2" fmla="val -7037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35640" y="2852640"/>
            <a:ext cx="1655640" cy="23799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8360" y="2889360"/>
            <a:ext cx="359892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12-01T15:25:54Z</dcterms:modified>
  <cp:revision>110</cp:revision>
  <dc:subject/>
  <dc:title>TITLE</dc:title>
</cp:coreProperties>
</file>