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26B7-EBFF-4365-8540-1C79FF5337F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B542-CA0F-4602-8152-8B825E7B02B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1A69-581B-489C-B002-0E6D7C8E06F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E4C0-A2B8-4544-9072-2DF2D587819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A987-7F7B-466E-8951-090C6B3875C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4B0B-56EA-400C-8951-CABA832FDDB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F5A0-983E-4BC6-82AF-DEDD1FAD1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3ADD-C0AE-4835-81E1-F6BB7F7F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7A74-3EF4-4114-926F-2055CE30D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FD18-7597-462E-9E11-6E3BFB86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AE58-D4AE-4422-967B-74BDE181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BB1A-9C2D-4614-95A2-FC66B0A3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D7F9-29BE-4BB1-8451-D5E9D595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768D-A96C-4D8D-8EEA-CE8876B9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DCAC-2C3C-4C3E-9DD5-0B9F8303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5B8F-79EB-450A-94AA-378763C7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5F8C-2FD2-4CE4-A496-752C857F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92D7-28E2-4788-A778-85CF17D4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885A-DE04-418A-BC0D-931EEEC154D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¿ Cuántos años tienes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61800" y="1197000"/>
            <a:ext cx="158760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651640" y="3573360"/>
            <a:ext cx="1447560" cy="1828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851280" y="1197000"/>
            <a:ext cx="1447920" cy="1828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2195640" y="3573360"/>
            <a:ext cx="144756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7236000" y="1197000"/>
            <a:ext cx="1447560" cy="1828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3068640"/>
            <a:ext cx="187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Ev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9 añ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35280" y="3141720"/>
            <a:ext cx="201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Belén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11 añ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20000" y="3141720"/>
            <a:ext cx="187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uis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6 añ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5425920"/>
            <a:ext cx="187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Felipe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8 añ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19640" y="542592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Paco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12 añ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3203640" cy="4157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564000" y="333360"/>
            <a:ext cx="50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¿ Cuántos años tienes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637000"/>
            <a:ext cx="2376720" cy="2808000"/>
          </a:xfrm>
          <a:prstGeom prst="wedgeRoundRectCallout">
            <a:avLst>
              <a:gd name="adj1" fmla="val -105175"/>
              <a:gd name="adj2" fmla="val -7037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35640" y="2852640"/>
            <a:ext cx="1655640" cy="23799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64000" y="333360"/>
            <a:ext cx="50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¿ Cuántos años tienes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76720" y="2637000"/>
            <a:ext cx="2376720" cy="2808000"/>
          </a:xfrm>
          <a:prstGeom prst="wedgeRoundRectCallout">
            <a:avLst>
              <a:gd name="adj1" fmla="val -105175"/>
              <a:gd name="adj2" fmla="val -7037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35640" y="2852640"/>
            <a:ext cx="1655640" cy="23799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95280" y="2565360"/>
            <a:ext cx="3024360" cy="39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64000" y="333360"/>
            <a:ext cx="50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¿ Cuántos años tienes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76720" y="2637000"/>
            <a:ext cx="2951280" cy="2808000"/>
          </a:xfrm>
          <a:prstGeom prst="wedgeRoundRectCallout">
            <a:avLst>
              <a:gd name="adj1" fmla="val -94430"/>
              <a:gd name="adj2" fmla="val -7037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19640" y="2852640"/>
            <a:ext cx="2592360" cy="23799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55640" y="2637000"/>
            <a:ext cx="287820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64000" y="333360"/>
            <a:ext cx="50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¿ Cuántos años tienes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720" y="2637000"/>
            <a:ext cx="2376720" cy="2808000"/>
          </a:xfrm>
          <a:prstGeom prst="wedgeRoundRectCallout">
            <a:avLst>
              <a:gd name="adj1" fmla="val -105175"/>
              <a:gd name="adj2" fmla="val -7037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35640" y="2852640"/>
            <a:ext cx="1655640" cy="23799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68360" y="2889360"/>
            <a:ext cx="359892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P.Seccombe</cp:lastModifiedBy>
  <dcterms:modified xsi:type="dcterms:W3CDTF">2009-12-01T15:25:54Z</dcterms:modified>
  <cp:revision>110</cp:revision>
  <dc:subject/>
  <dc:title>TITLE</dc:title>
</cp:coreProperties>
</file>