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FC2A-1D77-4E89-A714-814838C1597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48EC-1822-4D15-A0A2-0C1B1F0B316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E113-2B47-47D1-AA67-89FB8A59F02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E9A5-F902-4E6F-A93C-BF10DC1B9DF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C5DA-BF6F-4E28-B11A-A9C385CE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B919-F751-4995-AB01-A1CA29EA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35BA-866D-4B23-B22D-7F55E480A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AF33-CB9F-461D-8474-38CF39A1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0FD5-6CA0-45E6-A0A3-34DE8F7C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7CF6-4DCF-4D02-9750-FB96CC12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6FA4-838C-464A-83A0-C1113DAA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F04D-C6F3-4071-9DEB-1C0051D7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2013-390D-48E8-9334-FAA51FD3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7A51-238F-47E8-9F59-D76C961E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1052-F8EE-4839-A2FD-40C34632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3D29-3D5B-4110-A1DF-38474689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3BCE-42DE-4B3A-8CC2-C1397CFC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BE24-74C6-4E73-9EC2-E016E6BC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489A-2EB8-4AC6-BB16-20804EC0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2B58-BD1C-4D80-8367-A85D17BA1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BF5D-BAE5-4D90-8FE1-D3B94A76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C3F4D-5722-4361-8884-DDCF0B76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FBB31-6248-4CE9-80EC-0FFCABDC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4EF22-280D-4FAA-80EF-69F3CA33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B228D-976A-40D7-874C-45614EF8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91B79-F4D5-49FC-A4C4-AF587079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DE54-1A42-45BF-AD24-8B00DCFA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73D19-5B66-420C-849E-CEC6239E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6841B-40DB-4277-B489-8CAFF096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0922B-FCBF-422F-B7FB-B2321545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B4F6A-80F2-4A11-BFF6-4B5739B4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6DEE3-D73E-417A-B494-974DB74A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024EE-04E1-4DF8-A4B1-C408179A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ED54A-4FBF-4B46-B186-B47867E6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724C-B51A-44C8-86D0-86EA69F6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45C6-632E-4750-BCC0-5F4C41F5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48C6-B6EE-4D2F-8AE3-F223BCB0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2A60-FD98-4F46-9260-F4F111CC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8499-A93E-4959-A8FF-C9EBA9B2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E84A-7165-426E-92C8-958391FC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6122-2BC9-4F6E-8437-B8849FD5F99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92FF-5971-4C8B-90DC-1DC3C240A2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AE47-02CD-4D41-B878-FB99C611C33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4000" y="1700280"/>
          <a:ext cx="8496000" cy="2044800"/>
        </p:xfrm>
        <a:graphic>
          <a:graphicData uri="http://schemas.openxmlformats.org/drawingml/2006/table">
            <a:tbl>
              <a:tblPr/>
              <a:tblGrid>
                <a:gridCol w="2663640"/>
                <a:gridCol w="2087640"/>
                <a:gridCol w="1795320"/>
                <a:gridCol w="1949400"/>
              </a:tblGrid>
              <a:tr h="764280"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/ a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th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64280"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scul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e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64280"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min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un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 l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2"/>
          <p:cNvSpPr/>
          <p:nvPr/>
        </p:nvSpPr>
        <p:spPr>
          <a:xfrm>
            <a:off x="179280" y="1657440"/>
            <a:ext cx="2772000" cy="691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24000" y="1700280"/>
          <a:ext cx="8496000" cy="2044800"/>
        </p:xfrm>
        <a:graphic>
          <a:graphicData uri="http://schemas.openxmlformats.org/drawingml/2006/table">
            <a:tbl>
              <a:tblPr/>
              <a:tblGrid>
                <a:gridCol w="2663640"/>
                <a:gridCol w="2087640"/>
                <a:gridCol w="1795320"/>
                <a:gridCol w="1949400"/>
              </a:tblGrid>
              <a:tr h="681840"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/ a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th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81840"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scul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e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81840"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min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un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 l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35" name="Rectangle 2"/>
          <p:cNvSpPr/>
          <p:nvPr/>
        </p:nvSpPr>
        <p:spPr>
          <a:xfrm>
            <a:off x="179280" y="1657440"/>
            <a:ext cx="2772000" cy="691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324000" y="3716280"/>
            <a:ext cx="8496000" cy="30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1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Voy ___ parque en bici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1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Voy ___ piscina en coch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1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Voy ___ iglesia en tre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1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Voy ___ banco a pi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24000" y="1700280"/>
          <a:ext cx="8496000" cy="2044800"/>
        </p:xfrm>
        <a:graphic>
          <a:graphicData uri="http://schemas.openxmlformats.org/drawingml/2006/table">
            <a:tbl>
              <a:tblPr/>
              <a:tblGrid>
                <a:gridCol w="2663640"/>
                <a:gridCol w="2087640"/>
                <a:gridCol w="1795320"/>
                <a:gridCol w="1949400"/>
              </a:tblGrid>
              <a:tr h="681840"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/ a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th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81840"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scul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e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81840"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min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un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 l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39" name="Rectangle 2"/>
          <p:cNvSpPr/>
          <p:nvPr/>
        </p:nvSpPr>
        <p:spPr>
          <a:xfrm>
            <a:off x="179280" y="1657440"/>
            <a:ext cx="2772000" cy="691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324000" y="3716280"/>
            <a:ext cx="8496000" cy="30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1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Voy ___ parque en bici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1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Voy ___ piscina en coch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1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Voy ___ iglesia en tre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1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Voy ___ banco a pi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2482920" y="37162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2484360" y="5950080"/>
            <a:ext cx="9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2247840" y="4460760"/>
            <a:ext cx="108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ff"/>
                </a:solidFill>
                <a:latin typeface="Comic Sans MS"/>
              </a:rPr>
              <a:t>a 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Box 10"/>
          <p:cNvSpPr/>
          <p:nvPr/>
        </p:nvSpPr>
        <p:spPr>
          <a:xfrm>
            <a:off x="2247840" y="5180040"/>
            <a:ext cx="108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ff"/>
                </a:solidFill>
                <a:latin typeface="Comic Sans MS"/>
              </a:rPr>
              <a:t>a 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4:47:52Z</dcterms:modified>
  <cp:revision>316</cp:revision>
  <dc:subject/>
  <dc:title>TITLE</dc:title>
</cp:coreProperties>
</file>