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0D22-A741-400F-A3AF-D673B14B17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D59A-CEBE-49F9-8A02-CDA4E175B8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B083-059B-44BD-904B-FDA9D61E66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FAE9-629F-49EB-8805-A51D46C11B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926-849E-45C2-9FC5-374B2E4C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411-70B5-4641-B7F6-896B86C9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5BE-B3EF-4A6B-B3F6-24FC1E25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197-F995-4C84-9D6A-B3952F8E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40DB-51D9-43B9-A972-0C6853E1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1E55-8F82-4FED-9D07-DEC62541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5A5D-3005-4961-9D05-EF4358F5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418D-0257-4BFE-BAC0-5E80D3EB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C9E8-2C26-4BEF-81F8-E6D3CDA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A4D7-4348-4825-8354-058543BE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BBF0-757B-4989-9398-525B1D0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005-2CBE-4E77-889F-1A45EA8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0920-DC1D-4F8C-8390-5032BC94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4508-668B-4415-A086-657CC79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525E-194F-4150-B535-9BAAA08E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CFB2-40F7-4F57-B076-A97C139B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E486-04E2-483A-86FD-B1F82447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F2E2-7249-405B-9F16-D3D3A71D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051D-1D3F-4207-BB7C-5B822F4A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CA64-0E0B-491C-9D1A-E342E5DD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3745-529F-4926-B8C9-B17479E7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D812-96E6-4212-B853-470F63BA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C70-1AC1-42E8-B8FA-CD1F3E80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045E-7C26-414B-977A-E964510E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3F31-9C8C-4F0E-AB92-3065111D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CA69-B042-4FE3-98DD-07907DA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BA72-99CE-4D10-8489-7D539C0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E3F3E-8893-438E-AA6A-7956DECB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E3A2-95C9-4508-B45F-48AD4047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7944-4341-4A86-B3D2-19133526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C9D-36D5-4959-877F-DD1F4B54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C5D-0D7A-4386-9C20-B539357B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252-0182-4EE1-BA51-333AFE4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5A4-B470-4926-B16F-23F70E33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492-62DB-4CA7-A3DB-A45FC5F0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54F-7753-4AB9-8EE4-5A74B1BD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A16-B799-4CCE-9518-2942BDD6A1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7D5E-34AD-4B68-9BD2-47525AECEC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1B9C-EDE8-4F7F-98BF-C35CA85AFAB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700280"/>
          <a:ext cx="8496000" cy="2044800"/>
        </p:xfrm>
        <a:graphic>
          <a:graphicData uri="http://schemas.openxmlformats.org/drawingml/2006/table">
            <a:tbl>
              <a:tblPr/>
              <a:tblGrid>
                <a:gridCol w="2663640"/>
                <a:gridCol w="2087640"/>
                <a:gridCol w="1795320"/>
                <a:gridCol w="1949400"/>
              </a:tblGrid>
              <a:tr h="76428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6428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6428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2"/>
          <p:cNvSpPr/>
          <p:nvPr/>
        </p:nvSpPr>
        <p:spPr>
          <a:xfrm>
            <a:off x="179280" y="1657440"/>
            <a:ext cx="2772000" cy="691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700280"/>
          <a:ext cx="8496000" cy="2044800"/>
        </p:xfrm>
        <a:graphic>
          <a:graphicData uri="http://schemas.openxmlformats.org/drawingml/2006/table">
            <a:tbl>
              <a:tblPr/>
              <a:tblGrid>
                <a:gridCol w="2663640"/>
                <a:gridCol w="2087640"/>
                <a:gridCol w="1795320"/>
                <a:gridCol w="1949400"/>
              </a:tblGrid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2"/>
          <p:cNvSpPr/>
          <p:nvPr/>
        </p:nvSpPr>
        <p:spPr>
          <a:xfrm>
            <a:off x="179280" y="1657440"/>
            <a:ext cx="2772000" cy="691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24000" y="3716280"/>
            <a:ext cx="84960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parque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piscina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iglesia en tr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banco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1700280"/>
          <a:ext cx="8496000" cy="2044800"/>
        </p:xfrm>
        <a:graphic>
          <a:graphicData uri="http://schemas.openxmlformats.org/drawingml/2006/table">
            <a:tbl>
              <a:tblPr/>
              <a:tblGrid>
                <a:gridCol w="2663640"/>
                <a:gridCol w="2087640"/>
                <a:gridCol w="1795320"/>
                <a:gridCol w="1949400"/>
              </a:tblGrid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81840"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2"/>
          <p:cNvSpPr/>
          <p:nvPr/>
        </p:nvSpPr>
        <p:spPr>
          <a:xfrm>
            <a:off x="179280" y="1657440"/>
            <a:ext cx="2772000" cy="691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24000" y="3716280"/>
            <a:ext cx="84960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parque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piscina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iglesia en tr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1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___ banco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482920" y="3716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484360" y="595008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247840" y="4460760"/>
            <a:ext cx="108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2247840" y="5180040"/>
            <a:ext cx="108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47:52Z</dcterms:modified>
  <cp:revision>316</cp:revision>
  <dc:subject/>
  <dc:title>TITLE</dc:title>
</cp:coreProperties>
</file>