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BC2C-C4FF-4505-ABD8-E781F630D81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8719-5E0A-4DD9-9EEC-18676C0650E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9836-EEA6-4C44-A9E2-789F30ECDA5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0DF4-0818-4C70-B6D6-BF376B5A8D6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476F-FDC5-4A25-9DDB-16B22D93C3B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37A4-A42C-41CD-9FF5-24F70A7105B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AB99-4FA4-404B-BEEE-88821421937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AE94-1B6B-411B-B852-153D3DBB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A07F-B861-4919-B27A-EAE783BA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A767-E146-43BA-9528-F67B049E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A1EB-EBD7-46D9-9104-A7AB6D9D3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6C7B-306C-46DE-AF1B-21389EEA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AE65-B57F-4FBD-98AC-EED860A4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461F-C9A0-4350-A5FD-F6C29F5E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3FD2-0DDB-4099-88F9-5E5E43D4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B6BD-116E-41FA-AE71-5CE696D7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0AAC-6A08-48E7-9720-4B3D8E7A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C914-7EB8-4BC5-B16F-D1CAFE47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ECD7-076D-4DFD-816C-8C283238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7CCD-FBCC-4417-A0A7-F0405828A2D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340000" y="198900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vocales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042920" y="3645000"/>
            <a:ext cx="7274160" cy="13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Comic Sans MS"/>
              </a:rPr>
              <a:t>a e i o u</a:t>
            </a:r>
            <a:endParaRPr b="1" lang="en-US" sz="4400" spc="1" strike="noStrike">
              <a:ln w="1908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7885080" y="6093000"/>
            <a:ext cx="125892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4140360" y="58680"/>
            <a:ext cx="47527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Anclas cla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Patanclas cla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Azalas la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A blancas ca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Ancla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Patancla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Azala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A blanca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1620720" cy="2563920"/>
          </a:xfrm>
          <a:prstGeom prst="rect">
            <a:avLst/>
          </a:prstGeom>
          <a:ln w="0">
            <a:noFill/>
          </a:ln>
        </p:spPr>
      </p:pic>
      <p:sp>
        <p:nvSpPr>
          <p:cNvPr id="54" name="WordArt 5"/>
          <p:cNvSpPr txBox="1"/>
          <p:nvPr/>
        </p:nvSpPr>
        <p:spPr>
          <a:xfrm>
            <a:off x="1332000" y="4941720"/>
            <a:ext cx="1152360" cy="139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Comic Sans MS"/>
              </a:rPr>
              <a:t>a</a:t>
            </a:r>
            <a:endParaRPr b="1" lang="en-US" sz="4400" spc="1" strike="noStrike">
              <a:ln w="1908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7885080" y="6093000"/>
            <a:ext cx="125892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140360" y="58680"/>
            <a:ext cx="475272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Encles cle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Petencles cle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Eceles le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E blenques que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Encle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Petencle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Ecele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E blenque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1620720" cy="2563920"/>
          </a:xfrm>
          <a:prstGeom prst="rect">
            <a:avLst/>
          </a:prstGeom>
          <a:ln w="0">
            <a:noFill/>
          </a:ln>
        </p:spPr>
      </p:pic>
      <p:sp>
        <p:nvSpPr>
          <p:cNvPr id="58" name="WordArt 5"/>
          <p:cNvSpPr txBox="1"/>
          <p:nvPr/>
        </p:nvSpPr>
        <p:spPr>
          <a:xfrm>
            <a:off x="1332000" y="4941720"/>
            <a:ext cx="1152360" cy="139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Comic Sans MS"/>
              </a:rPr>
              <a:t>e</a:t>
            </a:r>
            <a:endParaRPr b="1" lang="en-US" sz="4400" spc="1" strike="noStrike">
              <a:ln w="1908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7885080" y="6093000"/>
            <a:ext cx="125892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4140360" y="58680"/>
            <a:ext cx="47527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Inclis cli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Pitinclis cli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Icilis li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I blinquis qui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Incli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Pitincli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Icili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I blinqui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1620720" cy="2563920"/>
          </a:xfrm>
          <a:prstGeom prst="rect">
            <a:avLst/>
          </a:prstGeom>
          <a:ln w="0">
            <a:noFill/>
          </a:ln>
        </p:spPr>
      </p:pic>
      <p:sp>
        <p:nvSpPr>
          <p:cNvPr id="62" name="WordArt 5"/>
          <p:cNvSpPr txBox="1"/>
          <p:nvPr/>
        </p:nvSpPr>
        <p:spPr>
          <a:xfrm>
            <a:off x="1835280" y="4941720"/>
            <a:ext cx="431640" cy="139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Comic Sans MS"/>
              </a:rPr>
              <a:t>i</a:t>
            </a:r>
            <a:endParaRPr b="1" lang="en-US" sz="4400" spc="1" strike="noStrike">
              <a:ln w="1908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7885080" y="6093000"/>
            <a:ext cx="125892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140360" y="58680"/>
            <a:ext cx="47527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Onclos clo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Potonclos clo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Ozolos lo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O bloncos co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Onclo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Potonclo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Ozolo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O blonco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1620720" cy="2563920"/>
          </a:xfrm>
          <a:prstGeom prst="rect">
            <a:avLst/>
          </a:prstGeom>
          <a:ln w="0">
            <a:noFill/>
          </a:ln>
        </p:spPr>
      </p:pic>
      <p:sp>
        <p:nvSpPr>
          <p:cNvPr id="66" name="WordArt 5"/>
          <p:cNvSpPr txBox="1"/>
          <p:nvPr/>
        </p:nvSpPr>
        <p:spPr>
          <a:xfrm>
            <a:off x="1332000" y="4941720"/>
            <a:ext cx="1152360" cy="139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Comic Sans MS"/>
              </a:rPr>
              <a:t>o</a:t>
            </a:r>
            <a:endParaRPr b="1" lang="en-US" sz="4400" spc="1" strike="noStrike">
              <a:ln w="1908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7885080" y="6093000"/>
            <a:ext cx="125892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4140360" y="58680"/>
            <a:ext cx="47527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Unclus clu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Putunclus clu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Uzulus lu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U bluncus cu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Unclu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Putunclu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Uzulu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U bluncu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1620720" cy="2563920"/>
          </a:xfrm>
          <a:prstGeom prst="rect">
            <a:avLst/>
          </a:prstGeom>
          <a:ln w="0">
            <a:noFill/>
          </a:ln>
        </p:spPr>
      </p:pic>
      <p:sp>
        <p:nvSpPr>
          <p:cNvPr id="70" name="WordArt 5"/>
          <p:cNvSpPr txBox="1"/>
          <p:nvPr/>
        </p:nvSpPr>
        <p:spPr>
          <a:xfrm>
            <a:off x="1332000" y="4941720"/>
            <a:ext cx="1152360" cy="139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Comic Sans MS"/>
              </a:rPr>
              <a:t>u</a:t>
            </a:r>
            <a:endParaRPr b="1" lang="en-US" sz="4400" spc="1" strike="noStrike">
              <a:ln w="1908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4-01-10T09:44:40Z</dcterms:modified>
  <cp:revision>108</cp:revision>
  <dc:subject/>
  <dc:title>TITLE</dc:title>
</cp:coreProperties>
</file>