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BEFC-2F8F-47BF-B4AD-EA52FE5230E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95E1-7323-43C0-861D-44CE31EBEE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3EBA-AA9B-4E6F-AC43-02CE5DAE15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2A86-54B5-4FE8-B39C-725338DFEB9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2217-89FE-40FE-8259-A9473E229C2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076D-2204-49E9-99B2-4A717F5A69A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0B3B-497D-424A-BDDF-B7A40A24C6F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5BBE-4674-4462-B3DD-5D8B0FC7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AF11-DDF1-495C-9528-A5747589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955-EBEB-4208-B7DC-2F1A97EE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1CB-1042-4EDB-B28E-EA6872B3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C8CE-79A2-4B03-9BC5-12569286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5116-73E4-4931-BDA5-BB7883F5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A55-2788-41F1-9B26-3F97EF38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406-7B31-4604-9BAF-63296543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CF5-F9AD-443D-B5B3-C4E9CB5A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3E8-316E-4109-8019-CC696AF6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38A-D882-4497-A8A3-77348CC7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CBB8-FE97-47DA-82E7-7F4A2C08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F125-3272-4FC6-AB3A-67ED3D368A9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340000" y="198900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vocale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042920" y="3645000"/>
            <a:ext cx="727416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Comic Sans MS"/>
              </a:rPr>
              <a:t>a e i o u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885080" y="6093000"/>
            <a:ext cx="125892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140360" y="58680"/>
            <a:ext cx="4752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Anclas cla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Patanclas cla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Azalas la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A blancas ca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Ancla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Patancla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Azala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A blanca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1620720" cy="2563920"/>
          </a:xfrm>
          <a:prstGeom prst="rect">
            <a:avLst/>
          </a:prstGeom>
          <a:ln w="0">
            <a:noFill/>
          </a:ln>
        </p:spPr>
      </p:pic>
      <p:sp>
        <p:nvSpPr>
          <p:cNvPr id="54" name="WordArt 5"/>
          <p:cNvSpPr txBox="1"/>
          <p:nvPr/>
        </p:nvSpPr>
        <p:spPr>
          <a:xfrm>
            <a:off x="1332000" y="4941720"/>
            <a:ext cx="1152360" cy="139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Comic Sans MS"/>
              </a:rPr>
              <a:t>a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7885080" y="6093000"/>
            <a:ext cx="125892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140360" y="58680"/>
            <a:ext cx="47527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Encles cle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Petencles cle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Eceles le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E blenques qu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Encle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Petencle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Ecel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E blenqu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1620720" cy="2563920"/>
          </a:xfrm>
          <a:prstGeom prst="rect">
            <a:avLst/>
          </a:prstGeom>
          <a:ln w="0">
            <a:noFill/>
          </a:ln>
        </p:spPr>
      </p:pic>
      <p:sp>
        <p:nvSpPr>
          <p:cNvPr id="58" name="WordArt 5"/>
          <p:cNvSpPr txBox="1"/>
          <p:nvPr/>
        </p:nvSpPr>
        <p:spPr>
          <a:xfrm>
            <a:off x="1332000" y="4941720"/>
            <a:ext cx="1152360" cy="139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Comic Sans MS"/>
              </a:rPr>
              <a:t>e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7885080" y="6093000"/>
            <a:ext cx="125892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140360" y="58680"/>
            <a:ext cx="4752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Inclis cli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Pitinclis cli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Icilis li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I blinquis qui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Incli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Pitincli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Icili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I blinqui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1620720" cy="2563920"/>
          </a:xfrm>
          <a:prstGeom prst="rect">
            <a:avLst/>
          </a:prstGeom>
          <a:ln w="0">
            <a:noFill/>
          </a:ln>
        </p:spPr>
      </p:pic>
      <p:sp>
        <p:nvSpPr>
          <p:cNvPr id="62" name="WordArt 5"/>
          <p:cNvSpPr txBox="1"/>
          <p:nvPr/>
        </p:nvSpPr>
        <p:spPr>
          <a:xfrm>
            <a:off x="1835280" y="4941720"/>
            <a:ext cx="431640" cy="139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Comic Sans MS"/>
              </a:rPr>
              <a:t>i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885080" y="6093000"/>
            <a:ext cx="125892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140360" y="58680"/>
            <a:ext cx="4752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Onclos clo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Potonclos clo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Ozolos lo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O bloncos co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Onclo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Potonclo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Ozolo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O blonco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1620720" cy="256392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1332000" y="4941720"/>
            <a:ext cx="1152360" cy="139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Comic Sans MS"/>
              </a:rPr>
              <a:t>o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7885080" y="6093000"/>
            <a:ext cx="1258920" cy="765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140360" y="58680"/>
            <a:ext cx="4752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Unclus clu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Putunclus clu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Uzulus lu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U bluncus cu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Unclu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Putunclus</a:t>
            </a:r>
            <a:br>
              <a:rPr sz="4800"/>
            </a:b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Uzulu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7"/>
                </a:solidFill>
                <a:latin typeface="Comic Sans MS"/>
              </a:rPr>
              <a:t>U bluncu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1620720" cy="2563920"/>
          </a:xfrm>
          <a:prstGeom prst="rect">
            <a:avLst/>
          </a:prstGeom>
          <a:ln w="0">
            <a:noFill/>
          </a:ln>
        </p:spPr>
      </p:pic>
      <p:sp>
        <p:nvSpPr>
          <p:cNvPr id="70" name="WordArt 5"/>
          <p:cNvSpPr txBox="1"/>
          <p:nvPr/>
        </p:nvSpPr>
        <p:spPr>
          <a:xfrm>
            <a:off x="1332000" y="4941720"/>
            <a:ext cx="1152360" cy="139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Comic Sans MS"/>
              </a:rPr>
              <a:t>u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1-10T09:44:40Z</dcterms:modified>
  <cp:revision>108</cp:revision>
  <dc:subject/>
  <dc:title>TITLE</dc:title>
</cp:coreProperties>
</file>