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B1B4-D9E8-48DD-BE24-BC9A431AAF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72F1-C150-4F25-AEFE-A023350CE7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C933-5E5C-440B-800D-8C8AEDB629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E97-9DE5-4700-B44E-C473BA89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56C-AB53-4EE6-A527-5E0C210D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7E2-7944-45C9-BACD-305F67F3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8B9-8127-47FC-BA5D-6389B851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0E1-AF10-4CC2-9CAF-6BCFDD8E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B90-D925-4EDD-8FE2-D1489A93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2D3-B7A6-47E2-A966-3B3AA4A2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B79-5F52-4F5D-8D8B-A3694778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CE6-26AB-49F9-8547-A989BCF2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F59-E150-41F5-93FD-B344B5E0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7ED-86AC-4DDA-BED7-E7472ACF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2F7-1268-456D-92CD-771BBB4C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841E-3630-433E-973C-8A174E1CB8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4322" t="2918" r="2744" b="48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08720" y="6597720"/>
            <a:ext cx="3635280" cy="26028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836640"/>
            <a:ext cx="15112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bú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49360"/>
            <a:ext cx="16574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pe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765000"/>
            <a:ext cx="165744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a v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637000"/>
            <a:ext cx="16570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ce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2637000"/>
            <a:ext cx="194472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a gal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2133720"/>
            <a:ext cx="165744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421000"/>
            <a:ext cx="16574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bu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221000"/>
            <a:ext cx="16574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3860640"/>
            <a:ext cx="172692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a ov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4076640"/>
            <a:ext cx="165744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a 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661000"/>
            <a:ext cx="16574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g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84360" y="5229360"/>
            <a:ext cx="180036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caba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5516640"/>
            <a:ext cx="16574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ga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5589720"/>
            <a:ext cx="165708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ra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71640" y="3716280"/>
            <a:ext cx="324828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1806480" cy="164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132000" y="33336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804000" y="333360"/>
            <a:ext cx="164628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0" y="1989000"/>
            <a:ext cx="240660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32000" y="2133720"/>
            <a:ext cx="2592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ue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2349360"/>
            <a:ext cx="266544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uave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5157720"/>
            <a:ext cx="3240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ápid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5300640"/>
            <a:ext cx="259236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nt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31T13:55:02Z</dcterms:modified>
  <cp:revision>164</cp:revision>
  <dc:subject/>
  <dc:title>TITLE</dc:title>
</cp:coreProperties>
</file>