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0EB0-566A-4022-BE72-A0B49AA3265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F934-7B6A-44D6-998F-B0FD899959E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97DB-4FE5-41EA-A392-8AED72CDEFA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A5AA-D2BC-491E-B322-CA9C02C5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FEBD-BF2D-46F3-B708-6DEEC249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173C-4C07-4C73-A1DF-76C309F1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DB1B-3E09-4594-A1F6-07FC12CF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75C3-D64D-44C6-B286-26E08715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D8FA-8278-48B2-8F8A-BCFA1766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2292-67A5-4C2D-A722-01D93B8A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7B7C-817B-4914-8E06-77A61A2F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EC52-FAA0-41D8-8590-69D90346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2B3E-DE07-4B8A-BB65-9C727595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428D-A09F-4D95-AF59-2711EC01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E6BA-F426-406B-A529-FF1E01CE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522A-AF05-47FE-BFAE-182A9CD7E53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4322" t="2918" r="2744" b="480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508720" y="6597720"/>
            <a:ext cx="3635280" cy="260280"/>
          </a:xfrm>
          <a:prstGeom prst="rect">
            <a:avLst/>
          </a:prstGeom>
          <a:solidFill>
            <a:srgbClr val="fffff7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16360" y="836640"/>
            <a:ext cx="151128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n bú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549360"/>
            <a:ext cx="1657440" cy="52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n per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765000"/>
            <a:ext cx="165744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na va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2637000"/>
            <a:ext cx="165708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n cer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40000" y="2637000"/>
            <a:ext cx="194472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na gal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16360" y="2133720"/>
            <a:ext cx="165744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n m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04000" y="2421000"/>
            <a:ext cx="1657440" cy="52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n bur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4221000"/>
            <a:ext cx="1657440" cy="52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n p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40360" y="3860640"/>
            <a:ext cx="172692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na ove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16720" y="4076640"/>
            <a:ext cx="165744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na r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5661000"/>
            <a:ext cx="1657440" cy="52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n g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84360" y="5229360"/>
            <a:ext cx="180036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n caba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5516640"/>
            <a:ext cx="1657440" cy="52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n ga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5589720"/>
            <a:ext cx="1657080" cy="52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n rat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771640" y="3716280"/>
            <a:ext cx="3248280" cy="1409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732720" y="3645000"/>
            <a:ext cx="1806480" cy="1644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132000" y="33336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804000" y="333360"/>
            <a:ext cx="1646280" cy="2016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0" y="1989000"/>
            <a:ext cx="2406600" cy="2786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132000" y="2133720"/>
            <a:ext cx="259236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ue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27640" y="2349360"/>
            <a:ext cx="2665440" cy="11912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uavem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71640" y="5157720"/>
            <a:ext cx="324036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ápidam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72360" y="5300640"/>
            <a:ext cx="2592360" cy="11912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entam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1-03-31T13:55:02Z</dcterms:modified>
  <cp:revision>164</cp:revision>
  <dc:subject/>
  <dc:title>TITLE</dc:title>
</cp:coreProperties>
</file>