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3B07-F40F-45E6-B805-28819A72B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2F0D-A6A1-43BE-85D2-9E4F34601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A06A-D153-41CB-8E10-83AC8E6B4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3F9B-803C-4C05-9637-A95FABB8E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DAE0-626E-4564-B941-3C8A24F6C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CA32-B0C9-4BEB-B25C-365FE772A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7BF4-BB39-4E83-A9B6-BB2C3B2D2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E8E1-6D27-4E49-8D6B-F42C320A5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95DA-FBBE-4E8A-B25C-9B0C29D02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4601-7C6F-4C6C-A164-60FEB0ECB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E1B6-13DB-4A3E-BCDA-3800FF1EA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EBD1-F71B-4AE0-BEE1-DF14AFFAA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19EEA-F180-4E24-A236-FCA8C53A1A9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7.png"/><Relationship Id="rId7" Type="http://schemas.openxmlformats.org/officeDocument/2006/relationships/image" Target="../media/image9.png"/><Relationship Id="rId8" Type="http://schemas.openxmlformats.org/officeDocument/2006/relationships/image" Target="../media/image8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7.png"/><Relationship Id="rId7" Type="http://schemas.openxmlformats.org/officeDocument/2006/relationships/image" Target="../media/image9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7.png"/><Relationship Id="rId7" Type="http://schemas.openxmlformats.org/officeDocument/2006/relationships/image" Target="../media/image9.png"/><Relationship Id="rId8" Type="http://schemas.openxmlformats.org/officeDocument/2006/relationships/image" Target="../media/image8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7.png"/><Relationship Id="rId7" Type="http://schemas.openxmlformats.org/officeDocument/2006/relationships/image" Target="../media/image9.png"/><Relationship Id="rId8" Type="http://schemas.openxmlformats.org/officeDocument/2006/relationships/image" Target="../media/image8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7.png"/><Relationship Id="rId7" Type="http://schemas.openxmlformats.org/officeDocument/2006/relationships/image" Target="../media/image9.png"/><Relationship Id="rId8" Type="http://schemas.openxmlformats.org/officeDocument/2006/relationships/image" Target="../media/image8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0"/>
          <p:cNvSpPr/>
          <p:nvPr/>
        </p:nvSpPr>
        <p:spPr>
          <a:xfrm>
            <a:off x="-17640" y="-100080"/>
            <a:ext cx="9161640" cy="6958080"/>
          </a:xfrm>
          <a:prstGeom prst="rect">
            <a:avLst/>
          </a:prstGeom>
          <a:solidFill>
            <a:srgbClr val="c9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-17640" y="-1179360"/>
            <a:ext cx="9269640" cy="5214960"/>
          </a:xfrm>
          <a:prstGeom prst="rect">
            <a:avLst/>
          </a:prstGeom>
          <a:ln w="0">
            <a:noFill/>
          </a:ln>
        </p:spPr>
      </p:pic>
      <p:sp>
        <p:nvSpPr>
          <p:cNvPr id="43" name="Freeform 6"/>
          <p:cNvSpPr/>
          <p:nvPr/>
        </p:nvSpPr>
        <p:spPr>
          <a:xfrm>
            <a:off x="-378000" y="3645000"/>
            <a:ext cx="9784080" cy="3386160"/>
          </a:xfrm>
          <a:custGeom>
            <a:avLst/>
            <a:gdLst/>
            <a:ahLst/>
            <a:rect l="l" t="t" r="r" b="b"/>
            <a:pathLst>
              <a:path w="9783555" h="2593910">
                <a:moveTo>
                  <a:pt x="98380" y="1670180"/>
                </a:moveTo>
                <a:cubicBezTo>
                  <a:pt x="117041" y="1660849"/>
                  <a:pt x="136671" y="1653246"/>
                  <a:pt x="154363" y="1642188"/>
                </a:cubicBezTo>
                <a:cubicBezTo>
                  <a:pt x="161823" y="1637525"/>
                  <a:pt x="166267" y="1629158"/>
                  <a:pt x="173025" y="1623526"/>
                </a:cubicBezTo>
                <a:cubicBezTo>
                  <a:pt x="184971" y="1613571"/>
                  <a:pt x="197693" y="1604574"/>
                  <a:pt x="210347" y="1595535"/>
                </a:cubicBezTo>
                <a:cubicBezTo>
                  <a:pt x="219472" y="1589017"/>
                  <a:pt x="229825" y="1584171"/>
                  <a:pt x="238339" y="1576873"/>
                </a:cubicBezTo>
                <a:cubicBezTo>
                  <a:pt x="251697" y="1565423"/>
                  <a:pt x="262303" y="1551001"/>
                  <a:pt x="275661" y="1539551"/>
                </a:cubicBezTo>
                <a:cubicBezTo>
                  <a:pt x="284175" y="1532253"/>
                  <a:pt x="295139" y="1528188"/>
                  <a:pt x="303653" y="1520890"/>
                </a:cubicBezTo>
                <a:cubicBezTo>
                  <a:pt x="317012" y="1509440"/>
                  <a:pt x="327618" y="1495017"/>
                  <a:pt x="340976" y="1483567"/>
                </a:cubicBezTo>
                <a:cubicBezTo>
                  <a:pt x="354452" y="1472016"/>
                  <a:pt x="407230" y="1442907"/>
                  <a:pt x="415620" y="1436914"/>
                </a:cubicBezTo>
                <a:cubicBezTo>
                  <a:pt x="444477" y="1416302"/>
                  <a:pt x="468806" y="1389194"/>
                  <a:pt x="499596" y="1371600"/>
                </a:cubicBezTo>
                <a:cubicBezTo>
                  <a:pt x="521367" y="1359159"/>
                  <a:pt x="542897" y="1346285"/>
                  <a:pt x="564910" y="1334278"/>
                </a:cubicBezTo>
                <a:cubicBezTo>
                  <a:pt x="577121" y="1327617"/>
                  <a:pt x="590438" y="1322988"/>
                  <a:pt x="602233" y="1315616"/>
                </a:cubicBezTo>
                <a:cubicBezTo>
                  <a:pt x="615420" y="1307374"/>
                  <a:pt x="626368" y="1295866"/>
                  <a:pt x="639555" y="1287624"/>
                </a:cubicBezTo>
                <a:cubicBezTo>
                  <a:pt x="727038" y="1232947"/>
                  <a:pt x="632952" y="1301672"/>
                  <a:pt x="704869" y="1250302"/>
                </a:cubicBezTo>
                <a:cubicBezTo>
                  <a:pt x="717524" y="1241263"/>
                  <a:pt x="729452" y="1231228"/>
                  <a:pt x="742192" y="1222310"/>
                </a:cubicBezTo>
                <a:cubicBezTo>
                  <a:pt x="760566" y="1209449"/>
                  <a:pt x="782317" y="1200847"/>
                  <a:pt x="798176" y="1184988"/>
                </a:cubicBezTo>
                <a:cubicBezTo>
                  <a:pt x="815756" y="1167407"/>
                  <a:pt x="830774" y="1148728"/>
                  <a:pt x="854159" y="1138335"/>
                </a:cubicBezTo>
                <a:cubicBezTo>
                  <a:pt x="872134" y="1130346"/>
                  <a:pt x="892549" y="1128470"/>
                  <a:pt x="910143" y="1119673"/>
                </a:cubicBezTo>
                <a:cubicBezTo>
                  <a:pt x="922584" y="1113453"/>
                  <a:pt x="935389" y="1107913"/>
                  <a:pt x="947465" y="1101012"/>
                </a:cubicBezTo>
                <a:cubicBezTo>
                  <a:pt x="957202" y="1095448"/>
                  <a:pt x="965150" y="1086768"/>
                  <a:pt x="975457" y="1082351"/>
                </a:cubicBezTo>
                <a:cubicBezTo>
                  <a:pt x="987244" y="1077299"/>
                  <a:pt x="1000773" y="1077523"/>
                  <a:pt x="1012780" y="1073020"/>
                </a:cubicBezTo>
                <a:cubicBezTo>
                  <a:pt x="1025803" y="1068136"/>
                  <a:pt x="1037661" y="1060579"/>
                  <a:pt x="1050102" y="1054359"/>
                </a:cubicBezTo>
                <a:cubicBezTo>
                  <a:pt x="1087424" y="1057469"/>
                  <a:pt x="1124874" y="1059314"/>
                  <a:pt x="1162069" y="1063690"/>
                </a:cubicBezTo>
                <a:cubicBezTo>
                  <a:pt x="1191978" y="1067209"/>
                  <a:pt x="1217045" y="1075906"/>
                  <a:pt x="1246045" y="1082351"/>
                </a:cubicBezTo>
                <a:cubicBezTo>
                  <a:pt x="1261526" y="1085791"/>
                  <a:pt x="1277217" y="1088242"/>
                  <a:pt x="1292698" y="1091682"/>
                </a:cubicBezTo>
                <a:cubicBezTo>
                  <a:pt x="1305216" y="1094464"/>
                  <a:pt x="1317446" y="1098497"/>
                  <a:pt x="1330020" y="1101012"/>
                </a:cubicBezTo>
                <a:cubicBezTo>
                  <a:pt x="1362402" y="1107488"/>
                  <a:pt x="1419930" y="1115189"/>
                  <a:pt x="1451318" y="1119673"/>
                </a:cubicBezTo>
                <a:cubicBezTo>
                  <a:pt x="1566396" y="1116563"/>
                  <a:pt x="1681575" y="1116092"/>
                  <a:pt x="1796551" y="1110343"/>
                </a:cubicBezTo>
                <a:cubicBezTo>
                  <a:pt x="1806374" y="1109852"/>
                  <a:pt x="1815086" y="1103714"/>
                  <a:pt x="1824543" y="1101012"/>
                </a:cubicBezTo>
                <a:cubicBezTo>
                  <a:pt x="1836873" y="1097489"/>
                  <a:pt x="1849582" y="1095367"/>
                  <a:pt x="1861865" y="1091682"/>
                </a:cubicBezTo>
                <a:cubicBezTo>
                  <a:pt x="1880706" y="1086030"/>
                  <a:pt x="1900255" y="1081817"/>
                  <a:pt x="1917849" y="1073020"/>
                </a:cubicBezTo>
                <a:cubicBezTo>
                  <a:pt x="1942731" y="1060579"/>
                  <a:pt x="1966103" y="1044495"/>
                  <a:pt x="1992494" y="1035698"/>
                </a:cubicBezTo>
                <a:cubicBezTo>
                  <a:pt x="2001825" y="1032588"/>
                  <a:pt x="2011532" y="1030437"/>
                  <a:pt x="2020486" y="1026367"/>
                </a:cubicBezTo>
                <a:cubicBezTo>
                  <a:pt x="2045811" y="1014856"/>
                  <a:pt x="2068740" y="997843"/>
                  <a:pt x="2095131" y="989045"/>
                </a:cubicBezTo>
                <a:cubicBezTo>
                  <a:pt x="2135288" y="975658"/>
                  <a:pt x="2113581" y="982099"/>
                  <a:pt x="2160445" y="970384"/>
                </a:cubicBezTo>
                <a:cubicBezTo>
                  <a:pt x="2172886" y="964163"/>
                  <a:pt x="2184743" y="956606"/>
                  <a:pt x="2197767" y="951722"/>
                </a:cubicBezTo>
                <a:cubicBezTo>
                  <a:pt x="2221697" y="942748"/>
                  <a:pt x="2240514" y="944345"/>
                  <a:pt x="2263082" y="933061"/>
                </a:cubicBezTo>
                <a:cubicBezTo>
                  <a:pt x="2273112" y="928046"/>
                  <a:pt x="2281044" y="919415"/>
                  <a:pt x="2291074" y="914400"/>
                </a:cubicBezTo>
                <a:cubicBezTo>
                  <a:pt x="2368381" y="875747"/>
                  <a:pt x="2309200" y="910630"/>
                  <a:pt x="2365718" y="886408"/>
                </a:cubicBezTo>
                <a:cubicBezTo>
                  <a:pt x="2378503" y="880929"/>
                  <a:pt x="2390126" y="872913"/>
                  <a:pt x="2403041" y="867747"/>
                </a:cubicBezTo>
                <a:cubicBezTo>
                  <a:pt x="2421305" y="860442"/>
                  <a:pt x="2440364" y="855307"/>
                  <a:pt x="2459025" y="849086"/>
                </a:cubicBezTo>
                <a:cubicBezTo>
                  <a:pt x="2489794" y="838829"/>
                  <a:pt x="2500212" y="835963"/>
                  <a:pt x="2533669" y="821094"/>
                </a:cubicBezTo>
                <a:cubicBezTo>
                  <a:pt x="2546380" y="815445"/>
                  <a:pt x="2558207" y="807912"/>
                  <a:pt x="2570992" y="802433"/>
                </a:cubicBezTo>
                <a:cubicBezTo>
                  <a:pt x="2580032" y="798559"/>
                  <a:pt x="2589944" y="796976"/>
                  <a:pt x="2598984" y="793102"/>
                </a:cubicBezTo>
                <a:cubicBezTo>
                  <a:pt x="2611768" y="787623"/>
                  <a:pt x="2623283" y="779325"/>
                  <a:pt x="2636306" y="774441"/>
                </a:cubicBezTo>
                <a:cubicBezTo>
                  <a:pt x="2648313" y="769938"/>
                  <a:pt x="2661346" y="768795"/>
                  <a:pt x="2673629" y="765110"/>
                </a:cubicBezTo>
                <a:cubicBezTo>
                  <a:pt x="2692470" y="759458"/>
                  <a:pt x="2710324" y="750307"/>
                  <a:pt x="2729612" y="746449"/>
                </a:cubicBezTo>
                <a:cubicBezTo>
                  <a:pt x="2769376" y="738496"/>
                  <a:pt x="2771473" y="740082"/>
                  <a:pt x="2804257" y="727788"/>
                </a:cubicBezTo>
                <a:cubicBezTo>
                  <a:pt x="2819940" y="721907"/>
                  <a:pt x="2835929" y="716616"/>
                  <a:pt x="2850910" y="709126"/>
                </a:cubicBezTo>
                <a:cubicBezTo>
                  <a:pt x="2879800" y="694681"/>
                  <a:pt x="2886630" y="679384"/>
                  <a:pt x="2916225" y="662473"/>
                </a:cubicBezTo>
                <a:cubicBezTo>
                  <a:pt x="2924764" y="657594"/>
                  <a:pt x="2934886" y="656253"/>
                  <a:pt x="2944216" y="653143"/>
                </a:cubicBezTo>
                <a:cubicBezTo>
                  <a:pt x="3001269" y="615109"/>
                  <a:pt x="2941652" y="657495"/>
                  <a:pt x="3009531" y="597159"/>
                </a:cubicBezTo>
                <a:cubicBezTo>
                  <a:pt x="3024416" y="583928"/>
                  <a:pt x="3040252" y="571786"/>
                  <a:pt x="3056184" y="559837"/>
                </a:cubicBezTo>
                <a:cubicBezTo>
                  <a:pt x="3065155" y="553108"/>
                  <a:pt x="3075662" y="548473"/>
                  <a:pt x="3084176" y="541175"/>
                </a:cubicBezTo>
                <a:cubicBezTo>
                  <a:pt x="3143287" y="490508"/>
                  <a:pt x="3097883" y="516486"/>
                  <a:pt x="3158820" y="475861"/>
                </a:cubicBezTo>
                <a:cubicBezTo>
                  <a:pt x="3195533" y="451385"/>
                  <a:pt x="3230794" y="428322"/>
                  <a:pt x="3270788" y="410547"/>
                </a:cubicBezTo>
                <a:cubicBezTo>
                  <a:pt x="3295041" y="399768"/>
                  <a:pt x="3331788" y="388541"/>
                  <a:pt x="3354763" y="373224"/>
                </a:cubicBezTo>
                <a:cubicBezTo>
                  <a:pt x="3397461" y="344758"/>
                  <a:pt x="3343104" y="358450"/>
                  <a:pt x="3410747" y="335902"/>
                </a:cubicBezTo>
                <a:cubicBezTo>
                  <a:pt x="3435078" y="327792"/>
                  <a:pt x="3460243" y="322271"/>
                  <a:pt x="3485392" y="317241"/>
                </a:cubicBezTo>
                <a:cubicBezTo>
                  <a:pt x="3553610" y="303597"/>
                  <a:pt x="3516345" y="310153"/>
                  <a:pt x="3597359" y="298580"/>
                </a:cubicBezTo>
                <a:cubicBezTo>
                  <a:pt x="3606690" y="295470"/>
                  <a:pt x="3615894" y="291951"/>
                  <a:pt x="3625351" y="289249"/>
                </a:cubicBezTo>
                <a:cubicBezTo>
                  <a:pt x="3637681" y="285726"/>
                  <a:pt x="3650508" y="283973"/>
                  <a:pt x="3662674" y="279918"/>
                </a:cubicBezTo>
                <a:cubicBezTo>
                  <a:pt x="3678563" y="274622"/>
                  <a:pt x="3693168" y="265664"/>
                  <a:pt x="3709327" y="261257"/>
                </a:cubicBezTo>
                <a:cubicBezTo>
                  <a:pt x="3727579" y="256279"/>
                  <a:pt x="3746649" y="255036"/>
                  <a:pt x="3765310" y="251926"/>
                </a:cubicBezTo>
                <a:cubicBezTo>
                  <a:pt x="3849486" y="209839"/>
                  <a:pt x="3745045" y="258685"/>
                  <a:pt x="3877278" y="214604"/>
                </a:cubicBezTo>
                <a:cubicBezTo>
                  <a:pt x="3886608" y="211494"/>
                  <a:pt x="3895812" y="207975"/>
                  <a:pt x="3905269" y="205273"/>
                </a:cubicBezTo>
                <a:cubicBezTo>
                  <a:pt x="3936002" y="196492"/>
                  <a:pt x="3957194" y="193022"/>
                  <a:pt x="3989245" y="186612"/>
                </a:cubicBezTo>
                <a:cubicBezTo>
                  <a:pt x="4088772" y="189722"/>
                  <a:pt x="4188380" y="190843"/>
                  <a:pt x="4287825" y="195943"/>
                </a:cubicBezTo>
                <a:cubicBezTo>
                  <a:pt x="4346867" y="198971"/>
                  <a:pt x="4347418" y="207122"/>
                  <a:pt x="4399792" y="214604"/>
                </a:cubicBezTo>
                <a:cubicBezTo>
                  <a:pt x="4427673" y="218587"/>
                  <a:pt x="4455775" y="220825"/>
                  <a:pt x="4483767" y="223935"/>
                </a:cubicBezTo>
                <a:lnTo>
                  <a:pt x="4558412" y="242596"/>
                </a:lnTo>
                <a:cubicBezTo>
                  <a:pt x="4570853" y="245706"/>
                  <a:pt x="4582990" y="250510"/>
                  <a:pt x="4595735" y="251926"/>
                </a:cubicBezTo>
                <a:cubicBezTo>
                  <a:pt x="4828674" y="277809"/>
                  <a:pt x="4707422" y="267909"/>
                  <a:pt x="4959629" y="279918"/>
                </a:cubicBezTo>
                <a:cubicBezTo>
                  <a:pt x="4975180" y="283028"/>
                  <a:pt x="4990897" y="285402"/>
                  <a:pt x="5006282" y="289249"/>
                </a:cubicBezTo>
                <a:cubicBezTo>
                  <a:pt x="5015824" y="291635"/>
                  <a:pt x="5024499" y="297494"/>
                  <a:pt x="5034274" y="298580"/>
                </a:cubicBezTo>
                <a:cubicBezTo>
                  <a:pt x="5080745" y="303743"/>
                  <a:pt x="5127604" y="304456"/>
                  <a:pt x="5174233" y="307910"/>
                </a:cubicBezTo>
                <a:lnTo>
                  <a:pt x="5286200" y="317241"/>
                </a:lnTo>
                <a:cubicBezTo>
                  <a:pt x="5298641" y="320351"/>
                  <a:pt x="5310848" y="324621"/>
                  <a:pt x="5323522" y="326571"/>
                </a:cubicBezTo>
                <a:cubicBezTo>
                  <a:pt x="5351359" y="330854"/>
                  <a:pt x="5379527" y="332611"/>
                  <a:pt x="5407498" y="335902"/>
                </a:cubicBezTo>
                <a:lnTo>
                  <a:pt x="5482143" y="345233"/>
                </a:lnTo>
                <a:cubicBezTo>
                  <a:pt x="5594110" y="342123"/>
                  <a:pt x="5706181" y="341639"/>
                  <a:pt x="5818045" y="335902"/>
                </a:cubicBezTo>
                <a:cubicBezTo>
                  <a:pt x="5827868" y="335398"/>
                  <a:pt x="5836269" y="327720"/>
                  <a:pt x="5846037" y="326571"/>
                </a:cubicBezTo>
                <a:cubicBezTo>
                  <a:pt x="5889392" y="321471"/>
                  <a:pt x="5933122" y="320351"/>
                  <a:pt x="5976665" y="317241"/>
                </a:cubicBezTo>
                <a:cubicBezTo>
                  <a:pt x="6001547" y="311021"/>
                  <a:pt x="6025861" y="301761"/>
                  <a:pt x="6051310" y="298580"/>
                </a:cubicBezTo>
                <a:lnTo>
                  <a:pt x="6191269" y="279918"/>
                </a:lnTo>
                <a:cubicBezTo>
                  <a:pt x="6216124" y="276604"/>
                  <a:pt x="6241130" y="274401"/>
                  <a:pt x="6265914" y="270588"/>
                </a:cubicBezTo>
                <a:cubicBezTo>
                  <a:pt x="6364959" y="255350"/>
                  <a:pt x="6264984" y="267846"/>
                  <a:pt x="6349890" y="251926"/>
                </a:cubicBezTo>
                <a:cubicBezTo>
                  <a:pt x="6387079" y="244953"/>
                  <a:pt x="6424535" y="239485"/>
                  <a:pt x="6461857" y="233265"/>
                </a:cubicBezTo>
                <a:lnTo>
                  <a:pt x="6517841" y="223935"/>
                </a:lnTo>
                <a:cubicBezTo>
                  <a:pt x="6594689" y="198318"/>
                  <a:pt x="6554352" y="208055"/>
                  <a:pt x="6639139" y="195943"/>
                </a:cubicBezTo>
                <a:cubicBezTo>
                  <a:pt x="6665822" y="187048"/>
                  <a:pt x="6675157" y="183141"/>
                  <a:pt x="6704453" y="177282"/>
                </a:cubicBezTo>
                <a:cubicBezTo>
                  <a:pt x="6723004" y="173572"/>
                  <a:pt x="6741969" y="172055"/>
                  <a:pt x="6760437" y="167951"/>
                </a:cubicBezTo>
                <a:cubicBezTo>
                  <a:pt x="6770038" y="165817"/>
                  <a:pt x="6779249" y="162151"/>
                  <a:pt x="6788429" y="158620"/>
                </a:cubicBezTo>
                <a:cubicBezTo>
                  <a:pt x="6819694" y="146595"/>
                  <a:pt x="6853863" y="139879"/>
                  <a:pt x="6881735" y="121298"/>
                </a:cubicBezTo>
                <a:cubicBezTo>
                  <a:pt x="6891066" y="115078"/>
                  <a:pt x="6899991" y="108201"/>
                  <a:pt x="6909727" y="102637"/>
                </a:cubicBezTo>
                <a:cubicBezTo>
                  <a:pt x="6961795" y="72883"/>
                  <a:pt x="6932769" y="91262"/>
                  <a:pt x="6993702" y="74645"/>
                </a:cubicBezTo>
                <a:cubicBezTo>
                  <a:pt x="7012680" y="69469"/>
                  <a:pt x="7049686" y="55984"/>
                  <a:pt x="7049686" y="55984"/>
                </a:cubicBezTo>
                <a:cubicBezTo>
                  <a:pt x="7059017" y="49763"/>
                  <a:pt x="7067371" y="41740"/>
                  <a:pt x="7077678" y="37322"/>
                </a:cubicBezTo>
                <a:cubicBezTo>
                  <a:pt x="7089465" y="32271"/>
                  <a:pt x="7102670" y="31515"/>
                  <a:pt x="7115000" y="27992"/>
                </a:cubicBezTo>
                <a:cubicBezTo>
                  <a:pt x="7147032" y="18840"/>
                  <a:pt x="7147142" y="16586"/>
                  <a:pt x="7180314" y="0"/>
                </a:cubicBezTo>
                <a:lnTo>
                  <a:pt x="7516216" y="9331"/>
                </a:lnTo>
                <a:cubicBezTo>
                  <a:pt x="7556734" y="10985"/>
                  <a:pt x="7597024" y="16412"/>
                  <a:pt x="7637514" y="18661"/>
                </a:cubicBezTo>
                <a:cubicBezTo>
                  <a:pt x="7709006" y="22633"/>
                  <a:pt x="7780615" y="24229"/>
                  <a:pt x="7852118" y="27992"/>
                </a:cubicBezTo>
                <a:cubicBezTo>
                  <a:pt x="7898810" y="30449"/>
                  <a:pt x="7945412" y="34405"/>
                  <a:pt x="7992078" y="37322"/>
                </a:cubicBezTo>
                <a:lnTo>
                  <a:pt x="8150698" y="46653"/>
                </a:lnTo>
                <a:cubicBezTo>
                  <a:pt x="8178779" y="48813"/>
                  <a:pt x="8206619" y="53509"/>
                  <a:pt x="8234674" y="55984"/>
                </a:cubicBezTo>
                <a:cubicBezTo>
                  <a:pt x="8427093" y="72962"/>
                  <a:pt x="8447966" y="73397"/>
                  <a:pt x="8617229" y="83975"/>
                </a:cubicBezTo>
                <a:cubicBezTo>
                  <a:pt x="8639000" y="87085"/>
                  <a:pt x="8660978" y="88993"/>
                  <a:pt x="8682543" y="93306"/>
                </a:cubicBezTo>
                <a:cubicBezTo>
                  <a:pt x="8692187" y="95235"/>
                  <a:pt x="8700993" y="100252"/>
                  <a:pt x="8710535" y="102637"/>
                </a:cubicBezTo>
                <a:cubicBezTo>
                  <a:pt x="8725920" y="106483"/>
                  <a:pt x="8741637" y="108857"/>
                  <a:pt x="8757188" y="111967"/>
                </a:cubicBezTo>
                <a:cubicBezTo>
                  <a:pt x="8769629" y="118188"/>
                  <a:pt x="8781725" y="125150"/>
                  <a:pt x="8794510" y="130629"/>
                </a:cubicBezTo>
                <a:cubicBezTo>
                  <a:pt x="8816872" y="140213"/>
                  <a:pt x="8836163" y="142530"/>
                  <a:pt x="8859825" y="149290"/>
                </a:cubicBezTo>
                <a:cubicBezTo>
                  <a:pt x="8889486" y="157764"/>
                  <a:pt x="8902901" y="165444"/>
                  <a:pt x="8934469" y="177282"/>
                </a:cubicBezTo>
                <a:cubicBezTo>
                  <a:pt x="8943678" y="180735"/>
                  <a:pt x="8953130" y="183502"/>
                  <a:pt x="8962461" y="186612"/>
                </a:cubicBezTo>
                <a:cubicBezTo>
                  <a:pt x="8971792" y="192832"/>
                  <a:pt x="8980423" y="200258"/>
                  <a:pt x="8990453" y="205273"/>
                </a:cubicBezTo>
                <a:cubicBezTo>
                  <a:pt x="8999250" y="209672"/>
                  <a:pt x="9008956" y="212016"/>
                  <a:pt x="9018445" y="214604"/>
                </a:cubicBezTo>
                <a:cubicBezTo>
                  <a:pt x="9043189" y="221352"/>
                  <a:pt x="9069277" y="223740"/>
                  <a:pt x="9093090" y="233265"/>
                </a:cubicBezTo>
                <a:cubicBezTo>
                  <a:pt x="9108641" y="239485"/>
                  <a:pt x="9123970" y="246293"/>
                  <a:pt x="9139743" y="251926"/>
                </a:cubicBezTo>
                <a:cubicBezTo>
                  <a:pt x="9167530" y="261850"/>
                  <a:pt x="9197327" y="266722"/>
                  <a:pt x="9223718" y="279918"/>
                </a:cubicBezTo>
                <a:cubicBezTo>
                  <a:pt x="9236159" y="286139"/>
                  <a:pt x="9248964" y="291679"/>
                  <a:pt x="9261041" y="298580"/>
                </a:cubicBezTo>
                <a:cubicBezTo>
                  <a:pt x="9270777" y="304144"/>
                  <a:pt x="9279003" y="312226"/>
                  <a:pt x="9289033" y="317241"/>
                </a:cubicBezTo>
                <a:cubicBezTo>
                  <a:pt x="9297830" y="321639"/>
                  <a:pt x="9307694" y="323461"/>
                  <a:pt x="9317025" y="326571"/>
                </a:cubicBezTo>
                <a:cubicBezTo>
                  <a:pt x="9335686" y="339012"/>
                  <a:pt x="9351731" y="356802"/>
                  <a:pt x="9373008" y="363894"/>
                </a:cubicBezTo>
                <a:lnTo>
                  <a:pt x="9456984" y="391886"/>
                </a:lnTo>
                <a:lnTo>
                  <a:pt x="9512967" y="410547"/>
                </a:lnTo>
                <a:lnTo>
                  <a:pt x="9540959" y="419878"/>
                </a:lnTo>
                <a:cubicBezTo>
                  <a:pt x="9556510" y="435429"/>
                  <a:pt x="9580657" y="445667"/>
                  <a:pt x="9587612" y="466531"/>
                </a:cubicBezTo>
                <a:cubicBezTo>
                  <a:pt x="9599725" y="502868"/>
                  <a:pt x="9589989" y="487567"/>
                  <a:pt x="9615604" y="513184"/>
                </a:cubicBezTo>
                <a:cubicBezTo>
                  <a:pt x="9622015" y="545239"/>
                  <a:pt x="9625483" y="566423"/>
                  <a:pt x="9634265" y="597159"/>
                </a:cubicBezTo>
                <a:cubicBezTo>
                  <a:pt x="9650452" y="653813"/>
                  <a:pt x="9638699" y="593550"/>
                  <a:pt x="9652927" y="671804"/>
                </a:cubicBezTo>
                <a:cubicBezTo>
                  <a:pt x="9672457" y="779222"/>
                  <a:pt x="9651875" y="673773"/>
                  <a:pt x="9671588" y="811763"/>
                </a:cubicBezTo>
                <a:cubicBezTo>
                  <a:pt x="9676939" y="849220"/>
                  <a:pt x="9685556" y="886186"/>
                  <a:pt x="9690249" y="923731"/>
                </a:cubicBezTo>
                <a:cubicBezTo>
                  <a:pt x="9693359" y="948612"/>
                  <a:pt x="9696034" y="973552"/>
                  <a:pt x="9699580" y="998375"/>
                </a:cubicBezTo>
                <a:cubicBezTo>
                  <a:pt x="9702255" y="1017104"/>
                  <a:pt x="9706895" y="1035548"/>
                  <a:pt x="9708910" y="1054359"/>
                </a:cubicBezTo>
                <a:cubicBezTo>
                  <a:pt x="9716229" y="1122675"/>
                  <a:pt x="9727571" y="1259633"/>
                  <a:pt x="9727571" y="1259633"/>
                </a:cubicBezTo>
                <a:cubicBezTo>
                  <a:pt x="9719430" y="1495751"/>
                  <a:pt x="9706477" y="1457207"/>
                  <a:pt x="9727571" y="1604865"/>
                </a:cubicBezTo>
                <a:cubicBezTo>
                  <a:pt x="9730246" y="1623594"/>
                  <a:pt x="9732314" y="1642495"/>
                  <a:pt x="9736902" y="1660849"/>
                </a:cubicBezTo>
                <a:cubicBezTo>
                  <a:pt x="9741673" y="1679932"/>
                  <a:pt x="9751705" y="1697544"/>
                  <a:pt x="9755563" y="1716833"/>
                </a:cubicBezTo>
                <a:cubicBezTo>
                  <a:pt x="9758673" y="1732384"/>
                  <a:pt x="9760721" y="1748186"/>
                  <a:pt x="9764894" y="1763486"/>
                </a:cubicBezTo>
                <a:cubicBezTo>
                  <a:pt x="9770070" y="1782463"/>
                  <a:pt x="9783555" y="1819469"/>
                  <a:pt x="9783555" y="1819469"/>
                </a:cubicBezTo>
                <a:cubicBezTo>
                  <a:pt x="9780445" y="1965649"/>
                  <a:pt x="9786121" y="2112280"/>
                  <a:pt x="9774225" y="2258008"/>
                </a:cubicBezTo>
                <a:cubicBezTo>
                  <a:pt x="9773249" y="2269970"/>
                  <a:pt x="9726000" y="2283783"/>
                  <a:pt x="9718241" y="2286000"/>
                </a:cubicBezTo>
                <a:cubicBezTo>
                  <a:pt x="9705911" y="2289523"/>
                  <a:pt x="9693201" y="2291646"/>
                  <a:pt x="9680918" y="2295331"/>
                </a:cubicBezTo>
                <a:cubicBezTo>
                  <a:pt x="9662077" y="2300983"/>
                  <a:pt x="9644408" y="2311210"/>
                  <a:pt x="9624935" y="2313992"/>
                </a:cubicBezTo>
                <a:lnTo>
                  <a:pt x="9559620" y="2323322"/>
                </a:lnTo>
                <a:cubicBezTo>
                  <a:pt x="9526477" y="2334370"/>
                  <a:pt x="9461216" y="2357716"/>
                  <a:pt x="9428992" y="2360645"/>
                </a:cubicBezTo>
                <a:lnTo>
                  <a:pt x="9326355" y="2369975"/>
                </a:lnTo>
                <a:cubicBezTo>
                  <a:pt x="9208860" y="2399350"/>
                  <a:pt x="9295078" y="2379903"/>
                  <a:pt x="9195727" y="2397967"/>
                </a:cubicBezTo>
                <a:cubicBezTo>
                  <a:pt x="9180124" y="2400804"/>
                  <a:pt x="9164862" y="2405794"/>
                  <a:pt x="9149074" y="2407298"/>
                </a:cubicBezTo>
                <a:cubicBezTo>
                  <a:pt x="9053630" y="2416388"/>
                  <a:pt x="8817508" y="2424024"/>
                  <a:pt x="8747857" y="2425959"/>
                </a:cubicBezTo>
                <a:lnTo>
                  <a:pt x="8327980" y="2435290"/>
                </a:lnTo>
                <a:cubicBezTo>
                  <a:pt x="8219123" y="2441510"/>
                  <a:pt x="8110412" y="2451356"/>
                  <a:pt x="8001408" y="2453951"/>
                </a:cubicBezTo>
                <a:lnTo>
                  <a:pt x="7609522" y="2463282"/>
                </a:lnTo>
                <a:lnTo>
                  <a:pt x="7282951" y="2472612"/>
                </a:lnTo>
                <a:lnTo>
                  <a:pt x="6723114" y="2481943"/>
                </a:lnTo>
                <a:lnTo>
                  <a:pt x="6153947" y="2509935"/>
                </a:lnTo>
                <a:lnTo>
                  <a:pt x="5855367" y="2519265"/>
                </a:lnTo>
                <a:cubicBezTo>
                  <a:pt x="5643770" y="2540426"/>
                  <a:pt x="5783817" y="2528744"/>
                  <a:pt x="5398167" y="2537926"/>
                </a:cubicBezTo>
                <a:lnTo>
                  <a:pt x="4978290" y="2547257"/>
                </a:lnTo>
                <a:cubicBezTo>
                  <a:pt x="4756222" y="2591670"/>
                  <a:pt x="4943102" y="2559843"/>
                  <a:pt x="4511759" y="2575249"/>
                </a:cubicBezTo>
                <a:cubicBezTo>
                  <a:pt x="4461930" y="2577029"/>
                  <a:pt x="4412327" y="2584127"/>
                  <a:pt x="4362469" y="2584580"/>
                </a:cubicBezTo>
                <a:lnTo>
                  <a:pt x="2459025" y="2593910"/>
                </a:lnTo>
                <a:lnTo>
                  <a:pt x="1339351" y="2584580"/>
                </a:lnTo>
                <a:cubicBezTo>
                  <a:pt x="1241522" y="2583051"/>
                  <a:pt x="1292768" y="2571714"/>
                  <a:pt x="1208722" y="2565918"/>
                </a:cubicBezTo>
                <a:cubicBezTo>
                  <a:pt x="1137289" y="2560992"/>
                  <a:pt x="1065653" y="2559698"/>
                  <a:pt x="994118" y="2556588"/>
                </a:cubicBezTo>
                <a:lnTo>
                  <a:pt x="928804" y="2547257"/>
                </a:lnTo>
                <a:cubicBezTo>
                  <a:pt x="844244" y="2535982"/>
                  <a:pt x="819817" y="2535312"/>
                  <a:pt x="723531" y="2519265"/>
                </a:cubicBezTo>
                <a:cubicBezTo>
                  <a:pt x="686208" y="2513045"/>
                  <a:pt x="647459" y="2512569"/>
                  <a:pt x="611563" y="2500604"/>
                </a:cubicBezTo>
                <a:lnTo>
                  <a:pt x="555580" y="2481943"/>
                </a:lnTo>
                <a:cubicBezTo>
                  <a:pt x="546249" y="2478833"/>
                  <a:pt x="537232" y="2474541"/>
                  <a:pt x="527588" y="2472612"/>
                </a:cubicBezTo>
                <a:lnTo>
                  <a:pt x="480935" y="2463282"/>
                </a:lnTo>
                <a:cubicBezTo>
                  <a:pt x="468494" y="2457061"/>
                  <a:pt x="456986" y="2448441"/>
                  <a:pt x="443612" y="2444620"/>
                </a:cubicBezTo>
                <a:cubicBezTo>
                  <a:pt x="413114" y="2435906"/>
                  <a:pt x="350306" y="2425959"/>
                  <a:pt x="350306" y="2425959"/>
                </a:cubicBezTo>
                <a:cubicBezTo>
                  <a:pt x="331645" y="2413518"/>
                  <a:pt x="306763" y="2407298"/>
                  <a:pt x="294322" y="2388637"/>
                </a:cubicBezTo>
                <a:cubicBezTo>
                  <a:pt x="288102" y="2379306"/>
                  <a:pt x="283590" y="2368574"/>
                  <a:pt x="275661" y="2360645"/>
                </a:cubicBezTo>
                <a:cubicBezTo>
                  <a:pt x="257575" y="2342559"/>
                  <a:pt x="242443" y="2340242"/>
                  <a:pt x="219678" y="2332653"/>
                </a:cubicBezTo>
                <a:cubicBezTo>
                  <a:pt x="213457" y="2326433"/>
                  <a:pt x="208559" y="2318518"/>
                  <a:pt x="201016" y="2313992"/>
                </a:cubicBezTo>
                <a:cubicBezTo>
                  <a:pt x="192582" y="2308932"/>
                  <a:pt x="182065" y="2308535"/>
                  <a:pt x="173025" y="2304661"/>
                </a:cubicBezTo>
                <a:cubicBezTo>
                  <a:pt x="160240" y="2299182"/>
                  <a:pt x="147629" y="2293156"/>
                  <a:pt x="135702" y="2286000"/>
                </a:cubicBezTo>
                <a:cubicBezTo>
                  <a:pt x="116470" y="2274461"/>
                  <a:pt x="79718" y="2248678"/>
                  <a:pt x="79718" y="2248678"/>
                </a:cubicBezTo>
                <a:cubicBezTo>
                  <a:pt x="82829" y="2037115"/>
                  <a:pt x="-113205" y="1614196"/>
                  <a:pt x="98380" y="1614196"/>
                </a:cubicBezTo>
              </a:path>
            </a:pathLst>
          </a:custGeom>
          <a:solidFill>
            <a:srgbClr val="72af2f"/>
          </a:solidFill>
          <a:ln w="25560">
            <a:solidFill>
              <a:srgbClr val="72af2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Freeform 5"/>
          <p:cNvSpPr/>
          <p:nvPr/>
        </p:nvSpPr>
        <p:spPr>
          <a:xfrm>
            <a:off x="-225360" y="3645000"/>
            <a:ext cx="9556560" cy="3446280"/>
          </a:xfrm>
          <a:custGeom>
            <a:avLst/>
            <a:gdLst/>
            <a:ahLst/>
            <a:rect l="l" t="t" r="r" b="b"/>
            <a:pathLst>
              <a:path w="9555712" h="2472612">
                <a:moveTo>
                  <a:pt x="94471" y="317241"/>
                </a:moveTo>
                <a:cubicBezTo>
                  <a:pt x="103801" y="311021"/>
                  <a:pt x="126079" y="312925"/>
                  <a:pt x="141124" y="307910"/>
                </a:cubicBezTo>
                <a:cubicBezTo>
                  <a:pt x="206137" y="286239"/>
                  <a:pt x="151913" y="293185"/>
                  <a:pt x="215769" y="261257"/>
                </a:cubicBezTo>
                <a:cubicBezTo>
                  <a:pt x="227239" y="255522"/>
                  <a:pt x="240651" y="255037"/>
                  <a:pt x="253092" y="251927"/>
                </a:cubicBezTo>
                <a:cubicBezTo>
                  <a:pt x="270450" y="234569"/>
                  <a:pt x="276203" y="226375"/>
                  <a:pt x="299745" y="214604"/>
                </a:cubicBezTo>
                <a:cubicBezTo>
                  <a:pt x="308542" y="210206"/>
                  <a:pt x="318406" y="208384"/>
                  <a:pt x="327737" y="205274"/>
                </a:cubicBezTo>
                <a:cubicBezTo>
                  <a:pt x="369934" y="163075"/>
                  <a:pt x="317194" y="214058"/>
                  <a:pt x="383720" y="158620"/>
                </a:cubicBezTo>
                <a:cubicBezTo>
                  <a:pt x="390478" y="152988"/>
                  <a:pt x="395062" y="144839"/>
                  <a:pt x="402382" y="139959"/>
                </a:cubicBezTo>
                <a:cubicBezTo>
                  <a:pt x="413955" y="132244"/>
                  <a:pt x="427628" y="128199"/>
                  <a:pt x="439704" y="121298"/>
                </a:cubicBezTo>
                <a:cubicBezTo>
                  <a:pt x="449441" y="115734"/>
                  <a:pt x="458571" y="109155"/>
                  <a:pt x="467696" y="102637"/>
                </a:cubicBezTo>
                <a:cubicBezTo>
                  <a:pt x="480350" y="93598"/>
                  <a:pt x="491424" y="82197"/>
                  <a:pt x="505018" y="74645"/>
                </a:cubicBezTo>
                <a:cubicBezTo>
                  <a:pt x="519659" y="66511"/>
                  <a:pt x="536690" y="63474"/>
                  <a:pt x="551671" y="55984"/>
                </a:cubicBezTo>
                <a:cubicBezTo>
                  <a:pt x="561701" y="50969"/>
                  <a:pt x="570906" y="44328"/>
                  <a:pt x="579663" y="37323"/>
                </a:cubicBezTo>
                <a:cubicBezTo>
                  <a:pt x="586532" y="31827"/>
                  <a:pt x="590456" y="22595"/>
                  <a:pt x="598324" y="18661"/>
                </a:cubicBezTo>
                <a:cubicBezTo>
                  <a:pt x="609794" y="12926"/>
                  <a:pt x="623317" y="12854"/>
                  <a:pt x="635647" y="9331"/>
                </a:cubicBezTo>
                <a:cubicBezTo>
                  <a:pt x="645104" y="6629"/>
                  <a:pt x="654308" y="3110"/>
                  <a:pt x="663639" y="0"/>
                </a:cubicBezTo>
                <a:cubicBezTo>
                  <a:pt x="679047" y="1712"/>
                  <a:pt x="748254" y="3465"/>
                  <a:pt x="775606" y="18661"/>
                </a:cubicBezTo>
                <a:cubicBezTo>
                  <a:pt x="795212" y="29553"/>
                  <a:pt x="811530" y="45954"/>
                  <a:pt x="831590" y="55984"/>
                </a:cubicBezTo>
                <a:cubicBezTo>
                  <a:pt x="844031" y="62204"/>
                  <a:pt x="855998" y="69479"/>
                  <a:pt x="868912" y="74645"/>
                </a:cubicBezTo>
                <a:cubicBezTo>
                  <a:pt x="887176" y="81950"/>
                  <a:pt x="906921" y="85317"/>
                  <a:pt x="924896" y="93306"/>
                </a:cubicBezTo>
                <a:cubicBezTo>
                  <a:pt x="935144" y="97860"/>
                  <a:pt x="942581" y="107550"/>
                  <a:pt x="952888" y="111967"/>
                </a:cubicBezTo>
                <a:cubicBezTo>
                  <a:pt x="964675" y="117019"/>
                  <a:pt x="978203" y="116795"/>
                  <a:pt x="990210" y="121298"/>
                </a:cubicBezTo>
                <a:cubicBezTo>
                  <a:pt x="1087794" y="157892"/>
                  <a:pt x="969056" y="125339"/>
                  <a:pt x="1064855" y="149290"/>
                </a:cubicBezTo>
                <a:lnTo>
                  <a:pt x="1148831" y="205274"/>
                </a:lnTo>
                <a:cubicBezTo>
                  <a:pt x="1158161" y="211494"/>
                  <a:pt x="1165943" y="221215"/>
                  <a:pt x="1176822" y="223935"/>
                </a:cubicBezTo>
                <a:lnTo>
                  <a:pt x="1214145" y="233265"/>
                </a:lnTo>
                <a:cubicBezTo>
                  <a:pt x="1298301" y="275345"/>
                  <a:pt x="1193914" y="226523"/>
                  <a:pt x="1326112" y="270588"/>
                </a:cubicBezTo>
                <a:cubicBezTo>
                  <a:pt x="1344773" y="276808"/>
                  <a:pt x="1363832" y="281944"/>
                  <a:pt x="1382096" y="289249"/>
                </a:cubicBezTo>
                <a:cubicBezTo>
                  <a:pt x="1437881" y="311563"/>
                  <a:pt x="1412860" y="302613"/>
                  <a:pt x="1456741" y="317241"/>
                </a:cubicBezTo>
                <a:cubicBezTo>
                  <a:pt x="1466072" y="326572"/>
                  <a:pt x="1473754" y="337913"/>
                  <a:pt x="1484733" y="345233"/>
                </a:cubicBezTo>
                <a:cubicBezTo>
                  <a:pt x="1492916" y="350688"/>
                  <a:pt x="1503927" y="350165"/>
                  <a:pt x="1512724" y="354563"/>
                </a:cubicBezTo>
                <a:cubicBezTo>
                  <a:pt x="1522754" y="359578"/>
                  <a:pt x="1530409" y="368808"/>
                  <a:pt x="1540716" y="373225"/>
                </a:cubicBezTo>
                <a:cubicBezTo>
                  <a:pt x="1552503" y="378277"/>
                  <a:pt x="1565756" y="378870"/>
                  <a:pt x="1578039" y="382555"/>
                </a:cubicBezTo>
                <a:cubicBezTo>
                  <a:pt x="1596880" y="388207"/>
                  <a:pt x="1615361" y="394996"/>
                  <a:pt x="1634022" y="401216"/>
                </a:cubicBezTo>
                <a:cubicBezTo>
                  <a:pt x="1697546" y="422391"/>
                  <a:pt x="1619431" y="395745"/>
                  <a:pt x="1708667" y="429208"/>
                </a:cubicBezTo>
                <a:cubicBezTo>
                  <a:pt x="1717876" y="432661"/>
                  <a:pt x="1726957" y="436922"/>
                  <a:pt x="1736659" y="438539"/>
                </a:cubicBezTo>
                <a:cubicBezTo>
                  <a:pt x="1764440" y="443169"/>
                  <a:pt x="1792643" y="444759"/>
                  <a:pt x="1820635" y="447869"/>
                </a:cubicBezTo>
                <a:cubicBezTo>
                  <a:pt x="2366648" y="431324"/>
                  <a:pt x="1974630" y="452852"/>
                  <a:pt x="2203190" y="429208"/>
                </a:cubicBezTo>
                <a:lnTo>
                  <a:pt x="2399133" y="410547"/>
                </a:lnTo>
                <a:cubicBezTo>
                  <a:pt x="2430990" y="404175"/>
                  <a:pt x="2469923" y="395867"/>
                  <a:pt x="2501769" y="391886"/>
                </a:cubicBezTo>
                <a:cubicBezTo>
                  <a:pt x="2532785" y="388009"/>
                  <a:pt x="2564010" y="386007"/>
                  <a:pt x="2595076" y="382555"/>
                </a:cubicBezTo>
                <a:cubicBezTo>
                  <a:pt x="2619998" y="379786"/>
                  <a:pt x="2644937" y="377038"/>
                  <a:pt x="2669720" y="373225"/>
                </a:cubicBezTo>
                <a:cubicBezTo>
                  <a:pt x="2685395" y="370814"/>
                  <a:pt x="2700623" y="365747"/>
                  <a:pt x="2716373" y="363894"/>
                </a:cubicBezTo>
                <a:cubicBezTo>
                  <a:pt x="2753569" y="359518"/>
                  <a:pt x="2791018" y="357673"/>
                  <a:pt x="2828341" y="354563"/>
                </a:cubicBezTo>
                <a:cubicBezTo>
                  <a:pt x="2840782" y="351453"/>
                  <a:pt x="2853014" y="347341"/>
                  <a:pt x="2865663" y="345233"/>
                </a:cubicBezTo>
                <a:cubicBezTo>
                  <a:pt x="2890397" y="341111"/>
                  <a:pt x="2915453" y="339216"/>
                  <a:pt x="2940308" y="335902"/>
                </a:cubicBezTo>
                <a:lnTo>
                  <a:pt x="3005622" y="326571"/>
                </a:lnTo>
                <a:cubicBezTo>
                  <a:pt x="3014953" y="323461"/>
                  <a:pt x="3024157" y="319943"/>
                  <a:pt x="3033614" y="317241"/>
                </a:cubicBezTo>
                <a:cubicBezTo>
                  <a:pt x="3236766" y="259199"/>
                  <a:pt x="3481975" y="314333"/>
                  <a:pt x="3668096" y="317241"/>
                </a:cubicBezTo>
                <a:cubicBezTo>
                  <a:pt x="3680537" y="320351"/>
                  <a:pt x="3693088" y="323048"/>
                  <a:pt x="3705418" y="326571"/>
                </a:cubicBezTo>
                <a:cubicBezTo>
                  <a:pt x="3714875" y="329273"/>
                  <a:pt x="3723809" y="333768"/>
                  <a:pt x="3733410" y="335902"/>
                </a:cubicBezTo>
                <a:cubicBezTo>
                  <a:pt x="3802830" y="351329"/>
                  <a:pt x="3780264" y="339674"/>
                  <a:pt x="3854708" y="354563"/>
                </a:cubicBezTo>
                <a:cubicBezTo>
                  <a:pt x="3879857" y="359593"/>
                  <a:pt x="3904471" y="367005"/>
                  <a:pt x="3929353" y="373225"/>
                </a:cubicBezTo>
                <a:cubicBezTo>
                  <a:pt x="3941794" y="376335"/>
                  <a:pt x="3954510" y="378499"/>
                  <a:pt x="3966676" y="382555"/>
                </a:cubicBezTo>
                <a:cubicBezTo>
                  <a:pt x="4018999" y="399997"/>
                  <a:pt x="3985122" y="389500"/>
                  <a:pt x="4069312" y="410547"/>
                </a:cubicBezTo>
                <a:cubicBezTo>
                  <a:pt x="4081753" y="413657"/>
                  <a:pt x="4093940" y="418065"/>
                  <a:pt x="4106635" y="419878"/>
                </a:cubicBezTo>
                <a:cubicBezTo>
                  <a:pt x="4128406" y="422988"/>
                  <a:pt x="4150311" y="425274"/>
                  <a:pt x="4171949" y="429208"/>
                </a:cubicBezTo>
                <a:cubicBezTo>
                  <a:pt x="4246354" y="442736"/>
                  <a:pt x="4180037" y="445512"/>
                  <a:pt x="4302578" y="447869"/>
                </a:cubicBezTo>
                <a:lnTo>
                  <a:pt x="5179655" y="457200"/>
                </a:lnTo>
                <a:lnTo>
                  <a:pt x="5300953" y="466531"/>
                </a:lnTo>
                <a:cubicBezTo>
                  <a:pt x="5332093" y="469239"/>
                  <a:pt x="5363067" y="473849"/>
                  <a:pt x="5394259" y="475861"/>
                </a:cubicBezTo>
                <a:cubicBezTo>
                  <a:pt x="5459512" y="480071"/>
                  <a:pt x="5524888" y="482082"/>
                  <a:pt x="5590202" y="485192"/>
                </a:cubicBezTo>
                <a:cubicBezTo>
                  <a:pt x="5602643" y="488302"/>
                  <a:pt x="5614907" y="492229"/>
                  <a:pt x="5627524" y="494523"/>
                </a:cubicBezTo>
                <a:cubicBezTo>
                  <a:pt x="5649162" y="498457"/>
                  <a:pt x="5671410" y="498908"/>
                  <a:pt x="5692839" y="503853"/>
                </a:cubicBezTo>
                <a:cubicBezTo>
                  <a:pt x="5712006" y="508276"/>
                  <a:pt x="5730161" y="516294"/>
                  <a:pt x="5748822" y="522514"/>
                </a:cubicBezTo>
                <a:cubicBezTo>
                  <a:pt x="5758153" y="525624"/>
                  <a:pt x="5767170" y="529916"/>
                  <a:pt x="5776814" y="531845"/>
                </a:cubicBezTo>
                <a:cubicBezTo>
                  <a:pt x="5792365" y="534955"/>
                  <a:pt x="5808167" y="537003"/>
                  <a:pt x="5823467" y="541176"/>
                </a:cubicBezTo>
                <a:cubicBezTo>
                  <a:pt x="5842445" y="546352"/>
                  <a:pt x="5860368" y="555066"/>
                  <a:pt x="5879451" y="559837"/>
                </a:cubicBezTo>
                <a:lnTo>
                  <a:pt x="5916773" y="569167"/>
                </a:lnTo>
                <a:cubicBezTo>
                  <a:pt x="5929214" y="575388"/>
                  <a:pt x="5941072" y="582945"/>
                  <a:pt x="5954096" y="587829"/>
                </a:cubicBezTo>
                <a:cubicBezTo>
                  <a:pt x="5966103" y="592332"/>
                  <a:pt x="5979948" y="591424"/>
                  <a:pt x="5991418" y="597159"/>
                </a:cubicBezTo>
                <a:cubicBezTo>
                  <a:pt x="6005327" y="604114"/>
                  <a:pt x="6015239" y="617435"/>
                  <a:pt x="6028741" y="625151"/>
                </a:cubicBezTo>
                <a:cubicBezTo>
                  <a:pt x="6045333" y="634632"/>
                  <a:pt x="6089730" y="640398"/>
                  <a:pt x="6103386" y="643812"/>
                </a:cubicBezTo>
                <a:cubicBezTo>
                  <a:pt x="6112928" y="646197"/>
                  <a:pt x="6121836" y="650757"/>
                  <a:pt x="6131378" y="653143"/>
                </a:cubicBezTo>
                <a:cubicBezTo>
                  <a:pt x="6146763" y="656990"/>
                  <a:pt x="6162480" y="659364"/>
                  <a:pt x="6178031" y="662474"/>
                </a:cubicBezTo>
                <a:cubicBezTo>
                  <a:pt x="6190472" y="668694"/>
                  <a:pt x="6203277" y="674234"/>
                  <a:pt x="6215353" y="681135"/>
                </a:cubicBezTo>
                <a:cubicBezTo>
                  <a:pt x="6225090" y="686699"/>
                  <a:pt x="6233315" y="694781"/>
                  <a:pt x="6243345" y="699796"/>
                </a:cubicBezTo>
                <a:cubicBezTo>
                  <a:pt x="6258326" y="707286"/>
                  <a:pt x="6274447" y="712237"/>
                  <a:pt x="6289998" y="718457"/>
                </a:cubicBezTo>
                <a:cubicBezTo>
                  <a:pt x="6299329" y="727788"/>
                  <a:pt x="6306800" y="739455"/>
                  <a:pt x="6317990" y="746449"/>
                </a:cubicBezTo>
                <a:cubicBezTo>
                  <a:pt x="6347660" y="764993"/>
                  <a:pt x="6390149" y="768531"/>
                  <a:pt x="6420627" y="783771"/>
                </a:cubicBezTo>
                <a:cubicBezTo>
                  <a:pt x="6459242" y="803079"/>
                  <a:pt x="6467807" y="809562"/>
                  <a:pt x="6513933" y="821094"/>
                </a:cubicBezTo>
                <a:cubicBezTo>
                  <a:pt x="6526374" y="824204"/>
                  <a:pt x="6538432" y="830266"/>
                  <a:pt x="6551255" y="830425"/>
                </a:cubicBezTo>
                <a:lnTo>
                  <a:pt x="8016161" y="839755"/>
                </a:lnTo>
                <a:cubicBezTo>
                  <a:pt x="8087696" y="842865"/>
                  <a:pt x="8159374" y="843594"/>
                  <a:pt x="8230765" y="849086"/>
                </a:cubicBezTo>
                <a:cubicBezTo>
                  <a:pt x="8240571" y="849840"/>
                  <a:pt x="8249215" y="856031"/>
                  <a:pt x="8258757" y="858416"/>
                </a:cubicBezTo>
                <a:cubicBezTo>
                  <a:pt x="8276491" y="862850"/>
                  <a:pt x="8323577" y="869894"/>
                  <a:pt x="8342733" y="877078"/>
                </a:cubicBezTo>
                <a:cubicBezTo>
                  <a:pt x="8355756" y="881962"/>
                  <a:pt x="8367141" y="890573"/>
                  <a:pt x="8380055" y="895739"/>
                </a:cubicBezTo>
                <a:cubicBezTo>
                  <a:pt x="8398319" y="903044"/>
                  <a:pt x="8419672" y="903488"/>
                  <a:pt x="8436039" y="914400"/>
                </a:cubicBezTo>
                <a:cubicBezTo>
                  <a:pt x="8500205" y="957179"/>
                  <a:pt x="8470745" y="944631"/>
                  <a:pt x="8520014" y="961053"/>
                </a:cubicBezTo>
                <a:cubicBezTo>
                  <a:pt x="8558351" y="986610"/>
                  <a:pt x="8569733" y="995870"/>
                  <a:pt x="8622651" y="1017037"/>
                </a:cubicBezTo>
                <a:cubicBezTo>
                  <a:pt x="8653753" y="1029478"/>
                  <a:pt x="8683459" y="1046234"/>
                  <a:pt x="8715957" y="1054359"/>
                </a:cubicBezTo>
                <a:cubicBezTo>
                  <a:pt x="8771633" y="1068278"/>
                  <a:pt x="8740631" y="1061582"/>
                  <a:pt x="8809263" y="1073020"/>
                </a:cubicBezTo>
                <a:cubicBezTo>
                  <a:pt x="8821704" y="1082351"/>
                  <a:pt x="8832292" y="1094886"/>
                  <a:pt x="8846586" y="1101012"/>
                </a:cubicBezTo>
                <a:cubicBezTo>
                  <a:pt x="8876432" y="1113803"/>
                  <a:pt x="8908517" y="1120637"/>
                  <a:pt x="8939892" y="1129004"/>
                </a:cubicBezTo>
                <a:cubicBezTo>
                  <a:pt x="8961637" y="1134803"/>
                  <a:pt x="9022746" y="1144368"/>
                  <a:pt x="9042529" y="1147665"/>
                </a:cubicBezTo>
                <a:cubicBezTo>
                  <a:pt x="9061190" y="1153886"/>
                  <a:pt x="9079535" y="1161151"/>
                  <a:pt x="9098512" y="1166327"/>
                </a:cubicBezTo>
                <a:cubicBezTo>
                  <a:pt x="9196228" y="1192977"/>
                  <a:pt x="9098658" y="1159839"/>
                  <a:pt x="9182488" y="1184988"/>
                </a:cubicBezTo>
                <a:cubicBezTo>
                  <a:pt x="9230083" y="1199267"/>
                  <a:pt x="9232788" y="1204379"/>
                  <a:pt x="9275794" y="1212980"/>
                </a:cubicBezTo>
                <a:cubicBezTo>
                  <a:pt x="9294345" y="1216690"/>
                  <a:pt x="9313227" y="1218600"/>
                  <a:pt x="9331778" y="1222310"/>
                </a:cubicBezTo>
                <a:cubicBezTo>
                  <a:pt x="9419008" y="1239756"/>
                  <a:pt x="9325975" y="1223192"/>
                  <a:pt x="9397092" y="1240971"/>
                </a:cubicBezTo>
                <a:cubicBezTo>
                  <a:pt x="9412477" y="1244817"/>
                  <a:pt x="9428194" y="1247192"/>
                  <a:pt x="9443745" y="1250302"/>
                </a:cubicBezTo>
                <a:cubicBezTo>
                  <a:pt x="9446855" y="1321837"/>
                  <a:pt x="9448313" y="1393462"/>
                  <a:pt x="9453076" y="1464906"/>
                </a:cubicBezTo>
                <a:cubicBezTo>
                  <a:pt x="9456878" y="1521933"/>
                  <a:pt x="9463697" y="1525952"/>
                  <a:pt x="9471737" y="1576874"/>
                </a:cubicBezTo>
                <a:cubicBezTo>
                  <a:pt x="9478597" y="1620320"/>
                  <a:pt x="9486416" y="1663698"/>
                  <a:pt x="9490398" y="1707502"/>
                </a:cubicBezTo>
                <a:cubicBezTo>
                  <a:pt x="9493508" y="1741714"/>
                  <a:pt x="9495189" y="1776087"/>
                  <a:pt x="9499729" y="1810139"/>
                </a:cubicBezTo>
                <a:cubicBezTo>
                  <a:pt x="9502333" y="1829670"/>
                  <a:pt x="9511992" y="1856259"/>
                  <a:pt x="9518390" y="1875453"/>
                </a:cubicBezTo>
                <a:cubicBezTo>
                  <a:pt x="9521500" y="1894114"/>
                  <a:pt x="9523616" y="1912969"/>
                  <a:pt x="9527720" y="1931437"/>
                </a:cubicBezTo>
                <a:cubicBezTo>
                  <a:pt x="9545088" y="2009593"/>
                  <a:pt x="9530250" y="1893157"/>
                  <a:pt x="9546382" y="2006082"/>
                </a:cubicBezTo>
                <a:cubicBezTo>
                  <a:pt x="9550365" y="2033963"/>
                  <a:pt x="9552602" y="2062065"/>
                  <a:pt x="9555712" y="2090057"/>
                </a:cubicBezTo>
                <a:cubicBezTo>
                  <a:pt x="9552602" y="2161592"/>
                  <a:pt x="9560986" y="2234564"/>
                  <a:pt x="9546382" y="2304661"/>
                </a:cubicBezTo>
                <a:cubicBezTo>
                  <a:pt x="9543767" y="2317215"/>
                  <a:pt x="9520529" y="2308257"/>
                  <a:pt x="9509059" y="2313992"/>
                </a:cubicBezTo>
                <a:cubicBezTo>
                  <a:pt x="9488999" y="2324022"/>
                  <a:pt x="9475068" y="2346915"/>
                  <a:pt x="9453076" y="2351314"/>
                </a:cubicBezTo>
                <a:cubicBezTo>
                  <a:pt x="9437525" y="2354424"/>
                  <a:pt x="9421808" y="2356798"/>
                  <a:pt x="9406422" y="2360645"/>
                </a:cubicBezTo>
                <a:cubicBezTo>
                  <a:pt x="9308508" y="2385125"/>
                  <a:pt x="9463281" y="2353127"/>
                  <a:pt x="9341108" y="2379306"/>
                </a:cubicBezTo>
                <a:cubicBezTo>
                  <a:pt x="9249207" y="2398998"/>
                  <a:pt x="9263274" y="2395757"/>
                  <a:pt x="9182488" y="2407298"/>
                </a:cubicBezTo>
                <a:cubicBezTo>
                  <a:pt x="9173157" y="2410408"/>
                  <a:pt x="9164038" y="2414244"/>
                  <a:pt x="9154496" y="2416629"/>
                </a:cubicBezTo>
                <a:cubicBezTo>
                  <a:pt x="9138383" y="2420657"/>
                  <a:pt x="9064923" y="2434102"/>
                  <a:pt x="9051859" y="2435290"/>
                </a:cubicBezTo>
                <a:cubicBezTo>
                  <a:pt x="9002203" y="2439804"/>
                  <a:pt x="8952348" y="2441776"/>
                  <a:pt x="8902569" y="2444620"/>
                </a:cubicBezTo>
                <a:lnTo>
                  <a:pt x="8725288" y="2453951"/>
                </a:lnTo>
                <a:cubicBezTo>
                  <a:pt x="8684815" y="2456481"/>
                  <a:pt x="8644530" y="2462293"/>
                  <a:pt x="8603990" y="2463282"/>
                </a:cubicBezTo>
                <a:lnTo>
                  <a:pt x="7960178" y="2472612"/>
                </a:lnTo>
                <a:lnTo>
                  <a:pt x="6252676" y="2463282"/>
                </a:lnTo>
                <a:cubicBezTo>
                  <a:pt x="6202818" y="2462781"/>
                  <a:pt x="6153199" y="2456117"/>
                  <a:pt x="6103386" y="2453951"/>
                </a:cubicBezTo>
                <a:cubicBezTo>
                  <a:pt x="5960056" y="2447719"/>
                  <a:pt x="5775279" y="2445364"/>
                  <a:pt x="5627524" y="2435290"/>
                </a:cubicBezTo>
                <a:cubicBezTo>
                  <a:pt x="5555886" y="2430406"/>
                  <a:pt x="5484672" y="2419389"/>
                  <a:pt x="5412920" y="2416629"/>
                </a:cubicBezTo>
                <a:lnTo>
                  <a:pt x="4927729" y="2397967"/>
                </a:lnTo>
                <a:lnTo>
                  <a:pt x="4638480" y="2388637"/>
                </a:lnTo>
                <a:lnTo>
                  <a:pt x="4423876" y="2379306"/>
                </a:lnTo>
                <a:lnTo>
                  <a:pt x="3985337" y="2369976"/>
                </a:lnTo>
                <a:cubicBezTo>
                  <a:pt x="3394326" y="2338869"/>
                  <a:pt x="4108275" y="2373821"/>
                  <a:pt x="2679051" y="2351314"/>
                </a:cubicBezTo>
                <a:cubicBezTo>
                  <a:pt x="2660135" y="2351016"/>
                  <a:pt x="2641820" y="2344484"/>
                  <a:pt x="2623067" y="2341984"/>
                </a:cubicBezTo>
                <a:cubicBezTo>
                  <a:pt x="2595150" y="2338262"/>
                  <a:pt x="2567084" y="2335763"/>
                  <a:pt x="2539092" y="2332653"/>
                </a:cubicBezTo>
                <a:cubicBezTo>
                  <a:pt x="2441720" y="2308312"/>
                  <a:pt x="2526756" y="2327042"/>
                  <a:pt x="2324488" y="2313992"/>
                </a:cubicBezTo>
                <a:cubicBezTo>
                  <a:pt x="2287114" y="2311581"/>
                  <a:pt x="2249956" y="2305762"/>
                  <a:pt x="2212520" y="2304661"/>
                </a:cubicBezTo>
                <a:cubicBezTo>
                  <a:pt x="2038396" y="2299540"/>
                  <a:pt x="1864158" y="2299381"/>
                  <a:pt x="1690006" y="2295331"/>
                </a:cubicBezTo>
                <a:cubicBezTo>
                  <a:pt x="1553902" y="2292166"/>
                  <a:pt x="1356839" y="2284596"/>
                  <a:pt x="1214145" y="2276669"/>
                </a:cubicBezTo>
                <a:cubicBezTo>
                  <a:pt x="1167460" y="2274075"/>
                  <a:pt x="1120839" y="2270449"/>
                  <a:pt x="1074186" y="2267339"/>
                </a:cubicBezTo>
                <a:lnTo>
                  <a:pt x="439704" y="2276669"/>
                </a:lnTo>
                <a:cubicBezTo>
                  <a:pt x="346741" y="2278735"/>
                  <a:pt x="259122" y="2278966"/>
                  <a:pt x="169116" y="2295331"/>
                </a:cubicBezTo>
                <a:cubicBezTo>
                  <a:pt x="156499" y="2297625"/>
                  <a:pt x="144235" y="2301551"/>
                  <a:pt x="131794" y="2304661"/>
                </a:cubicBezTo>
                <a:cubicBezTo>
                  <a:pt x="91361" y="2301551"/>
                  <a:pt x="15958" y="2335514"/>
                  <a:pt x="10496" y="2295331"/>
                </a:cubicBezTo>
                <a:cubicBezTo>
                  <a:pt x="-11267" y="2135216"/>
                  <a:pt x="7001" y="607431"/>
                  <a:pt x="10496" y="429208"/>
                </a:cubicBezTo>
                <a:cubicBezTo>
                  <a:pt x="11110" y="397888"/>
                  <a:pt x="23022" y="381605"/>
                  <a:pt x="47818" y="363894"/>
                </a:cubicBezTo>
                <a:cubicBezTo>
                  <a:pt x="59137" y="355809"/>
                  <a:pt x="72700" y="351453"/>
                  <a:pt x="85141" y="345233"/>
                </a:cubicBezTo>
                <a:cubicBezTo>
                  <a:pt x="112599" y="317774"/>
                  <a:pt x="85141" y="323461"/>
                  <a:pt x="94471" y="317241"/>
                </a:cubicBezTo>
                <a:close/>
              </a:path>
            </a:pathLst>
          </a:custGeom>
          <a:solidFill>
            <a:srgbClr val="92d050"/>
          </a:solidFill>
          <a:ln w="2556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5" name="Picture 8" descr=""/>
          <p:cNvPicPr/>
          <p:nvPr/>
        </p:nvPicPr>
        <p:blipFill>
          <a:blip r:embed="rId2"/>
          <a:stretch/>
        </p:blipFill>
        <p:spPr>
          <a:xfrm>
            <a:off x="0" y="1125360"/>
            <a:ext cx="5410080" cy="44755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1" descr=""/>
          <p:cNvPicPr/>
          <p:nvPr/>
        </p:nvPicPr>
        <p:blipFill>
          <a:blip r:embed="rId3"/>
          <a:stretch/>
        </p:blipFill>
        <p:spPr>
          <a:xfrm>
            <a:off x="4290840" y="4570560"/>
            <a:ext cx="1262160" cy="101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10"/>
          <p:cNvSpPr/>
          <p:nvPr/>
        </p:nvSpPr>
        <p:spPr>
          <a:xfrm>
            <a:off x="-17640" y="-100080"/>
            <a:ext cx="9161640" cy="6958080"/>
          </a:xfrm>
          <a:prstGeom prst="rect">
            <a:avLst/>
          </a:prstGeom>
          <a:solidFill>
            <a:srgbClr val="c9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2" name="Picture 4" descr=""/>
          <p:cNvPicPr/>
          <p:nvPr/>
        </p:nvPicPr>
        <p:blipFill>
          <a:blip r:embed="rId1"/>
          <a:stretch/>
        </p:blipFill>
        <p:spPr>
          <a:xfrm>
            <a:off x="-17640" y="-1179360"/>
            <a:ext cx="9269640" cy="5214960"/>
          </a:xfrm>
          <a:prstGeom prst="rect">
            <a:avLst/>
          </a:prstGeom>
          <a:ln w="0">
            <a:noFill/>
          </a:ln>
        </p:spPr>
      </p:pic>
      <p:sp>
        <p:nvSpPr>
          <p:cNvPr id="133" name="Freeform 6"/>
          <p:cNvSpPr/>
          <p:nvPr/>
        </p:nvSpPr>
        <p:spPr>
          <a:xfrm>
            <a:off x="-378000" y="3645000"/>
            <a:ext cx="9784080" cy="3386160"/>
          </a:xfrm>
          <a:custGeom>
            <a:avLst/>
            <a:gdLst/>
            <a:ahLst/>
            <a:rect l="l" t="t" r="r" b="b"/>
            <a:pathLst>
              <a:path w="9783555" h="2593910">
                <a:moveTo>
                  <a:pt x="98380" y="1670180"/>
                </a:moveTo>
                <a:cubicBezTo>
                  <a:pt x="117041" y="1660849"/>
                  <a:pt x="136671" y="1653246"/>
                  <a:pt x="154363" y="1642188"/>
                </a:cubicBezTo>
                <a:cubicBezTo>
                  <a:pt x="161823" y="1637525"/>
                  <a:pt x="166267" y="1629158"/>
                  <a:pt x="173025" y="1623526"/>
                </a:cubicBezTo>
                <a:cubicBezTo>
                  <a:pt x="184971" y="1613571"/>
                  <a:pt x="197693" y="1604574"/>
                  <a:pt x="210347" y="1595535"/>
                </a:cubicBezTo>
                <a:cubicBezTo>
                  <a:pt x="219472" y="1589017"/>
                  <a:pt x="229825" y="1584171"/>
                  <a:pt x="238339" y="1576873"/>
                </a:cubicBezTo>
                <a:cubicBezTo>
                  <a:pt x="251697" y="1565423"/>
                  <a:pt x="262303" y="1551001"/>
                  <a:pt x="275661" y="1539551"/>
                </a:cubicBezTo>
                <a:cubicBezTo>
                  <a:pt x="284175" y="1532253"/>
                  <a:pt x="295139" y="1528188"/>
                  <a:pt x="303653" y="1520890"/>
                </a:cubicBezTo>
                <a:cubicBezTo>
                  <a:pt x="317012" y="1509440"/>
                  <a:pt x="327618" y="1495017"/>
                  <a:pt x="340976" y="1483567"/>
                </a:cubicBezTo>
                <a:cubicBezTo>
                  <a:pt x="354452" y="1472016"/>
                  <a:pt x="407230" y="1442907"/>
                  <a:pt x="415620" y="1436914"/>
                </a:cubicBezTo>
                <a:cubicBezTo>
                  <a:pt x="444477" y="1416302"/>
                  <a:pt x="468806" y="1389194"/>
                  <a:pt x="499596" y="1371600"/>
                </a:cubicBezTo>
                <a:cubicBezTo>
                  <a:pt x="521367" y="1359159"/>
                  <a:pt x="542897" y="1346285"/>
                  <a:pt x="564910" y="1334278"/>
                </a:cubicBezTo>
                <a:cubicBezTo>
                  <a:pt x="577121" y="1327617"/>
                  <a:pt x="590438" y="1322988"/>
                  <a:pt x="602233" y="1315616"/>
                </a:cubicBezTo>
                <a:cubicBezTo>
                  <a:pt x="615420" y="1307374"/>
                  <a:pt x="626368" y="1295866"/>
                  <a:pt x="639555" y="1287624"/>
                </a:cubicBezTo>
                <a:cubicBezTo>
                  <a:pt x="727038" y="1232947"/>
                  <a:pt x="632952" y="1301672"/>
                  <a:pt x="704869" y="1250302"/>
                </a:cubicBezTo>
                <a:cubicBezTo>
                  <a:pt x="717524" y="1241263"/>
                  <a:pt x="729452" y="1231228"/>
                  <a:pt x="742192" y="1222310"/>
                </a:cubicBezTo>
                <a:cubicBezTo>
                  <a:pt x="760566" y="1209449"/>
                  <a:pt x="782317" y="1200847"/>
                  <a:pt x="798176" y="1184988"/>
                </a:cubicBezTo>
                <a:cubicBezTo>
                  <a:pt x="815756" y="1167407"/>
                  <a:pt x="830774" y="1148728"/>
                  <a:pt x="854159" y="1138335"/>
                </a:cubicBezTo>
                <a:cubicBezTo>
                  <a:pt x="872134" y="1130346"/>
                  <a:pt x="892549" y="1128470"/>
                  <a:pt x="910143" y="1119673"/>
                </a:cubicBezTo>
                <a:cubicBezTo>
                  <a:pt x="922584" y="1113453"/>
                  <a:pt x="935389" y="1107913"/>
                  <a:pt x="947465" y="1101012"/>
                </a:cubicBezTo>
                <a:cubicBezTo>
                  <a:pt x="957202" y="1095448"/>
                  <a:pt x="965150" y="1086768"/>
                  <a:pt x="975457" y="1082351"/>
                </a:cubicBezTo>
                <a:cubicBezTo>
                  <a:pt x="987244" y="1077299"/>
                  <a:pt x="1000773" y="1077523"/>
                  <a:pt x="1012780" y="1073020"/>
                </a:cubicBezTo>
                <a:cubicBezTo>
                  <a:pt x="1025803" y="1068136"/>
                  <a:pt x="1037661" y="1060579"/>
                  <a:pt x="1050102" y="1054359"/>
                </a:cubicBezTo>
                <a:cubicBezTo>
                  <a:pt x="1087424" y="1057469"/>
                  <a:pt x="1124874" y="1059314"/>
                  <a:pt x="1162069" y="1063690"/>
                </a:cubicBezTo>
                <a:cubicBezTo>
                  <a:pt x="1191978" y="1067209"/>
                  <a:pt x="1217045" y="1075906"/>
                  <a:pt x="1246045" y="1082351"/>
                </a:cubicBezTo>
                <a:cubicBezTo>
                  <a:pt x="1261526" y="1085791"/>
                  <a:pt x="1277217" y="1088242"/>
                  <a:pt x="1292698" y="1091682"/>
                </a:cubicBezTo>
                <a:cubicBezTo>
                  <a:pt x="1305216" y="1094464"/>
                  <a:pt x="1317446" y="1098497"/>
                  <a:pt x="1330020" y="1101012"/>
                </a:cubicBezTo>
                <a:cubicBezTo>
                  <a:pt x="1362402" y="1107488"/>
                  <a:pt x="1419930" y="1115189"/>
                  <a:pt x="1451318" y="1119673"/>
                </a:cubicBezTo>
                <a:cubicBezTo>
                  <a:pt x="1566396" y="1116563"/>
                  <a:pt x="1681575" y="1116092"/>
                  <a:pt x="1796551" y="1110343"/>
                </a:cubicBezTo>
                <a:cubicBezTo>
                  <a:pt x="1806374" y="1109852"/>
                  <a:pt x="1815086" y="1103714"/>
                  <a:pt x="1824543" y="1101012"/>
                </a:cubicBezTo>
                <a:cubicBezTo>
                  <a:pt x="1836873" y="1097489"/>
                  <a:pt x="1849582" y="1095367"/>
                  <a:pt x="1861865" y="1091682"/>
                </a:cubicBezTo>
                <a:cubicBezTo>
                  <a:pt x="1880706" y="1086030"/>
                  <a:pt x="1900255" y="1081817"/>
                  <a:pt x="1917849" y="1073020"/>
                </a:cubicBezTo>
                <a:cubicBezTo>
                  <a:pt x="1942731" y="1060579"/>
                  <a:pt x="1966103" y="1044495"/>
                  <a:pt x="1992494" y="1035698"/>
                </a:cubicBezTo>
                <a:cubicBezTo>
                  <a:pt x="2001825" y="1032588"/>
                  <a:pt x="2011532" y="1030437"/>
                  <a:pt x="2020486" y="1026367"/>
                </a:cubicBezTo>
                <a:cubicBezTo>
                  <a:pt x="2045811" y="1014856"/>
                  <a:pt x="2068740" y="997843"/>
                  <a:pt x="2095131" y="989045"/>
                </a:cubicBezTo>
                <a:cubicBezTo>
                  <a:pt x="2135288" y="975658"/>
                  <a:pt x="2113581" y="982099"/>
                  <a:pt x="2160445" y="970384"/>
                </a:cubicBezTo>
                <a:cubicBezTo>
                  <a:pt x="2172886" y="964163"/>
                  <a:pt x="2184743" y="956606"/>
                  <a:pt x="2197767" y="951722"/>
                </a:cubicBezTo>
                <a:cubicBezTo>
                  <a:pt x="2221697" y="942748"/>
                  <a:pt x="2240514" y="944345"/>
                  <a:pt x="2263082" y="933061"/>
                </a:cubicBezTo>
                <a:cubicBezTo>
                  <a:pt x="2273112" y="928046"/>
                  <a:pt x="2281044" y="919415"/>
                  <a:pt x="2291074" y="914400"/>
                </a:cubicBezTo>
                <a:cubicBezTo>
                  <a:pt x="2368381" y="875747"/>
                  <a:pt x="2309200" y="910630"/>
                  <a:pt x="2365718" y="886408"/>
                </a:cubicBezTo>
                <a:cubicBezTo>
                  <a:pt x="2378503" y="880929"/>
                  <a:pt x="2390126" y="872913"/>
                  <a:pt x="2403041" y="867747"/>
                </a:cubicBezTo>
                <a:cubicBezTo>
                  <a:pt x="2421305" y="860442"/>
                  <a:pt x="2440364" y="855307"/>
                  <a:pt x="2459025" y="849086"/>
                </a:cubicBezTo>
                <a:cubicBezTo>
                  <a:pt x="2489794" y="838829"/>
                  <a:pt x="2500212" y="835963"/>
                  <a:pt x="2533669" y="821094"/>
                </a:cubicBezTo>
                <a:cubicBezTo>
                  <a:pt x="2546380" y="815445"/>
                  <a:pt x="2558207" y="807912"/>
                  <a:pt x="2570992" y="802433"/>
                </a:cubicBezTo>
                <a:cubicBezTo>
                  <a:pt x="2580032" y="798559"/>
                  <a:pt x="2589944" y="796976"/>
                  <a:pt x="2598984" y="793102"/>
                </a:cubicBezTo>
                <a:cubicBezTo>
                  <a:pt x="2611768" y="787623"/>
                  <a:pt x="2623283" y="779325"/>
                  <a:pt x="2636306" y="774441"/>
                </a:cubicBezTo>
                <a:cubicBezTo>
                  <a:pt x="2648313" y="769938"/>
                  <a:pt x="2661346" y="768795"/>
                  <a:pt x="2673629" y="765110"/>
                </a:cubicBezTo>
                <a:cubicBezTo>
                  <a:pt x="2692470" y="759458"/>
                  <a:pt x="2710324" y="750307"/>
                  <a:pt x="2729612" y="746449"/>
                </a:cubicBezTo>
                <a:cubicBezTo>
                  <a:pt x="2769376" y="738496"/>
                  <a:pt x="2771473" y="740082"/>
                  <a:pt x="2804257" y="727788"/>
                </a:cubicBezTo>
                <a:cubicBezTo>
                  <a:pt x="2819940" y="721907"/>
                  <a:pt x="2835929" y="716616"/>
                  <a:pt x="2850910" y="709126"/>
                </a:cubicBezTo>
                <a:cubicBezTo>
                  <a:pt x="2879800" y="694681"/>
                  <a:pt x="2886630" y="679384"/>
                  <a:pt x="2916225" y="662473"/>
                </a:cubicBezTo>
                <a:cubicBezTo>
                  <a:pt x="2924764" y="657594"/>
                  <a:pt x="2934886" y="656253"/>
                  <a:pt x="2944216" y="653143"/>
                </a:cubicBezTo>
                <a:cubicBezTo>
                  <a:pt x="3001269" y="615109"/>
                  <a:pt x="2941652" y="657495"/>
                  <a:pt x="3009531" y="597159"/>
                </a:cubicBezTo>
                <a:cubicBezTo>
                  <a:pt x="3024416" y="583928"/>
                  <a:pt x="3040252" y="571786"/>
                  <a:pt x="3056184" y="559837"/>
                </a:cubicBezTo>
                <a:cubicBezTo>
                  <a:pt x="3065155" y="553108"/>
                  <a:pt x="3075662" y="548473"/>
                  <a:pt x="3084176" y="541175"/>
                </a:cubicBezTo>
                <a:cubicBezTo>
                  <a:pt x="3143287" y="490508"/>
                  <a:pt x="3097883" y="516486"/>
                  <a:pt x="3158820" y="475861"/>
                </a:cubicBezTo>
                <a:cubicBezTo>
                  <a:pt x="3195533" y="451385"/>
                  <a:pt x="3230794" y="428322"/>
                  <a:pt x="3270788" y="410547"/>
                </a:cubicBezTo>
                <a:cubicBezTo>
                  <a:pt x="3295041" y="399768"/>
                  <a:pt x="3331788" y="388541"/>
                  <a:pt x="3354763" y="373224"/>
                </a:cubicBezTo>
                <a:cubicBezTo>
                  <a:pt x="3397461" y="344758"/>
                  <a:pt x="3343104" y="358450"/>
                  <a:pt x="3410747" y="335902"/>
                </a:cubicBezTo>
                <a:cubicBezTo>
                  <a:pt x="3435078" y="327792"/>
                  <a:pt x="3460243" y="322271"/>
                  <a:pt x="3485392" y="317241"/>
                </a:cubicBezTo>
                <a:cubicBezTo>
                  <a:pt x="3553610" y="303597"/>
                  <a:pt x="3516345" y="310153"/>
                  <a:pt x="3597359" y="298580"/>
                </a:cubicBezTo>
                <a:cubicBezTo>
                  <a:pt x="3606690" y="295470"/>
                  <a:pt x="3615894" y="291951"/>
                  <a:pt x="3625351" y="289249"/>
                </a:cubicBezTo>
                <a:cubicBezTo>
                  <a:pt x="3637681" y="285726"/>
                  <a:pt x="3650508" y="283973"/>
                  <a:pt x="3662674" y="279918"/>
                </a:cubicBezTo>
                <a:cubicBezTo>
                  <a:pt x="3678563" y="274622"/>
                  <a:pt x="3693168" y="265664"/>
                  <a:pt x="3709327" y="261257"/>
                </a:cubicBezTo>
                <a:cubicBezTo>
                  <a:pt x="3727579" y="256279"/>
                  <a:pt x="3746649" y="255036"/>
                  <a:pt x="3765310" y="251926"/>
                </a:cubicBezTo>
                <a:cubicBezTo>
                  <a:pt x="3849486" y="209839"/>
                  <a:pt x="3745045" y="258685"/>
                  <a:pt x="3877278" y="214604"/>
                </a:cubicBezTo>
                <a:cubicBezTo>
                  <a:pt x="3886608" y="211494"/>
                  <a:pt x="3895812" y="207975"/>
                  <a:pt x="3905269" y="205273"/>
                </a:cubicBezTo>
                <a:cubicBezTo>
                  <a:pt x="3936002" y="196492"/>
                  <a:pt x="3957194" y="193022"/>
                  <a:pt x="3989245" y="186612"/>
                </a:cubicBezTo>
                <a:cubicBezTo>
                  <a:pt x="4088772" y="189722"/>
                  <a:pt x="4188380" y="190843"/>
                  <a:pt x="4287825" y="195943"/>
                </a:cubicBezTo>
                <a:cubicBezTo>
                  <a:pt x="4346867" y="198971"/>
                  <a:pt x="4347418" y="207122"/>
                  <a:pt x="4399792" y="214604"/>
                </a:cubicBezTo>
                <a:cubicBezTo>
                  <a:pt x="4427673" y="218587"/>
                  <a:pt x="4455775" y="220825"/>
                  <a:pt x="4483767" y="223935"/>
                </a:cubicBezTo>
                <a:lnTo>
                  <a:pt x="4558412" y="242596"/>
                </a:lnTo>
                <a:cubicBezTo>
                  <a:pt x="4570853" y="245706"/>
                  <a:pt x="4582990" y="250510"/>
                  <a:pt x="4595735" y="251926"/>
                </a:cubicBezTo>
                <a:cubicBezTo>
                  <a:pt x="4828674" y="277809"/>
                  <a:pt x="4707422" y="267909"/>
                  <a:pt x="4959629" y="279918"/>
                </a:cubicBezTo>
                <a:cubicBezTo>
                  <a:pt x="4975180" y="283028"/>
                  <a:pt x="4990897" y="285402"/>
                  <a:pt x="5006282" y="289249"/>
                </a:cubicBezTo>
                <a:cubicBezTo>
                  <a:pt x="5015824" y="291635"/>
                  <a:pt x="5024499" y="297494"/>
                  <a:pt x="5034274" y="298580"/>
                </a:cubicBezTo>
                <a:cubicBezTo>
                  <a:pt x="5080745" y="303743"/>
                  <a:pt x="5127604" y="304456"/>
                  <a:pt x="5174233" y="307910"/>
                </a:cubicBezTo>
                <a:lnTo>
                  <a:pt x="5286200" y="317241"/>
                </a:lnTo>
                <a:cubicBezTo>
                  <a:pt x="5298641" y="320351"/>
                  <a:pt x="5310848" y="324621"/>
                  <a:pt x="5323522" y="326571"/>
                </a:cubicBezTo>
                <a:cubicBezTo>
                  <a:pt x="5351359" y="330854"/>
                  <a:pt x="5379527" y="332611"/>
                  <a:pt x="5407498" y="335902"/>
                </a:cubicBezTo>
                <a:lnTo>
                  <a:pt x="5482143" y="345233"/>
                </a:lnTo>
                <a:cubicBezTo>
                  <a:pt x="5594110" y="342123"/>
                  <a:pt x="5706181" y="341639"/>
                  <a:pt x="5818045" y="335902"/>
                </a:cubicBezTo>
                <a:cubicBezTo>
                  <a:pt x="5827868" y="335398"/>
                  <a:pt x="5836269" y="327720"/>
                  <a:pt x="5846037" y="326571"/>
                </a:cubicBezTo>
                <a:cubicBezTo>
                  <a:pt x="5889392" y="321471"/>
                  <a:pt x="5933122" y="320351"/>
                  <a:pt x="5976665" y="317241"/>
                </a:cubicBezTo>
                <a:cubicBezTo>
                  <a:pt x="6001547" y="311021"/>
                  <a:pt x="6025861" y="301761"/>
                  <a:pt x="6051310" y="298580"/>
                </a:cubicBezTo>
                <a:lnTo>
                  <a:pt x="6191269" y="279918"/>
                </a:lnTo>
                <a:cubicBezTo>
                  <a:pt x="6216124" y="276604"/>
                  <a:pt x="6241130" y="274401"/>
                  <a:pt x="6265914" y="270588"/>
                </a:cubicBezTo>
                <a:cubicBezTo>
                  <a:pt x="6364959" y="255350"/>
                  <a:pt x="6264984" y="267846"/>
                  <a:pt x="6349890" y="251926"/>
                </a:cubicBezTo>
                <a:cubicBezTo>
                  <a:pt x="6387079" y="244953"/>
                  <a:pt x="6424535" y="239485"/>
                  <a:pt x="6461857" y="233265"/>
                </a:cubicBezTo>
                <a:lnTo>
                  <a:pt x="6517841" y="223935"/>
                </a:lnTo>
                <a:cubicBezTo>
                  <a:pt x="6594689" y="198318"/>
                  <a:pt x="6554352" y="208055"/>
                  <a:pt x="6639139" y="195943"/>
                </a:cubicBezTo>
                <a:cubicBezTo>
                  <a:pt x="6665822" y="187048"/>
                  <a:pt x="6675157" y="183141"/>
                  <a:pt x="6704453" y="177282"/>
                </a:cubicBezTo>
                <a:cubicBezTo>
                  <a:pt x="6723004" y="173572"/>
                  <a:pt x="6741969" y="172055"/>
                  <a:pt x="6760437" y="167951"/>
                </a:cubicBezTo>
                <a:cubicBezTo>
                  <a:pt x="6770038" y="165817"/>
                  <a:pt x="6779249" y="162151"/>
                  <a:pt x="6788429" y="158620"/>
                </a:cubicBezTo>
                <a:cubicBezTo>
                  <a:pt x="6819694" y="146595"/>
                  <a:pt x="6853863" y="139879"/>
                  <a:pt x="6881735" y="121298"/>
                </a:cubicBezTo>
                <a:cubicBezTo>
                  <a:pt x="6891066" y="115078"/>
                  <a:pt x="6899991" y="108201"/>
                  <a:pt x="6909727" y="102637"/>
                </a:cubicBezTo>
                <a:cubicBezTo>
                  <a:pt x="6961795" y="72883"/>
                  <a:pt x="6932769" y="91262"/>
                  <a:pt x="6993702" y="74645"/>
                </a:cubicBezTo>
                <a:cubicBezTo>
                  <a:pt x="7012680" y="69469"/>
                  <a:pt x="7049686" y="55984"/>
                  <a:pt x="7049686" y="55984"/>
                </a:cubicBezTo>
                <a:cubicBezTo>
                  <a:pt x="7059017" y="49763"/>
                  <a:pt x="7067371" y="41740"/>
                  <a:pt x="7077678" y="37322"/>
                </a:cubicBezTo>
                <a:cubicBezTo>
                  <a:pt x="7089465" y="32271"/>
                  <a:pt x="7102670" y="31515"/>
                  <a:pt x="7115000" y="27992"/>
                </a:cubicBezTo>
                <a:cubicBezTo>
                  <a:pt x="7147032" y="18840"/>
                  <a:pt x="7147142" y="16586"/>
                  <a:pt x="7180314" y="0"/>
                </a:cubicBezTo>
                <a:lnTo>
                  <a:pt x="7516216" y="9331"/>
                </a:lnTo>
                <a:cubicBezTo>
                  <a:pt x="7556734" y="10985"/>
                  <a:pt x="7597024" y="16412"/>
                  <a:pt x="7637514" y="18661"/>
                </a:cubicBezTo>
                <a:cubicBezTo>
                  <a:pt x="7709006" y="22633"/>
                  <a:pt x="7780615" y="24229"/>
                  <a:pt x="7852118" y="27992"/>
                </a:cubicBezTo>
                <a:cubicBezTo>
                  <a:pt x="7898810" y="30449"/>
                  <a:pt x="7945412" y="34405"/>
                  <a:pt x="7992078" y="37322"/>
                </a:cubicBezTo>
                <a:lnTo>
                  <a:pt x="8150698" y="46653"/>
                </a:lnTo>
                <a:cubicBezTo>
                  <a:pt x="8178779" y="48813"/>
                  <a:pt x="8206619" y="53509"/>
                  <a:pt x="8234674" y="55984"/>
                </a:cubicBezTo>
                <a:cubicBezTo>
                  <a:pt x="8427093" y="72962"/>
                  <a:pt x="8447966" y="73397"/>
                  <a:pt x="8617229" y="83975"/>
                </a:cubicBezTo>
                <a:cubicBezTo>
                  <a:pt x="8639000" y="87085"/>
                  <a:pt x="8660978" y="88993"/>
                  <a:pt x="8682543" y="93306"/>
                </a:cubicBezTo>
                <a:cubicBezTo>
                  <a:pt x="8692187" y="95235"/>
                  <a:pt x="8700993" y="100252"/>
                  <a:pt x="8710535" y="102637"/>
                </a:cubicBezTo>
                <a:cubicBezTo>
                  <a:pt x="8725920" y="106483"/>
                  <a:pt x="8741637" y="108857"/>
                  <a:pt x="8757188" y="111967"/>
                </a:cubicBezTo>
                <a:cubicBezTo>
                  <a:pt x="8769629" y="118188"/>
                  <a:pt x="8781725" y="125150"/>
                  <a:pt x="8794510" y="130629"/>
                </a:cubicBezTo>
                <a:cubicBezTo>
                  <a:pt x="8816872" y="140213"/>
                  <a:pt x="8836163" y="142530"/>
                  <a:pt x="8859825" y="149290"/>
                </a:cubicBezTo>
                <a:cubicBezTo>
                  <a:pt x="8889486" y="157764"/>
                  <a:pt x="8902901" y="165444"/>
                  <a:pt x="8934469" y="177282"/>
                </a:cubicBezTo>
                <a:cubicBezTo>
                  <a:pt x="8943678" y="180735"/>
                  <a:pt x="8953130" y="183502"/>
                  <a:pt x="8962461" y="186612"/>
                </a:cubicBezTo>
                <a:cubicBezTo>
                  <a:pt x="8971792" y="192832"/>
                  <a:pt x="8980423" y="200258"/>
                  <a:pt x="8990453" y="205273"/>
                </a:cubicBezTo>
                <a:cubicBezTo>
                  <a:pt x="8999250" y="209672"/>
                  <a:pt x="9008956" y="212016"/>
                  <a:pt x="9018445" y="214604"/>
                </a:cubicBezTo>
                <a:cubicBezTo>
                  <a:pt x="9043189" y="221352"/>
                  <a:pt x="9069277" y="223740"/>
                  <a:pt x="9093090" y="233265"/>
                </a:cubicBezTo>
                <a:cubicBezTo>
                  <a:pt x="9108641" y="239485"/>
                  <a:pt x="9123970" y="246293"/>
                  <a:pt x="9139743" y="251926"/>
                </a:cubicBezTo>
                <a:cubicBezTo>
                  <a:pt x="9167530" y="261850"/>
                  <a:pt x="9197327" y="266722"/>
                  <a:pt x="9223718" y="279918"/>
                </a:cubicBezTo>
                <a:cubicBezTo>
                  <a:pt x="9236159" y="286139"/>
                  <a:pt x="9248964" y="291679"/>
                  <a:pt x="9261041" y="298580"/>
                </a:cubicBezTo>
                <a:cubicBezTo>
                  <a:pt x="9270777" y="304144"/>
                  <a:pt x="9279003" y="312226"/>
                  <a:pt x="9289033" y="317241"/>
                </a:cubicBezTo>
                <a:cubicBezTo>
                  <a:pt x="9297830" y="321639"/>
                  <a:pt x="9307694" y="323461"/>
                  <a:pt x="9317025" y="326571"/>
                </a:cubicBezTo>
                <a:cubicBezTo>
                  <a:pt x="9335686" y="339012"/>
                  <a:pt x="9351731" y="356802"/>
                  <a:pt x="9373008" y="363894"/>
                </a:cubicBezTo>
                <a:lnTo>
                  <a:pt x="9456984" y="391886"/>
                </a:lnTo>
                <a:lnTo>
                  <a:pt x="9512967" y="410547"/>
                </a:lnTo>
                <a:lnTo>
                  <a:pt x="9540959" y="419878"/>
                </a:lnTo>
                <a:cubicBezTo>
                  <a:pt x="9556510" y="435429"/>
                  <a:pt x="9580657" y="445667"/>
                  <a:pt x="9587612" y="466531"/>
                </a:cubicBezTo>
                <a:cubicBezTo>
                  <a:pt x="9599725" y="502868"/>
                  <a:pt x="9589989" y="487567"/>
                  <a:pt x="9615604" y="513184"/>
                </a:cubicBezTo>
                <a:cubicBezTo>
                  <a:pt x="9622015" y="545239"/>
                  <a:pt x="9625483" y="566423"/>
                  <a:pt x="9634265" y="597159"/>
                </a:cubicBezTo>
                <a:cubicBezTo>
                  <a:pt x="9650452" y="653813"/>
                  <a:pt x="9638699" y="593550"/>
                  <a:pt x="9652927" y="671804"/>
                </a:cubicBezTo>
                <a:cubicBezTo>
                  <a:pt x="9672457" y="779222"/>
                  <a:pt x="9651875" y="673773"/>
                  <a:pt x="9671588" y="811763"/>
                </a:cubicBezTo>
                <a:cubicBezTo>
                  <a:pt x="9676939" y="849220"/>
                  <a:pt x="9685556" y="886186"/>
                  <a:pt x="9690249" y="923731"/>
                </a:cubicBezTo>
                <a:cubicBezTo>
                  <a:pt x="9693359" y="948612"/>
                  <a:pt x="9696034" y="973552"/>
                  <a:pt x="9699580" y="998375"/>
                </a:cubicBezTo>
                <a:cubicBezTo>
                  <a:pt x="9702255" y="1017104"/>
                  <a:pt x="9706895" y="1035548"/>
                  <a:pt x="9708910" y="1054359"/>
                </a:cubicBezTo>
                <a:cubicBezTo>
                  <a:pt x="9716229" y="1122675"/>
                  <a:pt x="9727571" y="1259633"/>
                  <a:pt x="9727571" y="1259633"/>
                </a:cubicBezTo>
                <a:cubicBezTo>
                  <a:pt x="9719430" y="1495751"/>
                  <a:pt x="9706477" y="1457207"/>
                  <a:pt x="9727571" y="1604865"/>
                </a:cubicBezTo>
                <a:cubicBezTo>
                  <a:pt x="9730246" y="1623594"/>
                  <a:pt x="9732314" y="1642495"/>
                  <a:pt x="9736902" y="1660849"/>
                </a:cubicBezTo>
                <a:cubicBezTo>
                  <a:pt x="9741673" y="1679932"/>
                  <a:pt x="9751705" y="1697544"/>
                  <a:pt x="9755563" y="1716833"/>
                </a:cubicBezTo>
                <a:cubicBezTo>
                  <a:pt x="9758673" y="1732384"/>
                  <a:pt x="9760721" y="1748186"/>
                  <a:pt x="9764894" y="1763486"/>
                </a:cubicBezTo>
                <a:cubicBezTo>
                  <a:pt x="9770070" y="1782463"/>
                  <a:pt x="9783555" y="1819469"/>
                  <a:pt x="9783555" y="1819469"/>
                </a:cubicBezTo>
                <a:cubicBezTo>
                  <a:pt x="9780445" y="1965649"/>
                  <a:pt x="9786121" y="2112280"/>
                  <a:pt x="9774225" y="2258008"/>
                </a:cubicBezTo>
                <a:cubicBezTo>
                  <a:pt x="9773249" y="2269970"/>
                  <a:pt x="9726000" y="2283783"/>
                  <a:pt x="9718241" y="2286000"/>
                </a:cubicBezTo>
                <a:cubicBezTo>
                  <a:pt x="9705911" y="2289523"/>
                  <a:pt x="9693201" y="2291646"/>
                  <a:pt x="9680918" y="2295331"/>
                </a:cubicBezTo>
                <a:cubicBezTo>
                  <a:pt x="9662077" y="2300983"/>
                  <a:pt x="9644408" y="2311210"/>
                  <a:pt x="9624935" y="2313992"/>
                </a:cubicBezTo>
                <a:lnTo>
                  <a:pt x="9559620" y="2323322"/>
                </a:lnTo>
                <a:cubicBezTo>
                  <a:pt x="9526477" y="2334370"/>
                  <a:pt x="9461216" y="2357716"/>
                  <a:pt x="9428992" y="2360645"/>
                </a:cubicBezTo>
                <a:lnTo>
                  <a:pt x="9326355" y="2369975"/>
                </a:lnTo>
                <a:cubicBezTo>
                  <a:pt x="9208860" y="2399350"/>
                  <a:pt x="9295078" y="2379903"/>
                  <a:pt x="9195727" y="2397967"/>
                </a:cubicBezTo>
                <a:cubicBezTo>
                  <a:pt x="9180124" y="2400804"/>
                  <a:pt x="9164862" y="2405794"/>
                  <a:pt x="9149074" y="2407298"/>
                </a:cubicBezTo>
                <a:cubicBezTo>
                  <a:pt x="9053630" y="2416388"/>
                  <a:pt x="8817508" y="2424024"/>
                  <a:pt x="8747857" y="2425959"/>
                </a:cubicBezTo>
                <a:lnTo>
                  <a:pt x="8327980" y="2435290"/>
                </a:lnTo>
                <a:cubicBezTo>
                  <a:pt x="8219123" y="2441510"/>
                  <a:pt x="8110412" y="2451356"/>
                  <a:pt x="8001408" y="2453951"/>
                </a:cubicBezTo>
                <a:lnTo>
                  <a:pt x="7609522" y="2463282"/>
                </a:lnTo>
                <a:lnTo>
                  <a:pt x="7282951" y="2472612"/>
                </a:lnTo>
                <a:lnTo>
                  <a:pt x="6723114" y="2481943"/>
                </a:lnTo>
                <a:lnTo>
                  <a:pt x="6153947" y="2509935"/>
                </a:lnTo>
                <a:lnTo>
                  <a:pt x="5855367" y="2519265"/>
                </a:lnTo>
                <a:cubicBezTo>
                  <a:pt x="5643770" y="2540426"/>
                  <a:pt x="5783817" y="2528744"/>
                  <a:pt x="5398167" y="2537926"/>
                </a:cubicBezTo>
                <a:lnTo>
                  <a:pt x="4978290" y="2547257"/>
                </a:lnTo>
                <a:cubicBezTo>
                  <a:pt x="4756222" y="2591670"/>
                  <a:pt x="4943102" y="2559843"/>
                  <a:pt x="4511759" y="2575249"/>
                </a:cubicBezTo>
                <a:cubicBezTo>
                  <a:pt x="4461930" y="2577029"/>
                  <a:pt x="4412327" y="2584127"/>
                  <a:pt x="4362469" y="2584580"/>
                </a:cubicBezTo>
                <a:lnTo>
                  <a:pt x="2459025" y="2593910"/>
                </a:lnTo>
                <a:lnTo>
                  <a:pt x="1339351" y="2584580"/>
                </a:lnTo>
                <a:cubicBezTo>
                  <a:pt x="1241522" y="2583051"/>
                  <a:pt x="1292768" y="2571714"/>
                  <a:pt x="1208722" y="2565918"/>
                </a:cubicBezTo>
                <a:cubicBezTo>
                  <a:pt x="1137289" y="2560992"/>
                  <a:pt x="1065653" y="2559698"/>
                  <a:pt x="994118" y="2556588"/>
                </a:cubicBezTo>
                <a:lnTo>
                  <a:pt x="928804" y="2547257"/>
                </a:lnTo>
                <a:cubicBezTo>
                  <a:pt x="844244" y="2535982"/>
                  <a:pt x="819817" y="2535312"/>
                  <a:pt x="723531" y="2519265"/>
                </a:cubicBezTo>
                <a:cubicBezTo>
                  <a:pt x="686208" y="2513045"/>
                  <a:pt x="647459" y="2512569"/>
                  <a:pt x="611563" y="2500604"/>
                </a:cubicBezTo>
                <a:lnTo>
                  <a:pt x="555580" y="2481943"/>
                </a:lnTo>
                <a:cubicBezTo>
                  <a:pt x="546249" y="2478833"/>
                  <a:pt x="537232" y="2474541"/>
                  <a:pt x="527588" y="2472612"/>
                </a:cubicBezTo>
                <a:lnTo>
                  <a:pt x="480935" y="2463282"/>
                </a:lnTo>
                <a:cubicBezTo>
                  <a:pt x="468494" y="2457061"/>
                  <a:pt x="456986" y="2448441"/>
                  <a:pt x="443612" y="2444620"/>
                </a:cubicBezTo>
                <a:cubicBezTo>
                  <a:pt x="413114" y="2435906"/>
                  <a:pt x="350306" y="2425959"/>
                  <a:pt x="350306" y="2425959"/>
                </a:cubicBezTo>
                <a:cubicBezTo>
                  <a:pt x="331645" y="2413518"/>
                  <a:pt x="306763" y="2407298"/>
                  <a:pt x="294322" y="2388637"/>
                </a:cubicBezTo>
                <a:cubicBezTo>
                  <a:pt x="288102" y="2379306"/>
                  <a:pt x="283590" y="2368574"/>
                  <a:pt x="275661" y="2360645"/>
                </a:cubicBezTo>
                <a:cubicBezTo>
                  <a:pt x="257575" y="2342559"/>
                  <a:pt x="242443" y="2340242"/>
                  <a:pt x="219678" y="2332653"/>
                </a:cubicBezTo>
                <a:cubicBezTo>
                  <a:pt x="213457" y="2326433"/>
                  <a:pt x="208559" y="2318518"/>
                  <a:pt x="201016" y="2313992"/>
                </a:cubicBezTo>
                <a:cubicBezTo>
                  <a:pt x="192582" y="2308932"/>
                  <a:pt x="182065" y="2308535"/>
                  <a:pt x="173025" y="2304661"/>
                </a:cubicBezTo>
                <a:cubicBezTo>
                  <a:pt x="160240" y="2299182"/>
                  <a:pt x="147629" y="2293156"/>
                  <a:pt x="135702" y="2286000"/>
                </a:cubicBezTo>
                <a:cubicBezTo>
                  <a:pt x="116470" y="2274461"/>
                  <a:pt x="79718" y="2248678"/>
                  <a:pt x="79718" y="2248678"/>
                </a:cubicBezTo>
                <a:cubicBezTo>
                  <a:pt x="82829" y="2037115"/>
                  <a:pt x="-113205" y="1614196"/>
                  <a:pt x="98380" y="1614196"/>
                </a:cubicBezTo>
              </a:path>
            </a:pathLst>
          </a:custGeom>
          <a:solidFill>
            <a:srgbClr val="72af2f"/>
          </a:solidFill>
          <a:ln w="25560">
            <a:solidFill>
              <a:srgbClr val="72af2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Freeform 5"/>
          <p:cNvSpPr/>
          <p:nvPr/>
        </p:nvSpPr>
        <p:spPr>
          <a:xfrm>
            <a:off x="-225360" y="3645000"/>
            <a:ext cx="9556560" cy="3446280"/>
          </a:xfrm>
          <a:custGeom>
            <a:avLst/>
            <a:gdLst/>
            <a:ahLst/>
            <a:rect l="l" t="t" r="r" b="b"/>
            <a:pathLst>
              <a:path w="9555712" h="2472612">
                <a:moveTo>
                  <a:pt x="94471" y="317241"/>
                </a:moveTo>
                <a:cubicBezTo>
                  <a:pt x="103801" y="311021"/>
                  <a:pt x="126079" y="312925"/>
                  <a:pt x="141124" y="307910"/>
                </a:cubicBezTo>
                <a:cubicBezTo>
                  <a:pt x="206137" y="286239"/>
                  <a:pt x="151913" y="293185"/>
                  <a:pt x="215769" y="261257"/>
                </a:cubicBezTo>
                <a:cubicBezTo>
                  <a:pt x="227239" y="255522"/>
                  <a:pt x="240651" y="255037"/>
                  <a:pt x="253092" y="251927"/>
                </a:cubicBezTo>
                <a:cubicBezTo>
                  <a:pt x="270450" y="234569"/>
                  <a:pt x="276203" y="226375"/>
                  <a:pt x="299745" y="214604"/>
                </a:cubicBezTo>
                <a:cubicBezTo>
                  <a:pt x="308542" y="210206"/>
                  <a:pt x="318406" y="208384"/>
                  <a:pt x="327737" y="205274"/>
                </a:cubicBezTo>
                <a:cubicBezTo>
                  <a:pt x="369934" y="163075"/>
                  <a:pt x="317194" y="214058"/>
                  <a:pt x="383720" y="158620"/>
                </a:cubicBezTo>
                <a:cubicBezTo>
                  <a:pt x="390478" y="152988"/>
                  <a:pt x="395062" y="144839"/>
                  <a:pt x="402382" y="139959"/>
                </a:cubicBezTo>
                <a:cubicBezTo>
                  <a:pt x="413955" y="132244"/>
                  <a:pt x="427628" y="128199"/>
                  <a:pt x="439704" y="121298"/>
                </a:cubicBezTo>
                <a:cubicBezTo>
                  <a:pt x="449441" y="115734"/>
                  <a:pt x="458571" y="109155"/>
                  <a:pt x="467696" y="102637"/>
                </a:cubicBezTo>
                <a:cubicBezTo>
                  <a:pt x="480350" y="93598"/>
                  <a:pt x="491424" y="82197"/>
                  <a:pt x="505018" y="74645"/>
                </a:cubicBezTo>
                <a:cubicBezTo>
                  <a:pt x="519659" y="66511"/>
                  <a:pt x="536690" y="63474"/>
                  <a:pt x="551671" y="55984"/>
                </a:cubicBezTo>
                <a:cubicBezTo>
                  <a:pt x="561701" y="50969"/>
                  <a:pt x="570906" y="44328"/>
                  <a:pt x="579663" y="37323"/>
                </a:cubicBezTo>
                <a:cubicBezTo>
                  <a:pt x="586532" y="31827"/>
                  <a:pt x="590456" y="22595"/>
                  <a:pt x="598324" y="18661"/>
                </a:cubicBezTo>
                <a:cubicBezTo>
                  <a:pt x="609794" y="12926"/>
                  <a:pt x="623317" y="12854"/>
                  <a:pt x="635647" y="9331"/>
                </a:cubicBezTo>
                <a:cubicBezTo>
                  <a:pt x="645104" y="6629"/>
                  <a:pt x="654308" y="3110"/>
                  <a:pt x="663639" y="0"/>
                </a:cubicBezTo>
                <a:cubicBezTo>
                  <a:pt x="679047" y="1712"/>
                  <a:pt x="748254" y="3465"/>
                  <a:pt x="775606" y="18661"/>
                </a:cubicBezTo>
                <a:cubicBezTo>
                  <a:pt x="795212" y="29553"/>
                  <a:pt x="811530" y="45954"/>
                  <a:pt x="831590" y="55984"/>
                </a:cubicBezTo>
                <a:cubicBezTo>
                  <a:pt x="844031" y="62204"/>
                  <a:pt x="855998" y="69479"/>
                  <a:pt x="868912" y="74645"/>
                </a:cubicBezTo>
                <a:cubicBezTo>
                  <a:pt x="887176" y="81950"/>
                  <a:pt x="906921" y="85317"/>
                  <a:pt x="924896" y="93306"/>
                </a:cubicBezTo>
                <a:cubicBezTo>
                  <a:pt x="935144" y="97860"/>
                  <a:pt x="942581" y="107550"/>
                  <a:pt x="952888" y="111967"/>
                </a:cubicBezTo>
                <a:cubicBezTo>
                  <a:pt x="964675" y="117019"/>
                  <a:pt x="978203" y="116795"/>
                  <a:pt x="990210" y="121298"/>
                </a:cubicBezTo>
                <a:cubicBezTo>
                  <a:pt x="1087794" y="157892"/>
                  <a:pt x="969056" y="125339"/>
                  <a:pt x="1064855" y="149290"/>
                </a:cubicBezTo>
                <a:lnTo>
                  <a:pt x="1148831" y="205274"/>
                </a:lnTo>
                <a:cubicBezTo>
                  <a:pt x="1158161" y="211494"/>
                  <a:pt x="1165943" y="221215"/>
                  <a:pt x="1176822" y="223935"/>
                </a:cubicBezTo>
                <a:lnTo>
                  <a:pt x="1214145" y="233265"/>
                </a:lnTo>
                <a:cubicBezTo>
                  <a:pt x="1298301" y="275345"/>
                  <a:pt x="1193914" y="226523"/>
                  <a:pt x="1326112" y="270588"/>
                </a:cubicBezTo>
                <a:cubicBezTo>
                  <a:pt x="1344773" y="276808"/>
                  <a:pt x="1363832" y="281944"/>
                  <a:pt x="1382096" y="289249"/>
                </a:cubicBezTo>
                <a:cubicBezTo>
                  <a:pt x="1437881" y="311563"/>
                  <a:pt x="1412860" y="302613"/>
                  <a:pt x="1456741" y="317241"/>
                </a:cubicBezTo>
                <a:cubicBezTo>
                  <a:pt x="1466072" y="326572"/>
                  <a:pt x="1473754" y="337913"/>
                  <a:pt x="1484733" y="345233"/>
                </a:cubicBezTo>
                <a:cubicBezTo>
                  <a:pt x="1492916" y="350688"/>
                  <a:pt x="1503927" y="350165"/>
                  <a:pt x="1512724" y="354563"/>
                </a:cubicBezTo>
                <a:cubicBezTo>
                  <a:pt x="1522754" y="359578"/>
                  <a:pt x="1530409" y="368808"/>
                  <a:pt x="1540716" y="373225"/>
                </a:cubicBezTo>
                <a:cubicBezTo>
                  <a:pt x="1552503" y="378277"/>
                  <a:pt x="1565756" y="378870"/>
                  <a:pt x="1578039" y="382555"/>
                </a:cubicBezTo>
                <a:cubicBezTo>
                  <a:pt x="1596880" y="388207"/>
                  <a:pt x="1615361" y="394996"/>
                  <a:pt x="1634022" y="401216"/>
                </a:cubicBezTo>
                <a:cubicBezTo>
                  <a:pt x="1697546" y="422391"/>
                  <a:pt x="1619431" y="395745"/>
                  <a:pt x="1708667" y="429208"/>
                </a:cubicBezTo>
                <a:cubicBezTo>
                  <a:pt x="1717876" y="432661"/>
                  <a:pt x="1726957" y="436922"/>
                  <a:pt x="1736659" y="438539"/>
                </a:cubicBezTo>
                <a:cubicBezTo>
                  <a:pt x="1764440" y="443169"/>
                  <a:pt x="1792643" y="444759"/>
                  <a:pt x="1820635" y="447869"/>
                </a:cubicBezTo>
                <a:cubicBezTo>
                  <a:pt x="2366648" y="431324"/>
                  <a:pt x="1974630" y="452852"/>
                  <a:pt x="2203190" y="429208"/>
                </a:cubicBezTo>
                <a:lnTo>
                  <a:pt x="2399133" y="410547"/>
                </a:lnTo>
                <a:cubicBezTo>
                  <a:pt x="2430990" y="404175"/>
                  <a:pt x="2469923" y="395867"/>
                  <a:pt x="2501769" y="391886"/>
                </a:cubicBezTo>
                <a:cubicBezTo>
                  <a:pt x="2532785" y="388009"/>
                  <a:pt x="2564010" y="386007"/>
                  <a:pt x="2595076" y="382555"/>
                </a:cubicBezTo>
                <a:cubicBezTo>
                  <a:pt x="2619998" y="379786"/>
                  <a:pt x="2644937" y="377038"/>
                  <a:pt x="2669720" y="373225"/>
                </a:cubicBezTo>
                <a:cubicBezTo>
                  <a:pt x="2685395" y="370814"/>
                  <a:pt x="2700623" y="365747"/>
                  <a:pt x="2716373" y="363894"/>
                </a:cubicBezTo>
                <a:cubicBezTo>
                  <a:pt x="2753569" y="359518"/>
                  <a:pt x="2791018" y="357673"/>
                  <a:pt x="2828341" y="354563"/>
                </a:cubicBezTo>
                <a:cubicBezTo>
                  <a:pt x="2840782" y="351453"/>
                  <a:pt x="2853014" y="347341"/>
                  <a:pt x="2865663" y="345233"/>
                </a:cubicBezTo>
                <a:cubicBezTo>
                  <a:pt x="2890397" y="341111"/>
                  <a:pt x="2915453" y="339216"/>
                  <a:pt x="2940308" y="335902"/>
                </a:cubicBezTo>
                <a:lnTo>
                  <a:pt x="3005622" y="326571"/>
                </a:lnTo>
                <a:cubicBezTo>
                  <a:pt x="3014953" y="323461"/>
                  <a:pt x="3024157" y="319943"/>
                  <a:pt x="3033614" y="317241"/>
                </a:cubicBezTo>
                <a:cubicBezTo>
                  <a:pt x="3236766" y="259199"/>
                  <a:pt x="3481975" y="314333"/>
                  <a:pt x="3668096" y="317241"/>
                </a:cubicBezTo>
                <a:cubicBezTo>
                  <a:pt x="3680537" y="320351"/>
                  <a:pt x="3693088" y="323048"/>
                  <a:pt x="3705418" y="326571"/>
                </a:cubicBezTo>
                <a:cubicBezTo>
                  <a:pt x="3714875" y="329273"/>
                  <a:pt x="3723809" y="333768"/>
                  <a:pt x="3733410" y="335902"/>
                </a:cubicBezTo>
                <a:cubicBezTo>
                  <a:pt x="3802830" y="351329"/>
                  <a:pt x="3780264" y="339674"/>
                  <a:pt x="3854708" y="354563"/>
                </a:cubicBezTo>
                <a:cubicBezTo>
                  <a:pt x="3879857" y="359593"/>
                  <a:pt x="3904471" y="367005"/>
                  <a:pt x="3929353" y="373225"/>
                </a:cubicBezTo>
                <a:cubicBezTo>
                  <a:pt x="3941794" y="376335"/>
                  <a:pt x="3954510" y="378499"/>
                  <a:pt x="3966676" y="382555"/>
                </a:cubicBezTo>
                <a:cubicBezTo>
                  <a:pt x="4018999" y="399997"/>
                  <a:pt x="3985122" y="389500"/>
                  <a:pt x="4069312" y="410547"/>
                </a:cubicBezTo>
                <a:cubicBezTo>
                  <a:pt x="4081753" y="413657"/>
                  <a:pt x="4093940" y="418065"/>
                  <a:pt x="4106635" y="419878"/>
                </a:cubicBezTo>
                <a:cubicBezTo>
                  <a:pt x="4128406" y="422988"/>
                  <a:pt x="4150311" y="425274"/>
                  <a:pt x="4171949" y="429208"/>
                </a:cubicBezTo>
                <a:cubicBezTo>
                  <a:pt x="4246354" y="442736"/>
                  <a:pt x="4180037" y="445512"/>
                  <a:pt x="4302578" y="447869"/>
                </a:cubicBezTo>
                <a:lnTo>
                  <a:pt x="5179655" y="457200"/>
                </a:lnTo>
                <a:lnTo>
                  <a:pt x="5300953" y="466531"/>
                </a:lnTo>
                <a:cubicBezTo>
                  <a:pt x="5332093" y="469239"/>
                  <a:pt x="5363067" y="473849"/>
                  <a:pt x="5394259" y="475861"/>
                </a:cubicBezTo>
                <a:cubicBezTo>
                  <a:pt x="5459512" y="480071"/>
                  <a:pt x="5524888" y="482082"/>
                  <a:pt x="5590202" y="485192"/>
                </a:cubicBezTo>
                <a:cubicBezTo>
                  <a:pt x="5602643" y="488302"/>
                  <a:pt x="5614907" y="492229"/>
                  <a:pt x="5627524" y="494523"/>
                </a:cubicBezTo>
                <a:cubicBezTo>
                  <a:pt x="5649162" y="498457"/>
                  <a:pt x="5671410" y="498908"/>
                  <a:pt x="5692839" y="503853"/>
                </a:cubicBezTo>
                <a:cubicBezTo>
                  <a:pt x="5712006" y="508276"/>
                  <a:pt x="5730161" y="516294"/>
                  <a:pt x="5748822" y="522514"/>
                </a:cubicBezTo>
                <a:cubicBezTo>
                  <a:pt x="5758153" y="525624"/>
                  <a:pt x="5767170" y="529916"/>
                  <a:pt x="5776814" y="531845"/>
                </a:cubicBezTo>
                <a:cubicBezTo>
                  <a:pt x="5792365" y="534955"/>
                  <a:pt x="5808167" y="537003"/>
                  <a:pt x="5823467" y="541176"/>
                </a:cubicBezTo>
                <a:cubicBezTo>
                  <a:pt x="5842445" y="546352"/>
                  <a:pt x="5860368" y="555066"/>
                  <a:pt x="5879451" y="559837"/>
                </a:cubicBezTo>
                <a:lnTo>
                  <a:pt x="5916773" y="569167"/>
                </a:lnTo>
                <a:cubicBezTo>
                  <a:pt x="5929214" y="575388"/>
                  <a:pt x="5941072" y="582945"/>
                  <a:pt x="5954096" y="587829"/>
                </a:cubicBezTo>
                <a:cubicBezTo>
                  <a:pt x="5966103" y="592332"/>
                  <a:pt x="5979948" y="591424"/>
                  <a:pt x="5991418" y="597159"/>
                </a:cubicBezTo>
                <a:cubicBezTo>
                  <a:pt x="6005327" y="604114"/>
                  <a:pt x="6015239" y="617435"/>
                  <a:pt x="6028741" y="625151"/>
                </a:cubicBezTo>
                <a:cubicBezTo>
                  <a:pt x="6045333" y="634632"/>
                  <a:pt x="6089730" y="640398"/>
                  <a:pt x="6103386" y="643812"/>
                </a:cubicBezTo>
                <a:cubicBezTo>
                  <a:pt x="6112928" y="646197"/>
                  <a:pt x="6121836" y="650757"/>
                  <a:pt x="6131378" y="653143"/>
                </a:cubicBezTo>
                <a:cubicBezTo>
                  <a:pt x="6146763" y="656990"/>
                  <a:pt x="6162480" y="659364"/>
                  <a:pt x="6178031" y="662474"/>
                </a:cubicBezTo>
                <a:cubicBezTo>
                  <a:pt x="6190472" y="668694"/>
                  <a:pt x="6203277" y="674234"/>
                  <a:pt x="6215353" y="681135"/>
                </a:cubicBezTo>
                <a:cubicBezTo>
                  <a:pt x="6225090" y="686699"/>
                  <a:pt x="6233315" y="694781"/>
                  <a:pt x="6243345" y="699796"/>
                </a:cubicBezTo>
                <a:cubicBezTo>
                  <a:pt x="6258326" y="707286"/>
                  <a:pt x="6274447" y="712237"/>
                  <a:pt x="6289998" y="718457"/>
                </a:cubicBezTo>
                <a:cubicBezTo>
                  <a:pt x="6299329" y="727788"/>
                  <a:pt x="6306800" y="739455"/>
                  <a:pt x="6317990" y="746449"/>
                </a:cubicBezTo>
                <a:cubicBezTo>
                  <a:pt x="6347660" y="764993"/>
                  <a:pt x="6390149" y="768531"/>
                  <a:pt x="6420627" y="783771"/>
                </a:cubicBezTo>
                <a:cubicBezTo>
                  <a:pt x="6459242" y="803079"/>
                  <a:pt x="6467807" y="809562"/>
                  <a:pt x="6513933" y="821094"/>
                </a:cubicBezTo>
                <a:cubicBezTo>
                  <a:pt x="6526374" y="824204"/>
                  <a:pt x="6538432" y="830266"/>
                  <a:pt x="6551255" y="830425"/>
                </a:cubicBezTo>
                <a:lnTo>
                  <a:pt x="8016161" y="839755"/>
                </a:lnTo>
                <a:cubicBezTo>
                  <a:pt x="8087696" y="842865"/>
                  <a:pt x="8159374" y="843594"/>
                  <a:pt x="8230765" y="849086"/>
                </a:cubicBezTo>
                <a:cubicBezTo>
                  <a:pt x="8240571" y="849840"/>
                  <a:pt x="8249215" y="856031"/>
                  <a:pt x="8258757" y="858416"/>
                </a:cubicBezTo>
                <a:cubicBezTo>
                  <a:pt x="8276491" y="862850"/>
                  <a:pt x="8323577" y="869894"/>
                  <a:pt x="8342733" y="877078"/>
                </a:cubicBezTo>
                <a:cubicBezTo>
                  <a:pt x="8355756" y="881962"/>
                  <a:pt x="8367141" y="890573"/>
                  <a:pt x="8380055" y="895739"/>
                </a:cubicBezTo>
                <a:cubicBezTo>
                  <a:pt x="8398319" y="903044"/>
                  <a:pt x="8419672" y="903488"/>
                  <a:pt x="8436039" y="914400"/>
                </a:cubicBezTo>
                <a:cubicBezTo>
                  <a:pt x="8500205" y="957179"/>
                  <a:pt x="8470745" y="944631"/>
                  <a:pt x="8520014" y="961053"/>
                </a:cubicBezTo>
                <a:cubicBezTo>
                  <a:pt x="8558351" y="986610"/>
                  <a:pt x="8569733" y="995870"/>
                  <a:pt x="8622651" y="1017037"/>
                </a:cubicBezTo>
                <a:cubicBezTo>
                  <a:pt x="8653753" y="1029478"/>
                  <a:pt x="8683459" y="1046234"/>
                  <a:pt x="8715957" y="1054359"/>
                </a:cubicBezTo>
                <a:cubicBezTo>
                  <a:pt x="8771633" y="1068278"/>
                  <a:pt x="8740631" y="1061582"/>
                  <a:pt x="8809263" y="1073020"/>
                </a:cubicBezTo>
                <a:cubicBezTo>
                  <a:pt x="8821704" y="1082351"/>
                  <a:pt x="8832292" y="1094886"/>
                  <a:pt x="8846586" y="1101012"/>
                </a:cubicBezTo>
                <a:cubicBezTo>
                  <a:pt x="8876432" y="1113803"/>
                  <a:pt x="8908517" y="1120637"/>
                  <a:pt x="8939892" y="1129004"/>
                </a:cubicBezTo>
                <a:cubicBezTo>
                  <a:pt x="8961637" y="1134803"/>
                  <a:pt x="9022746" y="1144368"/>
                  <a:pt x="9042529" y="1147665"/>
                </a:cubicBezTo>
                <a:cubicBezTo>
                  <a:pt x="9061190" y="1153886"/>
                  <a:pt x="9079535" y="1161151"/>
                  <a:pt x="9098512" y="1166327"/>
                </a:cubicBezTo>
                <a:cubicBezTo>
                  <a:pt x="9196228" y="1192977"/>
                  <a:pt x="9098658" y="1159839"/>
                  <a:pt x="9182488" y="1184988"/>
                </a:cubicBezTo>
                <a:cubicBezTo>
                  <a:pt x="9230083" y="1199267"/>
                  <a:pt x="9232788" y="1204379"/>
                  <a:pt x="9275794" y="1212980"/>
                </a:cubicBezTo>
                <a:cubicBezTo>
                  <a:pt x="9294345" y="1216690"/>
                  <a:pt x="9313227" y="1218600"/>
                  <a:pt x="9331778" y="1222310"/>
                </a:cubicBezTo>
                <a:cubicBezTo>
                  <a:pt x="9419008" y="1239756"/>
                  <a:pt x="9325975" y="1223192"/>
                  <a:pt x="9397092" y="1240971"/>
                </a:cubicBezTo>
                <a:cubicBezTo>
                  <a:pt x="9412477" y="1244817"/>
                  <a:pt x="9428194" y="1247192"/>
                  <a:pt x="9443745" y="1250302"/>
                </a:cubicBezTo>
                <a:cubicBezTo>
                  <a:pt x="9446855" y="1321837"/>
                  <a:pt x="9448313" y="1393462"/>
                  <a:pt x="9453076" y="1464906"/>
                </a:cubicBezTo>
                <a:cubicBezTo>
                  <a:pt x="9456878" y="1521933"/>
                  <a:pt x="9463697" y="1525952"/>
                  <a:pt x="9471737" y="1576874"/>
                </a:cubicBezTo>
                <a:cubicBezTo>
                  <a:pt x="9478597" y="1620320"/>
                  <a:pt x="9486416" y="1663698"/>
                  <a:pt x="9490398" y="1707502"/>
                </a:cubicBezTo>
                <a:cubicBezTo>
                  <a:pt x="9493508" y="1741714"/>
                  <a:pt x="9495189" y="1776087"/>
                  <a:pt x="9499729" y="1810139"/>
                </a:cubicBezTo>
                <a:cubicBezTo>
                  <a:pt x="9502333" y="1829670"/>
                  <a:pt x="9511992" y="1856259"/>
                  <a:pt x="9518390" y="1875453"/>
                </a:cubicBezTo>
                <a:cubicBezTo>
                  <a:pt x="9521500" y="1894114"/>
                  <a:pt x="9523616" y="1912969"/>
                  <a:pt x="9527720" y="1931437"/>
                </a:cubicBezTo>
                <a:cubicBezTo>
                  <a:pt x="9545088" y="2009593"/>
                  <a:pt x="9530250" y="1893157"/>
                  <a:pt x="9546382" y="2006082"/>
                </a:cubicBezTo>
                <a:cubicBezTo>
                  <a:pt x="9550365" y="2033963"/>
                  <a:pt x="9552602" y="2062065"/>
                  <a:pt x="9555712" y="2090057"/>
                </a:cubicBezTo>
                <a:cubicBezTo>
                  <a:pt x="9552602" y="2161592"/>
                  <a:pt x="9560986" y="2234564"/>
                  <a:pt x="9546382" y="2304661"/>
                </a:cubicBezTo>
                <a:cubicBezTo>
                  <a:pt x="9543767" y="2317215"/>
                  <a:pt x="9520529" y="2308257"/>
                  <a:pt x="9509059" y="2313992"/>
                </a:cubicBezTo>
                <a:cubicBezTo>
                  <a:pt x="9488999" y="2324022"/>
                  <a:pt x="9475068" y="2346915"/>
                  <a:pt x="9453076" y="2351314"/>
                </a:cubicBezTo>
                <a:cubicBezTo>
                  <a:pt x="9437525" y="2354424"/>
                  <a:pt x="9421808" y="2356798"/>
                  <a:pt x="9406422" y="2360645"/>
                </a:cubicBezTo>
                <a:cubicBezTo>
                  <a:pt x="9308508" y="2385125"/>
                  <a:pt x="9463281" y="2353127"/>
                  <a:pt x="9341108" y="2379306"/>
                </a:cubicBezTo>
                <a:cubicBezTo>
                  <a:pt x="9249207" y="2398998"/>
                  <a:pt x="9263274" y="2395757"/>
                  <a:pt x="9182488" y="2407298"/>
                </a:cubicBezTo>
                <a:cubicBezTo>
                  <a:pt x="9173157" y="2410408"/>
                  <a:pt x="9164038" y="2414244"/>
                  <a:pt x="9154496" y="2416629"/>
                </a:cubicBezTo>
                <a:cubicBezTo>
                  <a:pt x="9138383" y="2420657"/>
                  <a:pt x="9064923" y="2434102"/>
                  <a:pt x="9051859" y="2435290"/>
                </a:cubicBezTo>
                <a:cubicBezTo>
                  <a:pt x="9002203" y="2439804"/>
                  <a:pt x="8952348" y="2441776"/>
                  <a:pt x="8902569" y="2444620"/>
                </a:cubicBezTo>
                <a:lnTo>
                  <a:pt x="8725288" y="2453951"/>
                </a:lnTo>
                <a:cubicBezTo>
                  <a:pt x="8684815" y="2456481"/>
                  <a:pt x="8644530" y="2462293"/>
                  <a:pt x="8603990" y="2463282"/>
                </a:cubicBezTo>
                <a:lnTo>
                  <a:pt x="7960178" y="2472612"/>
                </a:lnTo>
                <a:lnTo>
                  <a:pt x="6252676" y="2463282"/>
                </a:lnTo>
                <a:cubicBezTo>
                  <a:pt x="6202818" y="2462781"/>
                  <a:pt x="6153199" y="2456117"/>
                  <a:pt x="6103386" y="2453951"/>
                </a:cubicBezTo>
                <a:cubicBezTo>
                  <a:pt x="5960056" y="2447719"/>
                  <a:pt x="5775279" y="2445364"/>
                  <a:pt x="5627524" y="2435290"/>
                </a:cubicBezTo>
                <a:cubicBezTo>
                  <a:pt x="5555886" y="2430406"/>
                  <a:pt x="5484672" y="2419389"/>
                  <a:pt x="5412920" y="2416629"/>
                </a:cubicBezTo>
                <a:lnTo>
                  <a:pt x="4927729" y="2397967"/>
                </a:lnTo>
                <a:lnTo>
                  <a:pt x="4638480" y="2388637"/>
                </a:lnTo>
                <a:lnTo>
                  <a:pt x="4423876" y="2379306"/>
                </a:lnTo>
                <a:lnTo>
                  <a:pt x="3985337" y="2369976"/>
                </a:lnTo>
                <a:cubicBezTo>
                  <a:pt x="3394326" y="2338869"/>
                  <a:pt x="4108275" y="2373821"/>
                  <a:pt x="2679051" y="2351314"/>
                </a:cubicBezTo>
                <a:cubicBezTo>
                  <a:pt x="2660135" y="2351016"/>
                  <a:pt x="2641820" y="2344484"/>
                  <a:pt x="2623067" y="2341984"/>
                </a:cubicBezTo>
                <a:cubicBezTo>
                  <a:pt x="2595150" y="2338262"/>
                  <a:pt x="2567084" y="2335763"/>
                  <a:pt x="2539092" y="2332653"/>
                </a:cubicBezTo>
                <a:cubicBezTo>
                  <a:pt x="2441720" y="2308312"/>
                  <a:pt x="2526756" y="2327042"/>
                  <a:pt x="2324488" y="2313992"/>
                </a:cubicBezTo>
                <a:cubicBezTo>
                  <a:pt x="2287114" y="2311581"/>
                  <a:pt x="2249956" y="2305762"/>
                  <a:pt x="2212520" y="2304661"/>
                </a:cubicBezTo>
                <a:cubicBezTo>
                  <a:pt x="2038396" y="2299540"/>
                  <a:pt x="1864158" y="2299381"/>
                  <a:pt x="1690006" y="2295331"/>
                </a:cubicBezTo>
                <a:cubicBezTo>
                  <a:pt x="1553902" y="2292166"/>
                  <a:pt x="1356839" y="2284596"/>
                  <a:pt x="1214145" y="2276669"/>
                </a:cubicBezTo>
                <a:cubicBezTo>
                  <a:pt x="1167460" y="2274075"/>
                  <a:pt x="1120839" y="2270449"/>
                  <a:pt x="1074186" y="2267339"/>
                </a:cubicBezTo>
                <a:lnTo>
                  <a:pt x="439704" y="2276669"/>
                </a:lnTo>
                <a:cubicBezTo>
                  <a:pt x="346741" y="2278735"/>
                  <a:pt x="259122" y="2278966"/>
                  <a:pt x="169116" y="2295331"/>
                </a:cubicBezTo>
                <a:cubicBezTo>
                  <a:pt x="156499" y="2297625"/>
                  <a:pt x="144235" y="2301551"/>
                  <a:pt x="131794" y="2304661"/>
                </a:cubicBezTo>
                <a:cubicBezTo>
                  <a:pt x="91361" y="2301551"/>
                  <a:pt x="15958" y="2335514"/>
                  <a:pt x="10496" y="2295331"/>
                </a:cubicBezTo>
                <a:cubicBezTo>
                  <a:pt x="-11267" y="2135216"/>
                  <a:pt x="7001" y="607431"/>
                  <a:pt x="10496" y="429208"/>
                </a:cubicBezTo>
                <a:cubicBezTo>
                  <a:pt x="11110" y="397888"/>
                  <a:pt x="23022" y="381605"/>
                  <a:pt x="47818" y="363894"/>
                </a:cubicBezTo>
                <a:cubicBezTo>
                  <a:pt x="59137" y="355809"/>
                  <a:pt x="72700" y="351453"/>
                  <a:pt x="85141" y="345233"/>
                </a:cubicBezTo>
                <a:cubicBezTo>
                  <a:pt x="112599" y="317774"/>
                  <a:pt x="85141" y="323461"/>
                  <a:pt x="94471" y="317241"/>
                </a:cubicBezTo>
                <a:close/>
              </a:path>
            </a:pathLst>
          </a:custGeom>
          <a:solidFill>
            <a:srgbClr val="92d050"/>
          </a:solidFill>
          <a:ln w="2556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5" name="Picture 8" descr=""/>
          <p:cNvPicPr/>
          <p:nvPr/>
        </p:nvPicPr>
        <p:blipFill>
          <a:blip r:embed="rId2"/>
          <a:stretch/>
        </p:blipFill>
        <p:spPr>
          <a:xfrm>
            <a:off x="0" y="1125360"/>
            <a:ext cx="5410080" cy="44755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9" descr=""/>
          <p:cNvPicPr/>
          <p:nvPr/>
        </p:nvPicPr>
        <p:blipFill>
          <a:blip r:embed="rId3"/>
          <a:stretch/>
        </p:blipFill>
        <p:spPr>
          <a:xfrm>
            <a:off x="6894360" y="5076720"/>
            <a:ext cx="754200" cy="5288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0" descr=""/>
          <p:cNvPicPr/>
          <p:nvPr/>
        </p:nvPicPr>
        <p:blipFill>
          <a:blip r:embed="rId4"/>
          <a:stretch/>
        </p:blipFill>
        <p:spPr>
          <a:xfrm>
            <a:off x="5415120" y="4618080"/>
            <a:ext cx="1461960" cy="8906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1" descr=""/>
          <p:cNvPicPr/>
          <p:nvPr/>
        </p:nvPicPr>
        <p:blipFill>
          <a:blip r:embed="rId5"/>
          <a:stretch/>
        </p:blipFill>
        <p:spPr>
          <a:xfrm>
            <a:off x="4290840" y="4221000"/>
            <a:ext cx="1262160" cy="10130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" descr=""/>
          <p:cNvPicPr/>
          <p:nvPr/>
        </p:nvPicPr>
        <p:blipFill>
          <a:blip r:embed="rId6"/>
          <a:stretch/>
        </p:blipFill>
        <p:spPr>
          <a:xfrm>
            <a:off x="7648560" y="4989600"/>
            <a:ext cx="598680" cy="7858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2" descr=""/>
          <p:cNvPicPr/>
          <p:nvPr/>
        </p:nvPicPr>
        <p:blipFill>
          <a:blip r:embed="rId7"/>
          <a:stretch/>
        </p:blipFill>
        <p:spPr>
          <a:xfrm>
            <a:off x="6659640" y="5840280"/>
            <a:ext cx="1535040" cy="7668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" descr=""/>
          <p:cNvPicPr/>
          <p:nvPr/>
        </p:nvPicPr>
        <p:blipFill>
          <a:blip r:embed="rId8"/>
          <a:stretch/>
        </p:blipFill>
        <p:spPr>
          <a:xfrm>
            <a:off x="6621480" y="2762280"/>
            <a:ext cx="1119240" cy="7714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2" descr=""/>
          <p:cNvPicPr/>
          <p:nvPr/>
        </p:nvPicPr>
        <p:blipFill>
          <a:blip r:embed="rId9"/>
          <a:stretch/>
        </p:blipFill>
        <p:spPr>
          <a:xfrm>
            <a:off x="5784840" y="5950080"/>
            <a:ext cx="874800" cy="6570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" descr=""/>
          <p:cNvPicPr/>
          <p:nvPr/>
        </p:nvPicPr>
        <p:blipFill>
          <a:blip r:embed="rId10"/>
          <a:stretch/>
        </p:blipFill>
        <p:spPr>
          <a:xfrm>
            <a:off x="5008680" y="6022800"/>
            <a:ext cx="544320" cy="5112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" descr=""/>
          <p:cNvPicPr/>
          <p:nvPr/>
        </p:nvPicPr>
        <p:blipFill>
          <a:blip r:embed="rId11"/>
          <a:stretch/>
        </p:blipFill>
        <p:spPr>
          <a:xfrm>
            <a:off x="4260960" y="6175440"/>
            <a:ext cx="527040" cy="3492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" descr=""/>
          <p:cNvPicPr/>
          <p:nvPr/>
        </p:nvPicPr>
        <p:blipFill>
          <a:blip r:embed="rId12"/>
          <a:stretch/>
        </p:blipFill>
        <p:spPr>
          <a:xfrm>
            <a:off x="2075040" y="3741840"/>
            <a:ext cx="2269800" cy="27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0"/>
          <p:cNvSpPr/>
          <p:nvPr/>
        </p:nvSpPr>
        <p:spPr>
          <a:xfrm>
            <a:off x="-17640" y="-100080"/>
            <a:ext cx="9161640" cy="6958080"/>
          </a:xfrm>
          <a:prstGeom prst="rect">
            <a:avLst/>
          </a:prstGeom>
          <a:solidFill>
            <a:srgbClr val="c9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-17640" y="-1179360"/>
            <a:ext cx="9269640" cy="5214960"/>
          </a:xfrm>
          <a:prstGeom prst="rect">
            <a:avLst/>
          </a:prstGeom>
          <a:ln w="0">
            <a:noFill/>
          </a:ln>
        </p:spPr>
      </p:pic>
      <p:sp>
        <p:nvSpPr>
          <p:cNvPr id="49" name="Freeform 6"/>
          <p:cNvSpPr/>
          <p:nvPr/>
        </p:nvSpPr>
        <p:spPr>
          <a:xfrm>
            <a:off x="-378000" y="3645000"/>
            <a:ext cx="9784080" cy="3386160"/>
          </a:xfrm>
          <a:custGeom>
            <a:avLst/>
            <a:gdLst/>
            <a:ahLst/>
            <a:rect l="l" t="t" r="r" b="b"/>
            <a:pathLst>
              <a:path w="9783555" h="2593910">
                <a:moveTo>
                  <a:pt x="98380" y="1670180"/>
                </a:moveTo>
                <a:cubicBezTo>
                  <a:pt x="117041" y="1660849"/>
                  <a:pt x="136671" y="1653246"/>
                  <a:pt x="154363" y="1642188"/>
                </a:cubicBezTo>
                <a:cubicBezTo>
                  <a:pt x="161823" y="1637525"/>
                  <a:pt x="166267" y="1629158"/>
                  <a:pt x="173025" y="1623526"/>
                </a:cubicBezTo>
                <a:cubicBezTo>
                  <a:pt x="184971" y="1613571"/>
                  <a:pt x="197693" y="1604574"/>
                  <a:pt x="210347" y="1595535"/>
                </a:cubicBezTo>
                <a:cubicBezTo>
                  <a:pt x="219472" y="1589017"/>
                  <a:pt x="229825" y="1584171"/>
                  <a:pt x="238339" y="1576873"/>
                </a:cubicBezTo>
                <a:cubicBezTo>
                  <a:pt x="251697" y="1565423"/>
                  <a:pt x="262303" y="1551001"/>
                  <a:pt x="275661" y="1539551"/>
                </a:cubicBezTo>
                <a:cubicBezTo>
                  <a:pt x="284175" y="1532253"/>
                  <a:pt x="295139" y="1528188"/>
                  <a:pt x="303653" y="1520890"/>
                </a:cubicBezTo>
                <a:cubicBezTo>
                  <a:pt x="317012" y="1509440"/>
                  <a:pt x="327618" y="1495017"/>
                  <a:pt x="340976" y="1483567"/>
                </a:cubicBezTo>
                <a:cubicBezTo>
                  <a:pt x="354452" y="1472016"/>
                  <a:pt x="407230" y="1442907"/>
                  <a:pt x="415620" y="1436914"/>
                </a:cubicBezTo>
                <a:cubicBezTo>
                  <a:pt x="444477" y="1416302"/>
                  <a:pt x="468806" y="1389194"/>
                  <a:pt x="499596" y="1371600"/>
                </a:cubicBezTo>
                <a:cubicBezTo>
                  <a:pt x="521367" y="1359159"/>
                  <a:pt x="542897" y="1346285"/>
                  <a:pt x="564910" y="1334278"/>
                </a:cubicBezTo>
                <a:cubicBezTo>
                  <a:pt x="577121" y="1327617"/>
                  <a:pt x="590438" y="1322988"/>
                  <a:pt x="602233" y="1315616"/>
                </a:cubicBezTo>
                <a:cubicBezTo>
                  <a:pt x="615420" y="1307374"/>
                  <a:pt x="626368" y="1295866"/>
                  <a:pt x="639555" y="1287624"/>
                </a:cubicBezTo>
                <a:cubicBezTo>
                  <a:pt x="727038" y="1232947"/>
                  <a:pt x="632952" y="1301672"/>
                  <a:pt x="704869" y="1250302"/>
                </a:cubicBezTo>
                <a:cubicBezTo>
                  <a:pt x="717524" y="1241263"/>
                  <a:pt x="729452" y="1231228"/>
                  <a:pt x="742192" y="1222310"/>
                </a:cubicBezTo>
                <a:cubicBezTo>
                  <a:pt x="760566" y="1209449"/>
                  <a:pt x="782317" y="1200847"/>
                  <a:pt x="798176" y="1184988"/>
                </a:cubicBezTo>
                <a:cubicBezTo>
                  <a:pt x="815756" y="1167407"/>
                  <a:pt x="830774" y="1148728"/>
                  <a:pt x="854159" y="1138335"/>
                </a:cubicBezTo>
                <a:cubicBezTo>
                  <a:pt x="872134" y="1130346"/>
                  <a:pt x="892549" y="1128470"/>
                  <a:pt x="910143" y="1119673"/>
                </a:cubicBezTo>
                <a:cubicBezTo>
                  <a:pt x="922584" y="1113453"/>
                  <a:pt x="935389" y="1107913"/>
                  <a:pt x="947465" y="1101012"/>
                </a:cubicBezTo>
                <a:cubicBezTo>
                  <a:pt x="957202" y="1095448"/>
                  <a:pt x="965150" y="1086768"/>
                  <a:pt x="975457" y="1082351"/>
                </a:cubicBezTo>
                <a:cubicBezTo>
                  <a:pt x="987244" y="1077299"/>
                  <a:pt x="1000773" y="1077523"/>
                  <a:pt x="1012780" y="1073020"/>
                </a:cubicBezTo>
                <a:cubicBezTo>
                  <a:pt x="1025803" y="1068136"/>
                  <a:pt x="1037661" y="1060579"/>
                  <a:pt x="1050102" y="1054359"/>
                </a:cubicBezTo>
                <a:cubicBezTo>
                  <a:pt x="1087424" y="1057469"/>
                  <a:pt x="1124874" y="1059314"/>
                  <a:pt x="1162069" y="1063690"/>
                </a:cubicBezTo>
                <a:cubicBezTo>
                  <a:pt x="1191978" y="1067209"/>
                  <a:pt x="1217045" y="1075906"/>
                  <a:pt x="1246045" y="1082351"/>
                </a:cubicBezTo>
                <a:cubicBezTo>
                  <a:pt x="1261526" y="1085791"/>
                  <a:pt x="1277217" y="1088242"/>
                  <a:pt x="1292698" y="1091682"/>
                </a:cubicBezTo>
                <a:cubicBezTo>
                  <a:pt x="1305216" y="1094464"/>
                  <a:pt x="1317446" y="1098497"/>
                  <a:pt x="1330020" y="1101012"/>
                </a:cubicBezTo>
                <a:cubicBezTo>
                  <a:pt x="1362402" y="1107488"/>
                  <a:pt x="1419930" y="1115189"/>
                  <a:pt x="1451318" y="1119673"/>
                </a:cubicBezTo>
                <a:cubicBezTo>
                  <a:pt x="1566396" y="1116563"/>
                  <a:pt x="1681575" y="1116092"/>
                  <a:pt x="1796551" y="1110343"/>
                </a:cubicBezTo>
                <a:cubicBezTo>
                  <a:pt x="1806374" y="1109852"/>
                  <a:pt x="1815086" y="1103714"/>
                  <a:pt x="1824543" y="1101012"/>
                </a:cubicBezTo>
                <a:cubicBezTo>
                  <a:pt x="1836873" y="1097489"/>
                  <a:pt x="1849582" y="1095367"/>
                  <a:pt x="1861865" y="1091682"/>
                </a:cubicBezTo>
                <a:cubicBezTo>
                  <a:pt x="1880706" y="1086030"/>
                  <a:pt x="1900255" y="1081817"/>
                  <a:pt x="1917849" y="1073020"/>
                </a:cubicBezTo>
                <a:cubicBezTo>
                  <a:pt x="1942731" y="1060579"/>
                  <a:pt x="1966103" y="1044495"/>
                  <a:pt x="1992494" y="1035698"/>
                </a:cubicBezTo>
                <a:cubicBezTo>
                  <a:pt x="2001825" y="1032588"/>
                  <a:pt x="2011532" y="1030437"/>
                  <a:pt x="2020486" y="1026367"/>
                </a:cubicBezTo>
                <a:cubicBezTo>
                  <a:pt x="2045811" y="1014856"/>
                  <a:pt x="2068740" y="997843"/>
                  <a:pt x="2095131" y="989045"/>
                </a:cubicBezTo>
                <a:cubicBezTo>
                  <a:pt x="2135288" y="975658"/>
                  <a:pt x="2113581" y="982099"/>
                  <a:pt x="2160445" y="970384"/>
                </a:cubicBezTo>
                <a:cubicBezTo>
                  <a:pt x="2172886" y="964163"/>
                  <a:pt x="2184743" y="956606"/>
                  <a:pt x="2197767" y="951722"/>
                </a:cubicBezTo>
                <a:cubicBezTo>
                  <a:pt x="2221697" y="942748"/>
                  <a:pt x="2240514" y="944345"/>
                  <a:pt x="2263082" y="933061"/>
                </a:cubicBezTo>
                <a:cubicBezTo>
                  <a:pt x="2273112" y="928046"/>
                  <a:pt x="2281044" y="919415"/>
                  <a:pt x="2291074" y="914400"/>
                </a:cubicBezTo>
                <a:cubicBezTo>
                  <a:pt x="2368381" y="875747"/>
                  <a:pt x="2309200" y="910630"/>
                  <a:pt x="2365718" y="886408"/>
                </a:cubicBezTo>
                <a:cubicBezTo>
                  <a:pt x="2378503" y="880929"/>
                  <a:pt x="2390126" y="872913"/>
                  <a:pt x="2403041" y="867747"/>
                </a:cubicBezTo>
                <a:cubicBezTo>
                  <a:pt x="2421305" y="860442"/>
                  <a:pt x="2440364" y="855307"/>
                  <a:pt x="2459025" y="849086"/>
                </a:cubicBezTo>
                <a:cubicBezTo>
                  <a:pt x="2489794" y="838829"/>
                  <a:pt x="2500212" y="835963"/>
                  <a:pt x="2533669" y="821094"/>
                </a:cubicBezTo>
                <a:cubicBezTo>
                  <a:pt x="2546380" y="815445"/>
                  <a:pt x="2558207" y="807912"/>
                  <a:pt x="2570992" y="802433"/>
                </a:cubicBezTo>
                <a:cubicBezTo>
                  <a:pt x="2580032" y="798559"/>
                  <a:pt x="2589944" y="796976"/>
                  <a:pt x="2598984" y="793102"/>
                </a:cubicBezTo>
                <a:cubicBezTo>
                  <a:pt x="2611768" y="787623"/>
                  <a:pt x="2623283" y="779325"/>
                  <a:pt x="2636306" y="774441"/>
                </a:cubicBezTo>
                <a:cubicBezTo>
                  <a:pt x="2648313" y="769938"/>
                  <a:pt x="2661346" y="768795"/>
                  <a:pt x="2673629" y="765110"/>
                </a:cubicBezTo>
                <a:cubicBezTo>
                  <a:pt x="2692470" y="759458"/>
                  <a:pt x="2710324" y="750307"/>
                  <a:pt x="2729612" y="746449"/>
                </a:cubicBezTo>
                <a:cubicBezTo>
                  <a:pt x="2769376" y="738496"/>
                  <a:pt x="2771473" y="740082"/>
                  <a:pt x="2804257" y="727788"/>
                </a:cubicBezTo>
                <a:cubicBezTo>
                  <a:pt x="2819940" y="721907"/>
                  <a:pt x="2835929" y="716616"/>
                  <a:pt x="2850910" y="709126"/>
                </a:cubicBezTo>
                <a:cubicBezTo>
                  <a:pt x="2879800" y="694681"/>
                  <a:pt x="2886630" y="679384"/>
                  <a:pt x="2916225" y="662473"/>
                </a:cubicBezTo>
                <a:cubicBezTo>
                  <a:pt x="2924764" y="657594"/>
                  <a:pt x="2934886" y="656253"/>
                  <a:pt x="2944216" y="653143"/>
                </a:cubicBezTo>
                <a:cubicBezTo>
                  <a:pt x="3001269" y="615109"/>
                  <a:pt x="2941652" y="657495"/>
                  <a:pt x="3009531" y="597159"/>
                </a:cubicBezTo>
                <a:cubicBezTo>
                  <a:pt x="3024416" y="583928"/>
                  <a:pt x="3040252" y="571786"/>
                  <a:pt x="3056184" y="559837"/>
                </a:cubicBezTo>
                <a:cubicBezTo>
                  <a:pt x="3065155" y="553108"/>
                  <a:pt x="3075662" y="548473"/>
                  <a:pt x="3084176" y="541175"/>
                </a:cubicBezTo>
                <a:cubicBezTo>
                  <a:pt x="3143287" y="490508"/>
                  <a:pt x="3097883" y="516486"/>
                  <a:pt x="3158820" y="475861"/>
                </a:cubicBezTo>
                <a:cubicBezTo>
                  <a:pt x="3195533" y="451385"/>
                  <a:pt x="3230794" y="428322"/>
                  <a:pt x="3270788" y="410547"/>
                </a:cubicBezTo>
                <a:cubicBezTo>
                  <a:pt x="3295041" y="399768"/>
                  <a:pt x="3331788" y="388541"/>
                  <a:pt x="3354763" y="373224"/>
                </a:cubicBezTo>
                <a:cubicBezTo>
                  <a:pt x="3397461" y="344758"/>
                  <a:pt x="3343104" y="358450"/>
                  <a:pt x="3410747" y="335902"/>
                </a:cubicBezTo>
                <a:cubicBezTo>
                  <a:pt x="3435078" y="327792"/>
                  <a:pt x="3460243" y="322271"/>
                  <a:pt x="3485392" y="317241"/>
                </a:cubicBezTo>
                <a:cubicBezTo>
                  <a:pt x="3553610" y="303597"/>
                  <a:pt x="3516345" y="310153"/>
                  <a:pt x="3597359" y="298580"/>
                </a:cubicBezTo>
                <a:cubicBezTo>
                  <a:pt x="3606690" y="295470"/>
                  <a:pt x="3615894" y="291951"/>
                  <a:pt x="3625351" y="289249"/>
                </a:cubicBezTo>
                <a:cubicBezTo>
                  <a:pt x="3637681" y="285726"/>
                  <a:pt x="3650508" y="283973"/>
                  <a:pt x="3662674" y="279918"/>
                </a:cubicBezTo>
                <a:cubicBezTo>
                  <a:pt x="3678563" y="274622"/>
                  <a:pt x="3693168" y="265664"/>
                  <a:pt x="3709327" y="261257"/>
                </a:cubicBezTo>
                <a:cubicBezTo>
                  <a:pt x="3727579" y="256279"/>
                  <a:pt x="3746649" y="255036"/>
                  <a:pt x="3765310" y="251926"/>
                </a:cubicBezTo>
                <a:cubicBezTo>
                  <a:pt x="3849486" y="209839"/>
                  <a:pt x="3745045" y="258685"/>
                  <a:pt x="3877278" y="214604"/>
                </a:cubicBezTo>
                <a:cubicBezTo>
                  <a:pt x="3886608" y="211494"/>
                  <a:pt x="3895812" y="207975"/>
                  <a:pt x="3905269" y="205273"/>
                </a:cubicBezTo>
                <a:cubicBezTo>
                  <a:pt x="3936002" y="196492"/>
                  <a:pt x="3957194" y="193022"/>
                  <a:pt x="3989245" y="186612"/>
                </a:cubicBezTo>
                <a:cubicBezTo>
                  <a:pt x="4088772" y="189722"/>
                  <a:pt x="4188380" y="190843"/>
                  <a:pt x="4287825" y="195943"/>
                </a:cubicBezTo>
                <a:cubicBezTo>
                  <a:pt x="4346867" y="198971"/>
                  <a:pt x="4347418" y="207122"/>
                  <a:pt x="4399792" y="214604"/>
                </a:cubicBezTo>
                <a:cubicBezTo>
                  <a:pt x="4427673" y="218587"/>
                  <a:pt x="4455775" y="220825"/>
                  <a:pt x="4483767" y="223935"/>
                </a:cubicBezTo>
                <a:lnTo>
                  <a:pt x="4558412" y="242596"/>
                </a:lnTo>
                <a:cubicBezTo>
                  <a:pt x="4570853" y="245706"/>
                  <a:pt x="4582990" y="250510"/>
                  <a:pt x="4595735" y="251926"/>
                </a:cubicBezTo>
                <a:cubicBezTo>
                  <a:pt x="4828674" y="277809"/>
                  <a:pt x="4707422" y="267909"/>
                  <a:pt x="4959629" y="279918"/>
                </a:cubicBezTo>
                <a:cubicBezTo>
                  <a:pt x="4975180" y="283028"/>
                  <a:pt x="4990897" y="285402"/>
                  <a:pt x="5006282" y="289249"/>
                </a:cubicBezTo>
                <a:cubicBezTo>
                  <a:pt x="5015824" y="291635"/>
                  <a:pt x="5024499" y="297494"/>
                  <a:pt x="5034274" y="298580"/>
                </a:cubicBezTo>
                <a:cubicBezTo>
                  <a:pt x="5080745" y="303743"/>
                  <a:pt x="5127604" y="304456"/>
                  <a:pt x="5174233" y="307910"/>
                </a:cubicBezTo>
                <a:lnTo>
                  <a:pt x="5286200" y="317241"/>
                </a:lnTo>
                <a:cubicBezTo>
                  <a:pt x="5298641" y="320351"/>
                  <a:pt x="5310848" y="324621"/>
                  <a:pt x="5323522" y="326571"/>
                </a:cubicBezTo>
                <a:cubicBezTo>
                  <a:pt x="5351359" y="330854"/>
                  <a:pt x="5379527" y="332611"/>
                  <a:pt x="5407498" y="335902"/>
                </a:cubicBezTo>
                <a:lnTo>
                  <a:pt x="5482143" y="345233"/>
                </a:lnTo>
                <a:cubicBezTo>
                  <a:pt x="5594110" y="342123"/>
                  <a:pt x="5706181" y="341639"/>
                  <a:pt x="5818045" y="335902"/>
                </a:cubicBezTo>
                <a:cubicBezTo>
                  <a:pt x="5827868" y="335398"/>
                  <a:pt x="5836269" y="327720"/>
                  <a:pt x="5846037" y="326571"/>
                </a:cubicBezTo>
                <a:cubicBezTo>
                  <a:pt x="5889392" y="321471"/>
                  <a:pt x="5933122" y="320351"/>
                  <a:pt x="5976665" y="317241"/>
                </a:cubicBezTo>
                <a:cubicBezTo>
                  <a:pt x="6001547" y="311021"/>
                  <a:pt x="6025861" y="301761"/>
                  <a:pt x="6051310" y="298580"/>
                </a:cubicBezTo>
                <a:lnTo>
                  <a:pt x="6191269" y="279918"/>
                </a:lnTo>
                <a:cubicBezTo>
                  <a:pt x="6216124" y="276604"/>
                  <a:pt x="6241130" y="274401"/>
                  <a:pt x="6265914" y="270588"/>
                </a:cubicBezTo>
                <a:cubicBezTo>
                  <a:pt x="6364959" y="255350"/>
                  <a:pt x="6264984" y="267846"/>
                  <a:pt x="6349890" y="251926"/>
                </a:cubicBezTo>
                <a:cubicBezTo>
                  <a:pt x="6387079" y="244953"/>
                  <a:pt x="6424535" y="239485"/>
                  <a:pt x="6461857" y="233265"/>
                </a:cubicBezTo>
                <a:lnTo>
                  <a:pt x="6517841" y="223935"/>
                </a:lnTo>
                <a:cubicBezTo>
                  <a:pt x="6594689" y="198318"/>
                  <a:pt x="6554352" y="208055"/>
                  <a:pt x="6639139" y="195943"/>
                </a:cubicBezTo>
                <a:cubicBezTo>
                  <a:pt x="6665822" y="187048"/>
                  <a:pt x="6675157" y="183141"/>
                  <a:pt x="6704453" y="177282"/>
                </a:cubicBezTo>
                <a:cubicBezTo>
                  <a:pt x="6723004" y="173572"/>
                  <a:pt x="6741969" y="172055"/>
                  <a:pt x="6760437" y="167951"/>
                </a:cubicBezTo>
                <a:cubicBezTo>
                  <a:pt x="6770038" y="165817"/>
                  <a:pt x="6779249" y="162151"/>
                  <a:pt x="6788429" y="158620"/>
                </a:cubicBezTo>
                <a:cubicBezTo>
                  <a:pt x="6819694" y="146595"/>
                  <a:pt x="6853863" y="139879"/>
                  <a:pt x="6881735" y="121298"/>
                </a:cubicBezTo>
                <a:cubicBezTo>
                  <a:pt x="6891066" y="115078"/>
                  <a:pt x="6899991" y="108201"/>
                  <a:pt x="6909727" y="102637"/>
                </a:cubicBezTo>
                <a:cubicBezTo>
                  <a:pt x="6961795" y="72883"/>
                  <a:pt x="6932769" y="91262"/>
                  <a:pt x="6993702" y="74645"/>
                </a:cubicBezTo>
                <a:cubicBezTo>
                  <a:pt x="7012680" y="69469"/>
                  <a:pt x="7049686" y="55984"/>
                  <a:pt x="7049686" y="55984"/>
                </a:cubicBezTo>
                <a:cubicBezTo>
                  <a:pt x="7059017" y="49763"/>
                  <a:pt x="7067371" y="41740"/>
                  <a:pt x="7077678" y="37322"/>
                </a:cubicBezTo>
                <a:cubicBezTo>
                  <a:pt x="7089465" y="32271"/>
                  <a:pt x="7102670" y="31515"/>
                  <a:pt x="7115000" y="27992"/>
                </a:cubicBezTo>
                <a:cubicBezTo>
                  <a:pt x="7147032" y="18840"/>
                  <a:pt x="7147142" y="16586"/>
                  <a:pt x="7180314" y="0"/>
                </a:cubicBezTo>
                <a:lnTo>
                  <a:pt x="7516216" y="9331"/>
                </a:lnTo>
                <a:cubicBezTo>
                  <a:pt x="7556734" y="10985"/>
                  <a:pt x="7597024" y="16412"/>
                  <a:pt x="7637514" y="18661"/>
                </a:cubicBezTo>
                <a:cubicBezTo>
                  <a:pt x="7709006" y="22633"/>
                  <a:pt x="7780615" y="24229"/>
                  <a:pt x="7852118" y="27992"/>
                </a:cubicBezTo>
                <a:cubicBezTo>
                  <a:pt x="7898810" y="30449"/>
                  <a:pt x="7945412" y="34405"/>
                  <a:pt x="7992078" y="37322"/>
                </a:cubicBezTo>
                <a:lnTo>
                  <a:pt x="8150698" y="46653"/>
                </a:lnTo>
                <a:cubicBezTo>
                  <a:pt x="8178779" y="48813"/>
                  <a:pt x="8206619" y="53509"/>
                  <a:pt x="8234674" y="55984"/>
                </a:cubicBezTo>
                <a:cubicBezTo>
                  <a:pt x="8427093" y="72962"/>
                  <a:pt x="8447966" y="73397"/>
                  <a:pt x="8617229" y="83975"/>
                </a:cubicBezTo>
                <a:cubicBezTo>
                  <a:pt x="8639000" y="87085"/>
                  <a:pt x="8660978" y="88993"/>
                  <a:pt x="8682543" y="93306"/>
                </a:cubicBezTo>
                <a:cubicBezTo>
                  <a:pt x="8692187" y="95235"/>
                  <a:pt x="8700993" y="100252"/>
                  <a:pt x="8710535" y="102637"/>
                </a:cubicBezTo>
                <a:cubicBezTo>
                  <a:pt x="8725920" y="106483"/>
                  <a:pt x="8741637" y="108857"/>
                  <a:pt x="8757188" y="111967"/>
                </a:cubicBezTo>
                <a:cubicBezTo>
                  <a:pt x="8769629" y="118188"/>
                  <a:pt x="8781725" y="125150"/>
                  <a:pt x="8794510" y="130629"/>
                </a:cubicBezTo>
                <a:cubicBezTo>
                  <a:pt x="8816872" y="140213"/>
                  <a:pt x="8836163" y="142530"/>
                  <a:pt x="8859825" y="149290"/>
                </a:cubicBezTo>
                <a:cubicBezTo>
                  <a:pt x="8889486" y="157764"/>
                  <a:pt x="8902901" y="165444"/>
                  <a:pt x="8934469" y="177282"/>
                </a:cubicBezTo>
                <a:cubicBezTo>
                  <a:pt x="8943678" y="180735"/>
                  <a:pt x="8953130" y="183502"/>
                  <a:pt x="8962461" y="186612"/>
                </a:cubicBezTo>
                <a:cubicBezTo>
                  <a:pt x="8971792" y="192832"/>
                  <a:pt x="8980423" y="200258"/>
                  <a:pt x="8990453" y="205273"/>
                </a:cubicBezTo>
                <a:cubicBezTo>
                  <a:pt x="8999250" y="209672"/>
                  <a:pt x="9008956" y="212016"/>
                  <a:pt x="9018445" y="214604"/>
                </a:cubicBezTo>
                <a:cubicBezTo>
                  <a:pt x="9043189" y="221352"/>
                  <a:pt x="9069277" y="223740"/>
                  <a:pt x="9093090" y="233265"/>
                </a:cubicBezTo>
                <a:cubicBezTo>
                  <a:pt x="9108641" y="239485"/>
                  <a:pt x="9123970" y="246293"/>
                  <a:pt x="9139743" y="251926"/>
                </a:cubicBezTo>
                <a:cubicBezTo>
                  <a:pt x="9167530" y="261850"/>
                  <a:pt x="9197327" y="266722"/>
                  <a:pt x="9223718" y="279918"/>
                </a:cubicBezTo>
                <a:cubicBezTo>
                  <a:pt x="9236159" y="286139"/>
                  <a:pt x="9248964" y="291679"/>
                  <a:pt x="9261041" y="298580"/>
                </a:cubicBezTo>
                <a:cubicBezTo>
                  <a:pt x="9270777" y="304144"/>
                  <a:pt x="9279003" y="312226"/>
                  <a:pt x="9289033" y="317241"/>
                </a:cubicBezTo>
                <a:cubicBezTo>
                  <a:pt x="9297830" y="321639"/>
                  <a:pt x="9307694" y="323461"/>
                  <a:pt x="9317025" y="326571"/>
                </a:cubicBezTo>
                <a:cubicBezTo>
                  <a:pt x="9335686" y="339012"/>
                  <a:pt x="9351731" y="356802"/>
                  <a:pt x="9373008" y="363894"/>
                </a:cubicBezTo>
                <a:lnTo>
                  <a:pt x="9456984" y="391886"/>
                </a:lnTo>
                <a:lnTo>
                  <a:pt x="9512967" y="410547"/>
                </a:lnTo>
                <a:lnTo>
                  <a:pt x="9540959" y="419878"/>
                </a:lnTo>
                <a:cubicBezTo>
                  <a:pt x="9556510" y="435429"/>
                  <a:pt x="9580657" y="445667"/>
                  <a:pt x="9587612" y="466531"/>
                </a:cubicBezTo>
                <a:cubicBezTo>
                  <a:pt x="9599725" y="502868"/>
                  <a:pt x="9589989" y="487567"/>
                  <a:pt x="9615604" y="513184"/>
                </a:cubicBezTo>
                <a:cubicBezTo>
                  <a:pt x="9622015" y="545239"/>
                  <a:pt x="9625483" y="566423"/>
                  <a:pt x="9634265" y="597159"/>
                </a:cubicBezTo>
                <a:cubicBezTo>
                  <a:pt x="9650452" y="653813"/>
                  <a:pt x="9638699" y="593550"/>
                  <a:pt x="9652927" y="671804"/>
                </a:cubicBezTo>
                <a:cubicBezTo>
                  <a:pt x="9672457" y="779222"/>
                  <a:pt x="9651875" y="673773"/>
                  <a:pt x="9671588" y="811763"/>
                </a:cubicBezTo>
                <a:cubicBezTo>
                  <a:pt x="9676939" y="849220"/>
                  <a:pt x="9685556" y="886186"/>
                  <a:pt x="9690249" y="923731"/>
                </a:cubicBezTo>
                <a:cubicBezTo>
                  <a:pt x="9693359" y="948612"/>
                  <a:pt x="9696034" y="973552"/>
                  <a:pt x="9699580" y="998375"/>
                </a:cubicBezTo>
                <a:cubicBezTo>
                  <a:pt x="9702255" y="1017104"/>
                  <a:pt x="9706895" y="1035548"/>
                  <a:pt x="9708910" y="1054359"/>
                </a:cubicBezTo>
                <a:cubicBezTo>
                  <a:pt x="9716229" y="1122675"/>
                  <a:pt x="9727571" y="1259633"/>
                  <a:pt x="9727571" y="1259633"/>
                </a:cubicBezTo>
                <a:cubicBezTo>
                  <a:pt x="9719430" y="1495751"/>
                  <a:pt x="9706477" y="1457207"/>
                  <a:pt x="9727571" y="1604865"/>
                </a:cubicBezTo>
                <a:cubicBezTo>
                  <a:pt x="9730246" y="1623594"/>
                  <a:pt x="9732314" y="1642495"/>
                  <a:pt x="9736902" y="1660849"/>
                </a:cubicBezTo>
                <a:cubicBezTo>
                  <a:pt x="9741673" y="1679932"/>
                  <a:pt x="9751705" y="1697544"/>
                  <a:pt x="9755563" y="1716833"/>
                </a:cubicBezTo>
                <a:cubicBezTo>
                  <a:pt x="9758673" y="1732384"/>
                  <a:pt x="9760721" y="1748186"/>
                  <a:pt x="9764894" y="1763486"/>
                </a:cubicBezTo>
                <a:cubicBezTo>
                  <a:pt x="9770070" y="1782463"/>
                  <a:pt x="9783555" y="1819469"/>
                  <a:pt x="9783555" y="1819469"/>
                </a:cubicBezTo>
                <a:cubicBezTo>
                  <a:pt x="9780445" y="1965649"/>
                  <a:pt x="9786121" y="2112280"/>
                  <a:pt x="9774225" y="2258008"/>
                </a:cubicBezTo>
                <a:cubicBezTo>
                  <a:pt x="9773249" y="2269970"/>
                  <a:pt x="9726000" y="2283783"/>
                  <a:pt x="9718241" y="2286000"/>
                </a:cubicBezTo>
                <a:cubicBezTo>
                  <a:pt x="9705911" y="2289523"/>
                  <a:pt x="9693201" y="2291646"/>
                  <a:pt x="9680918" y="2295331"/>
                </a:cubicBezTo>
                <a:cubicBezTo>
                  <a:pt x="9662077" y="2300983"/>
                  <a:pt x="9644408" y="2311210"/>
                  <a:pt x="9624935" y="2313992"/>
                </a:cubicBezTo>
                <a:lnTo>
                  <a:pt x="9559620" y="2323322"/>
                </a:lnTo>
                <a:cubicBezTo>
                  <a:pt x="9526477" y="2334370"/>
                  <a:pt x="9461216" y="2357716"/>
                  <a:pt x="9428992" y="2360645"/>
                </a:cubicBezTo>
                <a:lnTo>
                  <a:pt x="9326355" y="2369975"/>
                </a:lnTo>
                <a:cubicBezTo>
                  <a:pt x="9208860" y="2399350"/>
                  <a:pt x="9295078" y="2379903"/>
                  <a:pt x="9195727" y="2397967"/>
                </a:cubicBezTo>
                <a:cubicBezTo>
                  <a:pt x="9180124" y="2400804"/>
                  <a:pt x="9164862" y="2405794"/>
                  <a:pt x="9149074" y="2407298"/>
                </a:cubicBezTo>
                <a:cubicBezTo>
                  <a:pt x="9053630" y="2416388"/>
                  <a:pt x="8817508" y="2424024"/>
                  <a:pt x="8747857" y="2425959"/>
                </a:cubicBezTo>
                <a:lnTo>
                  <a:pt x="8327980" y="2435290"/>
                </a:lnTo>
                <a:cubicBezTo>
                  <a:pt x="8219123" y="2441510"/>
                  <a:pt x="8110412" y="2451356"/>
                  <a:pt x="8001408" y="2453951"/>
                </a:cubicBezTo>
                <a:lnTo>
                  <a:pt x="7609522" y="2463282"/>
                </a:lnTo>
                <a:lnTo>
                  <a:pt x="7282951" y="2472612"/>
                </a:lnTo>
                <a:lnTo>
                  <a:pt x="6723114" y="2481943"/>
                </a:lnTo>
                <a:lnTo>
                  <a:pt x="6153947" y="2509935"/>
                </a:lnTo>
                <a:lnTo>
                  <a:pt x="5855367" y="2519265"/>
                </a:lnTo>
                <a:cubicBezTo>
                  <a:pt x="5643770" y="2540426"/>
                  <a:pt x="5783817" y="2528744"/>
                  <a:pt x="5398167" y="2537926"/>
                </a:cubicBezTo>
                <a:lnTo>
                  <a:pt x="4978290" y="2547257"/>
                </a:lnTo>
                <a:cubicBezTo>
                  <a:pt x="4756222" y="2591670"/>
                  <a:pt x="4943102" y="2559843"/>
                  <a:pt x="4511759" y="2575249"/>
                </a:cubicBezTo>
                <a:cubicBezTo>
                  <a:pt x="4461930" y="2577029"/>
                  <a:pt x="4412327" y="2584127"/>
                  <a:pt x="4362469" y="2584580"/>
                </a:cubicBezTo>
                <a:lnTo>
                  <a:pt x="2459025" y="2593910"/>
                </a:lnTo>
                <a:lnTo>
                  <a:pt x="1339351" y="2584580"/>
                </a:lnTo>
                <a:cubicBezTo>
                  <a:pt x="1241522" y="2583051"/>
                  <a:pt x="1292768" y="2571714"/>
                  <a:pt x="1208722" y="2565918"/>
                </a:cubicBezTo>
                <a:cubicBezTo>
                  <a:pt x="1137289" y="2560992"/>
                  <a:pt x="1065653" y="2559698"/>
                  <a:pt x="994118" y="2556588"/>
                </a:cubicBezTo>
                <a:lnTo>
                  <a:pt x="928804" y="2547257"/>
                </a:lnTo>
                <a:cubicBezTo>
                  <a:pt x="844244" y="2535982"/>
                  <a:pt x="819817" y="2535312"/>
                  <a:pt x="723531" y="2519265"/>
                </a:cubicBezTo>
                <a:cubicBezTo>
                  <a:pt x="686208" y="2513045"/>
                  <a:pt x="647459" y="2512569"/>
                  <a:pt x="611563" y="2500604"/>
                </a:cubicBezTo>
                <a:lnTo>
                  <a:pt x="555580" y="2481943"/>
                </a:lnTo>
                <a:cubicBezTo>
                  <a:pt x="546249" y="2478833"/>
                  <a:pt x="537232" y="2474541"/>
                  <a:pt x="527588" y="2472612"/>
                </a:cubicBezTo>
                <a:lnTo>
                  <a:pt x="480935" y="2463282"/>
                </a:lnTo>
                <a:cubicBezTo>
                  <a:pt x="468494" y="2457061"/>
                  <a:pt x="456986" y="2448441"/>
                  <a:pt x="443612" y="2444620"/>
                </a:cubicBezTo>
                <a:cubicBezTo>
                  <a:pt x="413114" y="2435906"/>
                  <a:pt x="350306" y="2425959"/>
                  <a:pt x="350306" y="2425959"/>
                </a:cubicBezTo>
                <a:cubicBezTo>
                  <a:pt x="331645" y="2413518"/>
                  <a:pt x="306763" y="2407298"/>
                  <a:pt x="294322" y="2388637"/>
                </a:cubicBezTo>
                <a:cubicBezTo>
                  <a:pt x="288102" y="2379306"/>
                  <a:pt x="283590" y="2368574"/>
                  <a:pt x="275661" y="2360645"/>
                </a:cubicBezTo>
                <a:cubicBezTo>
                  <a:pt x="257575" y="2342559"/>
                  <a:pt x="242443" y="2340242"/>
                  <a:pt x="219678" y="2332653"/>
                </a:cubicBezTo>
                <a:cubicBezTo>
                  <a:pt x="213457" y="2326433"/>
                  <a:pt x="208559" y="2318518"/>
                  <a:pt x="201016" y="2313992"/>
                </a:cubicBezTo>
                <a:cubicBezTo>
                  <a:pt x="192582" y="2308932"/>
                  <a:pt x="182065" y="2308535"/>
                  <a:pt x="173025" y="2304661"/>
                </a:cubicBezTo>
                <a:cubicBezTo>
                  <a:pt x="160240" y="2299182"/>
                  <a:pt x="147629" y="2293156"/>
                  <a:pt x="135702" y="2286000"/>
                </a:cubicBezTo>
                <a:cubicBezTo>
                  <a:pt x="116470" y="2274461"/>
                  <a:pt x="79718" y="2248678"/>
                  <a:pt x="79718" y="2248678"/>
                </a:cubicBezTo>
                <a:cubicBezTo>
                  <a:pt x="82829" y="2037115"/>
                  <a:pt x="-113205" y="1614196"/>
                  <a:pt x="98380" y="1614196"/>
                </a:cubicBezTo>
              </a:path>
            </a:pathLst>
          </a:custGeom>
          <a:solidFill>
            <a:srgbClr val="72af2f"/>
          </a:solidFill>
          <a:ln w="25560">
            <a:solidFill>
              <a:srgbClr val="72af2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Freeform 5"/>
          <p:cNvSpPr/>
          <p:nvPr/>
        </p:nvSpPr>
        <p:spPr>
          <a:xfrm>
            <a:off x="-225360" y="3645000"/>
            <a:ext cx="9556560" cy="3446280"/>
          </a:xfrm>
          <a:custGeom>
            <a:avLst/>
            <a:gdLst/>
            <a:ahLst/>
            <a:rect l="l" t="t" r="r" b="b"/>
            <a:pathLst>
              <a:path w="9555712" h="2472612">
                <a:moveTo>
                  <a:pt x="94471" y="317241"/>
                </a:moveTo>
                <a:cubicBezTo>
                  <a:pt x="103801" y="311021"/>
                  <a:pt x="126079" y="312925"/>
                  <a:pt x="141124" y="307910"/>
                </a:cubicBezTo>
                <a:cubicBezTo>
                  <a:pt x="206137" y="286239"/>
                  <a:pt x="151913" y="293185"/>
                  <a:pt x="215769" y="261257"/>
                </a:cubicBezTo>
                <a:cubicBezTo>
                  <a:pt x="227239" y="255522"/>
                  <a:pt x="240651" y="255037"/>
                  <a:pt x="253092" y="251927"/>
                </a:cubicBezTo>
                <a:cubicBezTo>
                  <a:pt x="270450" y="234569"/>
                  <a:pt x="276203" y="226375"/>
                  <a:pt x="299745" y="214604"/>
                </a:cubicBezTo>
                <a:cubicBezTo>
                  <a:pt x="308542" y="210206"/>
                  <a:pt x="318406" y="208384"/>
                  <a:pt x="327737" y="205274"/>
                </a:cubicBezTo>
                <a:cubicBezTo>
                  <a:pt x="369934" y="163075"/>
                  <a:pt x="317194" y="214058"/>
                  <a:pt x="383720" y="158620"/>
                </a:cubicBezTo>
                <a:cubicBezTo>
                  <a:pt x="390478" y="152988"/>
                  <a:pt x="395062" y="144839"/>
                  <a:pt x="402382" y="139959"/>
                </a:cubicBezTo>
                <a:cubicBezTo>
                  <a:pt x="413955" y="132244"/>
                  <a:pt x="427628" y="128199"/>
                  <a:pt x="439704" y="121298"/>
                </a:cubicBezTo>
                <a:cubicBezTo>
                  <a:pt x="449441" y="115734"/>
                  <a:pt x="458571" y="109155"/>
                  <a:pt x="467696" y="102637"/>
                </a:cubicBezTo>
                <a:cubicBezTo>
                  <a:pt x="480350" y="93598"/>
                  <a:pt x="491424" y="82197"/>
                  <a:pt x="505018" y="74645"/>
                </a:cubicBezTo>
                <a:cubicBezTo>
                  <a:pt x="519659" y="66511"/>
                  <a:pt x="536690" y="63474"/>
                  <a:pt x="551671" y="55984"/>
                </a:cubicBezTo>
                <a:cubicBezTo>
                  <a:pt x="561701" y="50969"/>
                  <a:pt x="570906" y="44328"/>
                  <a:pt x="579663" y="37323"/>
                </a:cubicBezTo>
                <a:cubicBezTo>
                  <a:pt x="586532" y="31827"/>
                  <a:pt x="590456" y="22595"/>
                  <a:pt x="598324" y="18661"/>
                </a:cubicBezTo>
                <a:cubicBezTo>
                  <a:pt x="609794" y="12926"/>
                  <a:pt x="623317" y="12854"/>
                  <a:pt x="635647" y="9331"/>
                </a:cubicBezTo>
                <a:cubicBezTo>
                  <a:pt x="645104" y="6629"/>
                  <a:pt x="654308" y="3110"/>
                  <a:pt x="663639" y="0"/>
                </a:cubicBezTo>
                <a:cubicBezTo>
                  <a:pt x="679047" y="1712"/>
                  <a:pt x="748254" y="3465"/>
                  <a:pt x="775606" y="18661"/>
                </a:cubicBezTo>
                <a:cubicBezTo>
                  <a:pt x="795212" y="29553"/>
                  <a:pt x="811530" y="45954"/>
                  <a:pt x="831590" y="55984"/>
                </a:cubicBezTo>
                <a:cubicBezTo>
                  <a:pt x="844031" y="62204"/>
                  <a:pt x="855998" y="69479"/>
                  <a:pt x="868912" y="74645"/>
                </a:cubicBezTo>
                <a:cubicBezTo>
                  <a:pt x="887176" y="81950"/>
                  <a:pt x="906921" y="85317"/>
                  <a:pt x="924896" y="93306"/>
                </a:cubicBezTo>
                <a:cubicBezTo>
                  <a:pt x="935144" y="97860"/>
                  <a:pt x="942581" y="107550"/>
                  <a:pt x="952888" y="111967"/>
                </a:cubicBezTo>
                <a:cubicBezTo>
                  <a:pt x="964675" y="117019"/>
                  <a:pt x="978203" y="116795"/>
                  <a:pt x="990210" y="121298"/>
                </a:cubicBezTo>
                <a:cubicBezTo>
                  <a:pt x="1087794" y="157892"/>
                  <a:pt x="969056" y="125339"/>
                  <a:pt x="1064855" y="149290"/>
                </a:cubicBezTo>
                <a:lnTo>
                  <a:pt x="1148831" y="205274"/>
                </a:lnTo>
                <a:cubicBezTo>
                  <a:pt x="1158161" y="211494"/>
                  <a:pt x="1165943" y="221215"/>
                  <a:pt x="1176822" y="223935"/>
                </a:cubicBezTo>
                <a:lnTo>
                  <a:pt x="1214145" y="233265"/>
                </a:lnTo>
                <a:cubicBezTo>
                  <a:pt x="1298301" y="275345"/>
                  <a:pt x="1193914" y="226523"/>
                  <a:pt x="1326112" y="270588"/>
                </a:cubicBezTo>
                <a:cubicBezTo>
                  <a:pt x="1344773" y="276808"/>
                  <a:pt x="1363832" y="281944"/>
                  <a:pt x="1382096" y="289249"/>
                </a:cubicBezTo>
                <a:cubicBezTo>
                  <a:pt x="1437881" y="311563"/>
                  <a:pt x="1412860" y="302613"/>
                  <a:pt x="1456741" y="317241"/>
                </a:cubicBezTo>
                <a:cubicBezTo>
                  <a:pt x="1466072" y="326572"/>
                  <a:pt x="1473754" y="337913"/>
                  <a:pt x="1484733" y="345233"/>
                </a:cubicBezTo>
                <a:cubicBezTo>
                  <a:pt x="1492916" y="350688"/>
                  <a:pt x="1503927" y="350165"/>
                  <a:pt x="1512724" y="354563"/>
                </a:cubicBezTo>
                <a:cubicBezTo>
                  <a:pt x="1522754" y="359578"/>
                  <a:pt x="1530409" y="368808"/>
                  <a:pt x="1540716" y="373225"/>
                </a:cubicBezTo>
                <a:cubicBezTo>
                  <a:pt x="1552503" y="378277"/>
                  <a:pt x="1565756" y="378870"/>
                  <a:pt x="1578039" y="382555"/>
                </a:cubicBezTo>
                <a:cubicBezTo>
                  <a:pt x="1596880" y="388207"/>
                  <a:pt x="1615361" y="394996"/>
                  <a:pt x="1634022" y="401216"/>
                </a:cubicBezTo>
                <a:cubicBezTo>
                  <a:pt x="1697546" y="422391"/>
                  <a:pt x="1619431" y="395745"/>
                  <a:pt x="1708667" y="429208"/>
                </a:cubicBezTo>
                <a:cubicBezTo>
                  <a:pt x="1717876" y="432661"/>
                  <a:pt x="1726957" y="436922"/>
                  <a:pt x="1736659" y="438539"/>
                </a:cubicBezTo>
                <a:cubicBezTo>
                  <a:pt x="1764440" y="443169"/>
                  <a:pt x="1792643" y="444759"/>
                  <a:pt x="1820635" y="447869"/>
                </a:cubicBezTo>
                <a:cubicBezTo>
                  <a:pt x="2366648" y="431324"/>
                  <a:pt x="1974630" y="452852"/>
                  <a:pt x="2203190" y="429208"/>
                </a:cubicBezTo>
                <a:lnTo>
                  <a:pt x="2399133" y="410547"/>
                </a:lnTo>
                <a:cubicBezTo>
                  <a:pt x="2430990" y="404175"/>
                  <a:pt x="2469923" y="395867"/>
                  <a:pt x="2501769" y="391886"/>
                </a:cubicBezTo>
                <a:cubicBezTo>
                  <a:pt x="2532785" y="388009"/>
                  <a:pt x="2564010" y="386007"/>
                  <a:pt x="2595076" y="382555"/>
                </a:cubicBezTo>
                <a:cubicBezTo>
                  <a:pt x="2619998" y="379786"/>
                  <a:pt x="2644937" y="377038"/>
                  <a:pt x="2669720" y="373225"/>
                </a:cubicBezTo>
                <a:cubicBezTo>
                  <a:pt x="2685395" y="370814"/>
                  <a:pt x="2700623" y="365747"/>
                  <a:pt x="2716373" y="363894"/>
                </a:cubicBezTo>
                <a:cubicBezTo>
                  <a:pt x="2753569" y="359518"/>
                  <a:pt x="2791018" y="357673"/>
                  <a:pt x="2828341" y="354563"/>
                </a:cubicBezTo>
                <a:cubicBezTo>
                  <a:pt x="2840782" y="351453"/>
                  <a:pt x="2853014" y="347341"/>
                  <a:pt x="2865663" y="345233"/>
                </a:cubicBezTo>
                <a:cubicBezTo>
                  <a:pt x="2890397" y="341111"/>
                  <a:pt x="2915453" y="339216"/>
                  <a:pt x="2940308" y="335902"/>
                </a:cubicBezTo>
                <a:lnTo>
                  <a:pt x="3005622" y="326571"/>
                </a:lnTo>
                <a:cubicBezTo>
                  <a:pt x="3014953" y="323461"/>
                  <a:pt x="3024157" y="319943"/>
                  <a:pt x="3033614" y="317241"/>
                </a:cubicBezTo>
                <a:cubicBezTo>
                  <a:pt x="3236766" y="259199"/>
                  <a:pt x="3481975" y="314333"/>
                  <a:pt x="3668096" y="317241"/>
                </a:cubicBezTo>
                <a:cubicBezTo>
                  <a:pt x="3680537" y="320351"/>
                  <a:pt x="3693088" y="323048"/>
                  <a:pt x="3705418" y="326571"/>
                </a:cubicBezTo>
                <a:cubicBezTo>
                  <a:pt x="3714875" y="329273"/>
                  <a:pt x="3723809" y="333768"/>
                  <a:pt x="3733410" y="335902"/>
                </a:cubicBezTo>
                <a:cubicBezTo>
                  <a:pt x="3802830" y="351329"/>
                  <a:pt x="3780264" y="339674"/>
                  <a:pt x="3854708" y="354563"/>
                </a:cubicBezTo>
                <a:cubicBezTo>
                  <a:pt x="3879857" y="359593"/>
                  <a:pt x="3904471" y="367005"/>
                  <a:pt x="3929353" y="373225"/>
                </a:cubicBezTo>
                <a:cubicBezTo>
                  <a:pt x="3941794" y="376335"/>
                  <a:pt x="3954510" y="378499"/>
                  <a:pt x="3966676" y="382555"/>
                </a:cubicBezTo>
                <a:cubicBezTo>
                  <a:pt x="4018999" y="399997"/>
                  <a:pt x="3985122" y="389500"/>
                  <a:pt x="4069312" y="410547"/>
                </a:cubicBezTo>
                <a:cubicBezTo>
                  <a:pt x="4081753" y="413657"/>
                  <a:pt x="4093940" y="418065"/>
                  <a:pt x="4106635" y="419878"/>
                </a:cubicBezTo>
                <a:cubicBezTo>
                  <a:pt x="4128406" y="422988"/>
                  <a:pt x="4150311" y="425274"/>
                  <a:pt x="4171949" y="429208"/>
                </a:cubicBezTo>
                <a:cubicBezTo>
                  <a:pt x="4246354" y="442736"/>
                  <a:pt x="4180037" y="445512"/>
                  <a:pt x="4302578" y="447869"/>
                </a:cubicBezTo>
                <a:lnTo>
                  <a:pt x="5179655" y="457200"/>
                </a:lnTo>
                <a:lnTo>
                  <a:pt x="5300953" y="466531"/>
                </a:lnTo>
                <a:cubicBezTo>
                  <a:pt x="5332093" y="469239"/>
                  <a:pt x="5363067" y="473849"/>
                  <a:pt x="5394259" y="475861"/>
                </a:cubicBezTo>
                <a:cubicBezTo>
                  <a:pt x="5459512" y="480071"/>
                  <a:pt x="5524888" y="482082"/>
                  <a:pt x="5590202" y="485192"/>
                </a:cubicBezTo>
                <a:cubicBezTo>
                  <a:pt x="5602643" y="488302"/>
                  <a:pt x="5614907" y="492229"/>
                  <a:pt x="5627524" y="494523"/>
                </a:cubicBezTo>
                <a:cubicBezTo>
                  <a:pt x="5649162" y="498457"/>
                  <a:pt x="5671410" y="498908"/>
                  <a:pt x="5692839" y="503853"/>
                </a:cubicBezTo>
                <a:cubicBezTo>
                  <a:pt x="5712006" y="508276"/>
                  <a:pt x="5730161" y="516294"/>
                  <a:pt x="5748822" y="522514"/>
                </a:cubicBezTo>
                <a:cubicBezTo>
                  <a:pt x="5758153" y="525624"/>
                  <a:pt x="5767170" y="529916"/>
                  <a:pt x="5776814" y="531845"/>
                </a:cubicBezTo>
                <a:cubicBezTo>
                  <a:pt x="5792365" y="534955"/>
                  <a:pt x="5808167" y="537003"/>
                  <a:pt x="5823467" y="541176"/>
                </a:cubicBezTo>
                <a:cubicBezTo>
                  <a:pt x="5842445" y="546352"/>
                  <a:pt x="5860368" y="555066"/>
                  <a:pt x="5879451" y="559837"/>
                </a:cubicBezTo>
                <a:lnTo>
                  <a:pt x="5916773" y="569167"/>
                </a:lnTo>
                <a:cubicBezTo>
                  <a:pt x="5929214" y="575388"/>
                  <a:pt x="5941072" y="582945"/>
                  <a:pt x="5954096" y="587829"/>
                </a:cubicBezTo>
                <a:cubicBezTo>
                  <a:pt x="5966103" y="592332"/>
                  <a:pt x="5979948" y="591424"/>
                  <a:pt x="5991418" y="597159"/>
                </a:cubicBezTo>
                <a:cubicBezTo>
                  <a:pt x="6005327" y="604114"/>
                  <a:pt x="6015239" y="617435"/>
                  <a:pt x="6028741" y="625151"/>
                </a:cubicBezTo>
                <a:cubicBezTo>
                  <a:pt x="6045333" y="634632"/>
                  <a:pt x="6089730" y="640398"/>
                  <a:pt x="6103386" y="643812"/>
                </a:cubicBezTo>
                <a:cubicBezTo>
                  <a:pt x="6112928" y="646197"/>
                  <a:pt x="6121836" y="650757"/>
                  <a:pt x="6131378" y="653143"/>
                </a:cubicBezTo>
                <a:cubicBezTo>
                  <a:pt x="6146763" y="656990"/>
                  <a:pt x="6162480" y="659364"/>
                  <a:pt x="6178031" y="662474"/>
                </a:cubicBezTo>
                <a:cubicBezTo>
                  <a:pt x="6190472" y="668694"/>
                  <a:pt x="6203277" y="674234"/>
                  <a:pt x="6215353" y="681135"/>
                </a:cubicBezTo>
                <a:cubicBezTo>
                  <a:pt x="6225090" y="686699"/>
                  <a:pt x="6233315" y="694781"/>
                  <a:pt x="6243345" y="699796"/>
                </a:cubicBezTo>
                <a:cubicBezTo>
                  <a:pt x="6258326" y="707286"/>
                  <a:pt x="6274447" y="712237"/>
                  <a:pt x="6289998" y="718457"/>
                </a:cubicBezTo>
                <a:cubicBezTo>
                  <a:pt x="6299329" y="727788"/>
                  <a:pt x="6306800" y="739455"/>
                  <a:pt x="6317990" y="746449"/>
                </a:cubicBezTo>
                <a:cubicBezTo>
                  <a:pt x="6347660" y="764993"/>
                  <a:pt x="6390149" y="768531"/>
                  <a:pt x="6420627" y="783771"/>
                </a:cubicBezTo>
                <a:cubicBezTo>
                  <a:pt x="6459242" y="803079"/>
                  <a:pt x="6467807" y="809562"/>
                  <a:pt x="6513933" y="821094"/>
                </a:cubicBezTo>
                <a:cubicBezTo>
                  <a:pt x="6526374" y="824204"/>
                  <a:pt x="6538432" y="830266"/>
                  <a:pt x="6551255" y="830425"/>
                </a:cubicBezTo>
                <a:lnTo>
                  <a:pt x="8016161" y="839755"/>
                </a:lnTo>
                <a:cubicBezTo>
                  <a:pt x="8087696" y="842865"/>
                  <a:pt x="8159374" y="843594"/>
                  <a:pt x="8230765" y="849086"/>
                </a:cubicBezTo>
                <a:cubicBezTo>
                  <a:pt x="8240571" y="849840"/>
                  <a:pt x="8249215" y="856031"/>
                  <a:pt x="8258757" y="858416"/>
                </a:cubicBezTo>
                <a:cubicBezTo>
                  <a:pt x="8276491" y="862850"/>
                  <a:pt x="8323577" y="869894"/>
                  <a:pt x="8342733" y="877078"/>
                </a:cubicBezTo>
                <a:cubicBezTo>
                  <a:pt x="8355756" y="881962"/>
                  <a:pt x="8367141" y="890573"/>
                  <a:pt x="8380055" y="895739"/>
                </a:cubicBezTo>
                <a:cubicBezTo>
                  <a:pt x="8398319" y="903044"/>
                  <a:pt x="8419672" y="903488"/>
                  <a:pt x="8436039" y="914400"/>
                </a:cubicBezTo>
                <a:cubicBezTo>
                  <a:pt x="8500205" y="957179"/>
                  <a:pt x="8470745" y="944631"/>
                  <a:pt x="8520014" y="961053"/>
                </a:cubicBezTo>
                <a:cubicBezTo>
                  <a:pt x="8558351" y="986610"/>
                  <a:pt x="8569733" y="995870"/>
                  <a:pt x="8622651" y="1017037"/>
                </a:cubicBezTo>
                <a:cubicBezTo>
                  <a:pt x="8653753" y="1029478"/>
                  <a:pt x="8683459" y="1046234"/>
                  <a:pt x="8715957" y="1054359"/>
                </a:cubicBezTo>
                <a:cubicBezTo>
                  <a:pt x="8771633" y="1068278"/>
                  <a:pt x="8740631" y="1061582"/>
                  <a:pt x="8809263" y="1073020"/>
                </a:cubicBezTo>
                <a:cubicBezTo>
                  <a:pt x="8821704" y="1082351"/>
                  <a:pt x="8832292" y="1094886"/>
                  <a:pt x="8846586" y="1101012"/>
                </a:cubicBezTo>
                <a:cubicBezTo>
                  <a:pt x="8876432" y="1113803"/>
                  <a:pt x="8908517" y="1120637"/>
                  <a:pt x="8939892" y="1129004"/>
                </a:cubicBezTo>
                <a:cubicBezTo>
                  <a:pt x="8961637" y="1134803"/>
                  <a:pt x="9022746" y="1144368"/>
                  <a:pt x="9042529" y="1147665"/>
                </a:cubicBezTo>
                <a:cubicBezTo>
                  <a:pt x="9061190" y="1153886"/>
                  <a:pt x="9079535" y="1161151"/>
                  <a:pt x="9098512" y="1166327"/>
                </a:cubicBezTo>
                <a:cubicBezTo>
                  <a:pt x="9196228" y="1192977"/>
                  <a:pt x="9098658" y="1159839"/>
                  <a:pt x="9182488" y="1184988"/>
                </a:cubicBezTo>
                <a:cubicBezTo>
                  <a:pt x="9230083" y="1199267"/>
                  <a:pt x="9232788" y="1204379"/>
                  <a:pt x="9275794" y="1212980"/>
                </a:cubicBezTo>
                <a:cubicBezTo>
                  <a:pt x="9294345" y="1216690"/>
                  <a:pt x="9313227" y="1218600"/>
                  <a:pt x="9331778" y="1222310"/>
                </a:cubicBezTo>
                <a:cubicBezTo>
                  <a:pt x="9419008" y="1239756"/>
                  <a:pt x="9325975" y="1223192"/>
                  <a:pt x="9397092" y="1240971"/>
                </a:cubicBezTo>
                <a:cubicBezTo>
                  <a:pt x="9412477" y="1244817"/>
                  <a:pt x="9428194" y="1247192"/>
                  <a:pt x="9443745" y="1250302"/>
                </a:cubicBezTo>
                <a:cubicBezTo>
                  <a:pt x="9446855" y="1321837"/>
                  <a:pt x="9448313" y="1393462"/>
                  <a:pt x="9453076" y="1464906"/>
                </a:cubicBezTo>
                <a:cubicBezTo>
                  <a:pt x="9456878" y="1521933"/>
                  <a:pt x="9463697" y="1525952"/>
                  <a:pt x="9471737" y="1576874"/>
                </a:cubicBezTo>
                <a:cubicBezTo>
                  <a:pt x="9478597" y="1620320"/>
                  <a:pt x="9486416" y="1663698"/>
                  <a:pt x="9490398" y="1707502"/>
                </a:cubicBezTo>
                <a:cubicBezTo>
                  <a:pt x="9493508" y="1741714"/>
                  <a:pt x="9495189" y="1776087"/>
                  <a:pt x="9499729" y="1810139"/>
                </a:cubicBezTo>
                <a:cubicBezTo>
                  <a:pt x="9502333" y="1829670"/>
                  <a:pt x="9511992" y="1856259"/>
                  <a:pt x="9518390" y="1875453"/>
                </a:cubicBezTo>
                <a:cubicBezTo>
                  <a:pt x="9521500" y="1894114"/>
                  <a:pt x="9523616" y="1912969"/>
                  <a:pt x="9527720" y="1931437"/>
                </a:cubicBezTo>
                <a:cubicBezTo>
                  <a:pt x="9545088" y="2009593"/>
                  <a:pt x="9530250" y="1893157"/>
                  <a:pt x="9546382" y="2006082"/>
                </a:cubicBezTo>
                <a:cubicBezTo>
                  <a:pt x="9550365" y="2033963"/>
                  <a:pt x="9552602" y="2062065"/>
                  <a:pt x="9555712" y="2090057"/>
                </a:cubicBezTo>
                <a:cubicBezTo>
                  <a:pt x="9552602" y="2161592"/>
                  <a:pt x="9560986" y="2234564"/>
                  <a:pt x="9546382" y="2304661"/>
                </a:cubicBezTo>
                <a:cubicBezTo>
                  <a:pt x="9543767" y="2317215"/>
                  <a:pt x="9520529" y="2308257"/>
                  <a:pt x="9509059" y="2313992"/>
                </a:cubicBezTo>
                <a:cubicBezTo>
                  <a:pt x="9488999" y="2324022"/>
                  <a:pt x="9475068" y="2346915"/>
                  <a:pt x="9453076" y="2351314"/>
                </a:cubicBezTo>
                <a:cubicBezTo>
                  <a:pt x="9437525" y="2354424"/>
                  <a:pt x="9421808" y="2356798"/>
                  <a:pt x="9406422" y="2360645"/>
                </a:cubicBezTo>
                <a:cubicBezTo>
                  <a:pt x="9308508" y="2385125"/>
                  <a:pt x="9463281" y="2353127"/>
                  <a:pt x="9341108" y="2379306"/>
                </a:cubicBezTo>
                <a:cubicBezTo>
                  <a:pt x="9249207" y="2398998"/>
                  <a:pt x="9263274" y="2395757"/>
                  <a:pt x="9182488" y="2407298"/>
                </a:cubicBezTo>
                <a:cubicBezTo>
                  <a:pt x="9173157" y="2410408"/>
                  <a:pt x="9164038" y="2414244"/>
                  <a:pt x="9154496" y="2416629"/>
                </a:cubicBezTo>
                <a:cubicBezTo>
                  <a:pt x="9138383" y="2420657"/>
                  <a:pt x="9064923" y="2434102"/>
                  <a:pt x="9051859" y="2435290"/>
                </a:cubicBezTo>
                <a:cubicBezTo>
                  <a:pt x="9002203" y="2439804"/>
                  <a:pt x="8952348" y="2441776"/>
                  <a:pt x="8902569" y="2444620"/>
                </a:cubicBezTo>
                <a:lnTo>
                  <a:pt x="8725288" y="2453951"/>
                </a:lnTo>
                <a:cubicBezTo>
                  <a:pt x="8684815" y="2456481"/>
                  <a:pt x="8644530" y="2462293"/>
                  <a:pt x="8603990" y="2463282"/>
                </a:cubicBezTo>
                <a:lnTo>
                  <a:pt x="7960178" y="2472612"/>
                </a:lnTo>
                <a:lnTo>
                  <a:pt x="6252676" y="2463282"/>
                </a:lnTo>
                <a:cubicBezTo>
                  <a:pt x="6202818" y="2462781"/>
                  <a:pt x="6153199" y="2456117"/>
                  <a:pt x="6103386" y="2453951"/>
                </a:cubicBezTo>
                <a:cubicBezTo>
                  <a:pt x="5960056" y="2447719"/>
                  <a:pt x="5775279" y="2445364"/>
                  <a:pt x="5627524" y="2435290"/>
                </a:cubicBezTo>
                <a:cubicBezTo>
                  <a:pt x="5555886" y="2430406"/>
                  <a:pt x="5484672" y="2419389"/>
                  <a:pt x="5412920" y="2416629"/>
                </a:cubicBezTo>
                <a:lnTo>
                  <a:pt x="4927729" y="2397967"/>
                </a:lnTo>
                <a:lnTo>
                  <a:pt x="4638480" y="2388637"/>
                </a:lnTo>
                <a:lnTo>
                  <a:pt x="4423876" y="2379306"/>
                </a:lnTo>
                <a:lnTo>
                  <a:pt x="3985337" y="2369976"/>
                </a:lnTo>
                <a:cubicBezTo>
                  <a:pt x="3394326" y="2338869"/>
                  <a:pt x="4108275" y="2373821"/>
                  <a:pt x="2679051" y="2351314"/>
                </a:cubicBezTo>
                <a:cubicBezTo>
                  <a:pt x="2660135" y="2351016"/>
                  <a:pt x="2641820" y="2344484"/>
                  <a:pt x="2623067" y="2341984"/>
                </a:cubicBezTo>
                <a:cubicBezTo>
                  <a:pt x="2595150" y="2338262"/>
                  <a:pt x="2567084" y="2335763"/>
                  <a:pt x="2539092" y="2332653"/>
                </a:cubicBezTo>
                <a:cubicBezTo>
                  <a:pt x="2441720" y="2308312"/>
                  <a:pt x="2526756" y="2327042"/>
                  <a:pt x="2324488" y="2313992"/>
                </a:cubicBezTo>
                <a:cubicBezTo>
                  <a:pt x="2287114" y="2311581"/>
                  <a:pt x="2249956" y="2305762"/>
                  <a:pt x="2212520" y="2304661"/>
                </a:cubicBezTo>
                <a:cubicBezTo>
                  <a:pt x="2038396" y="2299540"/>
                  <a:pt x="1864158" y="2299381"/>
                  <a:pt x="1690006" y="2295331"/>
                </a:cubicBezTo>
                <a:cubicBezTo>
                  <a:pt x="1553902" y="2292166"/>
                  <a:pt x="1356839" y="2284596"/>
                  <a:pt x="1214145" y="2276669"/>
                </a:cubicBezTo>
                <a:cubicBezTo>
                  <a:pt x="1167460" y="2274075"/>
                  <a:pt x="1120839" y="2270449"/>
                  <a:pt x="1074186" y="2267339"/>
                </a:cubicBezTo>
                <a:lnTo>
                  <a:pt x="439704" y="2276669"/>
                </a:lnTo>
                <a:cubicBezTo>
                  <a:pt x="346741" y="2278735"/>
                  <a:pt x="259122" y="2278966"/>
                  <a:pt x="169116" y="2295331"/>
                </a:cubicBezTo>
                <a:cubicBezTo>
                  <a:pt x="156499" y="2297625"/>
                  <a:pt x="144235" y="2301551"/>
                  <a:pt x="131794" y="2304661"/>
                </a:cubicBezTo>
                <a:cubicBezTo>
                  <a:pt x="91361" y="2301551"/>
                  <a:pt x="15958" y="2335514"/>
                  <a:pt x="10496" y="2295331"/>
                </a:cubicBezTo>
                <a:cubicBezTo>
                  <a:pt x="-11267" y="2135216"/>
                  <a:pt x="7001" y="607431"/>
                  <a:pt x="10496" y="429208"/>
                </a:cubicBezTo>
                <a:cubicBezTo>
                  <a:pt x="11110" y="397888"/>
                  <a:pt x="23022" y="381605"/>
                  <a:pt x="47818" y="363894"/>
                </a:cubicBezTo>
                <a:cubicBezTo>
                  <a:pt x="59137" y="355809"/>
                  <a:pt x="72700" y="351453"/>
                  <a:pt x="85141" y="345233"/>
                </a:cubicBezTo>
                <a:cubicBezTo>
                  <a:pt x="112599" y="317774"/>
                  <a:pt x="85141" y="323461"/>
                  <a:pt x="94471" y="317241"/>
                </a:cubicBezTo>
                <a:close/>
              </a:path>
            </a:pathLst>
          </a:custGeom>
          <a:solidFill>
            <a:srgbClr val="92d050"/>
          </a:solidFill>
          <a:ln w="2556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1" name="Picture 8" descr=""/>
          <p:cNvPicPr/>
          <p:nvPr/>
        </p:nvPicPr>
        <p:blipFill>
          <a:blip r:embed="rId2"/>
          <a:stretch/>
        </p:blipFill>
        <p:spPr>
          <a:xfrm>
            <a:off x="0" y="1125360"/>
            <a:ext cx="5410080" cy="4475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"/>
          <p:cNvPicPr/>
          <p:nvPr/>
        </p:nvPicPr>
        <p:blipFill>
          <a:blip r:embed="rId3"/>
          <a:stretch/>
        </p:blipFill>
        <p:spPr>
          <a:xfrm>
            <a:off x="4290840" y="4570560"/>
            <a:ext cx="1262160" cy="1012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" descr=""/>
          <p:cNvPicPr/>
          <p:nvPr/>
        </p:nvPicPr>
        <p:blipFill>
          <a:blip r:embed="rId4"/>
          <a:stretch/>
        </p:blipFill>
        <p:spPr>
          <a:xfrm>
            <a:off x="5415120" y="4967280"/>
            <a:ext cx="1461960" cy="8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0"/>
          <p:cNvSpPr/>
          <p:nvPr/>
        </p:nvSpPr>
        <p:spPr>
          <a:xfrm>
            <a:off x="-17640" y="-100080"/>
            <a:ext cx="9161640" cy="6958080"/>
          </a:xfrm>
          <a:prstGeom prst="rect">
            <a:avLst/>
          </a:prstGeom>
          <a:solidFill>
            <a:srgbClr val="c9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-17640" y="-1179360"/>
            <a:ext cx="9269640" cy="5214960"/>
          </a:xfrm>
          <a:prstGeom prst="rect">
            <a:avLst/>
          </a:prstGeom>
          <a:ln w="0">
            <a:noFill/>
          </a:ln>
        </p:spPr>
      </p:pic>
      <p:sp>
        <p:nvSpPr>
          <p:cNvPr id="56" name="Freeform 6"/>
          <p:cNvSpPr/>
          <p:nvPr/>
        </p:nvSpPr>
        <p:spPr>
          <a:xfrm>
            <a:off x="-378000" y="3645000"/>
            <a:ext cx="9784080" cy="3386160"/>
          </a:xfrm>
          <a:custGeom>
            <a:avLst/>
            <a:gdLst/>
            <a:ahLst/>
            <a:rect l="l" t="t" r="r" b="b"/>
            <a:pathLst>
              <a:path w="9783555" h="2593910">
                <a:moveTo>
                  <a:pt x="98380" y="1670180"/>
                </a:moveTo>
                <a:cubicBezTo>
                  <a:pt x="117041" y="1660849"/>
                  <a:pt x="136671" y="1653246"/>
                  <a:pt x="154363" y="1642188"/>
                </a:cubicBezTo>
                <a:cubicBezTo>
                  <a:pt x="161823" y="1637525"/>
                  <a:pt x="166267" y="1629158"/>
                  <a:pt x="173025" y="1623526"/>
                </a:cubicBezTo>
                <a:cubicBezTo>
                  <a:pt x="184971" y="1613571"/>
                  <a:pt x="197693" y="1604574"/>
                  <a:pt x="210347" y="1595535"/>
                </a:cubicBezTo>
                <a:cubicBezTo>
                  <a:pt x="219472" y="1589017"/>
                  <a:pt x="229825" y="1584171"/>
                  <a:pt x="238339" y="1576873"/>
                </a:cubicBezTo>
                <a:cubicBezTo>
                  <a:pt x="251697" y="1565423"/>
                  <a:pt x="262303" y="1551001"/>
                  <a:pt x="275661" y="1539551"/>
                </a:cubicBezTo>
                <a:cubicBezTo>
                  <a:pt x="284175" y="1532253"/>
                  <a:pt x="295139" y="1528188"/>
                  <a:pt x="303653" y="1520890"/>
                </a:cubicBezTo>
                <a:cubicBezTo>
                  <a:pt x="317012" y="1509440"/>
                  <a:pt x="327618" y="1495017"/>
                  <a:pt x="340976" y="1483567"/>
                </a:cubicBezTo>
                <a:cubicBezTo>
                  <a:pt x="354452" y="1472016"/>
                  <a:pt x="407230" y="1442907"/>
                  <a:pt x="415620" y="1436914"/>
                </a:cubicBezTo>
                <a:cubicBezTo>
                  <a:pt x="444477" y="1416302"/>
                  <a:pt x="468806" y="1389194"/>
                  <a:pt x="499596" y="1371600"/>
                </a:cubicBezTo>
                <a:cubicBezTo>
                  <a:pt x="521367" y="1359159"/>
                  <a:pt x="542897" y="1346285"/>
                  <a:pt x="564910" y="1334278"/>
                </a:cubicBezTo>
                <a:cubicBezTo>
                  <a:pt x="577121" y="1327617"/>
                  <a:pt x="590438" y="1322988"/>
                  <a:pt x="602233" y="1315616"/>
                </a:cubicBezTo>
                <a:cubicBezTo>
                  <a:pt x="615420" y="1307374"/>
                  <a:pt x="626368" y="1295866"/>
                  <a:pt x="639555" y="1287624"/>
                </a:cubicBezTo>
                <a:cubicBezTo>
                  <a:pt x="727038" y="1232947"/>
                  <a:pt x="632952" y="1301672"/>
                  <a:pt x="704869" y="1250302"/>
                </a:cubicBezTo>
                <a:cubicBezTo>
                  <a:pt x="717524" y="1241263"/>
                  <a:pt x="729452" y="1231228"/>
                  <a:pt x="742192" y="1222310"/>
                </a:cubicBezTo>
                <a:cubicBezTo>
                  <a:pt x="760566" y="1209449"/>
                  <a:pt x="782317" y="1200847"/>
                  <a:pt x="798176" y="1184988"/>
                </a:cubicBezTo>
                <a:cubicBezTo>
                  <a:pt x="815756" y="1167407"/>
                  <a:pt x="830774" y="1148728"/>
                  <a:pt x="854159" y="1138335"/>
                </a:cubicBezTo>
                <a:cubicBezTo>
                  <a:pt x="872134" y="1130346"/>
                  <a:pt x="892549" y="1128470"/>
                  <a:pt x="910143" y="1119673"/>
                </a:cubicBezTo>
                <a:cubicBezTo>
                  <a:pt x="922584" y="1113453"/>
                  <a:pt x="935389" y="1107913"/>
                  <a:pt x="947465" y="1101012"/>
                </a:cubicBezTo>
                <a:cubicBezTo>
                  <a:pt x="957202" y="1095448"/>
                  <a:pt x="965150" y="1086768"/>
                  <a:pt x="975457" y="1082351"/>
                </a:cubicBezTo>
                <a:cubicBezTo>
                  <a:pt x="987244" y="1077299"/>
                  <a:pt x="1000773" y="1077523"/>
                  <a:pt x="1012780" y="1073020"/>
                </a:cubicBezTo>
                <a:cubicBezTo>
                  <a:pt x="1025803" y="1068136"/>
                  <a:pt x="1037661" y="1060579"/>
                  <a:pt x="1050102" y="1054359"/>
                </a:cubicBezTo>
                <a:cubicBezTo>
                  <a:pt x="1087424" y="1057469"/>
                  <a:pt x="1124874" y="1059314"/>
                  <a:pt x="1162069" y="1063690"/>
                </a:cubicBezTo>
                <a:cubicBezTo>
                  <a:pt x="1191978" y="1067209"/>
                  <a:pt x="1217045" y="1075906"/>
                  <a:pt x="1246045" y="1082351"/>
                </a:cubicBezTo>
                <a:cubicBezTo>
                  <a:pt x="1261526" y="1085791"/>
                  <a:pt x="1277217" y="1088242"/>
                  <a:pt x="1292698" y="1091682"/>
                </a:cubicBezTo>
                <a:cubicBezTo>
                  <a:pt x="1305216" y="1094464"/>
                  <a:pt x="1317446" y="1098497"/>
                  <a:pt x="1330020" y="1101012"/>
                </a:cubicBezTo>
                <a:cubicBezTo>
                  <a:pt x="1362402" y="1107488"/>
                  <a:pt x="1419930" y="1115189"/>
                  <a:pt x="1451318" y="1119673"/>
                </a:cubicBezTo>
                <a:cubicBezTo>
                  <a:pt x="1566396" y="1116563"/>
                  <a:pt x="1681575" y="1116092"/>
                  <a:pt x="1796551" y="1110343"/>
                </a:cubicBezTo>
                <a:cubicBezTo>
                  <a:pt x="1806374" y="1109852"/>
                  <a:pt x="1815086" y="1103714"/>
                  <a:pt x="1824543" y="1101012"/>
                </a:cubicBezTo>
                <a:cubicBezTo>
                  <a:pt x="1836873" y="1097489"/>
                  <a:pt x="1849582" y="1095367"/>
                  <a:pt x="1861865" y="1091682"/>
                </a:cubicBezTo>
                <a:cubicBezTo>
                  <a:pt x="1880706" y="1086030"/>
                  <a:pt x="1900255" y="1081817"/>
                  <a:pt x="1917849" y="1073020"/>
                </a:cubicBezTo>
                <a:cubicBezTo>
                  <a:pt x="1942731" y="1060579"/>
                  <a:pt x="1966103" y="1044495"/>
                  <a:pt x="1992494" y="1035698"/>
                </a:cubicBezTo>
                <a:cubicBezTo>
                  <a:pt x="2001825" y="1032588"/>
                  <a:pt x="2011532" y="1030437"/>
                  <a:pt x="2020486" y="1026367"/>
                </a:cubicBezTo>
                <a:cubicBezTo>
                  <a:pt x="2045811" y="1014856"/>
                  <a:pt x="2068740" y="997843"/>
                  <a:pt x="2095131" y="989045"/>
                </a:cubicBezTo>
                <a:cubicBezTo>
                  <a:pt x="2135288" y="975658"/>
                  <a:pt x="2113581" y="982099"/>
                  <a:pt x="2160445" y="970384"/>
                </a:cubicBezTo>
                <a:cubicBezTo>
                  <a:pt x="2172886" y="964163"/>
                  <a:pt x="2184743" y="956606"/>
                  <a:pt x="2197767" y="951722"/>
                </a:cubicBezTo>
                <a:cubicBezTo>
                  <a:pt x="2221697" y="942748"/>
                  <a:pt x="2240514" y="944345"/>
                  <a:pt x="2263082" y="933061"/>
                </a:cubicBezTo>
                <a:cubicBezTo>
                  <a:pt x="2273112" y="928046"/>
                  <a:pt x="2281044" y="919415"/>
                  <a:pt x="2291074" y="914400"/>
                </a:cubicBezTo>
                <a:cubicBezTo>
                  <a:pt x="2368381" y="875747"/>
                  <a:pt x="2309200" y="910630"/>
                  <a:pt x="2365718" y="886408"/>
                </a:cubicBezTo>
                <a:cubicBezTo>
                  <a:pt x="2378503" y="880929"/>
                  <a:pt x="2390126" y="872913"/>
                  <a:pt x="2403041" y="867747"/>
                </a:cubicBezTo>
                <a:cubicBezTo>
                  <a:pt x="2421305" y="860442"/>
                  <a:pt x="2440364" y="855307"/>
                  <a:pt x="2459025" y="849086"/>
                </a:cubicBezTo>
                <a:cubicBezTo>
                  <a:pt x="2489794" y="838829"/>
                  <a:pt x="2500212" y="835963"/>
                  <a:pt x="2533669" y="821094"/>
                </a:cubicBezTo>
                <a:cubicBezTo>
                  <a:pt x="2546380" y="815445"/>
                  <a:pt x="2558207" y="807912"/>
                  <a:pt x="2570992" y="802433"/>
                </a:cubicBezTo>
                <a:cubicBezTo>
                  <a:pt x="2580032" y="798559"/>
                  <a:pt x="2589944" y="796976"/>
                  <a:pt x="2598984" y="793102"/>
                </a:cubicBezTo>
                <a:cubicBezTo>
                  <a:pt x="2611768" y="787623"/>
                  <a:pt x="2623283" y="779325"/>
                  <a:pt x="2636306" y="774441"/>
                </a:cubicBezTo>
                <a:cubicBezTo>
                  <a:pt x="2648313" y="769938"/>
                  <a:pt x="2661346" y="768795"/>
                  <a:pt x="2673629" y="765110"/>
                </a:cubicBezTo>
                <a:cubicBezTo>
                  <a:pt x="2692470" y="759458"/>
                  <a:pt x="2710324" y="750307"/>
                  <a:pt x="2729612" y="746449"/>
                </a:cubicBezTo>
                <a:cubicBezTo>
                  <a:pt x="2769376" y="738496"/>
                  <a:pt x="2771473" y="740082"/>
                  <a:pt x="2804257" y="727788"/>
                </a:cubicBezTo>
                <a:cubicBezTo>
                  <a:pt x="2819940" y="721907"/>
                  <a:pt x="2835929" y="716616"/>
                  <a:pt x="2850910" y="709126"/>
                </a:cubicBezTo>
                <a:cubicBezTo>
                  <a:pt x="2879800" y="694681"/>
                  <a:pt x="2886630" y="679384"/>
                  <a:pt x="2916225" y="662473"/>
                </a:cubicBezTo>
                <a:cubicBezTo>
                  <a:pt x="2924764" y="657594"/>
                  <a:pt x="2934886" y="656253"/>
                  <a:pt x="2944216" y="653143"/>
                </a:cubicBezTo>
                <a:cubicBezTo>
                  <a:pt x="3001269" y="615109"/>
                  <a:pt x="2941652" y="657495"/>
                  <a:pt x="3009531" y="597159"/>
                </a:cubicBezTo>
                <a:cubicBezTo>
                  <a:pt x="3024416" y="583928"/>
                  <a:pt x="3040252" y="571786"/>
                  <a:pt x="3056184" y="559837"/>
                </a:cubicBezTo>
                <a:cubicBezTo>
                  <a:pt x="3065155" y="553108"/>
                  <a:pt x="3075662" y="548473"/>
                  <a:pt x="3084176" y="541175"/>
                </a:cubicBezTo>
                <a:cubicBezTo>
                  <a:pt x="3143287" y="490508"/>
                  <a:pt x="3097883" y="516486"/>
                  <a:pt x="3158820" y="475861"/>
                </a:cubicBezTo>
                <a:cubicBezTo>
                  <a:pt x="3195533" y="451385"/>
                  <a:pt x="3230794" y="428322"/>
                  <a:pt x="3270788" y="410547"/>
                </a:cubicBezTo>
                <a:cubicBezTo>
                  <a:pt x="3295041" y="399768"/>
                  <a:pt x="3331788" y="388541"/>
                  <a:pt x="3354763" y="373224"/>
                </a:cubicBezTo>
                <a:cubicBezTo>
                  <a:pt x="3397461" y="344758"/>
                  <a:pt x="3343104" y="358450"/>
                  <a:pt x="3410747" y="335902"/>
                </a:cubicBezTo>
                <a:cubicBezTo>
                  <a:pt x="3435078" y="327792"/>
                  <a:pt x="3460243" y="322271"/>
                  <a:pt x="3485392" y="317241"/>
                </a:cubicBezTo>
                <a:cubicBezTo>
                  <a:pt x="3553610" y="303597"/>
                  <a:pt x="3516345" y="310153"/>
                  <a:pt x="3597359" y="298580"/>
                </a:cubicBezTo>
                <a:cubicBezTo>
                  <a:pt x="3606690" y="295470"/>
                  <a:pt x="3615894" y="291951"/>
                  <a:pt x="3625351" y="289249"/>
                </a:cubicBezTo>
                <a:cubicBezTo>
                  <a:pt x="3637681" y="285726"/>
                  <a:pt x="3650508" y="283973"/>
                  <a:pt x="3662674" y="279918"/>
                </a:cubicBezTo>
                <a:cubicBezTo>
                  <a:pt x="3678563" y="274622"/>
                  <a:pt x="3693168" y="265664"/>
                  <a:pt x="3709327" y="261257"/>
                </a:cubicBezTo>
                <a:cubicBezTo>
                  <a:pt x="3727579" y="256279"/>
                  <a:pt x="3746649" y="255036"/>
                  <a:pt x="3765310" y="251926"/>
                </a:cubicBezTo>
                <a:cubicBezTo>
                  <a:pt x="3849486" y="209839"/>
                  <a:pt x="3745045" y="258685"/>
                  <a:pt x="3877278" y="214604"/>
                </a:cubicBezTo>
                <a:cubicBezTo>
                  <a:pt x="3886608" y="211494"/>
                  <a:pt x="3895812" y="207975"/>
                  <a:pt x="3905269" y="205273"/>
                </a:cubicBezTo>
                <a:cubicBezTo>
                  <a:pt x="3936002" y="196492"/>
                  <a:pt x="3957194" y="193022"/>
                  <a:pt x="3989245" y="186612"/>
                </a:cubicBezTo>
                <a:cubicBezTo>
                  <a:pt x="4088772" y="189722"/>
                  <a:pt x="4188380" y="190843"/>
                  <a:pt x="4287825" y="195943"/>
                </a:cubicBezTo>
                <a:cubicBezTo>
                  <a:pt x="4346867" y="198971"/>
                  <a:pt x="4347418" y="207122"/>
                  <a:pt x="4399792" y="214604"/>
                </a:cubicBezTo>
                <a:cubicBezTo>
                  <a:pt x="4427673" y="218587"/>
                  <a:pt x="4455775" y="220825"/>
                  <a:pt x="4483767" y="223935"/>
                </a:cubicBezTo>
                <a:lnTo>
                  <a:pt x="4558412" y="242596"/>
                </a:lnTo>
                <a:cubicBezTo>
                  <a:pt x="4570853" y="245706"/>
                  <a:pt x="4582990" y="250510"/>
                  <a:pt x="4595735" y="251926"/>
                </a:cubicBezTo>
                <a:cubicBezTo>
                  <a:pt x="4828674" y="277809"/>
                  <a:pt x="4707422" y="267909"/>
                  <a:pt x="4959629" y="279918"/>
                </a:cubicBezTo>
                <a:cubicBezTo>
                  <a:pt x="4975180" y="283028"/>
                  <a:pt x="4990897" y="285402"/>
                  <a:pt x="5006282" y="289249"/>
                </a:cubicBezTo>
                <a:cubicBezTo>
                  <a:pt x="5015824" y="291635"/>
                  <a:pt x="5024499" y="297494"/>
                  <a:pt x="5034274" y="298580"/>
                </a:cubicBezTo>
                <a:cubicBezTo>
                  <a:pt x="5080745" y="303743"/>
                  <a:pt x="5127604" y="304456"/>
                  <a:pt x="5174233" y="307910"/>
                </a:cubicBezTo>
                <a:lnTo>
                  <a:pt x="5286200" y="317241"/>
                </a:lnTo>
                <a:cubicBezTo>
                  <a:pt x="5298641" y="320351"/>
                  <a:pt x="5310848" y="324621"/>
                  <a:pt x="5323522" y="326571"/>
                </a:cubicBezTo>
                <a:cubicBezTo>
                  <a:pt x="5351359" y="330854"/>
                  <a:pt x="5379527" y="332611"/>
                  <a:pt x="5407498" y="335902"/>
                </a:cubicBezTo>
                <a:lnTo>
                  <a:pt x="5482143" y="345233"/>
                </a:lnTo>
                <a:cubicBezTo>
                  <a:pt x="5594110" y="342123"/>
                  <a:pt x="5706181" y="341639"/>
                  <a:pt x="5818045" y="335902"/>
                </a:cubicBezTo>
                <a:cubicBezTo>
                  <a:pt x="5827868" y="335398"/>
                  <a:pt x="5836269" y="327720"/>
                  <a:pt x="5846037" y="326571"/>
                </a:cubicBezTo>
                <a:cubicBezTo>
                  <a:pt x="5889392" y="321471"/>
                  <a:pt x="5933122" y="320351"/>
                  <a:pt x="5976665" y="317241"/>
                </a:cubicBezTo>
                <a:cubicBezTo>
                  <a:pt x="6001547" y="311021"/>
                  <a:pt x="6025861" y="301761"/>
                  <a:pt x="6051310" y="298580"/>
                </a:cubicBezTo>
                <a:lnTo>
                  <a:pt x="6191269" y="279918"/>
                </a:lnTo>
                <a:cubicBezTo>
                  <a:pt x="6216124" y="276604"/>
                  <a:pt x="6241130" y="274401"/>
                  <a:pt x="6265914" y="270588"/>
                </a:cubicBezTo>
                <a:cubicBezTo>
                  <a:pt x="6364959" y="255350"/>
                  <a:pt x="6264984" y="267846"/>
                  <a:pt x="6349890" y="251926"/>
                </a:cubicBezTo>
                <a:cubicBezTo>
                  <a:pt x="6387079" y="244953"/>
                  <a:pt x="6424535" y="239485"/>
                  <a:pt x="6461857" y="233265"/>
                </a:cubicBezTo>
                <a:lnTo>
                  <a:pt x="6517841" y="223935"/>
                </a:lnTo>
                <a:cubicBezTo>
                  <a:pt x="6594689" y="198318"/>
                  <a:pt x="6554352" y="208055"/>
                  <a:pt x="6639139" y="195943"/>
                </a:cubicBezTo>
                <a:cubicBezTo>
                  <a:pt x="6665822" y="187048"/>
                  <a:pt x="6675157" y="183141"/>
                  <a:pt x="6704453" y="177282"/>
                </a:cubicBezTo>
                <a:cubicBezTo>
                  <a:pt x="6723004" y="173572"/>
                  <a:pt x="6741969" y="172055"/>
                  <a:pt x="6760437" y="167951"/>
                </a:cubicBezTo>
                <a:cubicBezTo>
                  <a:pt x="6770038" y="165817"/>
                  <a:pt x="6779249" y="162151"/>
                  <a:pt x="6788429" y="158620"/>
                </a:cubicBezTo>
                <a:cubicBezTo>
                  <a:pt x="6819694" y="146595"/>
                  <a:pt x="6853863" y="139879"/>
                  <a:pt x="6881735" y="121298"/>
                </a:cubicBezTo>
                <a:cubicBezTo>
                  <a:pt x="6891066" y="115078"/>
                  <a:pt x="6899991" y="108201"/>
                  <a:pt x="6909727" y="102637"/>
                </a:cubicBezTo>
                <a:cubicBezTo>
                  <a:pt x="6961795" y="72883"/>
                  <a:pt x="6932769" y="91262"/>
                  <a:pt x="6993702" y="74645"/>
                </a:cubicBezTo>
                <a:cubicBezTo>
                  <a:pt x="7012680" y="69469"/>
                  <a:pt x="7049686" y="55984"/>
                  <a:pt x="7049686" y="55984"/>
                </a:cubicBezTo>
                <a:cubicBezTo>
                  <a:pt x="7059017" y="49763"/>
                  <a:pt x="7067371" y="41740"/>
                  <a:pt x="7077678" y="37322"/>
                </a:cubicBezTo>
                <a:cubicBezTo>
                  <a:pt x="7089465" y="32271"/>
                  <a:pt x="7102670" y="31515"/>
                  <a:pt x="7115000" y="27992"/>
                </a:cubicBezTo>
                <a:cubicBezTo>
                  <a:pt x="7147032" y="18840"/>
                  <a:pt x="7147142" y="16586"/>
                  <a:pt x="7180314" y="0"/>
                </a:cubicBezTo>
                <a:lnTo>
                  <a:pt x="7516216" y="9331"/>
                </a:lnTo>
                <a:cubicBezTo>
                  <a:pt x="7556734" y="10985"/>
                  <a:pt x="7597024" y="16412"/>
                  <a:pt x="7637514" y="18661"/>
                </a:cubicBezTo>
                <a:cubicBezTo>
                  <a:pt x="7709006" y="22633"/>
                  <a:pt x="7780615" y="24229"/>
                  <a:pt x="7852118" y="27992"/>
                </a:cubicBezTo>
                <a:cubicBezTo>
                  <a:pt x="7898810" y="30449"/>
                  <a:pt x="7945412" y="34405"/>
                  <a:pt x="7992078" y="37322"/>
                </a:cubicBezTo>
                <a:lnTo>
                  <a:pt x="8150698" y="46653"/>
                </a:lnTo>
                <a:cubicBezTo>
                  <a:pt x="8178779" y="48813"/>
                  <a:pt x="8206619" y="53509"/>
                  <a:pt x="8234674" y="55984"/>
                </a:cubicBezTo>
                <a:cubicBezTo>
                  <a:pt x="8427093" y="72962"/>
                  <a:pt x="8447966" y="73397"/>
                  <a:pt x="8617229" y="83975"/>
                </a:cubicBezTo>
                <a:cubicBezTo>
                  <a:pt x="8639000" y="87085"/>
                  <a:pt x="8660978" y="88993"/>
                  <a:pt x="8682543" y="93306"/>
                </a:cubicBezTo>
                <a:cubicBezTo>
                  <a:pt x="8692187" y="95235"/>
                  <a:pt x="8700993" y="100252"/>
                  <a:pt x="8710535" y="102637"/>
                </a:cubicBezTo>
                <a:cubicBezTo>
                  <a:pt x="8725920" y="106483"/>
                  <a:pt x="8741637" y="108857"/>
                  <a:pt x="8757188" y="111967"/>
                </a:cubicBezTo>
                <a:cubicBezTo>
                  <a:pt x="8769629" y="118188"/>
                  <a:pt x="8781725" y="125150"/>
                  <a:pt x="8794510" y="130629"/>
                </a:cubicBezTo>
                <a:cubicBezTo>
                  <a:pt x="8816872" y="140213"/>
                  <a:pt x="8836163" y="142530"/>
                  <a:pt x="8859825" y="149290"/>
                </a:cubicBezTo>
                <a:cubicBezTo>
                  <a:pt x="8889486" y="157764"/>
                  <a:pt x="8902901" y="165444"/>
                  <a:pt x="8934469" y="177282"/>
                </a:cubicBezTo>
                <a:cubicBezTo>
                  <a:pt x="8943678" y="180735"/>
                  <a:pt x="8953130" y="183502"/>
                  <a:pt x="8962461" y="186612"/>
                </a:cubicBezTo>
                <a:cubicBezTo>
                  <a:pt x="8971792" y="192832"/>
                  <a:pt x="8980423" y="200258"/>
                  <a:pt x="8990453" y="205273"/>
                </a:cubicBezTo>
                <a:cubicBezTo>
                  <a:pt x="8999250" y="209672"/>
                  <a:pt x="9008956" y="212016"/>
                  <a:pt x="9018445" y="214604"/>
                </a:cubicBezTo>
                <a:cubicBezTo>
                  <a:pt x="9043189" y="221352"/>
                  <a:pt x="9069277" y="223740"/>
                  <a:pt x="9093090" y="233265"/>
                </a:cubicBezTo>
                <a:cubicBezTo>
                  <a:pt x="9108641" y="239485"/>
                  <a:pt x="9123970" y="246293"/>
                  <a:pt x="9139743" y="251926"/>
                </a:cubicBezTo>
                <a:cubicBezTo>
                  <a:pt x="9167530" y="261850"/>
                  <a:pt x="9197327" y="266722"/>
                  <a:pt x="9223718" y="279918"/>
                </a:cubicBezTo>
                <a:cubicBezTo>
                  <a:pt x="9236159" y="286139"/>
                  <a:pt x="9248964" y="291679"/>
                  <a:pt x="9261041" y="298580"/>
                </a:cubicBezTo>
                <a:cubicBezTo>
                  <a:pt x="9270777" y="304144"/>
                  <a:pt x="9279003" y="312226"/>
                  <a:pt x="9289033" y="317241"/>
                </a:cubicBezTo>
                <a:cubicBezTo>
                  <a:pt x="9297830" y="321639"/>
                  <a:pt x="9307694" y="323461"/>
                  <a:pt x="9317025" y="326571"/>
                </a:cubicBezTo>
                <a:cubicBezTo>
                  <a:pt x="9335686" y="339012"/>
                  <a:pt x="9351731" y="356802"/>
                  <a:pt x="9373008" y="363894"/>
                </a:cubicBezTo>
                <a:lnTo>
                  <a:pt x="9456984" y="391886"/>
                </a:lnTo>
                <a:lnTo>
                  <a:pt x="9512967" y="410547"/>
                </a:lnTo>
                <a:lnTo>
                  <a:pt x="9540959" y="419878"/>
                </a:lnTo>
                <a:cubicBezTo>
                  <a:pt x="9556510" y="435429"/>
                  <a:pt x="9580657" y="445667"/>
                  <a:pt x="9587612" y="466531"/>
                </a:cubicBezTo>
                <a:cubicBezTo>
                  <a:pt x="9599725" y="502868"/>
                  <a:pt x="9589989" y="487567"/>
                  <a:pt x="9615604" y="513184"/>
                </a:cubicBezTo>
                <a:cubicBezTo>
                  <a:pt x="9622015" y="545239"/>
                  <a:pt x="9625483" y="566423"/>
                  <a:pt x="9634265" y="597159"/>
                </a:cubicBezTo>
                <a:cubicBezTo>
                  <a:pt x="9650452" y="653813"/>
                  <a:pt x="9638699" y="593550"/>
                  <a:pt x="9652927" y="671804"/>
                </a:cubicBezTo>
                <a:cubicBezTo>
                  <a:pt x="9672457" y="779222"/>
                  <a:pt x="9651875" y="673773"/>
                  <a:pt x="9671588" y="811763"/>
                </a:cubicBezTo>
                <a:cubicBezTo>
                  <a:pt x="9676939" y="849220"/>
                  <a:pt x="9685556" y="886186"/>
                  <a:pt x="9690249" y="923731"/>
                </a:cubicBezTo>
                <a:cubicBezTo>
                  <a:pt x="9693359" y="948612"/>
                  <a:pt x="9696034" y="973552"/>
                  <a:pt x="9699580" y="998375"/>
                </a:cubicBezTo>
                <a:cubicBezTo>
                  <a:pt x="9702255" y="1017104"/>
                  <a:pt x="9706895" y="1035548"/>
                  <a:pt x="9708910" y="1054359"/>
                </a:cubicBezTo>
                <a:cubicBezTo>
                  <a:pt x="9716229" y="1122675"/>
                  <a:pt x="9727571" y="1259633"/>
                  <a:pt x="9727571" y="1259633"/>
                </a:cubicBezTo>
                <a:cubicBezTo>
                  <a:pt x="9719430" y="1495751"/>
                  <a:pt x="9706477" y="1457207"/>
                  <a:pt x="9727571" y="1604865"/>
                </a:cubicBezTo>
                <a:cubicBezTo>
                  <a:pt x="9730246" y="1623594"/>
                  <a:pt x="9732314" y="1642495"/>
                  <a:pt x="9736902" y="1660849"/>
                </a:cubicBezTo>
                <a:cubicBezTo>
                  <a:pt x="9741673" y="1679932"/>
                  <a:pt x="9751705" y="1697544"/>
                  <a:pt x="9755563" y="1716833"/>
                </a:cubicBezTo>
                <a:cubicBezTo>
                  <a:pt x="9758673" y="1732384"/>
                  <a:pt x="9760721" y="1748186"/>
                  <a:pt x="9764894" y="1763486"/>
                </a:cubicBezTo>
                <a:cubicBezTo>
                  <a:pt x="9770070" y="1782463"/>
                  <a:pt x="9783555" y="1819469"/>
                  <a:pt x="9783555" y="1819469"/>
                </a:cubicBezTo>
                <a:cubicBezTo>
                  <a:pt x="9780445" y="1965649"/>
                  <a:pt x="9786121" y="2112280"/>
                  <a:pt x="9774225" y="2258008"/>
                </a:cubicBezTo>
                <a:cubicBezTo>
                  <a:pt x="9773249" y="2269970"/>
                  <a:pt x="9726000" y="2283783"/>
                  <a:pt x="9718241" y="2286000"/>
                </a:cubicBezTo>
                <a:cubicBezTo>
                  <a:pt x="9705911" y="2289523"/>
                  <a:pt x="9693201" y="2291646"/>
                  <a:pt x="9680918" y="2295331"/>
                </a:cubicBezTo>
                <a:cubicBezTo>
                  <a:pt x="9662077" y="2300983"/>
                  <a:pt x="9644408" y="2311210"/>
                  <a:pt x="9624935" y="2313992"/>
                </a:cubicBezTo>
                <a:lnTo>
                  <a:pt x="9559620" y="2323322"/>
                </a:lnTo>
                <a:cubicBezTo>
                  <a:pt x="9526477" y="2334370"/>
                  <a:pt x="9461216" y="2357716"/>
                  <a:pt x="9428992" y="2360645"/>
                </a:cubicBezTo>
                <a:lnTo>
                  <a:pt x="9326355" y="2369975"/>
                </a:lnTo>
                <a:cubicBezTo>
                  <a:pt x="9208860" y="2399350"/>
                  <a:pt x="9295078" y="2379903"/>
                  <a:pt x="9195727" y="2397967"/>
                </a:cubicBezTo>
                <a:cubicBezTo>
                  <a:pt x="9180124" y="2400804"/>
                  <a:pt x="9164862" y="2405794"/>
                  <a:pt x="9149074" y="2407298"/>
                </a:cubicBezTo>
                <a:cubicBezTo>
                  <a:pt x="9053630" y="2416388"/>
                  <a:pt x="8817508" y="2424024"/>
                  <a:pt x="8747857" y="2425959"/>
                </a:cubicBezTo>
                <a:lnTo>
                  <a:pt x="8327980" y="2435290"/>
                </a:lnTo>
                <a:cubicBezTo>
                  <a:pt x="8219123" y="2441510"/>
                  <a:pt x="8110412" y="2451356"/>
                  <a:pt x="8001408" y="2453951"/>
                </a:cubicBezTo>
                <a:lnTo>
                  <a:pt x="7609522" y="2463282"/>
                </a:lnTo>
                <a:lnTo>
                  <a:pt x="7282951" y="2472612"/>
                </a:lnTo>
                <a:lnTo>
                  <a:pt x="6723114" y="2481943"/>
                </a:lnTo>
                <a:lnTo>
                  <a:pt x="6153947" y="2509935"/>
                </a:lnTo>
                <a:lnTo>
                  <a:pt x="5855367" y="2519265"/>
                </a:lnTo>
                <a:cubicBezTo>
                  <a:pt x="5643770" y="2540426"/>
                  <a:pt x="5783817" y="2528744"/>
                  <a:pt x="5398167" y="2537926"/>
                </a:cubicBezTo>
                <a:lnTo>
                  <a:pt x="4978290" y="2547257"/>
                </a:lnTo>
                <a:cubicBezTo>
                  <a:pt x="4756222" y="2591670"/>
                  <a:pt x="4943102" y="2559843"/>
                  <a:pt x="4511759" y="2575249"/>
                </a:cubicBezTo>
                <a:cubicBezTo>
                  <a:pt x="4461930" y="2577029"/>
                  <a:pt x="4412327" y="2584127"/>
                  <a:pt x="4362469" y="2584580"/>
                </a:cubicBezTo>
                <a:lnTo>
                  <a:pt x="2459025" y="2593910"/>
                </a:lnTo>
                <a:lnTo>
                  <a:pt x="1339351" y="2584580"/>
                </a:lnTo>
                <a:cubicBezTo>
                  <a:pt x="1241522" y="2583051"/>
                  <a:pt x="1292768" y="2571714"/>
                  <a:pt x="1208722" y="2565918"/>
                </a:cubicBezTo>
                <a:cubicBezTo>
                  <a:pt x="1137289" y="2560992"/>
                  <a:pt x="1065653" y="2559698"/>
                  <a:pt x="994118" y="2556588"/>
                </a:cubicBezTo>
                <a:lnTo>
                  <a:pt x="928804" y="2547257"/>
                </a:lnTo>
                <a:cubicBezTo>
                  <a:pt x="844244" y="2535982"/>
                  <a:pt x="819817" y="2535312"/>
                  <a:pt x="723531" y="2519265"/>
                </a:cubicBezTo>
                <a:cubicBezTo>
                  <a:pt x="686208" y="2513045"/>
                  <a:pt x="647459" y="2512569"/>
                  <a:pt x="611563" y="2500604"/>
                </a:cubicBezTo>
                <a:lnTo>
                  <a:pt x="555580" y="2481943"/>
                </a:lnTo>
                <a:cubicBezTo>
                  <a:pt x="546249" y="2478833"/>
                  <a:pt x="537232" y="2474541"/>
                  <a:pt x="527588" y="2472612"/>
                </a:cubicBezTo>
                <a:lnTo>
                  <a:pt x="480935" y="2463282"/>
                </a:lnTo>
                <a:cubicBezTo>
                  <a:pt x="468494" y="2457061"/>
                  <a:pt x="456986" y="2448441"/>
                  <a:pt x="443612" y="2444620"/>
                </a:cubicBezTo>
                <a:cubicBezTo>
                  <a:pt x="413114" y="2435906"/>
                  <a:pt x="350306" y="2425959"/>
                  <a:pt x="350306" y="2425959"/>
                </a:cubicBezTo>
                <a:cubicBezTo>
                  <a:pt x="331645" y="2413518"/>
                  <a:pt x="306763" y="2407298"/>
                  <a:pt x="294322" y="2388637"/>
                </a:cubicBezTo>
                <a:cubicBezTo>
                  <a:pt x="288102" y="2379306"/>
                  <a:pt x="283590" y="2368574"/>
                  <a:pt x="275661" y="2360645"/>
                </a:cubicBezTo>
                <a:cubicBezTo>
                  <a:pt x="257575" y="2342559"/>
                  <a:pt x="242443" y="2340242"/>
                  <a:pt x="219678" y="2332653"/>
                </a:cubicBezTo>
                <a:cubicBezTo>
                  <a:pt x="213457" y="2326433"/>
                  <a:pt x="208559" y="2318518"/>
                  <a:pt x="201016" y="2313992"/>
                </a:cubicBezTo>
                <a:cubicBezTo>
                  <a:pt x="192582" y="2308932"/>
                  <a:pt x="182065" y="2308535"/>
                  <a:pt x="173025" y="2304661"/>
                </a:cubicBezTo>
                <a:cubicBezTo>
                  <a:pt x="160240" y="2299182"/>
                  <a:pt x="147629" y="2293156"/>
                  <a:pt x="135702" y="2286000"/>
                </a:cubicBezTo>
                <a:cubicBezTo>
                  <a:pt x="116470" y="2274461"/>
                  <a:pt x="79718" y="2248678"/>
                  <a:pt x="79718" y="2248678"/>
                </a:cubicBezTo>
                <a:cubicBezTo>
                  <a:pt x="82829" y="2037115"/>
                  <a:pt x="-113205" y="1614196"/>
                  <a:pt x="98380" y="1614196"/>
                </a:cubicBezTo>
              </a:path>
            </a:pathLst>
          </a:custGeom>
          <a:solidFill>
            <a:srgbClr val="72af2f"/>
          </a:solidFill>
          <a:ln w="25560">
            <a:solidFill>
              <a:srgbClr val="72af2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Freeform 5"/>
          <p:cNvSpPr/>
          <p:nvPr/>
        </p:nvSpPr>
        <p:spPr>
          <a:xfrm>
            <a:off x="-225360" y="3645000"/>
            <a:ext cx="9556560" cy="3446280"/>
          </a:xfrm>
          <a:custGeom>
            <a:avLst/>
            <a:gdLst/>
            <a:ahLst/>
            <a:rect l="l" t="t" r="r" b="b"/>
            <a:pathLst>
              <a:path w="9555712" h="2472612">
                <a:moveTo>
                  <a:pt x="94471" y="317241"/>
                </a:moveTo>
                <a:cubicBezTo>
                  <a:pt x="103801" y="311021"/>
                  <a:pt x="126079" y="312925"/>
                  <a:pt x="141124" y="307910"/>
                </a:cubicBezTo>
                <a:cubicBezTo>
                  <a:pt x="206137" y="286239"/>
                  <a:pt x="151913" y="293185"/>
                  <a:pt x="215769" y="261257"/>
                </a:cubicBezTo>
                <a:cubicBezTo>
                  <a:pt x="227239" y="255522"/>
                  <a:pt x="240651" y="255037"/>
                  <a:pt x="253092" y="251927"/>
                </a:cubicBezTo>
                <a:cubicBezTo>
                  <a:pt x="270450" y="234569"/>
                  <a:pt x="276203" y="226375"/>
                  <a:pt x="299745" y="214604"/>
                </a:cubicBezTo>
                <a:cubicBezTo>
                  <a:pt x="308542" y="210206"/>
                  <a:pt x="318406" y="208384"/>
                  <a:pt x="327737" y="205274"/>
                </a:cubicBezTo>
                <a:cubicBezTo>
                  <a:pt x="369934" y="163075"/>
                  <a:pt x="317194" y="214058"/>
                  <a:pt x="383720" y="158620"/>
                </a:cubicBezTo>
                <a:cubicBezTo>
                  <a:pt x="390478" y="152988"/>
                  <a:pt x="395062" y="144839"/>
                  <a:pt x="402382" y="139959"/>
                </a:cubicBezTo>
                <a:cubicBezTo>
                  <a:pt x="413955" y="132244"/>
                  <a:pt x="427628" y="128199"/>
                  <a:pt x="439704" y="121298"/>
                </a:cubicBezTo>
                <a:cubicBezTo>
                  <a:pt x="449441" y="115734"/>
                  <a:pt x="458571" y="109155"/>
                  <a:pt x="467696" y="102637"/>
                </a:cubicBezTo>
                <a:cubicBezTo>
                  <a:pt x="480350" y="93598"/>
                  <a:pt x="491424" y="82197"/>
                  <a:pt x="505018" y="74645"/>
                </a:cubicBezTo>
                <a:cubicBezTo>
                  <a:pt x="519659" y="66511"/>
                  <a:pt x="536690" y="63474"/>
                  <a:pt x="551671" y="55984"/>
                </a:cubicBezTo>
                <a:cubicBezTo>
                  <a:pt x="561701" y="50969"/>
                  <a:pt x="570906" y="44328"/>
                  <a:pt x="579663" y="37323"/>
                </a:cubicBezTo>
                <a:cubicBezTo>
                  <a:pt x="586532" y="31827"/>
                  <a:pt x="590456" y="22595"/>
                  <a:pt x="598324" y="18661"/>
                </a:cubicBezTo>
                <a:cubicBezTo>
                  <a:pt x="609794" y="12926"/>
                  <a:pt x="623317" y="12854"/>
                  <a:pt x="635647" y="9331"/>
                </a:cubicBezTo>
                <a:cubicBezTo>
                  <a:pt x="645104" y="6629"/>
                  <a:pt x="654308" y="3110"/>
                  <a:pt x="663639" y="0"/>
                </a:cubicBezTo>
                <a:cubicBezTo>
                  <a:pt x="679047" y="1712"/>
                  <a:pt x="748254" y="3465"/>
                  <a:pt x="775606" y="18661"/>
                </a:cubicBezTo>
                <a:cubicBezTo>
                  <a:pt x="795212" y="29553"/>
                  <a:pt x="811530" y="45954"/>
                  <a:pt x="831590" y="55984"/>
                </a:cubicBezTo>
                <a:cubicBezTo>
                  <a:pt x="844031" y="62204"/>
                  <a:pt x="855998" y="69479"/>
                  <a:pt x="868912" y="74645"/>
                </a:cubicBezTo>
                <a:cubicBezTo>
                  <a:pt x="887176" y="81950"/>
                  <a:pt x="906921" y="85317"/>
                  <a:pt x="924896" y="93306"/>
                </a:cubicBezTo>
                <a:cubicBezTo>
                  <a:pt x="935144" y="97860"/>
                  <a:pt x="942581" y="107550"/>
                  <a:pt x="952888" y="111967"/>
                </a:cubicBezTo>
                <a:cubicBezTo>
                  <a:pt x="964675" y="117019"/>
                  <a:pt x="978203" y="116795"/>
                  <a:pt x="990210" y="121298"/>
                </a:cubicBezTo>
                <a:cubicBezTo>
                  <a:pt x="1087794" y="157892"/>
                  <a:pt x="969056" y="125339"/>
                  <a:pt x="1064855" y="149290"/>
                </a:cubicBezTo>
                <a:lnTo>
                  <a:pt x="1148831" y="205274"/>
                </a:lnTo>
                <a:cubicBezTo>
                  <a:pt x="1158161" y="211494"/>
                  <a:pt x="1165943" y="221215"/>
                  <a:pt x="1176822" y="223935"/>
                </a:cubicBezTo>
                <a:lnTo>
                  <a:pt x="1214145" y="233265"/>
                </a:lnTo>
                <a:cubicBezTo>
                  <a:pt x="1298301" y="275345"/>
                  <a:pt x="1193914" y="226523"/>
                  <a:pt x="1326112" y="270588"/>
                </a:cubicBezTo>
                <a:cubicBezTo>
                  <a:pt x="1344773" y="276808"/>
                  <a:pt x="1363832" y="281944"/>
                  <a:pt x="1382096" y="289249"/>
                </a:cubicBezTo>
                <a:cubicBezTo>
                  <a:pt x="1437881" y="311563"/>
                  <a:pt x="1412860" y="302613"/>
                  <a:pt x="1456741" y="317241"/>
                </a:cubicBezTo>
                <a:cubicBezTo>
                  <a:pt x="1466072" y="326572"/>
                  <a:pt x="1473754" y="337913"/>
                  <a:pt x="1484733" y="345233"/>
                </a:cubicBezTo>
                <a:cubicBezTo>
                  <a:pt x="1492916" y="350688"/>
                  <a:pt x="1503927" y="350165"/>
                  <a:pt x="1512724" y="354563"/>
                </a:cubicBezTo>
                <a:cubicBezTo>
                  <a:pt x="1522754" y="359578"/>
                  <a:pt x="1530409" y="368808"/>
                  <a:pt x="1540716" y="373225"/>
                </a:cubicBezTo>
                <a:cubicBezTo>
                  <a:pt x="1552503" y="378277"/>
                  <a:pt x="1565756" y="378870"/>
                  <a:pt x="1578039" y="382555"/>
                </a:cubicBezTo>
                <a:cubicBezTo>
                  <a:pt x="1596880" y="388207"/>
                  <a:pt x="1615361" y="394996"/>
                  <a:pt x="1634022" y="401216"/>
                </a:cubicBezTo>
                <a:cubicBezTo>
                  <a:pt x="1697546" y="422391"/>
                  <a:pt x="1619431" y="395745"/>
                  <a:pt x="1708667" y="429208"/>
                </a:cubicBezTo>
                <a:cubicBezTo>
                  <a:pt x="1717876" y="432661"/>
                  <a:pt x="1726957" y="436922"/>
                  <a:pt x="1736659" y="438539"/>
                </a:cubicBezTo>
                <a:cubicBezTo>
                  <a:pt x="1764440" y="443169"/>
                  <a:pt x="1792643" y="444759"/>
                  <a:pt x="1820635" y="447869"/>
                </a:cubicBezTo>
                <a:cubicBezTo>
                  <a:pt x="2366648" y="431324"/>
                  <a:pt x="1974630" y="452852"/>
                  <a:pt x="2203190" y="429208"/>
                </a:cubicBezTo>
                <a:lnTo>
                  <a:pt x="2399133" y="410547"/>
                </a:lnTo>
                <a:cubicBezTo>
                  <a:pt x="2430990" y="404175"/>
                  <a:pt x="2469923" y="395867"/>
                  <a:pt x="2501769" y="391886"/>
                </a:cubicBezTo>
                <a:cubicBezTo>
                  <a:pt x="2532785" y="388009"/>
                  <a:pt x="2564010" y="386007"/>
                  <a:pt x="2595076" y="382555"/>
                </a:cubicBezTo>
                <a:cubicBezTo>
                  <a:pt x="2619998" y="379786"/>
                  <a:pt x="2644937" y="377038"/>
                  <a:pt x="2669720" y="373225"/>
                </a:cubicBezTo>
                <a:cubicBezTo>
                  <a:pt x="2685395" y="370814"/>
                  <a:pt x="2700623" y="365747"/>
                  <a:pt x="2716373" y="363894"/>
                </a:cubicBezTo>
                <a:cubicBezTo>
                  <a:pt x="2753569" y="359518"/>
                  <a:pt x="2791018" y="357673"/>
                  <a:pt x="2828341" y="354563"/>
                </a:cubicBezTo>
                <a:cubicBezTo>
                  <a:pt x="2840782" y="351453"/>
                  <a:pt x="2853014" y="347341"/>
                  <a:pt x="2865663" y="345233"/>
                </a:cubicBezTo>
                <a:cubicBezTo>
                  <a:pt x="2890397" y="341111"/>
                  <a:pt x="2915453" y="339216"/>
                  <a:pt x="2940308" y="335902"/>
                </a:cubicBezTo>
                <a:lnTo>
                  <a:pt x="3005622" y="326571"/>
                </a:lnTo>
                <a:cubicBezTo>
                  <a:pt x="3014953" y="323461"/>
                  <a:pt x="3024157" y="319943"/>
                  <a:pt x="3033614" y="317241"/>
                </a:cubicBezTo>
                <a:cubicBezTo>
                  <a:pt x="3236766" y="259199"/>
                  <a:pt x="3481975" y="314333"/>
                  <a:pt x="3668096" y="317241"/>
                </a:cubicBezTo>
                <a:cubicBezTo>
                  <a:pt x="3680537" y="320351"/>
                  <a:pt x="3693088" y="323048"/>
                  <a:pt x="3705418" y="326571"/>
                </a:cubicBezTo>
                <a:cubicBezTo>
                  <a:pt x="3714875" y="329273"/>
                  <a:pt x="3723809" y="333768"/>
                  <a:pt x="3733410" y="335902"/>
                </a:cubicBezTo>
                <a:cubicBezTo>
                  <a:pt x="3802830" y="351329"/>
                  <a:pt x="3780264" y="339674"/>
                  <a:pt x="3854708" y="354563"/>
                </a:cubicBezTo>
                <a:cubicBezTo>
                  <a:pt x="3879857" y="359593"/>
                  <a:pt x="3904471" y="367005"/>
                  <a:pt x="3929353" y="373225"/>
                </a:cubicBezTo>
                <a:cubicBezTo>
                  <a:pt x="3941794" y="376335"/>
                  <a:pt x="3954510" y="378499"/>
                  <a:pt x="3966676" y="382555"/>
                </a:cubicBezTo>
                <a:cubicBezTo>
                  <a:pt x="4018999" y="399997"/>
                  <a:pt x="3985122" y="389500"/>
                  <a:pt x="4069312" y="410547"/>
                </a:cubicBezTo>
                <a:cubicBezTo>
                  <a:pt x="4081753" y="413657"/>
                  <a:pt x="4093940" y="418065"/>
                  <a:pt x="4106635" y="419878"/>
                </a:cubicBezTo>
                <a:cubicBezTo>
                  <a:pt x="4128406" y="422988"/>
                  <a:pt x="4150311" y="425274"/>
                  <a:pt x="4171949" y="429208"/>
                </a:cubicBezTo>
                <a:cubicBezTo>
                  <a:pt x="4246354" y="442736"/>
                  <a:pt x="4180037" y="445512"/>
                  <a:pt x="4302578" y="447869"/>
                </a:cubicBezTo>
                <a:lnTo>
                  <a:pt x="5179655" y="457200"/>
                </a:lnTo>
                <a:lnTo>
                  <a:pt x="5300953" y="466531"/>
                </a:lnTo>
                <a:cubicBezTo>
                  <a:pt x="5332093" y="469239"/>
                  <a:pt x="5363067" y="473849"/>
                  <a:pt x="5394259" y="475861"/>
                </a:cubicBezTo>
                <a:cubicBezTo>
                  <a:pt x="5459512" y="480071"/>
                  <a:pt x="5524888" y="482082"/>
                  <a:pt x="5590202" y="485192"/>
                </a:cubicBezTo>
                <a:cubicBezTo>
                  <a:pt x="5602643" y="488302"/>
                  <a:pt x="5614907" y="492229"/>
                  <a:pt x="5627524" y="494523"/>
                </a:cubicBezTo>
                <a:cubicBezTo>
                  <a:pt x="5649162" y="498457"/>
                  <a:pt x="5671410" y="498908"/>
                  <a:pt x="5692839" y="503853"/>
                </a:cubicBezTo>
                <a:cubicBezTo>
                  <a:pt x="5712006" y="508276"/>
                  <a:pt x="5730161" y="516294"/>
                  <a:pt x="5748822" y="522514"/>
                </a:cubicBezTo>
                <a:cubicBezTo>
                  <a:pt x="5758153" y="525624"/>
                  <a:pt x="5767170" y="529916"/>
                  <a:pt x="5776814" y="531845"/>
                </a:cubicBezTo>
                <a:cubicBezTo>
                  <a:pt x="5792365" y="534955"/>
                  <a:pt x="5808167" y="537003"/>
                  <a:pt x="5823467" y="541176"/>
                </a:cubicBezTo>
                <a:cubicBezTo>
                  <a:pt x="5842445" y="546352"/>
                  <a:pt x="5860368" y="555066"/>
                  <a:pt x="5879451" y="559837"/>
                </a:cubicBezTo>
                <a:lnTo>
                  <a:pt x="5916773" y="569167"/>
                </a:lnTo>
                <a:cubicBezTo>
                  <a:pt x="5929214" y="575388"/>
                  <a:pt x="5941072" y="582945"/>
                  <a:pt x="5954096" y="587829"/>
                </a:cubicBezTo>
                <a:cubicBezTo>
                  <a:pt x="5966103" y="592332"/>
                  <a:pt x="5979948" y="591424"/>
                  <a:pt x="5991418" y="597159"/>
                </a:cubicBezTo>
                <a:cubicBezTo>
                  <a:pt x="6005327" y="604114"/>
                  <a:pt x="6015239" y="617435"/>
                  <a:pt x="6028741" y="625151"/>
                </a:cubicBezTo>
                <a:cubicBezTo>
                  <a:pt x="6045333" y="634632"/>
                  <a:pt x="6089730" y="640398"/>
                  <a:pt x="6103386" y="643812"/>
                </a:cubicBezTo>
                <a:cubicBezTo>
                  <a:pt x="6112928" y="646197"/>
                  <a:pt x="6121836" y="650757"/>
                  <a:pt x="6131378" y="653143"/>
                </a:cubicBezTo>
                <a:cubicBezTo>
                  <a:pt x="6146763" y="656990"/>
                  <a:pt x="6162480" y="659364"/>
                  <a:pt x="6178031" y="662474"/>
                </a:cubicBezTo>
                <a:cubicBezTo>
                  <a:pt x="6190472" y="668694"/>
                  <a:pt x="6203277" y="674234"/>
                  <a:pt x="6215353" y="681135"/>
                </a:cubicBezTo>
                <a:cubicBezTo>
                  <a:pt x="6225090" y="686699"/>
                  <a:pt x="6233315" y="694781"/>
                  <a:pt x="6243345" y="699796"/>
                </a:cubicBezTo>
                <a:cubicBezTo>
                  <a:pt x="6258326" y="707286"/>
                  <a:pt x="6274447" y="712237"/>
                  <a:pt x="6289998" y="718457"/>
                </a:cubicBezTo>
                <a:cubicBezTo>
                  <a:pt x="6299329" y="727788"/>
                  <a:pt x="6306800" y="739455"/>
                  <a:pt x="6317990" y="746449"/>
                </a:cubicBezTo>
                <a:cubicBezTo>
                  <a:pt x="6347660" y="764993"/>
                  <a:pt x="6390149" y="768531"/>
                  <a:pt x="6420627" y="783771"/>
                </a:cubicBezTo>
                <a:cubicBezTo>
                  <a:pt x="6459242" y="803079"/>
                  <a:pt x="6467807" y="809562"/>
                  <a:pt x="6513933" y="821094"/>
                </a:cubicBezTo>
                <a:cubicBezTo>
                  <a:pt x="6526374" y="824204"/>
                  <a:pt x="6538432" y="830266"/>
                  <a:pt x="6551255" y="830425"/>
                </a:cubicBezTo>
                <a:lnTo>
                  <a:pt x="8016161" y="839755"/>
                </a:lnTo>
                <a:cubicBezTo>
                  <a:pt x="8087696" y="842865"/>
                  <a:pt x="8159374" y="843594"/>
                  <a:pt x="8230765" y="849086"/>
                </a:cubicBezTo>
                <a:cubicBezTo>
                  <a:pt x="8240571" y="849840"/>
                  <a:pt x="8249215" y="856031"/>
                  <a:pt x="8258757" y="858416"/>
                </a:cubicBezTo>
                <a:cubicBezTo>
                  <a:pt x="8276491" y="862850"/>
                  <a:pt x="8323577" y="869894"/>
                  <a:pt x="8342733" y="877078"/>
                </a:cubicBezTo>
                <a:cubicBezTo>
                  <a:pt x="8355756" y="881962"/>
                  <a:pt x="8367141" y="890573"/>
                  <a:pt x="8380055" y="895739"/>
                </a:cubicBezTo>
                <a:cubicBezTo>
                  <a:pt x="8398319" y="903044"/>
                  <a:pt x="8419672" y="903488"/>
                  <a:pt x="8436039" y="914400"/>
                </a:cubicBezTo>
                <a:cubicBezTo>
                  <a:pt x="8500205" y="957179"/>
                  <a:pt x="8470745" y="944631"/>
                  <a:pt x="8520014" y="961053"/>
                </a:cubicBezTo>
                <a:cubicBezTo>
                  <a:pt x="8558351" y="986610"/>
                  <a:pt x="8569733" y="995870"/>
                  <a:pt x="8622651" y="1017037"/>
                </a:cubicBezTo>
                <a:cubicBezTo>
                  <a:pt x="8653753" y="1029478"/>
                  <a:pt x="8683459" y="1046234"/>
                  <a:pt x="8715957" y="1054359"/>
                </a:cubicBezTo>
                <a:cubicBezTo>
                  <a:pt x="8771633" y="1068278"/>
                  <a:pt x="8740631" y="1061582"/>
                  <a:pt x="8809263" y="1073020"/>
                </a:cubicBezTo>
                <a:cubicBezTo>
                  <a:pt x="8821704" y="1082351"/>
                  <a:pt x="8832292" y="1094886"/>
                  <a:pt x="8846586" y="1101012"/>
                </a:cubicBezTo>
                <a:cubicBezTo>
                  <a:pt x="8876432" y="1113803"/>
                  <a:pt x="8908517" y="1120637"/>
                  <a:pt x="8939892" y="1129004"/>
                </a:cubicBezTo>
                <a:cubicBezTo>
                  <a:pt x="8961637" y="1134803"/>
                  <a:pt x="9022746" y="1144368"/>
                  <a:pt x="9042529" y="1147665"/>
                </a:cubicBezTo>
                <a:cubicBezTo>
                  <a:pt x="9061190" y="1153886"/>
                  <a:pt x="9079535" y="1161151"/>
                  <a:pt x="9098512" y="1166327"/>
                </a:cubicBezTo>
                <a:cubicBezTo>
                  <a:pt x="9196228" y="1192977"/>
                  <a:pt x="9098658" y="1159839"/>
                  <a:pt x="9182488" y="1184988"/>
                </a:cubicBezTo>
                <a:cubicBezTo>
                  <a:pt x="9230083" y="1199267"/>
                  <a:pt x="9232788" y="1204379"/>
                  <a:pt x="9275794" y="1212980"/>
                </a:cubicBezTo>
                <a:cubicBezTo>
                  <a:pt x="9294345" y="1216690"/>
                  <a:pt x="9313227" y="1218600"/>
                  <a:pt x="9331778" y="1222310"/>
                </a:cubicBezTo>
                <a:cubicBezTo>
                  <a:pt x="9419008" y="1239756"/>
                  <a:pt x="9325975" y="1223192"/>
                  <a:pt x="9397092" y="1240971"/>
                </a:cubicBezTo>
                <a:cubicBezTo>
                  <a:pt x="9412477" y="1244817"/>
                  <a:pt x="9428194" y="1247192"/>
                  <a:pt x="9443745" y="1250302"/>
                </a:cubicBezTo>
                <a:cubicBezTo>
                  <a:pt x="9446855" y="1321837"/>
                  <a:pt x="9448313" y="1393462"/>
                  <a:pt x="9453076" y="1464906"/>
                </a:cubicBezTo>
                <a:cubicBezTo>
                  <a:pt x="9456878" y="1521933"/>
                  <a:pt x="9463697" y="1525952"/>
                  <a:pt x="9471737" y="1576874"/>
                </a:cubicBezTo>
                <a:cubicBezTo>
                  <a:pt x="9478597" y="1620320"/>
                  <a:pt x="9486416" y="1663698"/>
                  <a:pt x="9490398" y="1707502"/>
                </a:cubicBezTo>
                <a:cubicBezTo>
                  <a:pt x="9493508" y="1741714"/>
                  <a:pt x="9495189" y="1776087"/>
                  <a:pt x="9499729" y="1810139"/>
                </a:cubicBezTo>
                <a:cubicBezTo>
                  <a:pt x="9502333" y="1829670"/>
                  <a:pt x="9511992" y="1856259"/>
                  <a:pt x="9518390" y="1875453"/>
                </a:cubicBezTo>
                <a:cubicBezTo>
                  <a:pt x="9521500" y="1894114"/>
                  <a:pt x="9523616" y="1912969"/>
                  <a:pt x="9527720" y="1931437"/>
                </a:cubicBezTo>
                <a:cubicBezTo>
                  <a:pt x="9545088" y="2009593"/>
                  <a:pt x="9530250" y="1893157"/>
                  <a:pt x="9546382" y="2006082"/>
                </a:cubicBezTo>
                <a:cubicBezTo>
                  <a:pt x="9550365" y="2033963"/>
                  <a:pt x="9552602" y="2062065"/>
                  <a:pt x="9555712" y="2090057"/>
                </a:cubicBezTo>
                <a:cubicBezTo>
                  <a:pt x="9552602" y="2161592"/>
                  <a:pt x="9560986" y="2234564"/>
                  <a:pt x="9546382" y="2304661"/>
                </a:cubicBezTo>
                <a:cubicBezTo>
                  <a:pt x="9543767" y="2317215"/>
                  <a:pt x="9520529" y="2308257"/>
                  <a:pt x="9509059" y="2313992"/>
                </a:cubicBezTo>
                <a:cubicBezTo>
                  <a:pt x="9488999" y="2324022"/>
                  <a:pt x="9475068" y="2346915"/>
                  <a:pt x="9453076" y="2351314"/>
                </a:cubicBezTo>
                <a:cubicBezTo>
                  <a:pt x="9437525" y="2354424"/>
                  <a:pt x="9421808" y="2356798"/>
                  <a:pt x="9406422" y="2360645"/>
                </a:cubicBezTo>
                <a:cubicBezTo>
                  <a:pt x="9308508" y="2385125"/>
                  <a:pt x="9463281" y="2353127"/>
                  <a:pt x="9341108" y="2379306"/>
                </a:cubicBezTo>
                <a:cubicBezTo>
                  <a:pt x="9249207" y="2398998"/>
                  <a:pt x="9263274" y="2395757"/>
                  <a:pt x="9182488" y="2407298"/>
                </a:cubicBezTo>
                <a:cubicBezTo>
                  <a:pt x="9173157" y="2410408"/>
                  <a:pt x="9164038" y="2414244"/>
                  <a:pt x="9154496" y="2416629"/>
                </a:cubicBezTo>
                <a:cubicBezTo>
                  <a:pt x="9138383" y="2420657"/>
                  <a:pt x="9064923" y="2434102"/>
                  <a:pt x="9051859" y="2435290"/>
                </a:cubicBezTo>
                <a:cubicBezTo>
                  <a:pt x="9002203" y="2439804"/>
                  <a:pt x="8952348" y="2441776"/>
                  <a:pt x="8902569" y="2444620"/>
                </a:cubicBezTo>
                <a:lnTo>
                  <a:pt x="8725288" y="2453951"/>
                </a:lnTo>
                <a:cubicBezTo>
                  <a:pt x="8684815" y="2456481"/>
                  <a:pt x="8644530" y="2462293"/>
                  <a:pt x="8603990" y="2463282"/>
                </a:cubicBezTo>
                <a:lnTo>
                  <a:pt x="7960178" y="2472612"/>
                </a:lnTo>
                <a:lnTo>
                  <a:pt x="6252676" y="2463282"/>
                </a:lnTo>
                <a:cubicBezTo>
                  <a:pt x="6202818" y="2462781"/>
                  <a:pt x="6153199" y="2456117"/>
                  <a:pt x="6103386" y="2453951"/>
                </a:cubicBezTo>
                <a:cubicBezTo>
                  <a:pt x="5960056" y="2447719"/>
                  <a:pt x="5775279" y="2445364"/>
                  <a:pt x="5627524" y="2435290"/>
                </a:cubicBezTo>
                <a:cubicBezTo>
                  <a:pt x="5555886" y="2430406"/>
                  <a:pt x="5484672" y="2419389"/>
                  <a:pt x="5412920" y="2416629"/>
                </a:cubicBezTo>
                <a:lnTo>
                  <a:pt x="4927729" y="2397967"/>
                </a:lnTo>
                <a:lnTo>
                  <a:pt x="4638480" y="2388637"/>
                </a:lnTo>
                <a:lnTo>
                  <a:pt x="4423876" y="2379306"/>
                </a:lnTo>
                <a:lnTo>
                  <a:pt x="3985337" y="2369976"/>
                </a:lnTo>
                <a:cubicBezTo>
                  <a:pt x="3394326" y="2338869"/>
                  <a:pt x="4108275" y="2373821"/>
                  <a:pt x="2679051" y="2351314"/>
                </a:cubicBezTo>
                <a:cubicBezTo>
                  <a:pt x="2660135" y="2351016"/>
                  <a:pt x="2641820" y="2344484"/>
                  <a:pt x="2623067" y="2341984"/>
                </a:cubicBezTo>
                <a:cubicBezTo>
                  <a:pt x="2595150" y="2338262"/>
                  <a:pt x="2567084" y="2335763"/>
                  <a:pt x="2539092" y="2332653"/>
                </a:cubicBezTo>
                <a:cubicBezTo>
                  <a:pt x="2441720" y="2308312"/>
                  <a:pt x="2526756" y="2327042"/>
                  <a:pt x="2324488" y="2313992"/>
                </a:cubicBezTo>
                <a:cubicBezTo>
                  <a:pt x="2287114" y="2311581"/>
                  <a:pt x="2249956" y="2305762"/>
                  <a:pt x="2212520" y="2304661"/>
                </a:cubicBezTo>
                <a:cubicBezTo>
                  <a:pt x="2038396" y="2299540"/>
                  <a:pt x="1864158" y="2299381"/>
                  <a:pt x="1690006" y="2295331"/>
                </a:cubicBezTo>
                <a:cubicBezTo>
                  <a:pt x="1553902" y="2292166"/>
                  <a:pt x="1356839" y="2284596"/>
                  <a:pt x="1214145" y="2276669"/>
                </a:cubicBezTo>
                <a:cubicBezTo>
                  <a:pt x="1167460" y="2274075"/>
                  <a:pt x="1120839" y="2270449"/>
                  <a:pt x="1074186" y="2267339"/>
                </a:cubicBezTo>
                <a:lnTo>
                  <a:pt x="439704" y="2276669"/>
                </a:lnTo>
                <a:cubicBezTo>
                  <a:pt x="346741" y="2278735"/>
                  <a:pt x="259122" y="2278966"/>
                  <a:pt x="169116" y="2295331"/>
                </a:cubicBezTo>
                <a:cubicBezTo>
                  <a:pt x="156499" y="2297625"/>
                  <a:pt x="144235" y="2301551"/>
                  <a:pt x="131794" y="2304661"/>
                </a:cubicBezTo>
                <a:cubicBezTo>
                  <a:pt x="91361" y="2301551"/>
                  <a:pt x="15958" y="2335514"/>
                  <a:pt x="10496" y="2295331"/>
                </a:cubicBezTo>
                <a:cubicBezTo>
                  <a:pt x="-11267" y="2135216"/>
                  <a:pt x="7001" y="607431"/>
                  <a:pt x="10496" y="429208"/>
                </a:cubicBezTo>
                <a:cubicBezTo>
                  <a:pt x="11110" y="397888"/>
                  <a:pt x="23022" y="381605"/>
                  <a:pt x="47818" y="363894"/>
                </a:cubicBezTo>
                <a:cubicBezTo>
                  <a:pt x="59137" y="355809"/>
                  <a:pt x="72700" y="351453"/>
                  <a:pt x="85141" y="345233"/>
                </a:cubicBezTo>
                <a:cubicBezTo>
                  <a:pt x="112599" y="317774"/>
                  <a:pt x="85141" y="323461"/>
                  <a:pt x="94471" y="317241"/>
                </a:cubicBezTo>
                <a:close/>
              </a:path>
            </a:pathLst>
          </a:custGeom>
          <a:solidFill>
            <a:srgbClr val="92d050"/>
          </a:solidFill>
          <a:ln w="2556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8" name="Picture 8" descr=""/>
          <p:cNvPicPr/>
          <p:nvPr/>
        </p:nvPicPr>
        <p:blipFill>
          <a:blip r:embed="rId2"/>
          <a:stretch/>
        </p:blipFill>
        <p:spPr>
          <a:xfrm>
            <a:off x="0" y="1125360"/>
            <a:ext cx="5410080" cy="44755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9" descr=""/>
          <p:cNvPicPr/>
          <p:nvPr/>
        </p:nvPicPr>
        <p:blipFill>
          <a:blip r:embed="rId3"/>
          <a:stretch/>
        </p:blipFill>
        <p:spPr>
          <a:xfrm>
            <a:off x="6894360" y="5425920"/>
            <a:ext cx="754200" cy="5288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0" descr=""/>
          <p:cNvPicPr/>
          <p:nvPr/>
        </p:nvPicPr>
        <p:blipFill>
          <a:blip r:embed="rId4"/>
          <a:stretch/>
        </p:blipFill>
        <p:spPr>
          <a:xfrm>
            <a:off x="5415120" y="4967280"/>
            <a:ext cx="1461960" cy="8906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1" descr=""/>
          <p:cNvPicPr/>
          <p:nvPr/>
        </p:nvPicPr>
        <p:blipFill>
          <a:blip r:embed="rId5"/>
          <a:stretch/>
        </p:blipFill>
        <p:spPr>
          <a:xfrm>
            <a:off x="4290840" y="4570560"/>
            <a:ext cx="1262160" cy="101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10"/>
          <p:cNvSpPr/>
          <p:nvPr/>
        </p:nvSpPr>
        <p:spPr>
          <a:xfrm>
            <a:off x="-17640" y="-100080"/>
            <a:ext cx="9161640" cy="6958080"/>
          </a:xfrm>
          <a:prstGeom prst="rect">
            <a:avLst/>
          </a:prstGeom>
          <a:solidFill>
            <a:srgbClr val="c9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3" name="Picture 4" descr=""/>
          <p:cNvPicPr/>
          <p:nvPr/>
        </p:nvPicPr>
        <p:blipFill>
          <a:blip r:embed="rId1"/>
          <a:stretch/>
        </p:blipFill>
        <p:spPr>
          <a:xfrm>
            <a:off x="-17640" y="-1179360"/>
            <a:ext cx="9269640" cy="5214960"/>
          </a:xfrm>
          <a:prstGeom prst="rect">
            <a:avLst/>
          </a:prstGeom>
          <a:ln w="0">
            <a:noFill/>
          </a:ln>
        </p:spPr>
      </p:pic>
      <p:sp>
        <p:nvSpPr>
          <p:cNvPr id="64" name="Freeform 6"/>
          <p:cNvSpPr/>
          <p:nvPr/>
        </p:nvSpPr>
        <p:spPr>
          <a:xfrm>
            <a:off x="-378000" y="3645000"/>
            <a:ext cx="9784080" cy="3386160"/>
          </a:xfrm>
          <a:custGeom>
            <a:avLst/>
            <a:gdLst/>
            <a:ahLst/>
            <a:rect l="l" t="t" r="r" b="b"/>
            <a:pathLst>
              <a:path w="9783555" h="2593910">
                <a:moveTo>
                  <a:pt x="98380" y="1670180"/>
                </a:moveTo>
                <a:cubicBezTo>
                  <a:pt x="117041" y="1660849"/>
                  <a:pt x="136671" y="1653246"/>
                  <a:pt x="154363" y="1642188"/>
                </a:cubicBezTo>
                <a:cubicBezTo>
                  <a:pt x="161823" y="1637525"/>
                  <a:pt x="166267" y="1629158"/>
                  <a:pt x="173025" y="1623526"/>
                </a:cubicBezTo>
                <a:cubicBezTo>
                  <a:pt x="184971" y="1613571"/>
                  <a:pt x="197693" y="1604574"/>
                  <a:pt x="210347" y="1595535"/>
                </a:cubicBezTo>
                <a:cubicBezTo>
                  <a:pt x="219472" y="1589017"/>
                  <a:pt x="229825" y="1584171"/>
                  <a:pt x="238339" y="1576873"/>
                </a:cubicBezTo>
                <a:cubicBezTo>
                  <a:pt x="251697" y="1565423"/>
                  <a:pt x="262303" y="1551001"/>
                  <a:pt x="275661" y="1539551"/>
                </a:cubicBezTo>
                <a:cubicBezTo>
                  <a:pt x="284175" y="1532253"/>
                  <a:pt x="295139" y="1528188"/>
                  <a:pt x="303653" y="1520890"/>
                </a:cubicBezTo>
                <a:cubicBezTo>
                  <a:pt x="317012" y="1509440"/>
                  <a:pt x="327618" y="1495017"/>
                  <a:pt x="340976" y="1483567"/>
                </a:cubicBezTo>
                <a:cubicBezTo>
                  <a:pt x="354452" y="1472016"/>
                  <a:pt x="407230" y="1442907"/>
                  <a:pt x="415620" y="1436914"/>
                </a:cubicBezTo>
                <a:cubicBezTo>
                  <a:pt x="444477" y="1416302"/>
                  <a:pt x="468806" y="1389194"/>
                  <a:pt x="499596" y="1371600"/>
                </a:cubicBezTo>
                <a:cubicBezTo>
                  <a:pt x="521367" y="1359159"/>
                  <a:pt x="542897" y="1346285"/>
                  <a:pt x="564910" y="1334278"/>
                </a:cubicBezTo>
                <a:cubicBezTo>
                  <a:pt x="577121" y="1327617"/>
                  <a:pt x="590438" y="1322988"/>
                  <a:pt x="602233" y="1315616"/>
                </a:cubicBezTo>
                <a:cubicBezTo>
                  <a:pt x="615420" y="1307374"/>
                  <a:pt x="626368" y="1295866"/>
                  <a:pt x="639555" y="1287624"/>
                </a:cubicBezTo>
                <a:cubicBezTo>
                  <a:pt x="727038" y="1232947"/>
                  <a:pt x="632952" y="1301672"/>
                  <a:pt x="704869" y="1250302"/>
                </a:cubicBezTo>
                <a:cubicBezTo>
                  <a:pt x="717524" y="1241263"/>
                  <a:pt x="729452" y="1231228"/>
                  <a:pt x="742192" y="1222310"/>
                </a:cubicBezTo>
                <a:cubicBezTo>
                  <a:pt x="760566" y="1209449"/>
                  <a:pt x="782317" y="1200847"/>
                  <a:pt x="798176" y="1184988"/>
                </a:cubicBezTo>
                <a:cubicBezTo>
                  <a:pt x="815756" y="1167407"/>
                  <a:pt x="830774" y="1148728"/>
                  <a:pt x="854159" y="1138335"/>
                </a:cubicBezTo>
                <a:cubicBezTo>
                  <a:pt x="872134" y="1130346"/>
                  <a:pt x="892549" y="1128470"/>
                  <a:pt x="910143" y="1119673"/>
                </a:cubicBezTo>
                <a:cubicBezTo>
                  <a:pt x="922584" y="1113453"/>
                  <a:pt x="935389" y="1107913"/>
                  <a:pt x="947465" y="1101012"/>
                </a:cubicBezTo>
                <a:cubicBezTo>
                  <a:pt x="957202" y="1095448"/>
                  <a:pt x="965150" y="1086768"/>
                  <a:pt x="975457" y="1082351"/>
                </a:cubicBezTo>
                <a:cubicBezTo>
                  <a:pt x="987244" y="1077299"/>
                  <a:pt x="1000773" y="1077523"/>
                  <a:pt x="1012780" y="1073020"/>
                </a:cubicBezTo>
                <a:cubicBezTo>
                  <a:pt x="1025803" y="1068136"/>
                  <a:pt x="1037661" y="1060579"/>
                  <a:pt x="1050102" y="1054359"/>
                </a:cubicBezTo>
                <a:cubicBezTo>
                  <a:pt x="1087424" y="1057469"/>
                  <a:pt x="1124874" y="1059314"/>
                  <a:pt x="1162069" y="1063690"/>
                </a:cubicBezTo>
                <a:cubicBezTo>
                  <a:pt x="1191978" y="1067209"/>
                  <a:pt x="1217045" y="1075906"/>
                  <a:pt x="1246045" y="1082351"/>
                </a:cubicBezTo>
                <a:cubicBezTo>
                  <a:pt x="1261526" y="1085791"/>
                  <a:pt x="1277217" y="1088242"/>
                  <a:pt x="1292698" y="1091682"/>
                </a:cubicBezTo>
                <a:cubicBezTo>
                  <a:pt x="1305216" y="1094464"/>
                  <a:pt x="1317446" y="1098497"/>
                  <a:pt x="1330020" y="1101012"/>
                </a:cubicBezTo>
                <a:cubicBezTo>
                  <a:pt x="1362402" y="1107488"/>
                  <a:pt x="1419930" y="1115189"/>
                  <a:pt x="1451318" y="1119673"/>
                </a:cubicBezTo>
                <a:cubicBezTo>
                  <a:pt x="1566396" y="1116563"/>
                  <a:pt x="1681575" y="1116092"/>
                  <a:pt x="1796551" y="1110343"/>
                </a:cubicBezTo>
                <a:cubicBezTo>
                  <a:pt x="1806374" y="1109852"/>
                  <a:pt x="1815086" y="1103714"/>
                  <a:pt x="1824543" y="1101012"/>
                </a:cubicBezTo>
                <a:cubicBezTo>
                  <a:pt x="1836873" y="1097489"/>
                  <a:pt x="1849582" y="1095367"/>
                  <a:pt x="1861865" y="1091682"/>
                </a:cubicBezTo>
                <a:cubicBezTo>
                  <a:pt x="1880706" y="1086030"/>
                  <a:pt x="1900255" y="1081817"/>
                  <a:pt x="1917849" y="1073020"/>
                </a:cubicBezTo>
                <a:cubicBezTo>
                  <a:pt x="1942731" y="1060579"/>
                  <a:pt x="1966103" y="1044495"/>
                  <a:pt x="1992494" y="1035698"/>
                </a:cubicBezTo>
                <a:cubicBezTo>
                  <a:pt x="2001825" y="1032588"/>
                  <a:pt x="2011532" y="1030437"/>
                  <a:pt x="2020486" y="1026367"/>
                </a:cubicBezTo>
                <a:cubicBezTo>
                  <a:pt x="2045811" y="1014856"/>
                  <a:pt x="2068740" y="997843"/>
                  <a:pt x="2095131" y="989045"/>
                </a:cubicBezTo>
                <a:cubicBezTo>
                  <a:pt x="2135288" y="975658"/>
                  <a:pt x="2113581" y="982099"/>
                  <a:pt x="2160445" y="970384"/>
                </a:cubicBezTo>
                <a:cubicBezTo>
                  <a:pt x="2172886" y="964163"/>
                  <a:pt x="2184743" y="956606"/>
                  <a:pt x="2197767" y="951722"/>
                </a:cubicBezTo>
                <a:cubicBezTo>
                  <a:pt x="2221697" y="942748"/>
                  <a:pt x="2240514" y="944345"/>
                  <a:pt x="2263082" y="933061"/>
                </a:cubicBezTo>
                <a:cubicBezTo>
                  <a:pt x="2273112" y="928046"/>
                  <a:pt x="2281044" y="919415"/>
                  <a:pt x="2291074" y="914400"/>
                </a:cubicBezTo>
                <a:cubicBezTo>
                  <a:pt x="2368381" y="875747"/>
                  <a:pt x="2309200" y="910630"/>
                  <a:pt x="2365718" y="886408"/>
                </a:cubicBezTo>
                <a:cubicBezTo>
                  <a:pt x="2378503" y="880929"/>
                  <a:pt x="2390126" y="872913"/>
                  <a:pt x="2403041" y="867747"/>
                </a:cubicBezTo>
                <a:cubicBezTo>
                  <a:pt x="2421305" y="860442"/>
                  <a:pt x="2440364" y="855307"/>
                  <a:pt x="2459025" y="849086"/>
                </a:cubicBezTo>
                <a:cubicBezTo>
                  <a:pt x="2489794" y="838829"/>
                  <a:pt x="2500212" y="835963"/>
                  <a:pt x="2533669" y="821094"/>
                </a:cubicBezTo>
                <a:cubicBezTo>
                  <a:pt x="2546380" y="815445"/>
                  <a:pt x="2558207" y="807912"/>
                  <a:pt x="2570992" y="802433"/>
                </a:cubicBezTo>
                <a:cubicBezTo>
                  <a:pt x="2580032" y="798559"/>
                  <a:pt x="2589944" y="796976"/>
                  <a:pt x="2598984" y="793102"/>
                </a:cubicBezTo>
                <a:cubicBezTo>
                  <a:pt x="2611768" y="787623"/>
                  <a:pt x="2623283" y="779325"/>
                  <a:pt x="2636306" y="774441"/>
                </a:cubicBezTo>
                <a:cubicBezTo>
                  <a:pt x="2648313" y="769938"/>
                  <a:pt x="2661346" y="768795"/>
                  <a:pt x="2673629" y="765110"/>
                </a:cubicBezTo>
                <a:cubicBezTo>
                  <a:pt x="2692470" y="759458"/>
                  <a:pt x="2710324" y="750307"/>
                  <a:pt x="2729612" y="746449"/>
                </a:cubicBezTo>
                <a:cubicBezTo>
                  <a:pt x="2769376" y="738496"/>
                  <a:pt x="2771473" y="740082"/>
                  <a:pt x="2804257" y="727788"/>
                </a:cubicBezTo>
                <a:cubicBezTo>
                  <a:pt x="2819940" y="721907"/>
                  <a:pt x="2835929" y="716616"/>
                  <a:pt x="2850910" y="709126"/>
                </a:cubicBezTo>
                <a:cubicBezTo>
                  <a:pt x="2879800" y="694681"/>
                  <a:pt x="2886630" y="679384"/>
                  <a:pt x="2916225" y="662473"/>
                </a:cubicBezTo>
                <a:cubicBezTo>
                  <a:pt x="2924764" y="657594"/>
                  <a:pt x="2934886" y="656253"/>
                  <a:pt x="2944216" y="653143"/>
                </a:cubicBezTo>
                <a:cubicBezTo>
                  <a:pt x="3001269" y="615109"/>
                  <a:pt x="2941652" y="657495"/>
                  <a:pt x="3009531" y="597159"/>
                </a:cubicBezTo>
                <a:cubicBezTo>
                  <a:pt x="3024416" y="583928"/>
                  <a:pt x="3040252" y="571786"/>
                  <a:pt x="3056184" y="559837"/>
                </a:cubicBezTo>
                <a:cubicBezTo>
                  <a:pt x="3065155" y="553108"/>
                  <a:pt x="3075662" y="548473"/>
                  <a:pt x="3084176" y="541175"/>
                </a:cubicBezTo>
                <a:cubicBezTo>
                  <a:pt x="3143287" y="490508"/>
                  <a:pt x="3097883" y="516486"/>
                  <a:pt x="3158820" y="475861"/>
                </a:cubicBezTo>
                <a:cubicBezTo>
                  <a:pt x="3195533" y="451385"/>
                  <a:pt x="3230794" y="428322"/>
                  <a:pt x="3270788" y="410547"/>
                </a:cubicBezTo>
                <a:cubicBezTo>
                  <a:pt x="3295041" y="399768"/>
                  <a:pt x="3331788" y="388541"/>
                  <a:pt x="3354763" y="373224"/>
                </a:cubicBezTo>
                <a:cubicBezTo>
                  <a:pt x="3397461" y="344758"/>
                  <a:pt x="3343104" y="358450"/>
                  <a:pt x="3410747" y="335902"/>
                </a:cubicBezTo>
                <a:cubicBezTo>
                  <a:pt x="3435078" y="327792"/>
                  <a:pt x="3460243" y="322271"/>
                  <a:pt x="3485392" y="317241"/>
                </a:cubicBezTo>
                <a:cubicBezTo>
                  <a:pt x="3553610" y="303597"/>
                  <a:pt x="3516345" y="310153"/>
                  <a:pt x="3597359" y="298580"/>
                </a:cubicBezTo>
                <a:cubicBezTo>
                  <a:pt x="3606690" y="295470"/>
                  <a:pt x="3615894" y="291951"/>
                  <a:pt x="3625351" y="289249"/>
                </a:cubicBezTo>
                <a:cubicBezTo>
                  <a:pt x="3637681" y="285726"/>
                  <a:pt x="3650508" y="283973"/>
                  <a:pt x="3662674" y="279918"/>
                </a:cubicBezTo>
                <a:cubicBezTo>
                  <a:pt x="3678563" y="274622"/>
                  <a:pt x="3693168" y="265664"/>
                  <a:pt x="3709327" y="261257"/>
                </a:cubicBezTo>
                <a:cubicBezTo>
                  <a:pt x="3727579" y="256279"/>
                  <a:pt x="3746649" y="255036"/>
                  <a:pt x="3765310" y="251926"/>
                </a:cubicBezTo>
                <a:cubicBezTo>
                  <a:pt x="3849486" y="209839"/>
                  <a:pt x="3745045" y="258685"/>
                  <a:pt x="3877278" y="214604"/>
                </a:cubicBezTo>
                <a:cubicBezTo>
                  <a:pt x="3886608" y="211494"/>
                  <a:pt x="3895812" y="207975"/>
                  <a:pt x="3905269" y="205273"/>
                </a:cubicBezTo>
                <a:cubicBezTo>
                  <a:pt x="3936002" y="196492"/>
                  <a:pt x="3957194" y="193022"/>
                  <a:pt x="3989245" y="186612"/>
                </a:cubicBezTo>
                <a:cubicBezTo>
                  <a:pt x="4088772" y="189722"/>
                  <a:pt x="4188380" y="190843"/>
                  <a:pt x="4287825" y="195943"/>
                </a:cubicBezTo>
                <a:cubicBezTo>
                  <a:pt x="4346867" y="198971"/>
                  <a:pt x="4347418" y="207122"/>
                  <a:pt x="4399792" y="214604"/>
                </a:cubicBezTo>
                <a:cubicBezTo>
                  <a:pt x="4427673" y="218587"/>
                  <a:pt x="4455775" y="220825"/>
                  <a:pt x="4483767" y="223935"/>
                </a:cubicBezTo>
                <a:lnTo>
                  <a:pt x="4558412" y="242596"/>
                </a:lnTo>
                <a:cubicBezTo>
                  <a:pt x="4570853" y="245706"/>
                  <a:pt x="4582990" y="250510"/>
                  <a:pt x="4595735" y="251926"/>
                </a:cubicBezTo>
                <a:cubicBezTo>
                  <a:pt x="4828674" y="277809"/>
                  <a:pt x="4707422" y="267909"/>
                  <a:pt x="4959629" y="279918"/>
                </a:cubicBezTo>
                <a:cubicBezTo>
                  <a:pt x="4975180" y="283028"/>
                  <a:pt x="4990897" y="285402"/>
                  <a:pt x="5006282" y="289249"/>
                </a:cubicBezTo>
                <a:cubicBezTo>
                  <a:pt x="5015824" y="291635"/>
                  <a:pt x="5024499" y="297494"/>
                  <a:pt x="5034274" y="298580"/>
                </a:cubicBezTo>
                <a:cubicBezTo>
                  <a:pt x="5080745" y="303743"/>
                  <a:pt x="5127604" y="304456"/>
                  <a:pt x="5174233" y="307910"/>
                </a:cubicBezTo>
                <a:lnTo>
                  <a:pt x="5286200" y="317241"/>
                </a:lnTo>
                <a:cubicBezTo>
                  <a:pt x="5298641" y="320351"/>
                  <a:pt x="5310848" y="324621"/>
                  <a:pt x="5323522" y="326571"/>
                </a:cubicBezTo>
                <a:cubicBezTo>
                  <a:pt x="5351359" y="330854"/>
                  <a:pt x="5379527" y="332611"/>
                  <a:pt x="5407498" y="335902"/>
                </a:cubicBezTo>
                <a:lnTo>
                  <a:pt x="5482143" y="345233"/>
                </a:lnTo>
                <a:cubicBezTo>
                  <a:pt x="5594110" y="342123"/>
                  <a:pt x="5706181" y="341639"/>
                  <a:pt x="5818045" y="335902"/>
                </a:cubicBezTo>
                <a:cubicBezTo>
                  <a:pt x="5827868" y="335398"/>
                  <a:pt x="5836269" y="327720"/>
                  <a:pt x="5846037" y="326571"/>
                </a:cubicBezTo>
                <a:cubicBezTo>
                  <a:pt x="5889392" y="321471"/>
                  <a:pt x="5933122" y="320351"/>
                  <a:pt x="5976665" y="317241"/>
                </a:cubicBezTo>
                <a:cubicBezTo>
                  <a:pt x="6001547" y="311021"/>
                  <a:pt x="6025861" y="301761"/>
                  <a:pt x="6051310" y="298580"/>
                </a:cubicBezTo>
                <a:lnTo>
                  <a:pt x="6191269" y="279918"/>
                </a:lnTo>
                <a:cubicBezTo>
                  <a:pt x="6216124" y="276604"/>
                  <a:pt x="6241130" y="274401"/>
                  <a:pt x="6265914" y="270588"/>
                </a:cubicBezTo>
                <a:cubicBezTo>
                  <a:pt x="6364959" y="255350"/>
                  <a:pt x="6264984" y="267846"/>
                  <a:pt x="6349890" y="251926"/>
                </a:cubicBezTo>
                <a:cubicBezTo>
                  <a:pt x="6387079" y="244953"/>
                  <a:pt x="6424535" y="239485"/>
                  <a:pt x="6461857" y="233265"/>
                </a:cubicBezTo>
                <a:lnTo>
                  <a:pt x="6517841" y="223935"/>
                </a:lnTo>
                <a:cubicBezTo>
                  <a:pt x="6594689" y="198318"/>
                  <a:pt x="6554352" y="208055"/>
                  <a:pt x="6639139" y="195943"/>
                </a:cubicBezTo>
                <a:cubicBezTo>
                  <a:pt x="6665822" y="187048"/>
                  <a:pt x="6675157" y="183141"/>
                  <a:pt x="6704453" y="177282"/>
                </a:cubicBezTo>
                <a:cubicBezTo>
                  <a:pt x="6723004" y="173572"/>
                  <a:pt x="6741969" y="172055"/>
                  <a:pt x="6760437" y="167951"/>
                </a:cubicBezTo>
                <a:cubicBezTo>
                  <a:pt x="6770038" y="165817"/>
                  <a:pt x="6779249" y="162151"/>
                  <a:pt x="6788429" y="158620"/>
                </a:cubicBezTo>
                <a:cubicBezTo>
                  <a:pt x="6819694" y="146595"/>
                  <a:pt x="6853863" y="139879"/>
                  <a:pt x="6881735" y="121298"/>
                </a:cubicBezTo>
                <a:cubicBezTo>
                  <a:pt x="6891066" y="115078"/>
                  <a:pt x="6899991" y="108201"/>
                  <a:pt x="6909727" y="102637"/>
                </a:cubicBezTo>
                <a:cubicBezTo>
                  <a:pt x="6961795" y="72883"/>
                  <a:pt x="6932769" y="91262"/>
                  <a:pt x="6993702" y="74645"/>
                </a:cubicBezTo>
                <a:cubicBezTo>
                  <a:pt x="7012680" y="69469"/>
                  <a:pt x="7049686" y="55984"/>
                  <a:pt x="7049686" y="55984"/>
                </a:cubicBezTo>
                <a:cubicBezTo>
                  <a:pt x="7059017" y="49763"/>
                  <a:pt x="7067371" y="41740"/>
                  <a:pt x="7077678" y="37322"/>
                </a:cubicBezTo>
                <a:cubicBezTo>
                  <a:pt x="7089465" y="32271"/>
                  <a:pt x="7102670" y="31515"/>
                  <a:pt x="7115000" y="27992"/>
                </a:cubicBezTo>
                <a:cubicBezTo>
                  <a:pt x="7147032" y="18840"/>
                  <a:pt x="7147142" y="16586"/>
                  <a:pt x="7180314" y="0"/>
                </a:cubicBezTo>
                <a:lnTo>
                  <a:pt x="7516216" y="9331"/>
                </a:lnTo>
                <a:cubicBezTo>
                  <a:pt x="7556734" y="10985"/>
                  <a:pt x="7597024" y="16412"/>
                  <a:pt x="7637514" y="18661"/>
                </a:cubicBezTo>
                <a:cubicBezTo>
                  <a:pt x="7709006" y="22633"/>
                  <a:pt x="7780615" y="24229"/>
                  <a:pt x="7852118" y="27992"/>
                </a:cubicBezTo>
                <a:cubicBezTo>
                  <a:pt x="7898810" y="30449"/>
                  <a:pt x="7945412" y="34405"/>
                  <a:pt x="7992078" y="37322"/>
                </a:cubicBezTo>
                <a:lnTo>
                  <a:pt x="8150698" y="46653"/>
                </a:lnTo>
                <a:cubicBezTo>
                  <a:pt x="8178779" y="48813"/>
                  <a:pt x="8206619" y="53509"/>
                  <a:pt x="8234674" y="55984"/>
                </a:cubicBezTo>
                <a:cubicBezTo>
                  <a:pt x="8427093" y="72962"/>
                  <a:pt x="8447966" y="73397"/>
                  <a:pt x="8617229" y="83975"/>
                </a:cubicBezTo>
                <a:cubicBezTo>
                  <a:pt x="8639000" y="87085"/>
                  <a:pt x="8660978" y="88993"/>
                  <a:pt x="8682543" y="93306"/>
                </a:cubicBezTo>
                <a:cubicBezTo>
                  <a:pt x="8692187" y="95235"/>
                  <a:pt x="8700993" y="100252"/>
                  <a:pt x="8710535" y="102637"/>
                </a:cubicBezTo>
                <a:cubicBezTo>
                  <a:pt x="8725920" y="106483"/>
                  <a:pt x="8741637" y="108857"/>
                  <a:pt x="8757188" y="111967"/>
                </a:cubicBezTo>
                <a:cubicBezTo>
                  <a:pt x="8769629" y="118188"/>
                  <a:pt x="8781725" y="125150"/>
                  <a:pt x="8794510" y="130629"/>
                </a:cubicBezTo>
                <a:cubicBezTo>
                  <a:pt x="8816872" y="140213"/>
                  <a:pt x="8836163" y="142530"/>
                  <a:pt x="8859825" y="149290"/>
                </a:cubicBezTo>
                <a:cubicBezTo>
                  <a:pt x="8889486" y="157764"/>
                  <a:pt x="8902901" y="165444"/>
                  <a:pt x="8934469" y="177282"/>
                </a:cubicBezTo>
                <a:cubicBezTo>
                  <a:pt x="8943678" y="180735"/>
                  <a:pt x="8953130" y="183502"/>
                  <a:pt x="8962461" y="186612"/>
                </a:cubicBezTo>
                <a:cubicBezTo>
                  <a:pt x="8971792" y="192832"/>
                  <a:pt x="8980423" y="200258"/>
                  <a:pt x="8990453" y="205273"/>
                </a:cubicBezTo>
                <a:cubicBezTo>
                  <a:pt x="8999250" y="209672"/>
                  <a:pt x="9008956" y="212016"/>
                  <a:pt x="9018445" y="214604"/>
                </a:cubicBezTo>
                <a:cubicBezTo>
                  <a:pt x="9043189" y="221352"/>
                  <a:pt x="9069277" y="223740"/>
                  <a:pt x="9093090" y="233265"/>
                </a:cubicBezTo>
                <a:cubicBezTo>
                  <a:pt x="9108641" y="239485"/>
                  <a:pt x="9123970" y="246293"/>
                  <a:pt x="9139743" y="251926"/>
                </a:cubicBezTo>
                <a:cubicBezTo>
                  <a:pt x="9167530" y="261850"/>
                  <a:pt x="9197327" y="266722"/>
                  <a:pt x="9223718" y="279918"/>
                </a:cubicBezTo>
                <a:cubicBezTo>
                  <a:pt x="9236159" y="286139"/>
                  <a:pt x="9248964" y="291679"/>
                  <a:pt x="9261041" y="298580"/>
                </a:cubicBezTo>
                <a:cubicBezTo>
                  <a:pt x="9270777" y="304144"/>
                  <a:pt x="9279003" y="312226"/>
                  <a:pt x="9289033" y="317241"/>
                </a:cubicBezTo>
                <a:cubicBezTo>
                  <a:pt x="9297830" y="321639"/>
                  <a:pt x="9307694" y="323461"/>
                  <a:pt x="9317025" y="326571"/>
                </a:cubicBezTo>
                <a:cubicBezTo>
                  <a:pt x="9335686" y="339012"/>
                  <a:pt x="9351731" y="356802"/>
                  <a:pt x="9373008" y="363894"/>
                </a:cubicBezTo>
                <a:lnTo>
                  <a:pt x="9456984" y="391886"/>
                </a:lnTo>
                <a:lnTo>
                  <a:pt x="9512967" y="410547"/>
                </a:lnTo>
                <a:lnTo>
                  <a:pt x="9540959" y="419878"/>
                </a:lnTo>
                <a:cubicBezTo>
                  <a:pt x="9556510" y="435429"/>
                  <a:pt x="9580657" y="445667"/>
                  <a:pt x="9587612" y="466531"/>
                </a:cubicBezTo>
                <a:cubicBezTo>
                  <a:pt x="9599725" y="502868"/>
                  <a:pt x="9589989" y="487567"/>
                  <a:pt x="9615604" y="513184"/>
                </a:cubicBezTo>
                <a:cubicBezTo>
                  <a:pt x="9622015" y="545239"/>
                  <a:pt x="9625483" y="566423"/>
                  <a:pt x="9634265" y="597159"/>
                </a:cubicBezTo>
                <a:cubicBezTo>
                  <a:pt x="9650452" y="653813"/>
                  <a:pt x="9638699" y="593550"/>
                  <a:pt x="9652927" y="671804"/>
                </a:cubicBezTo>
                <a:cubicBezTo>
                  <a:pt x="9672457" y="779222"/>
                  <a:pt x="9651875" y="673773"/>
                  <a:pt x="9671588" y="811763"/>
                </a:cubicBezTo>
                <a:cubicBezTo>
                  <a:pt x="9676939" y="849220"/>
                  <a:pt x="9685556" y="886186"/>
                  <a:pt x="9690249" y="923731"/>
                </a:cubicBezTo>
                <a:cubicBezTo>
                  <a:pt x="9693359" y="948612"/>
                  <a:pt x="9696034" y="973552"/>
                  <a:pt x="9699580" y="998375"/>
                </a:cubicBezTo>
                <a:cubicBezTo>
                  <a:pt x="9702255" y="1017104"/>
                  <a:pt x="9706895" y="1035548"/>
                  <a:pt x="9708910" y="1054359"/>
                </a:cubicBezTo>
                <a:cubicBezTo>
                  <a:pt x="9716229" y="1122675"/>
                  <a:pt x="9727571" y="1259633"/>
                  <a:pt x="9727571" y="1259633"/>
                </a:cubicBezTo>
                <a:cubicBezTo>
                  <a:pt x="9719430" y="1495751"/>
                  <a:pt x="9706477" y="1457207"/>
                  <a:pt x="9727571" y="1604865"/>
                </a:cubicBezTo>
                <a:cubicBezTo>
                  <a:pt x="9730246" y="1623594"/>
                  <a:pt x="9732314" y="1642495"/>
                  <a:pt x="9736902" y="1660849"/>
                </a:cubicBezTo>
                <a:cubicBezTo>
                  <a:pt x="9741673" y="1679932"/>
                  <a:pt x="9751705" y="1697544"/>
                  <a:pt x="9755563" y="1716833"/>
                </a:cubicBezTo>
                <a:cubicBezTo>
                  <a:pt x="9758673" y="1732384"/>
                  <a:pt x="9760721" y="1748186"/>
                  <a:pt x="9764894" y="1763486"/>
                </a:cubicBezTo>
                <a:cubicBezTo>
                  <a:pt x="9770070" y="1782463"/>
                  <a:pt x="9783555" y="1819469"/>
                  <a:pt x="9783555" y="1819469"/>
                </a:cubicBezTo>
                <a:cubicBezTo>
                  <a:pt x="9780445" y="1965649"/>
                  <a:pt x="9786121" y="2112280"/>
                  <a:pt x="9774225" y="2258008"/>
                </a:cubicBezTo>
                <a:cubicBezTo>
                  <a:pt x="9773249" y="2269970"/>
                  <a:pt x="9726000" y="2283783"/>
                  <a:pt x="9718241" y="2286000"/>
                </a:cubicBezTo>
                <a:cubicBezTo>
                  <a:pt x="9705911" y="2289523"/>
                  <a:pt x="9693201" y="2291646"/>
                  <a:pt x="9680918" y="2295331"/>
                </a:cubicBezTo>
                <a:cubicBezTo>
                  <a:pt x="9662077" y="2300983"/>
                  <a:pt x="9644408" y="2311210"/>
                  <a:pt x="9624935" y="2313992"/>
                </a:cubicBezTo>
                <a:lnTo>
                  <a:pt x="9559620" y="2323322"/>
                </a:lnTo>
                <a:cubicBezTo>
                  <a:pt x="9526477" y="2334370"/>
                  <a:pt x="9461216" y="2357716"/>
                  <a:pt x="9428992" y="2360645"/>
                </a:cubicBezTo>
                <a:lnTo>
                  <a:pt x="9326355" y="2369975"/>
                </a:lnTo>
                <a:cubicBezTo>
                  <a:pt x="9208860" y="2399350"/>
                  <a:pt x="9295078" y="2379903"/>
                  <a:pt x="9195727" y="2397967"/>
                </a:cubicBezTo>
                <a:cubicBezTo>
                  <a:pt x="9180124" y="2400804"/>
                  <a:pt x="9164862" y="2405794"/>
                  <a:pt x="9149074" y="2407298"/>
                </a:cubicBezTo>
                <a:cubicBezTo>
                  <a:pt x="9053630" y="2416388"/>
                  <a:pt x="8817508" y="2424024"/>
                  <a:pt x="8747857" y="2425959"/>
                </a:cubicBezTo>
                <a:lnTo>
                  <a:pt x="8327980" y="2435290"/>
                </a:lnTo>
                <a:cubicBezTo>
                  <a:pt x="8219123" y="2441510"/>
                  <a:pt x="8110412" y="2451356"/>
                  <a:pt x="8001408" y="2453951"/>
                </a:cubicBezTo>
                <a:lnTo>
                  <a:pt x="7609522" y="2463282"/>
                </a:lnTo>
                <a:lnTo>
                  <a:pt x="7282951" y="2472612"/>
                </a:lnTo>
                <a:lnTo>
                  <a:pt x="6723114" y="2481943"/>
                </a:lnTo>
                <a:lnTo>
                  <a:pt x="6153947" y="2509935"/>
                </a:lnTo>
                <a:lnTo>
                  <a:pt x="5855367" y="2519265"/>
                </a:lnTo>
                <a:cubicBezTo>
                  <a:pt x="5643770" y="2540426"/>
                  <a:pt x="5783817" y="2528744"/>
                  <a:pt x="5398167" y="2537926"/>
                </a:cubicBezTo>
                <a:lnTo>
                  <a:pt x="4978290" y="2547257"/>
                </a:lnTo>
                <a:cubicBezTo>
                  <a:pt x="4756222" y="2591670"/>
                  <a:pt x="4943102" y="2559843"/>
                  <a:pt x="4511759" y="2575249"/>
                </a:cubicBezTo>
                <a:cubicBezTo>
                  <a:pt x="4461930" y="2577029"/>
                  <a:pt x="4412327" y="2584127"/>
                  <a:pt x="4362469" y="2584580"/>
                </a:cubicBezTo>
                <a:lnTo>
                  <a:pt x="2459025" y="2593910"/>
                </a:lnTo>
                <a:lnTo>
                  <a:pt x="1339351" y="2584580"/>
                </a:lnTo>
                <a:cubicBezTo>
                  <a:pt x="1241522" y="2583051"/>
                  <a:pt x="1292768" y="2571714"/>
                  <a:pt x="1208722" y="2565918"/>
                </a:cubicBezTo>
                <a:cubicBezTo>
                  <a:pt x="1137289" y="2560992"/>
                  <a:pt x="1065653" y="2559698"/>
                  <a:pt x="994118" y="2556588"/>
                </a:cubicBezTo>
                <a:lnTo>
                  <a:pt x="928804" y="2547257"/>
                </a:lnTo>
                <a:cubicBezTo>
                  <a:pt x="844244" y="2535982"/>
                  <a:pt x="819817" y="2535312"/>
                  <a:pt x="723531" y="2519265"/>
                </a:cubicBezTo>
                <a:cubicBezTo>
                  <a:pt x="686208" y="2513045"/>
                  <a:pt x="647459" y="2512569"/>
                  <a:pt x="611563" y="2500604"/>
                </a:cubicBezTo>
                <a:lnTo>
                  <a:pt x="555580" y="2481943"/>
                </a:lnTo>
                <a:cubicBezTo>
                  <a:pt x="546249" y="2478833"/>
                  <a:pt x="537232" y="2474541"/>
                  <a:pt x="527588" y="2472612"/>
                </a:cubicBezTo>
                <a:lnTo>
                  <a:pt x="480935" y="2463282"/>
                </a:lnTo>
                <a:cubicBezTo>
                  <a:pt x="468494" y="2457061"/>
                  <a:pt x="456986" y="2448441"/>
                  <a:pt x="443612" y="2444620"/>
                </a:cubicBezTo>
                <a:cubicBezTo>
                  <a:pt x="413114" y="2435906"/>
                  <a:pt x="350306" y="2425959"/>
                  <a:pt x="350306" y="2425959"/>
                </a:cubicBezTo>
                <a:cubicBezTo>
                  <a:pt x="331645" y="2413518"/>
                  <a:pt x="306763" y="2407298"/>
                  <a:pt x="294322" y="2388637"/>
                </a:cubicBezTo>
                <a:cubicBezTo>
                  <a:pt x="288102" y="2379306"/>
                  <a:pt x="283590" y="2368574"/>
                  <a:pt x="275661" y="2360645"/>
                </a:cubicBezTo>
                <a:cubicBezTo>
                  <a:pt x="257575" y="2342559"/>
                  <a:pt x="242443" y="2340242"/>
                  <a:pt x="219678" y="2332653"/>
                </a:cubicBezTo>
                <a:cubicBezTo>
                  <a:pt x="213457" y="2326433"/>
                  <a:pt x="208559" y="2318518"/>
                  <a:pt x="201016" y="2313992"/>
                </a:cubicBezTo>
                <a:cubicBezTo>
                  <a:pt x="192582" y="2308932"/>
                  <a:pt x="182065" y="2308535"/>
                  <a:pt x="173025" y="2304661"/>
                </a:cubicBezTo>
                <a:cubicBezTo>
                  <a:pt x="160240" y="2299182"/>
                  <a:pt x="147629" y="2293156"/>
                  <a:pt x="135702" y="2286000"/>
                </a:cubicBezTo>
                <a:cubicBezTo>
                  <a:pt x="116470" y="2274461"/>
                  <a:pt x="79718" y="2248678"/>
                  <a:pt x="79718" y="2248678"/>
                </a:cubicBezTo>
                <a:cubicBezTo>
                  <a:pt x="82829" y="2037115"/>
                  <a:pt x="-113205" y="1614196"/>
                  <a:pt x="98380" y="1614196"/>
                </a:cubicBezTo>
              </a:path>
            </a:pathLst>
          </a:custGeom>
          <a:solidFill>
            <a:srgbClr val="72af2f"/>
          </a:solidFill>
          <a:ln w="25560">
            <a:solidFill>
              <a:srgbClr val="72af2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Freeform 5"/>
          <p:cNvSpPr/>
          <p:nvPr/>
        </p:nvSpPr>
        <p:spPr>
          <a:xfrm>
            <a:off x="-225360" y="3645000"/>
            <a:ext cx="9556560" cy="3446280"/>
          </a:xfrm>
          <a:custGeom>
            <a:avLst/>
            <a:gdLst/>
            <a:ahLst/>
            <a:rect l="l" t="t" r="r" b="b"/>
            <a:pathLst>
              <a:path w="9555712" h="2472612">
                <a:moveTo>
                  <a:pt x="94471" y="317241"/>
                </a:moveTo>
                <a:cubicBezTo>
                  <a:pt x="103801" y="311021"/>
                  <a:pt x="126079" y="312925"/>
                  <a:pt x="141124" y="307910"/>
                </a:cubicBezTo>
                <a:cubicBezTo>
                  <a:pt x="206137" y="286239"/>
                  <a:pt x="151913" y="293185"/>
                  <a:pt x="215769" y="261257"/>
                </a:cubicBezTo>
                <a:cubicBezTo>
                  <a:pt x="227239" y="255522"/>
                  <a:pt x="240651" y="255037"/>
                  <a:pt x="253092" y="251927"/>
                </a:cubicBezTo>
                <a:cubicBezTo>
                  <a:pt x="270450" y="234569"/>
                  <a:pt x="276203" y="226375"/>
                  <a:pt x="299745" y="214604"/>
                </a:cubicBezTo>
                <a:cubicBezTo>
                  <a:pt x="308542" y="210206"/>
                  <a:pt x="318406" y="208384"/>
                  <a:pt x="327737" y="205274"/>
                </a:cubicBezTo>
                <a:cubicBezTo>
                  <a:pt x="369934" y="163075"/>
                  <a:pt x="317194" y="214058"/>
                  <a:pt x="383720" y="158620"/>
                </a:cubicBezTo>
                <a:cubicBezTo>
                  <a:pt x="390478" y="152988"/>
                  <a:pt x="395062" y="144839"/>
                  <a:pt x="402382" y="139959"/>
                </a:cubicBezTo>
                <a:cubicBezTo>
                  <a:pt x="413955" y="132244"/>
                  <a:pt x="427628" y="128199"/>
                  <a:pt x="439704" y="121298"/>
                </a:cubicBezTo>
                <a:cubicBezTo>
                  <a:pt x="449441" y="115734"/>
                  <a:pt x="458571" y="109155"/>
                  <a:pt x="467696" y="102637"/>
                </a:cubicBezTo>
                <a:cubicBezTo>
                  <a:pt x="480350" y="93598"/>
                  <a:pt x="491424" y="82197"/>
                  <a:pt x="505018" y="74645"/>
                </a:cubicBezTo>
                <a:cubicBezTo>
                  <a:pt x="519659" y="66511"/>
                  <a:pt x="536690" y="63474"/>
                  <a:pt x="551671" y="55984"/>
                </a:cubicBezTo>
                <a:cubicBezTo>
                  <a:pt x="561701" y="50969"/>
                  <a:pt x="570906" y="44328"/>
                  <a:pt x="579663" y="37323"/>
                </a:cubicBezTo>
                <a:cubicBezTo>
                  <a:pt x="586532" y="31827"/>
                  <a:pt x="590456" y="22595"/>
                  <a:pt x="598324" y="18661"/>
                </a:cubicBezTo>
                <a:cubicBezTo>
                  <a:pt x="609794" y="12926"/>
                  <a:pt x="623317" y="12854"/>
                  <a:pt x="635647" y="9331"/>
                </a:cubicBezTo>
                <a:cubicBezTo>
                  <a:pt x="645104" y="6629"/>
                  <a:pt x="654308" y="3110"/>
                  <a:pt x="663639" y="0"/>
                </a:cubicBezTo>
                <a:cubicBezTo>
                  <a:pt x="679047" y="1712"/>
                  <a:pt x="748254" y="3465"/>
                  <a:pt x="775606" y="18661"/>
                </a:cubicBezTo>
                <a:cubicBezTo>
                  <a:pt x="795212" y="29553"/>
                  <a:pt x="811530" y="45954"/>
                  <a:pt x="831590" y="55984"/>
                </a:cubicBezTo>
                <a:cubicBezTo>
                  <a:pt x="844031" y="62204"/>
                  <a:pt x="855998" y="69479"/>
                  <a:pt x="868912" y="74645"/>
                </a:cubicBezTo>
                <a:cubicBezTo>
                  <a:pt x="887176" y="81950"/>
                  <a:pt x="906921" y="85317"/>
                  <a:pt x="924896" y="93306"/>
                </a:cubicBezTo>
                <a:cubicBezTo>
                  <a:pt x="935144" y="97860"/>
                  <a:pt x="942581" y="107550"/>
                  <a:pt x="952888" y="111967"/>
                </a:cubicBezTo>
                <a:cubicBezTo>
                  <a:pt x="964675" y="117019"/>
                  <a:pt x="978203" y="116795"/>
                  <a:pt x="990210" y="121298"/>
                </a:cubicBezTo>
                <a:cubicBezTo>
                  <a:pt x="1087794" y="157892"/>
                  <a:pt x="969056" y="125339"/>
                  <a:pt x="1064855" y="149290"/>
                </a:cubicBezTo>
                <a:lnTo>
                  <a:pt x="1148831" y="205274"/>
                </a:lnTo>
                <a:cubicBezTo>
                  <a:pt x="1158161" y="211494"/>
                  <a:pt x="1165943" y="221215"/>
                  <a:pt x="1176822" y="223935"/>
                </a:cubicBezTo>
                <a:lnTo>
                  <a:pt x="1214145" y="233265"/>
                </a:lnTo>
                <a:cubicBezTo>
                  <a:pt x="1298301" y="275345"/>
                  <a:pt x="1193914" y="226523"/>
                  <a:pt x="1326112" y="270588"/>
                </a:cubicBezTo>
                <a:cubicBezTo>
                  <a:pt x="1344773" y="276808"/>
                  <a:pt x="1363832" y="281944"/>
                  <a:pt x="1382096" y="289249"/>
                </a:cubicBezTo>
                <a:cubicBezTo>
                  <a:pt x="1437881" y="311563"/>
                  <a:pt x="1412860" y="302613"/>
                  <a:pt x="1456741" y="317241"/>
                </a:cubicBezTo>
                <a:cubicBezTo>
                  <a:pt x="1466072" y="326572"/>
                  <a:pt x="1473754" y="337913"/>
                  <a:pt x="1484733" y="345233"/>
                </a:cubicBezTo>
                <a:cubicBezTo>
                  <a:pt x="1492916" y="350688"/>
                  <a:pt x="1503927" y="350165"/>
                  <a:pt x="1512724" y="354563"/>
                </a:cubicBezTo>
                <a:cubicBezTo>
                  <a:pt x="1522754" y="359578"/>
                  <a:pt x="1530409" y="368808"/>
                  <a:pt x="1540716" y="373225"/>
                </a:cubicBezTo>
                <a:cubicBezTo>
                  <a:pt x="1552503" y="378277"/>
                  <a:pt x="1565756" y="378870"/>
                  <a:pt x="1578039" y="382555"/>
                </a:cubicBezTo>
                <a:cubicBezTo>
                  <a:pt x="1596880" y="388207"/>
                  <a:pt x="1615361" y="394996"/>
                  <a:pt x="1634022" y="401216"/>
                </a:cubicBezTo>
                <a:cubicBezTo>
                  <a:pt x="1697546" y="422391"/>
                  <a:pt x="1619431" y="395745"/>
                  <a:pt x="1708667" y="429208"/>
                </a:cubicBezTo>
                <a:cubicBezTo>
                  <a:pt x="1717876" y="432661"/>
                  <a:pt x="1726957" y="436922"/>
                  <a:pt x="1736659" y="438539"/>
                </a:cubicBezTo>
                <a:cubicBezTo>
                  <a:pt x="1764440" y="443169"/>
                  <a:pt x="1792643" y="444759"/>
                  <a:pt x="1820635" y="447869"/>
                </a:cubicBezTo>
                <a:cubicBezTo>
                  <a:pt x="2366648" y="431324"/>
                  <a:pt x="1974630" y="452852"/>
                  <a:pt x="2203190" y="429208"/>
                </a:cubicBezTo>
                <a:lnTo>
                  <a:pt x="2399133" y="410547"/>
                </a:lnTo>
                <a:cubicBezTo>
                  <a:pt x="2430990" y="404175"/>
                  <a:pt x="2469923" y="395867"/>
                  <a:pt x="2501769" y="391886"/>
                </a:cubicBezTo>
                <a:cubicBezTo>
                  <a:pt x="2532785" y="388009"/>
                  <a:pt x="2564010" y="386007"/>
                  <a:pt x="2595076" y="382555"/>
                </a:cubicBezTo>
                <a:cubicBezTo>
                  <a:pt x="2619998" y="379786"/>
                  <a:pt x="2644937" y="377038"/>
                  <a:pt x="2669720" y="373225"/>
                </a:cubicBezTo>
                <a:cubicBezTo>
                  <a:pt x="2685395" y="370814"/>
                  <a:pt x="2700623" y="365747"/>
                  <a:pt x="2716373" y="363894"/>
                </a:cubicBezTo>
                <a:cubicBezTo>
                  <a:pt x="2753569" y="359518"/>
                  <a:pt x="2791018" y="357673"/>
                  <a:pt x="2828341" y="354563"/>
                </a:cubicBezTo>
                <a:cubicBezTo>
                  <a:pt x="2840782" y="351453"/>
                  <a:pt x="2853014" y="347341"/>
                  <a:pt x="2865663" y="345233"/>
                </a:cubicBezTo>
                <a:cubicBezTo>
                  <a:pt x="2890397" y="341111"/>
                  <a:pt x="2915453" y="339216"/>
                  <a:pt x="2940308" y="335902"/>
                </a:cubicBezTo>
                <a:lnTo>
                  <a:pt x="3005622" y="326571"/>
                </a:lnTo>
                <a:cubicBezTo>
                  <a:pt x="3014953" y="323461"/>
                  <a:pt x="3024157" y="319943"/>
                  <a:pt x="3033614" y="317241"/>
                </a:cubicBezTo>
                <a:cubicBezTo>
                  <a:pt x="3236766" y="259199"/>
                  <a:pt x="3481975" y="314333"/>
                  <a:pt x="3668096" y="317241"/>
                </a:cubicBezTo>
                <a:cubicBezTo>
                  <a:pt x="3680537" y="320351"/>
                  <a:pt x="3693088" y="323048"/>
                  <a:pt x="3705418" y="326571"/>
                </a:cubicBezTo>
                <a:cubicBezTo>
                  <a:pt x="3714875" y="329273"/>
                  <a:pt x="3723809" y="333768"/>
                  <a:pt x="3733410" y="335902"/>
                </a:cubicBezTo>
                <a:cubicBezTo>
                  <a:pt x="3802830" y="351329"/>
                  <a:pt x="3780264" y="339674"/>
                  <a:pt x="3854708" y="354563"/>
                </a:cubicBezTo>
                <a:cubicBezTo>
                  <a:pt x="3879857" y="359593"/>
                  <a:pt x="3904471" y="367005"/>
                  <a:pt x="3929353" y="373225"/>
                </a:cubicBezTo>
                <a:cubicBezTo>
                  <a:pt x="3941794" y="376335"/>
                  <a:pt x="3954510" y="378499"/>
                  <a:pt x="3966676" y="382555"/>
                </a:cubicBezTo>
                <a:cubicBezTo>
                  <a:pt x="4018999" y="399997"/>
                  <a:pt x="3985122" y="389500"/>
                  <a:pt x="4069312" y="410547"/>
                </a:cubicBezTo>
                <a:cubicBezTo>
                  <a:pt x="4081753" y="413657"/>
                  <a:pt x="4093940" y="418065"/>
                  <a:pt x="4106635" y="419878"/>
                </a:cubicBezTo>
                <a:cubicBezTo>
                  <a:pt x="4128406" y="422988"/>
                  <a:pt x="4150311" y="425274"/>
                  <a:pt x="4171949" y="429208"/>
                </a:cubicBezTo>
                <a:cubicBezTo>
                  <a:pt x="4246354" y="442736"/>
                  <a:pt x="4180037" y="445512"/>
                  <a:pt x="4302578" y="447869"/>
                </a:cubicBezTo>
                <a:lnTo>
                  <a:pt x="5179655" y="457200"/>
                </a:lnTo>
                <a:lnTo>
                  <a:pt x="5300953" y="466531"/>
                </a:lnTo>
                <a:cubicBezTo>
                  <a:pt x="5332093" y="469239"/>
                  <a:pt x="5363067" y="473849"/>
                  <a:pt x="5394259" y="475861"/>
                </a:cubicBezTo>
                <a:cubicBezTo>
                  <a:pt x="5459512" y="480071"/>
                  <a:pt x="5524888" y="482082"/>
                  <a:pt x="5590202" y="485192"/>
                </a:cubicBezTo>
                <a:cubicBezTo>
                  <a:pt x="5602643" y="488302"/>
                  <a:pt x="5614907" y="492229"/>
                  <a:pt x="5627524" y="494523"/>
                </a:cubicBezTo>
                <a:cubicBezTo>
                  <a:pt x="5649162" y="498457"/>
                  <a:pt x="5671410" y="498908"/>
                  <a:pt x="5692839" y="503853"/>
                </a:cubicBezTo>
                <a:cubicBezTo>
                  <a:pt x="5712006" y="508276"/>
                  <a:pt x="5730161" y="516294"/>
                  <a:pt x="5748822" y="522514"/>
                </a:cubicBezTo>
                <a:cubicBezTo>
                  <a:pt x="5758153" y="525624"/>
                  <a:pt x="5767170" y="529916"/>
                  <a:pt x="5776814" y="531845"/>
                </a:cubicBezTo>
                <a:cubicBezTo>
                  <a:pt x="5792365" y="534955"/>
                  <a:pt x="5808167" y="537003"/>
                  <a:pt x="5823467" y="541176"/>
                </a:cubicBezTo>
                <a:cubicBezTo>
                  <a:pt x="5842445" y="546352"/>
                  <a:pt x="5860368" y="555066"/>
                  <a:pt x="5879451" y="559837"/>
                </a:cubicBezTo>
                <a:lnTo>
                  <a:pt x="5916773" y="569167"/>
                </a:lnTo>
                <a:cubicBezTo>
                  <a:pt x="5929214" y="575388"/>
                  <a:pt x="5941072" y="582945"/>
                  <a:pt x="5954096" y="587829"/>
                </a:cubicBezTo>
                <a:cubicBezTo>
                  <a:pt x="5966103" y="592332"/>
                  <a:pt x="5979948" y="591424"/>
                  <a:pt x="5991418" y="597159"/>
                </a:cubicBezTo>
                <a:cubicBezTo>
                  <a:pt x="6005327" y="604114"/>
                  <a:pt x="6015239" y="617435"/>
                  <a:pt x="6028741" y="625151"/>
                </a:cubicBezTo>
                <a:cubicBezTo>
                  <a:pt x="6045333" y="634632"/>
                  <a:pt x="6089730" y="640398"/>
                  <a:pt x="6103386" y="643812"/>
                </a:cubicBezTo>
                <a:cubicBezTo>
                  <a:pt x="6112928" y="646197"/>
                  <a:pt x="6121836" y="650757"/>
                  <a:pt x="6131378" y="653143"/>
                </a:cubicBezTo>
                <a:cubicBezTo>
                  <a:pt x="6146763" y="656990"/>
                  <a:pt x="6162480" y="659364"/>
                  <a:pt x="6178031" y="662474"/>
                </a:cubicBezTo>
                <a:cubicBezTo>
                  <a:pt x="6190472" y="668694"/>
                  <a:pt x="6203277" y="674234"/>
                  <a:pt x="6215353" y="681135"/>
                </a:cubicBezTo>
                <a:cubicBezTo>
                  <a:pt x="6225090" y="686699"/>
                  <a:pt x="6233315" y="694781"/>
                  <a:pt x="6243345" y="699796"/>
                </a:cubicBezTo>
                <a:cubicBezTo>
                  <a:pt x="6258326" y="707286"/>
                  <a:pt x="6274447" y="712237"/>
                  <a:pt x="6289998" y="718457"/>
                </a:cubicBezTo>
                <a:cubicBezTo>
                  <a:pt x="6299329" y="727788"/>
                  <a:pt x="6306800" y="739455"/>
                  <a:pt x="6317990" y="746449"/>
                </a:cubicBezTo>
                <a:cubicBezTo>
                  <a:pt x="6347660" y="764993"/>
                  <a:pt x="6390149" y="768531"/>
                  <a:pt x="6420627" y="783771"/>
                </a:cubicBezTo>
                <a:cubicBezTo>
                  <a:pt x="6459242" y="803079"/>
                  <a:pt x="6467807" y="809562"/>
                  <a:pt x="6513933" y="821094"/>
                </a:cubicBezTo>
                <a:cubicBezTo>
                  <a:pt x="6526374" y="824204"/>
                  <a:pt x="6538432" y="830266"/>
                  <a:pt x="6551255" y="830425"/>
                </a:cubicBezTo>
                <a:lnTo>
                  <a:pt x="8016161" y="839755"/>
                </a:lnTo>
                <a:cubicBezTo>
                  <a:pt x="8087696" y="842865"/>
                  <a:pt x="8159374" y="843594"/>
                  <a:pt x="8230765" y="849086"/>
                </a:cubicBezTo>
                <a:cubicBezTo>
                  <a:pt x="8240571" y="849840"/>
                  <a:pt x="8249215" y="856031"/>
                  <a:pt x="8258757" y="858416"/>
                </a:cubicBezTo>
                <a:cubicBezTo>
                  <a:pt x="8276491" y="862850"/>
                  <a:pt x="8323577" y="869894"/>
                  <a:pt x="8342733" y="877078"/>
                </a:cubicBezTo>
                <a:cubicBezTo>
                  <a:pt x="8355756" y="881962"/>
                  <a:pt x="8367141" y="890573"/>
                  <a:pt x="8380055" y="895739"/>
                </a:cubicBezTo>
                <a:cubicBezTo>
                  <a:pt x="8398319" y="903044"/>
                  <a:pt x="8419672" y="903488"/>
                  <a:pt x="8436039" y="914400"/>
                </a:cubicBezTo>
                <a:cubicBezTo>
                  <a:pt x="8500205" y="957179"/>
                  <a:pt x="8470745" y="944631"/>
                  <a:pt x="8520014" y="961053"/>
                </a:cubicBezTo>
                <a:cubicBezTo>
                  <a:pt x="8558351" y="986610"/>
                  <a:pt x="8569733" y="995870"/>
                  <a:pt x="8622651" y="1017037"/>
                </a:cubicBezTo>
                <a:cubicBezTo>
                  <a:pt x="8653753" y="1029478"/>
                  <a:pt x="8683459" y="1046234"/>
                  <a:pt x="8715957" y="1054359"/>
                </a:cubicBezTo>
                <a:cubicBezTo>
                  <a:pt x="8771633" y="1068278"/>
                  <a:pt x="8740631" y="1061582"/>
                  <a:pt x="8809263" y="1073020"/>
                </a:cubicBezTo>
                <a:cubicBezTo>
                  <a:pt x="8821704" y="1082351"/>
                  <a:pt x="8832292" y="1094886"/>
                  <a:pt x="8846586" y="1101012"/>
                </a:cubicBezTo>
                <a:cubicBezTo>
                  <a:pt x="8876432" y="1113803"/>
                  <a:pt x="8908517" y="1120637"/>
                  <a:pt x="8939892" y="1129004"/>
                </a:cubicBezTo>
                <a:cubicBezTo>
                  <a:pt x="8961637" y="1134803"/>
                  <a:pt x="9022746" y="1144368"/>
                  <a:pt x="9042529" y="1147665"/>
                </a:cubicBezTo>
                <a:cubicBezTo>
                  <a:pt x="9061190" y="1153886"/>
                  <a:pt x="9079535" y="1161151"/>
                  <a:pt x="9098512" y="1166327"/>
                </a:cubicBezTo>
                <a:cubicBezTo>
                  <a:pt x="9196228" y="1192977"/>
                  <a:pt x="9098658" y="1159839"/>
                  <a:pt x="9182488" y="1184988"/>
                </a:cubicBezTo>
                <a:cubicBezTo>
                  <a:pt x="9230083" y="1199267"/>
                  <a:pt x="9232788" y="1204379"/>
                  <a:pt x="9275794" y="1212980"/>
                </a:cubicBezTo>
                <a:cubicBezTo>
                  <a:pt x="9294345" y="1216690"/>
                  <a:pt x="9313227" y="1218600"/>
                  <a:pt x="9331778" y="1222310"/>
                </a:cubicBezTo>
                <a:cubicBezTo>
                  <a:pt x="9419008" y="1239756"/>
                  <a:pt x="9325975" y="1223192"/>
                  <a:pt x="9397092" y="1240971"/>
                </a:cubicBezTo>
                <a:cubicBezTo>
                  <a:pt x="9412477" y="1244817"/>
                  <a:pt x="9428194" y="1247192"/>
                  <a:pt x="9443745" y="1250302"/>
                </a:cubicBezTo>
                <a:cubicBezTo>
                  <a:pt x="9446855" y="1321837"/>
                  <a:pt x="9448313" y="1393462"/>
                  <a:pt x="9453076" y="1464906"/>
                </a:cubicBezTo>
                <a:cubicBezTo>
                  <a:pt x="9456878" y="1521933"/>
                  <a:pt x="9463697" y="1525952"/>
                  <a:pt x="9471737" y="1576874"/>
                </a:cubicBezTo>
                <a:cubicBezTo>
                  <a:pt x="9478597" y="1620320"/>
                  <a:pt x="9486416" y="1663698"/>
                  <a:pt x="9490398" y="1707502"/>
                </a:cubicBezTo>
                <a:cubicBezTo>
                  <a:pt x="9493508" y="1741714"/>
                  <a:pt x="9495189" y="1776087"/>
                  <a:pt x="9499729" y="1810139"/>
                </a:cubicBezTo>
                <a:cubicBezTo>
                  <a:pt x="9502333" y="1829670"/>
                  <a:pt x="9511992" y="1856259"/>
                  <a:pt x="9518390" y="1875453"/>
                </a:cubicBezTo>
                <a:cubicBezTo>
                  <a:pt x="9521500" y="1894114"/>
                  <a:pt x="9523616" y="1912969"/>
                  <a:pt x="9527720" y="1931437"/>
                </a:cubicBezTo>
                <a:cubicBezTo>
                  <a:pt x="9545088" y="2009593"/>
                  <a:pt x="9530250" y="1893157"/>
                  <a:pt x="9546382" y="2006082"/>
                </a:cubicBezTo>
                <a:cubicBezTo>
                  <a:pt x="9550365" y="2033963"/>
                  <a:pt x="9552602" y="2062065"/>
                  <a:pt x="9555712" y="2090057"/>
                </a:cubicBezTo>
                <a:cubicBezTo>
                  <a:pt x="9552602" y="2161592"/>
                  <a:pt x="9560986" y="2234564"/>
                  <a:pt x="9546382" y="2304661"/>
                </a:cubicBezTo>
                <a:cubicBezTo>
                  <a:pt x="9543767" y="2317215"/>
                  <a:pt x="9520529" y="2308257"/>
                  <a:pt x="9509059" y="2313992"/>
                </a:cubicBezTo>
                <a:cubicBezTo>
                  <a:pt x="9488999" y="2324022"/>
                  <a:pt x="9475068" y="2346915"/>
                  <a:pt x="9453076" y="2351314"/>
                </a:cubicBezTo>
                <a:cubicBezTo>
                  <a:pt x="9437525" y="2354424"/>
                  <a:pt x="9421808" y="2356798"/>
                  <a:pt x="9406422" y="2360645"/>
                </a:cubicBezTo>
                <a:cubicBezTo>
                  <a:pt x="9308508" y="2385125"/>
                  <a:pt x="9463281" y="2353127"/>
                  <a:pt x="9341108" y="2379306"/>
                </a:cubicBezTo>
                <a:cubicBezTo>
                  <a:pt x="9249207" y="2398998"/>
                  <a:pt x="9263274" y="2395757"/>
                  <a:pt x="9182488" y="2407298"/>
                </a:cubicBezTo>
                <a:cubicBezTo>
                  <a:pt x="9173157" y="2410408"/>
                  <a:pt x="9164038" y="2414244"/>
                  <a:pt x="9154496" y="2416629"/>
                </a:cubicBezTo>
                <a:cubicBezTo>
                  <a:pt x="9138383" y="2420657"/>
                  <a:pt x="9064923" y="2434102"/>
                  <a:pt x="9051859" y="2435290"/>
                </a:cubicBezTo>
                <a:cubicBezTo>
                  <a:pt x="9002203" y="2439804"/>
                  <a:pt x="8952348" y="2441776"/>
                  <a:pt x="8902569" y="2444620"/>
                </a:cubicBezTo>
                <a:lnTo>
                  <a:pt x="8725288" y="2453951"/>
                </a:lnTo>
                <a:cubicBezTo>
                  <a:pt x="8684815" y="2456481"/>
                  <a:pt x="8644530" y="2462293"/>
                  <a:pt x="8603990" y="2463282"/>
                </a:cubicBezTo>
                <a:lnTo>
                  <a:pt x="7960178" y="2472612"/>
                </a:lnTo>
                <a:lnTo>
                  <a:pt x="6252676" y="2463282"/>
                </a:lnTo>
                <a:cubicBezTo>
                  <a:pt x="6202818" y="2462781"/>
                  <a:pt x="6153199" y="2456117"/>
                  <a:pt x="6103386" y="2453951"/>
                </a:cubicBezTo>
                <a:cubicBezTo>
                  <a:pt x="5960056" y="2447719"/>
                  <a:pt x="5775279" y="2445364"/>
                  <a:pt x="5627524" y="2435290"/>
                </a:cubicBezTo>
                <a:cubicBezTo>
                  <a:pt x="5555886" y="2430406"/>
                  <a:pt x="5484672" y="2419389"/>
                  <a:pt x="5412920" y="2416629"/>
                </a:cubicBezTo>
                <a:lnTo>
                  <a:pt x="4927729" y="2397967"/>
                </a:lnTo>
                <a:lnTo>
                  <a:pt x="4638480" y="2388637"/>
                </a:lnTo>
                <a:lnTo>
                  <a:pt x="4423876" y="2379306"/>
                </a:lnTo>
                <a:lnTo>
                  <a:pt x="3985337" y="2369976"/>
                </a:lnTo>
                <a:cubicBezTo>
                  <a:pt x="3394326" y="2338869"/>
                  <a:pt x="4108275" y="2373821"/>
                  <a:pt x="2679051" y="2351314"/>
                </a:cubicBezTo>
                <a:cubicBezTo>
                  <a:pt x="2660135" y="2351016"/>
                  <a:pt x="2641820" y="2344484"/>
                  <a:pt x="2623067" y="2341984"/>
                </a:cubicBezTo>
                <a:cubicBezTo>
                  <a:pt x="2595150" y="2338262"/>
                  <a:pt x="2567084" y="2335763"/>
                  <a:pt x="2539092" y="2332653"/>
                </a:cubicBezTo>
                <a:cubicBezTo>
                  <a:pt x="2441720" y="2308312"/>
                  <a:pt x="2526756" y="2327042"/>
                  <a:pt x="2324488" y="2313992"/>
                </a:cubicBezTo>
                <a:cubicBezTo>
                  <a:pt x="2287114" y="2311581"/>
                  <a:pt x="2249956" y="2305762"/>
                  <a:pt x="2212520" y="2304661"/>
                </a:cubicBezTo>
                <a:cubicBezTo>
                  <a:pt x="2038396" y="2299540"/>
                  <a:pt x="1864158" y="2299381"/>
                  <a:pt x="1690006" y="2295331"/>
                </a:cubicBezTo>
                <a:cubicBezTo>
                  <a:pt x="1553902" y="2292166"/>
                  <a:pt x="1356839" y="2284596"/>
                  <a:pt x="1214145" y="2276669"/>
                </a:cubicBezTo>
                <a:cubicBezTo>
                  <a:pt x="1167460" y="2274075"/>
                  <a:pt x="1120839" y="2270449"/>
                  <a:pt x="1074186" y="2267339"/>
                </a:cubicBezTo>
                <a:lnTo>
                  <a:pt x="439704" y="2276669"/>
                </a:lnTo>
                <a:cubicBezTo>
                  <a:pt x="346741" y="2278735"/>
                  <a:pt x="259122" y="2278966"/>
                  <a:pt x="169116" y="2295331"/>
                </a:cubicBezTo>
                <a:cubicBezTo>
                  <a:pt x="156499" y="2297625"/>
                  <a:pt x="144235" y="2301551"/>
                  <a:pt x="131794" y="2304661"/>
                </a:cubicBezTo>
                <a:cubicBezTo>
                  <a:pt x="91361" y="2301551"/>
                  <a:pt x="15958" y="2335514"/>
                  <a:pt x="10496" y="2295331"/>
                </a:cubicBezTo>
                <a:cubicBezTo>
                  <a:pt x="-11267" y="2135216"/>
                  <a:pt x="7001" y="607431"/>
                  <a:pt x="10496" y="429208"/>
                </a:cubicBezTo>
                <a:cubicBezTo>
                  <a:pt x="11110" y="397888"/>
                  <a:pt x="23022" y="381605"/>
                  <a:pt x="47818" y="363894"/>
                </a:cubicBezTo>
                <a:cubicBezTo>
                  <a:pt x="59137" y="355809"/>
                  <a:pt x="72700" y="351453"/>
                  <a:pt x="85141" y="345233"/>
                </a:cubicBezTo>
                <a:cubicBezTo>
                  <a:pt x="112599" y="317774"/>
                  <a:pt x="85141" y="323461"/>
                  <a:pt x="94471" y="317241"/>
                </a:cubicBezTo>
                <a:close/>
              </a:path>
            </a:pathLst>
          </a:custGeom>
          <a:solidFill>
            <a:srgbClr val="92d050"/>
          </a:solidFill>
          <a:ln w="2556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6" name="Picture 8" descr=""/>
          <p:cNvPicPr/>
          <p:nvPr/>
        </p:nvPicPr>
        <p:blipFill>
          <a:blip r:embed="rId2"/>
          <a:stretch/>
        </p:blipFill>
        <p:spPr>
          <a:xfrm>
            <a:off x="0" y="1125360"/>
            <a:ext cx="5410080" cy="4475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9" descr=""/>
          <p:cNvPicPr/>
          <p:nvPr/>
        </p:nvPicPr>
        <p:blipFill>
          <a:blip r:embed="rId3"/>
          <a:stretch/>
        </p:blipFill>
        <p:spPr>
          <a:xfrm>
            <a:off x="6894360" y="5076720"/>
            <a:ext cx="754200" cy="5288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0" descr=""/>
          <p:cNvPicPr/>
          <p:nvPr/>
        </p:nvPicPr>
        <p:blipFill>
          <a:blip r:embed="rId4"/>
          <a:stretch/>
        </p:blipFill>
        <p:spPr>
          <a:xfrm>
            <a:off x="5415120" y="4618080"/>
            <a:ext cx="1461960" cy="8906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1" descr=""/>
          <p:cNvPicPr/>
          <p:nvPr/>
        </p:nvPicPr>
        <p:blipFill>
          <a:blip r:embed="rId5"/>
          <a:stretch/>
        </p:blipFill>
        <p:spPr>
          <a:xfrm>
            <a:off x="4290840" y="4221000"/>
            <a:ext cx="1262160" cy="10130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" descr=""/>
          <p:cNvPicPr/>
          <p:nvPr/>
        </p:nvPicPr>
        <p:blipFill>
          <a:blip r:embed="rId6"/>
          <a:stretch/>
        </p:blipFill>
        <p:spPr>
          <a:xfrm>
            <a:off x="7648560" y="4989600"/>
            <a:ext cx="598680" cy="7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10"/>
          <p:cNvSpPr/>
          <p:nvPr/>
        </p:nvSpPr>
        <p:spPr>
          <a:xfrm>
            <a:off x="-17640" y="-100080"/>
            <a:ext cx="9161640" cy="6958080"/>
          </a:xfrm>
          <a:prstGeom prst="rect">
            <a:avLst/>
          </a:prstGeom>
          <a:solidFill>
            <a:srgbClr val="c9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-17640" y="-1179360"/>
            <a:ext cx="9269640" cy="5214960"/>
          </a:xfrm>
          <a:prstGeom prst="rect">
            <a:avLst/>
          </a:prstGeom>
          <a:ln w="0">
            <a:noFill/>
          </a:ln>
        </p:spPr>
      </p:pic>
      <p:sp>
        <p:nvSpPr>
          <p:cNvPr id="73" name="Freeform 6"/>
          <p:cNvSpPr/>
          <p:nvPr/>
        </p:nvSpPr>
        <p:spPr>
          <a:xfrm>
            <a:off x="-378000" y="3645000"/>
            <a:ext cx="9784080" cy="3386160"/>
          </a:xfrm>
          <a:custGeom>
            <a:avLst/>
            <a:gdLst/>
            <a:ahLst/>
            <a:rect l="l" t="t" r="r" b="b"/>
            <a:pathLst>
              <a:path w="9783555" h="2593910">
                <a:moveTo>
                  <a:pt x="98380" y="1670180"/>
                </a:moveTo>
                <a:cubicBezTo>
                  <a:pt x="117041" y="1660849"/>
                  <a:pt x="136671" y="1653246"/>
                  <a:pt x="154363" y="1642188"/>
                </a:cubicBezTo>
                <a:cubicBezTo>
                  <a:pt x="161823" y="1637525"/>
                  <a:pt x="166267" y="1629158"/>
                  <a:pt x="173025" y="1623526"/>
                </a:cubicBezTo>
                <a:cubicBezTo>
                  <a:pt x="184971" y="1613571"/>
                  <a:pt x="197693" y="1604574"/>
                  <a:pt x="210347" y="1595535"/>
                </a:cubicBezTo>
                <a:cubicBezTo>
                  <a:pt x="219472" y="1589017"/>
                  <a:pt x="229825" y="1584171"/>
                  <a:pt x="238339" y="1576873"/>
                </a:cubicBezTo>
                <a:cubicBezTo>
                  <a:pt x="251697" y="1565423"/>
                  <a:pt x="262303" y="1551001"/>
                  <a:pt x="275661" y="1539551"/>
                </a:cubicBezTo>
                <a:cubicBezTo>
                  <a:pt x="284175" y="1532253"/>
                  <a:pt x="295139" y="1528188"/>
                  <a:pt x="303653" y="1520890"/>
                </a:cubicBezTo>
                <a:cubicBezTo>
                  <a:pt x="317012" y="1509440"/>
                  <a:pt x="327618" y="1495017"/>
                  <a:pt x="340976" y="1483567"/>
                </a:cubicBezTo>
                <a:cubicBezTo>
                  <a:pt x="354452" y="1472016"/>
                  <a:pt x="407230" y="1442907"/>
                  <a:pt x="415620" y="1436914"/>
                </a:cubicBezTo>
                <a:cubicBezTo>
                  <a:pt x="444477" y="1416302"/>
                  <a:pt x="468806" y="1389194"/>
                  <a:pt x="499596" y="1371600"/>
                </a:cubicBezTo>
                <a:cubicBezTo>
                  <a:pt x="521367" y="1359159"/>
                  <a:pt x="542897" y="1346285"/>
                  <a:pt x="564910" y="1334278"/>
                </a:cubicBezTo>
                <a:cubicBezTo>
                  <a:pt x="577121" y="1327617"/>
                  <a:pt x="590438" y="1322988"/>
                  <a:pt x="602233" y="1315616"/>
                </a:cubicBezTo>
                <a:cubicBezTo>
                  <a:pt x="615420" y="1307374"/>
                  <a:pt x="626368" y="1295866"/>
                  <a:pt x="639555" y="1287624"/>
                </a:cubicBezTo>
                <a:cubicBezTo>
                  <a:pt x="727038" y="1232947"/>
                  <a:pt x="632952" y="1301672"/>
                  <a:pt x="704869" y="1250302"/>
                </a:cubicBezTo>
                <a:cubicBezTo>
                  <a:pt x="717524" y="1241263"/>
                  <a:pt x="729452" y="1231228"/>
                  <a:pt x="742192" y="1222310"/>
                </a:cubicBezTo>
                <a:cubicBezTo>
                  <a:pt x="760566" y="1209449"/>
                  <a:pt x="782317" y="1200847"/>
                  <a:pt x="798176" y="1184988"/>
                </a:cubicBezTo>
                <a:cubicBezTo>
                  <a:pt x="815756" y="1167407"/>
                  <a:pt x="830774" y="1148728"/>
                  <a:pt x="854159" y="1138335"/>
                </a:cubicBezTo>
                <a:cubicBezTo>
                  <a:pt x="872134" y="1130346"/>
                  <a:pt x="892549" y="1128470"/>
                  <a:pt x="910143" y="1119673"/>
                </a:cubicBezTo>
                <a:cubicBezTo>
                  <a:pt x="922584" y="1113453"/>
                  <a:pt x="935389" y="1107913"/>
                  <a:pt x="947465" y="1101012"/>
                </a:cubicBezTo>
                <a:cubicBezTo>
                  <a:pt x="957202" y="1095448"/>
                  <a:pt x="965150" y="1086768"/>
                  <a:pt x="975457" y="1082351"/>
                </a:cubicBezTo>
                <a:cubicBezTo>
                  <a:pt x="987244" y="1077299"/>
                  <a:pt x="1000773" y="1077523"/>
                  <a:pt x="1012780" y="1073020"/>
                </a:cubicBezTo>
                <a:cubicBezTo>
                  <a:pt x="1025803" y="1068136"/>
                  <a:pt x="1037661" y="1060579"/>
                  <a:pt x="1050102" y="1054359"/>
                </a:cubicBezTo>
                <a:cubicBezTo>
                  <a:pt x="1087424" y="1057469"/>
                  <a:pt x="1124874" y="1059314"/>
                  <a:pt x="1162069" y="1063690"/>
                </a:cubicBezTo>
                <a:cubicBezTo>
                  <a:pt x="1191978" y="1067209"/>
                  <a:pt x="1217045" y="1075906"/>
                  <a:pt x="1246045" y="1082351"/>
                </a:cubicBezTo>
                <a:cubicBezTo>
                  <a:pt x="1261526" y="1085791"/>
                  <a:pt x="1277217" y="1088242"/>
                  <a:pt x="1292698" y="1091682"/>
                </a:cubicBezTo>
                <a:cubicBezTo>
                  <a:pt x="1305216" y="1094464"/>
                  <a:pt x="1317446" y="1098497"/>
                  <a:pt x="1330020" y="1101012"/>
                </a:cubicBezTo>
                <a:cubicBezTo>
                  <a:pt x="1362402" y="1107488"/>
                  <a:pt x="1419930" y="1115189"/>
                  <a:pt x="1451318" y="1119673"/>
                </a:cubicBezTo>
                <a:cubicBezTo>
                  <a:pt x="1566396" y="1116563"/>
                  <a:pt x="1681575" y="1116092"/>
                  <a:pt x="1796551" y="1110343"/>
                </a:cubicBezTo>
                <a:cubicBezTo>
                  <a:pt x="1806374" y="1109852"/>
                  <a:pt x="1815086" y="1103714"/>
                  <a:pt x="1824543" y="1101012"/>
                </a:cubicBezTo>
                <a:cubicBezTo>
                  <a:pt x="1836873" y="1097489"/>
                  <a:pt x="1849582" y="1095367"/>
                  <a:pt x="1861865" y="1091682"/>
                </a:cubicBezTo>
                <a:cubicBezTo>
                  <a:pt x="1880706" y="1086030"/>
                  <a:pt x="1900255" y="1081817"/>
                  <a:pt x="1917849" y="1073020"/>
                </a:cubicBezTo>
                <a:cubicBezTo>
                  <a:pt x="1942731" y="1060579"/>
                  <a:pt x="1966103" y="1044495"/>
                  <a:pt x="1992494" y="1035698"/>
                </a:cubicBezTo>
                <a:cubicBezTo>
                  <a:pt x="2001825" y="1032588"/>
                  <a:pt x="2011532" y="1030437"/>
                  <a:pt x="2020486" y="1026367"/>
                </a:cubicBezTo>
                <a:cubicBezTo>
                  <a:pt x="2045811" y="1014856"/>
                  <a:pt x="2068740" y="997843"/>
                  <a:pt x="2095131" y="989045"/>
                </a:cubicBezTo>
                <a:cubicBezTo>
                  <a:pt x="2135288" y="975658"/>
                  <a:pt x="2113581" y="982099"/>
                  <a:pt x="2160445" y="970384"/>
                </a:cubicBezTo>
                <a:cubicBezTo>
                  <a:pt x="2172886" y="964163"/>
                  <a:pt x="2184743" y="956606"/>
                  <a:pt x="2197767" y="951722"/>
                </a:cubicBezTo>
                <a:cubicBezTo>
                  <a:pt x="2221697" y="942748"/>
                  <a:pt x="2240514" y="944345"/>
                  <a:pt x="2263082" y="933061"/>
                </a:cubicBezTo>
                <a:cubicBezTo>
                  <a:pt x="2273112" y="928046"/>
                  <a:pt x="2281044" y="919415"/>
                  <a:pt x="2291074" y="914400"/>
                </a:cubicBezTo>
                <a:cubicBezTo>
                  <a:pt x="2368381" y="875747"/>
                  <a:pt x="2309200" y="910630"/>
                  <a:pt x="2365718" y="886408"/>
                </a:cubicBezTo>
                <a:cubicBezTo>
                  <a:pt x="2378503" y="880929"/>
                  <a:pt x="2390126" y="872913"/>
                  <a:pt x="2403041" y="867747"/>
                </a:cubicBezTo>
                <a:cubicBezTo>
                  <a:pt x="2421305" y="860442"/>
                  <a:pt x="2440364" y="855307"/>
                  <a:pt x="2459025" y="849086"/>
                </a:cubicBezTo>
                <a:cubicBezTo>
                  <a:pt x="2489794" y="838829"/>
                  <a:pt x="2500212" y="835963"/>
                  <a:pt x="2533669" y="821094"/>
                </a:cubicBezTo>
                <a:cubicBezTo>
                  <a:pt x="2546380" y="815445"/>
                  <a:pt x="2558207" y="807912"/>
                  <a:pt x="2570992" y="802433"/>
                </a:cubicBezTo>
                <a:cubicBezTo>
                  <a:pt x="2580032" y="798559"/>
                  <a:pt x="2589944" y="796976"/>
                  <a:pt x="2598984" y="793102"/>
                </a:cubicBezTo>
                <a:cubicBezTo>
                  <a:pt x="2611768" y="787623"/>
                  <a:pt x="2623283" y="779325"/>
                  <a:pt x="2636306" y="774441"/>
                </a:cubicBezTo>
                <a:cubicBezTo>
                  <a:pt x="2648313" y="769938"/>
                  <a:pt x="2661346" y="768795"/>
                  <a:pt x="2673629" y="765110"/>
                </a:cubicBezTo>
                <a:cubicBezTo>
                  <a:pt x="2692470" y="759458"/>
                  <a:pt x="2710324" y="750307"/>
                  <a:pt x="2729612" y="746449"/>
                </a:cubicBezTo>
                <a:cubicBezTo>
                  <a:pt x="2769376" y="738496"/>
                  <a:pt x="2771473" y="740082"/>
                  <a:pt x="2804257" y="727788"/>
                </a:cubicBezTo>
                <a:cubicBezTo>
                  <a:pt x="2819940" y="721907"/>
                  <a:pt x="2835929" y="716616"/>
                  <a:pt x="2850910" y="709126"/>
                </a:cubicBezTo>
                <a:cubicBezTo>
                  <a:pt x="2879800" y="694681"/>
                  <a:pt x="2886630" y="679384"/>
                  <a:pt x="2916225" y="662473"/>
                </a:cubicBezTo>
                <a:cubicBezTo>
                  <a:pt x="2924764" y="657594"/>
                  <a:pt x="2934886" y="656253"/>
                  <a:pt x="2944216" y="653143"/>
                </a:cubicBezTo>
                <a:cubicBezTo>
                  <a:pt x="3001269" y="615109"/>
                  <a:pt x="2941652" y="657495"/>
                  <a:pt x="3009531" y="597159"/>
                </a:cubicBezTo>
                <a:cubicBezTo>
                  <a:pt x="3024416" y="583928"/>
                  <a:pt x="3040252" y="571786"/>
                  <a:pt x="3056184" y="559837"/>
                </a:cubicBezTo>
                <a:cubicBezTo>
                  <a:pt x="3065155" y="553108"/>
                  <a:pt x="3075662" y="548473"/>
                  <a:pt x="3084176" y="541175"/>
                </a:cubicBezTo>
                <a:cubicBezTo>
                  <a:pt x="3143287" y="490508"/>
                  <a:pt x="3097883" y="516486"/>
                  <a:pt x="3158820" y="475861"/>
                </a:cubicBezTo>
                <a:cubicBezTo>
                  <a:pt x="3195533" y="451385"/>
                  <a:pt x="3230794" y="428322"/>
                  <a:pt x="3270788" y="410547"/>
                </a:cubicBezTo>
                <a:cubicBezTo>
                  <a:pt x="3295041" y="399768"/>
                  <a:pt x="3331788" y="388541"/>
                  <a:pt x="3354763" y="373224"/>
                </a:cubicBezTo>
                <a:cubicBezTo>
                  <a:pt x="3397461" y="344758"/>
                  <a:pt x="3343104" y="358450"/>
                  <a:pt x="3410747" y="335902"/>
                </a:cubicBezTo>
                <a:cubicBezTo>
                  <a:pt x="3435078" y="327792"/>
                  <a:pt x="3460243" y="322271"/>
                  <a:pt x="3485392" y="317241"/>
                </a:cubicBezTo>
                <a:cubicBezTo>
                  <a:pt x="3553610" y="303597"/>
                  <a:pt x="3516345" y="310153"/>
                  <a:pt x="3597359" y="298580"/>
                </a:cubicBezTo>
                <a:cubicBezTo>
                  <a:pt x="3606690" y="295470"/>
                  <a:pt x="3615894" y="291951"/>
                  <a:pt x="3625351" y="289249"/>
                </a:cubicBezTo>
                <a:cubicBezTo>
                  <a:pt x="3637681" y="285726"/>
                  <a:pt x="3650508" y="283973"/>
                  <a:pt x="3662674" y="279918"/>
                </a:cubicBezTo>
                <a:cubicBezTo>
                  <a:pt x="3678563" y="274622"/>
                  <a:pt x="3693168" y="265664"/>
                  <a:pt x="3709327" y="261257"/>
                </a:cubicBezTo>
                <a:cubicBezTo>
                  <a:pt x="3727579" y="256279"/>
                  <a:pt x="3746649" y="255036"/>
                  <a:pt x="3765310" y="251926"/>
                </a:cubicBezTo>
                <a:cubicBezTo>
                  <a:pt x="3849486" y="209839"/>
                  <a:pt x="3745045" y="258685"/>
                  <a:pt x="3877278" y="214604"/>
                </a:cubicBezTo>
                <a:cubicBezTo>
                  <a:pt x="3886608" y="211494"/>
                  <a:pt x="3895812" y="207975"/>
                  <a:pt x="3905269" y="205273"/>
                </a:cubicBezTo>
                <a:cubicBezTo>
                  <a:pt x="3936002" y="196492"/>
                  <a:pt x="3957194" y="193022"/>
                  <a:pt x="3989245" y="186612"/>
                </a:cubicBezTo>
                <a:cubicBezTo>
                  <a:pt x="4088772" y="189722"/>
                  <a:pt x="4188380" y="190843"/>
                  <a:pt x="4287825" y="195943"/>
                </a:cubicBezTo>
                <a:cubicBezTo>
                  <a:pt x="4346867" y="198971"/>
                  <a:pt x="4347418" y="207122"/>
                  <a:pt x="4399792" y="214604"/>
                </a:cubicBezTo>
                <a:cubicBezTo>
                  <a:pt x="4427673" y="218587"/>
                  <a:pt x="4455775" y="220825"/>
                  <a:pt x="4483767" y="223935"/>
                </a:cubicBezTo>
                <a:lnTo>
                  <a:pt x="4558412" y="242596"/>
                </a:lnTo>
                <a:cubicBezTo>
                  <a:pt x="4570853" y="245706"/>
                  <a:pt x="4582990" y="250510"/>
                  <a:pt x="4595735" y="251926"/>
                </a:cubicBezTo>
                <a:cubicBezTo>
                  <a:pt x="4828674" y="277809"/>
                  <a:pt x="4707422" y="267909"/>
                  <a:pt x="4959629" y="279918"/>
                </a:cubicBezTo>
                <a:cubicBezTo>
                  <a:pt x="4975180" y="283028"/>
                  <a:pt x="4990897" y="285402"/>
                  <a:pt x="5006282" y="289249"/>
                </a:cubicBezTo>
                <a:cubicBezTo>
                  <a:pt x="5015824" y="291635"/>
                  <a:pt x="5024499" y="297494"/>
                  <a:pt x="5034274" y="298580"/>
                </a:cubicBezTo>
                <a:cubicBezTo>
                  <a:pt x="5080745" y="303743"/>
                  <a:pt x="5127604" y="304456"/>
                  <a:pt x="5174233" y="307910"/>
                </a:cubicBezTo>
                <a:lnTo>
                  <a:pt x="5286200" y="317241"/>
                </a:lnTo>
                <a:cubicBezTo>
                  <a:pt x="5298641" y="320351"/>
                  <a:pt x="5310848" y="324621"/>
                  <a:pt x="5323522" y="326571"/>
                </a:cubicBezTo>
                <a:cubicBezTo>
                  <a:pt x="5351359" y="330854"/>
                  <a:pt x="5379527" y="332611"/>
                  <a:pt x="5407498" y="335902"/>
                </a:cubicBezTo>
                <a:lnTo>
                  <a:pt x="5482143" y="345233"/>
                </a:lnTo>
                <a:cubicBezTo>
                  <a:pt x="5594110" y="342123"/>
                  <a:pt x="5706181" y="341639"/>
                  <a:pt x="5818045" y="335902"/>
                </a:cubicBezTo>
                <a:cubicBezTo>
                  <a:pt x="5827868" y="335398"/>
                  <a:pt x="5836269" y="327720"/>
                  <a:pt x="5846037" y="326571"/>
                </a:cubicBezTo>
                <a:cubicBezTo>
                  <a:pt x="5889392" y="321471"/>
                  <a:pt x="5933122" y="320351"/>
                  <a:pt x="5976665" y="317241"/>
                </a:cubicBezTo>
                <a:cubicBezTo>
                  <a:pt x="6001547" y="311021"/>
                  <a:pt x="6025861" y="301761"/>
                  <a:pt x="6051310" y="298580"/>
                </a:cubicBezTo>
                <a:lnTo>
                  <a:pt x="6191269" y="279918"/>
                </a:lnTo>
                <a:cubicBezTo>
                  <a:pt x="6216124" y="276604"/>
                  <a:pt x="6241130" y="274401"/>
                  <a:pt x="6265914" y="270588"/>
                </a:cubicBezTo>
                <a:cubicBezTo>
                  <a:pt x="6364959" y="255350"/>
                  <a:pt x="6264984" y="267846"/>
                  <a:pt x="6349890" y="251926"/>
                </a:cubicBezTo>
                <a:cubicBezTo>
                  <a:pt x="6387079" y="244953"/>
                  <a:pt x="6424535" y="239485"/>
                  <a:pt x="6461857" y="233265"/>
                </a:cubicBezTo>
                <a:lnTo>
                  <a:pt x="6517841" y="223935"/>
                </a:lnTo>
                <a:cubicBezTo>
                  <a:pt x="6594689" y="198318"/>
                  <a:pt x="6554352" y="208055"/>
                  <a:pt x="6639139" y="195943"/>
                </a:cubicBezTo>
                <a:cubicBezTo>
                  <a:pt x="6665822" y="187048"/>
                  <a:pt x="6675157" y="183141"/>
                  <a:pt x="6704453" y="177282"/>
                </a:cubicBezTo>
                <a:cubicBezTo>
                  <a:pt x="6723004" y="173572"/>
                  <a:pt x="6741969" y="172055"/>
                  <a:pt x="6760437" y="167951"/>
                </a:cubicBezTo>
                <a:cubicBezTo>
                  <a:pt x="6770038" y="165817"/>
                  <a:pt x="6779249" y="162151"/>
                  <a:pt x="6788429" y="158620"/>
                </a:cubicBezTo>
                <a:cubicBezTo>
                  <a:pt x="6819694" y="146595"/>
                  <a:pt x="6853863" y="139879"/>
                  <a:pt x="6881735" y="121298"/>
                </a:cubicBezTo>
                <a:cubicBezTo>
                  <a:pt x="6891066" y="115078"/>
                  <a:pt x="6899991" y="108201"/>
                  <a:pt x="6909727" y="102637"/>
                </a:cubicBezTo>
                <a:cubicBezTo>
                  <a:pt x="6961795" y="72883"/>
                  <a:pt x="6932769" y="91262"/>
                  <a:pt x="6993702" y="74645"/>
                </a:cubicBezTo>
                <a:cubicBezTo>
                  <a:pt x="7012680" y="69469"/>
                  <a:pt x="7049686" y="55984"/>
                  <a:pt x="7049686" y="55984"/>
                </a:cubicBezTo>
                <a:cubicBezTo>
                  <a:pt x="7059017" y="49763"/>
                  <a:pt x="7067371" y="41740"/>
                  <a:pt x="7077678" y="37322"/>
                </a:cubicBezTo>
                <a:cubicBezTo>
                  <a:pt x="7089465" y="32271"/>
                  <a:pt x="7102670" y="31515"/>
                  <a:pt x="7115000" y="27992"/>
                </a:cubicBezTo>
                <a:cubicBezTo>
                  <a:pt x="7147032" y="18840"/>
                  <a:pt x="7147142" y="16586"/>
                  <a:pt x="7180314" y="0"/>
                </a:cubicBezTo>
                <a:lnTo>
                  <a:pt x="7516216" y="9331"/>
                </a:lnTo>
                <a:cubicBezTo>
                  <a:pt x="7556734" y="10985"/>
                  <a:pt x="7597024" y="16412"/>
                  <a:pt x="7637514" y="18661"/>
                </a:cubicBezTo>
                <a:cubicBezTo>
                  <a:pt x="7709006" y="22633"/>
                  <a:pt x="7780615" y="24229"/>
                  <a:pt x="7852118" y="27992"/>
                </a:cubicBezTo>
                <a:cubicBezTo>
                  <a:pt x="7898810" y="30449"/>
                  <a:pt x="7945412" y="34405"/>
                  <a:pt x="7992078" y="37322"/>
                </a:cubicBezTo>
                <a:lnTo>
                  <a:pt x="8150698" y="46653"/>
                </a:lnTo>
                <a:cubicBezTo>
                  <a:pt x="8178779" y="48813"/>
                  <a:pt x="8206619" y="53509"/>
                  <a:pt x="8234674" y="55984"/>
                </a:cubicBezTo>
                <a:cubicBezTo>
                  <a:pt x="8427093" y="72962"/>
                  <a:pt x="8447966" y="73397"/>
                  <a:pt x="8617229" y="83975"/>
                </a:cubicBezTo>
                <a:cubicBezTo>
                  <a:pt x="8639000" y="87085"/>
                  <a:pt x="8660978" y="88993"/>
                  <a:pt x="8682543" y="93306"/>
                </a:cubicBezTo>
                <a:cubicBezTo>
                  <a:pt x="8692187" y="95235"/>
                  <a:pt x="8700993" y="100252"/>
                  <a:pt x="8710535" y="102637"/>
                </a:cubicBezTo>
                <a:cubicBezTo>
                  <a:pt x="8725920" y="106483"/>
                  <a:pt x="8741637" y="108857"/>
                  <a:pt x="8757188" y="111967"/>
                </a:cubicBezTo>
                <a:cubicBezTo>
                  <a:pt x="8769629" y="118188"/>
                  <a:pt x="8781725" y="125150"/>
                  <a:pt x="8794510" y="130629"/>
                </a:cubicBezTo>
                <a:cubicBezTo>
                  <a:pt x="8816872" y="140213"/>
                  <a:pt x="8836163" y="142530"/>
                  <a:pt x="8859825" y="149290"/>
                </a:cubicBezTo>
                <a:cubicBezTo>
                  <a:pt x="8889486" y="157764"/>
                  <a:pt x="8902901" y="165444"/>
                  <a:pt x="8934469" y="177282"/>
                </a:cubicBezTo>
                <a:cubicBezTo>
                  <a:pt x="8943678" y="180735"/>
                  <a:pt x="8953130" y="183502"/>
                  <a:pt x="8962461" y="186612"/>
                </a:cubicBezTo>
                <a:cubicBezTo>
                  <a:pt x="8971792" y="192832"/>
                  <a:pt x="8980423" y="200258"/>
                  <a:pt x="8990453" y="205273"/>
                </a:cubicBezTo>
                <a:cubicBezTo>
                  <a:pt x="8999250" y="209672"/>
                  <a:pt x="9008956" y="212016"/>
                  <a:pt x="9018445" y="214604"/>
                </a:cubicBezTo>
                <a:cubicBezTo>
                  <a:pt x="9043189" y="221352"/>
                  <a:pt x="9069277" y="223740"/>
                  <a:pt x="9093090" y="233265"/>
                </a:cubicBezTo>
                <a:cubicBezTo>
                  <a:pt x="9108641" y="239485"/>
                  <a:pt x="9123970" y="246293"/>
                  <a:pt x="9139743" y="251926"/>
                </a:cubicBezTo>
                <a:cubicBezTo>
                  <a:pt x="9167530" y="261850"/>
                  <a:pt x="9197327" y="266722"/>
                  <a:pt x="9223718" y="279918"/>
                </a:cubicBezTo>
                <a:cubicBezTo>
                  <a:pt x="9236159" y="286139"/>
                  <a:pt x="9248964" y="291679"/>
                  <a:pt x="9261041" y="298580"/>
                </a:cubicBezTo>
                <a:cubicBezTo>
                  <a:pt x="9270777" y="304144"/>
                  <a:pt x="9279003" y="312226"/>
                  <a:pt x="9289033" y="317241"/>
                </a:cubicBezTo>
                <a:cubicBezTo>
                  <a:pt x="9297830" y="321639"/>
                  <a:pt x="9307694" y="323461"/>
                  <a:pt x="9317025" y="326571"/>
                </a:cubicBezTo>
                <a:cubicBezTo>
                  <a:pt x="9335686" y="339012"/>
                  <a:pt x="9351731" y="356802"/>
                  <a:pt x="9373008" y="363894"/>
                </a:cubicBezTo>
                <a:lnTo>
                  <a:pt x="9456984" y="391886"/>
                </a:lnTo>
                <a:lnTo>
                  <a:pt x="9512967" y="410547"/>
                </a:lnTo>
                <a:lnTo>
                  <a:pt x="9540959" y="419878"/>
                </a:lnTo>
                <a:cubicBezTo>
                  <a:pt x="9556510" y="435429"/>
                  <a:pt x="9580657" y="445667"/>
                  <a:pt x="9587612" y="466531"/>
                </a:cubicBezTo>
                <a:cubicBezTo>
                  <a:pt x="9599725" y="502868"/>
                  <a:pt x="9589989" y="487567"/>
                  <a:pt x="9615604" y="513184"/>
                </a:cubicBezTo>
                <a:cubicBezTo>
                  <a:pt x="9622015" y="545239"/>
                  <a:pt x="9625483" y="566423"/>
                  <a:pt x="9634265" y="597159"/>
                </a:cubicBezTo>
                <a:cubicBezTo>
                  <a:pt x="9650452" y="653813"/>
                  <a:pt x="9638699" y="593550"/>
                  <a:pt x="9652927" y="671804"/>
                </a:cubicBezTo>
                <a:cubicBezTo>
                  <a:pt x="9672457" y="779222"/>
                  <a:pt x="9651875" y="673773"/>
                  <a:pt x="9671588" y="811763"/>
                </a:cubicBezTo>
                <a:cubicBezTo>
                  <a:pt x="9676939" y="849220"/>
                  <a:pt x="9685556" y="886186"/>
                  <a:pt x="9690249" y="923731"/>
                </a:cubicBezTo>
                <a:cubicBezTo>
                  <a:pt x="9693359" y="948612"/>
                  <a:pt x="9696034" y="973552"/>
                  <a:pt x="9699580" y="998375"/>
                </a:cubicBezTo>
                <a:cubicBezTo>
                  <a:pt x="9702255" y="1017104"/>
                  <a:pt x="9706895" y="1035548"/>
                  <a:pt x="9708910" y="1054359"/>
                </a:cubicBezTo>
                <a:cubicBezTo>
                  <a:pt x="9716229" y="1122675"/>
                  <a:pt x="9727571" y="1259633"/>
                  <a:pt x="9727571" y="1259633"/>
                </a:cubicBezTo>
                <a:cubicBezTo>
                  <a:pt x="9719430" y="1495751"/>
                  <a:pt x="9706477" y="1457207"/>
                  <a:pt x="9727571" y="1604865"/>
                </a:cubicBezTo>
                <a:cubicBezTo>
                  <a:pt x="9730246" y="1623594"/>
                  <a:pt x="9732314" y="1642495"/>
                  <a:pt x="9736902" y="1660849"/>
                </a:cubicBezTo>
                <a:cubicBezTo>
                  <a:pt x="9741673" y="1679932"/>
                  <a:pt x="9751705" y="1697544"/>
                  <a:pt x="9755563" y="1716833"/>
                </a:cubicBezTo>
                <a:cubicBezTo>
                  <a:pt x="9758673" y="1732384"/>
                  <a:pt x="9760721" y="1748186"/>
                  <a:pt x="9764894" y="1763486"/>
                </a:cubicBezTo>
                <a:cubicBezTo>
                  <a:pt x="9770070" y="1782463"/>
                  <a:pt x="9783555" y="1819469"/>
                  <a:pt x="9783555" y="1819469"/>
                </a:cubicBezTo>
                <a:cubicBezTo>
                  <a:pt x="9780445" y="1965649"/>
                  <a:pt x="9786121" y="2112280"/>
                  <a:pt x="9774225" y="2258008"/>
                </a:cubicBezTo>
                <a:cubicBezTo>
                  <a:pt x="9773249" y="2269970"/>
                  <a:pt x="9726000" y="2283783"/>
                  <a:pt x="9718241" y="2286000"/>
                </a:cubicBezTo>
                <a:cubicBezTo>
                  <a:pt x="9705911" y="2289523"/>
                  <a:pt x="9693201" y="2291646"/>
                  <a:pt x="9680918" y="2295331"/>
                </a:cubicBezTo>
                <a:cubicBezTo>
                  <a:pt x="9662077" y="2300983"/>
                  <a:pt x="9644408" y="2311210"/>
                  <a:pt x="9624935" y="2313992"/>
                </a:cubicBezTo>
                <a:lnTo>
                  <a:pt x="9559620" y="2323322"/>
                </a:lnTo>
                <a:cubicBezTo>
                  <a:pt x="9526477" y="2334370"/>
                  <a:pt x="9461216" y="2357716"/>
                  <a:pt x="9428992" y="2360645"/>
                </a:cubicBezTo>
                <a:lnTo>
                  <a:pt x="9326355" y="2369975"/>
                </a:lnTo>
                <a:cubicBezTo>
                  <a:pt x="9208860" y="2399350"/>
                  <a:pt x="9295078" y="2379903"/>
                  <a:pt x="9195727" y="2397967"/>
                </a:cubicBezTo>
                <a:cubicBezTo>
                  <a:pt x="9180124" y="2400804"/>
                  <a:pt x="9164862" y="2405794"/>
                  <a:pt x="9149074" y="2407298"/>
                </a:cubicBezTo>
                <a:cubicBezTo>
                  <a:pt x="9053630" y="2416388"/>
                  <a:pt x="8817508" y="2424024"/>
                  <a:pt x="8747857" y="2425959"/>
                </a:cubicBezTo>
                <a:lnTo>
                  <a:pt x="8327980" y="2435290"/>
                </a:lnTo>
                <a:cubicBezTo>
                  <a:pt x="8219123" y="2441510"/>
                  <a:pt x="8110412" y="2451356"/>
                  <a:pt x="8001408" y="2453951"/>
                </a:cubicBezTo>
                <a:lnTo>
                  <a:pt x="7609522" y="2463282"/>
                </a:lnTo>
                <a:lnTo>
                  <a:pt x="7282951" y="2472612"/>
                </a:lnTo>
                <a:lnTo>
                  <a:pt x="6723114" y="2481943"/>
                </a:lnTo>
                <a:lnTo>
                  <a:pt x="6153947" y="2509935"/>
                </a:lnTo>
                <a:lnTo>
                  <a:pt x="5855367" y="2519265"/>
                </a:lnTo>
                <a:cubicBezTo>
                  <a:pt x="5643770" y="2540426"/>
                  <a:pt x="5783817" y="2528744"/>
                  <a:pt x="5398167" y="2537926"/>
                </a:cubicBezTo>
                <a:lnTo>
                  <a:pt x="4978290" y="2547257"/>
                </a:lnTo>
                <a:cubicBezTo>
                  <a:pt x="4756222" y="2591670"/>
                  <a:pt x="4943102" y="2559843"/>
                  <a:pt x="4511759" y="2575249"/>
                </a:cubicBezTo>
                <a:cubicBezTo>
                  <a:pt x="4461930" y="2577029"/>
                  <a:pt x="4412327" y="2584127"/>
                  <a:pt x="4362469" y="2584580"/>
                </a:cubicBezTo>
                <a:lnTo>
                  <a:pt x="2459025" y="2593910"/>
                </a:lnTo>
                <a:lnTo>
                  <a:pt x="1339351" y="2584580"/>
                </a:lnTo>
                <a:cubicBezTo>
                  <a:pt x="1241522" y="2583051"/>
                  <a:pt x="1292768" y="2571714"/>
                  <a:pt x="1208722" y="2565918"/>
                </a:cubicBezTo>
                <a:cubicBezTo>
                  <a:pt x="1137289" y="2560992"/>
                  <a:pt x="1065653" y="2559698"/>
                  <a:pt x="994118" y="2556588"/>
                </a:cubicBezTo>
                <a:lnTo>
                  <a:pt x="928804" y="2547257"/>
                </a:lnTo>
                <a:cubicBezTo>
                  <a:pt x="844244" y="2535982"/>
                  <a:pt x="819817" y="2535312"/>
                  <a:pt x="723531" y="2519265"/>
                </a:cubicBezTo>
                <a:cubicBezTo>
                  <a:pt x="686208" y="2513045"/>
                  <a:pt x="647459" y="2512569"/>
                  <a:pt x="611563" y="2500604"/>
                </a:cubicBezTo>
                <a:lnTo>
                  <a:pt x="555580" y="2481943"/>
                </a:lnTo>
                <a:cubicBezTo>
                  <a:pt x="546249" y="2478833"/>
                  <a:pt x="537232" y="2474541"/>
                  <a:pt x="527588" y="2472612"/>
                </a:cubicBezTo>
                <a:lnTo>
                  <a:pt x="480935" y="2463282"/>
                </a:lnTo>
                <a:cubicBezTo>
                  <a:pt x="468494" y="2457061"/>
                  <a:pt x="456986" y="2448441"/>
                  <a:pt x="443612" y="2444620"/>
                </a:cubicBezTo>
                <a:cubicBezTo>
                  <a:pt x="413114" y="2435906"/>
                  <a:pt x="350306" y="2425959"/>
                  <a:pt x="350306" y="2425959"/>
                </a:cubicBezTo>
                <a:cubicBezTo>
                  <a:pt x="331645" y="2413518"/>
                  <a:pt x="306763" y="2407298"/>
                  <a:pt x="294322" y="2388637"/>
                </a:cubicBezTo>
                <a:cubicBezTo>
                  <a:pt x="288102" y="2379306"/>
                  <a:pt x="283590" y="2368574"/>
                  <a:pt x="275661" y="2360645"/>
                </a:cubicBezTo>
                <a:cubicBezTo>
                  <a:pt x="257575" y="2342559"/>
                  <a:pt x="242443" y="2340242"/>
                  <a:pt x="219678" y="2332653"/>
                </a:cubicBezTo>
                <a:cubicBezTo>
                  <a:pt x="213457" y="2326433"/>
                  <a:pt x="208559" y="2318518"/>
                  <a:pt x="201016" y="2313992"/>
                </a:cubicBezTo>
                <a:cubicBezTo>
                  <a:pt x="192582" y="2308932"/>
                  <a:pt x="182065" y="2308535"/>
                  <a:pt x="173025" y="2304661"/>
                </a:cubicBezTo>
                <a:cubicBezTo>
                  <a:pt x="160240" y="2299182"/>
                  <a:pt x="147629" y="2293156"/>
                  <a:pt x="135702" y="2286000"/>
                </a:cubicBezTo>
                <a:cubicBezTo>
                  <a:pt x="116470" y="2274461"/>
                  <a:pt x="79718" y="2248678"/>
                  <a:pt x="79718" y="2248678"/>
                </a:cubicBezTo>
                <a:cubicBezTo>
                  <a:pt x="82829" y="2037115"/>
                  <a:pt x="-113205" y="1614196"/>
                  <a:pt x="98380" y="1614196"/>
                </a:cubicBezTo>
              </a:path>
            </a:pathLst>
          </a:custGeom>
          <a:solidFill>
            <a:srgbClr val="72af2f"/>
          </a:solidFill>
          <a:ln w="25560">
            <a:solidFill>
              <a:srgbClr val="72af2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Freeform 5"/>
          <p:cNvSpPr/>
          <p:nvPr/>
        </p:nvSpPr>
        <p:spPr>
          <a:xfrm>
            <a:off x="-225360" y="3645000"/>
            <a:ext cx="9556560" cy="3446280"/>
          </a:xfrm>
          <a:custGeom>
            <a:avLst/>
            <a:gdLst/>
            <a:ahLst/>
            <a:rect l="l" t="t" r="r" b="b"/>
            <a:pathLst>
              <a:path w="9555712" h="2472612">
                <a:moveTo>
                  <a:pt x="94471" y="317241"/>
                </a:moveTo>
                <a:cubicBezTo>
                  <a:pt x="103801" y="311021"/>
                  <a:pt x="126079" y="312925"/>
                  <a:pt x="141124" y="307910"/>
                </a:cubicBezTo>
                <a:cubicBezTo>
                  <a:pt x="206137" y="286239"/>
                  <a:pt x="151913" y="293185"/>
                  <a:pt x="215769" y="261257"/>
                </a:cubicBezTo>
                <a:cubicBezTo>
                  <a:pt x="227239" y="255522"/>
                  <a:pt x="240651" y="255037"/>
                  <a:pt x="253092" y="251927"/>
                </a:cubicBezTo>
                <a:cubicBezTo>
                  <a:pt x="270450" y="234569"/>
                  <a:pt x="276203" y="226375"/>
                  <a:pt x="299745" y="214604"/>
                </a:cubicBezTo>
                <a:cubicBezTo>
                  <a:pt x="308542" y="210206"/>
                  <a:pt x="318406" y="208384"/>
                  <a:pt x="327737" y="205274"/>
                </a:cubicBezTo>
                <a:cubicBezTo>
                  <a:pt x="369934" y="163075"/>
                  <a:pt x="317194" y="214058"/>
                  <a:pt x="383720" y="158620"/>
                </a:cubicBezTo>
                <a:cubicBezTo>
                  <a:pt x="390478" y="152988"/>
                  <a:pt x="395062" y="144839"/>
                  <a:pt x="402382" y="139959"/>
                </a:cubicBezTo>
                <a:cubicBezTo>
                  <a:pt x="413955" y="132244"/>
                  <a:pt x="427628" y="128199"/>
                  <a:pt x="439704" y="121298"/>
                </a:cubicBezTo>
                <a:cubicBezTo>
                  <a:pt x="449441" y="115734"/>
                  <a:pt x="458571" y="109155"/>
                  <a:pt x="467696" y="102637"/>
                </a:cubicBezTo>
                <a:cubicBezTo>
                  <a:pt x="480350" y="93598"/>
                  <a:pt x="491424" y="82197"/>
                  <a:pt x="505018" y="74645"/>
                </a:cubicBezTo>
                <a:cubicBezTo>
                  <a:pt x="519659" y="66511"/>
                  <a:pt x="536690" y="63474"/>
                  <a:pt x="551671" y="55984"/>
                </a:cubicBezTo>
                <a:cubicBezTo>
                  <a:pt x="561701" y="50969"/>
                  <a:pt x="570906" y="44328"/>
                  <a:pt x="579663" y="37323"/>
                </a:cubicBezTo>
                <a:cubicBezTo>
                  <a:pt x="586532" y="31827"/>
                  <a:pt x="590456" y="22595"/>
                  <a:pt x="598324" y="18661"/>
                </a:cubicBezTo>
                <a:cubicBezTo>
                  <a:pt x="609794" y="12926"/>
                  <a:pt x="623317" y="12854"/>
                  <a:pt x="635647" y="9331"/>
                </a:cubicBezTo>
                <a:cubicBezTo>
                  <a:pt x="645104" y="6629"/>
                  <a:pt x="654308" y="3110"/>
                  <a:pt x="663639" y="0"/>
                </a:cubicBezTo>
                <a:cubicBezTo>
                  <a:pt x="679047" y="1712"/>
                  <a:pt x="748254" y="3465"/>
                  <a:pt x="775606" y="18661"/>
                </a:cubicBezTo>
                <a:cubicBezTo>
                  <a:pt x="795212" y="29553"/>
                  <a:pt x="811530" y="45954"/>
                  <a:pt x="831590" y="55984"/>
                </a:cubicBezTo>
                <a:cubicBezTo>
                  <a:pt x="844031" y="62204"/>
                  <a:pt x="855998" y="69479"/>
                  <a:pt x="868912" y="74645"/>
                </a:cubicBezTo>
                <a:cubicBezTo>
                  <a:pt x="887176" y="81950"/>
                  <a:pt x="906921" y="85317"/>
                  <a:pt x="924896" y="93306"/>
                </a:cubicBezTo>
                <a:cubicBezTo>
                  <a:pt x="935144" y="97860"/>
                  <a:pt x="942581" y="107550"/>
                  <a:pt x="952888" y="111967"/>
                </a:cubicBezTo>
                <a:cubicBezTo>
                  <a:pt x="964675" y="117019"/>
                  <a:pt x="978203" y="116795"/>
                  <a:pt x="990210" y="121298"/>
                </a:cubicBezTo>
                <a:cubicBezTo>
                  <a:pt x="1087794" y="157892"/>
                  <a:pt x="969056" y="125339"/>
                  <a:pt x="1064855" y="149290"/>
                </a:cubicBezTo>
                <a:lnTo>
                  <a:pt x="1148831" y="205274"/>
                </a:lnTo>
                <a:cubicBezTo>
                  <a:pt x="1158161" y="211494"/>
                  <a:pt x="1165943" y="221215"/>
                  <a:pt x="1176822" y="223935"/>
                </a:cubicBezTo>
                <a:lnTo>
                  <a:pt x="1214145" y="233265"/>
                </a:lnTo>
                <a:cubicBezTo>
                  <a:pt x="1298301" y="275345"/>
                  <a:pt x="1193914" y="226523"/>
                  <a:pt x="1326112" y="270588"/>
                </a:cubicBezTo>
                <a:cubicBezTo>
                  <a:pt x="1344773" y="276808"/>
                  <a:pt x="1363832" y="281944"/>
                  <a:pt x="1382096" y="289249"/>
                </a:cubicBezTo>
                <a:cubicBezTo>
                  <a:pt x="1437881" y="311563"/>
                  <a:pt x="1412860" y="302613"/>
                  <a:pt x="1456741" y="317241"/>
                </a:cubicBezTo>
                <a:cubicBezTo>
                  <a:pt x="1466072" y="326572"/>
                  <a:pt x="1473754" y="337913"/>
                  <a:pt x="1484733" y="345233"/>
                </a:cubicBezTo>
                <a:cubicBezTo>
                  <a:pt x="1492916" y="350688"/>
                  <a:pt x="1503927" y="350165"/>
                  <a:pt x="1512724" y="354563"/>
                </a:cubicBezTo>
                <a:cubicBezTo>
                  <a:pt x="1522754" y="359578"/>
                  <a:pt x="1530409" y="368808"/>
                  <a:pt x="1540716" y="373225"/>
                </a:cubicBezTo>
                <a:cubicBezTo>
                  <a:pt x="1552503" y="378277"/>
                  <a:pt x="1565756" y="378870"/>
                  <a:pt x="1578039" y="382555"/>
                </a:cubicBezTo>
                <a:cubicBezTo>
                  <a:pt x="1596880" y="388207"/>
                  <a:pt x="1615361" y="394996"/>
                  <a:pt x="1634022" y="401216"/>
                </a:cubicBezTo>
                <a:cubicBezTo>
                  <a:pt x="1697546" y="422391"/>
                  <a:pt x="1619431" y="395745"/>
                  <a:pt x="1708667" y="429208"/>
                </a:cubicBezTo>
                <a:cubicBezTo>
                  <a:pt x="1717876" y="432661"/>
                  <a:pt x="1726957" y="436922"/>
                  <a:pt x="1736659" y="438539"/>
                </a:cubicBezTo>
                <a:cubicBezTo>
                  <a:pt x="1764440" y="443169"/>
                  <a:pt x="1792643" y="444759"/>
                  <a:pt x="1820635" y="447869"/>
                </a:cubicBezTo>
                <a:cubicBezTo>
                  <a:pt x="2366648" y="431324"/>
                  <a:pt x="1974630" y="452852"/>
                  <a:pt x="2203190" y="429208"/>
                </a:cubicBezTo>
                <a:lnTo>
                  <a:pt x="2399133" y="410547"/>
                </a:lnTo>
                <a:cubicBezTo>
                  <a:pt x="2430990" y="404175"/>
                  <a:pt x="2469923" y="395867"/>
                  <a:pt x="2501769" y="391886"/>
                </a:cubicBezTo>
                <a:cubicBezTo>
                  <a:pt x="2532785" y="388009"/>
                  <a:pt x="2564010" y="386007"/>
                  <a:pt x="2595076" y="382555"/>
                </a:cubicBezTo>
                <a:cubicBezTo>
                  <a:pt x="2619998" y="379786"/>
                  <a:pt x="2644937" y="377038"/>
                  <a:pt x="2669720" y="373225"/>
                </a:cubicBezTo>
                <a:cubicBezTo>
                  <a:pt x="2685395" y="370814"/>
                  <a:pt x="2700623" y="365747"/>
                  <a:pt x="2716373" y="363894"/>
                </a:cubicBezTo>
                <a:cubicBezTo>
                  <a:pt x="2753569" y="359518"/>
                  <a:pt x="2791018" y="357673"/>
                  <a:pt x="2828341" y="354563"/>
                </a:cubicBezTo>
                <a:cubicBezTo>
                  <a:pt x="2840782" y="351453"/>
                  <a:pt x="2853014" y="347341"/>
                  <a:pt x="2865663" y="345233"/>
                </a:cubicBezTo>
                <a:cubicBezTo>
                  <a:pt x="2890397" y="341111"/>
                  <a:pt x="2915453" y="339216"/>
                  <a:pt x="2940308" y="335902"/>
                </a:cubicBezTo>
                <a:lnTo>
                  <a:pt x="3005622" y="326571"/>
                </a:lnTo>
                <a:cubicBezTo>
                  <a:pt x="3014953" y="323461"/>
                  <a:pt x="3024157" y="319943"/>
                  <a:pt x="3033614" y="317241"/>
                </a:cubicBezTo>
                <a:cubicBezTo>
                  <a:pt x="3236766" y="259199"/>
                  <a:pt x="3481975" y="314333"/>
                  <a:pt x="3668096" y="317241"/>
                </a:cubicBezTo>
                <a:cubicBezTo>
                  <a:pt x="3680537" y="320351"/>
                  <a:pt x="3693088" y="323048"/>
                  <a:pt x="3705418" y="326571"/>
                </a:cubicBezTo>
                <a:cubicBezTo>
                  <a:pt x="3714875" y="329273"/>
                  <a:pt x="3723809" y="333768"/>
                  <a:pt x="3733410" y="335902"/>
                </a:cubicBezTo>
                <a:cubicBezTo>
                  <a:pt x="3802830" y="351329"/>
                  <a:pt x="3780264" y="339674"/>
                  <a:pt x="3854708" y="354563"/>
                </a:cubicBezTo>
                <a:cubicBezTo>
                  <a:pt x="3879857" y="359593"/>
                  <a:pt x="3904471" y="367005"/>
                  <a:pt x="3929353" y="373225"/>
                </a:cubicBezTo>
                <a:cubicBezTo>
                  <a:pt x="3941794" y="376335"/>
                  <a:pt x="3954510" y="378499"/>
                  <a:pt x="3966676" y="382555"/>
                </a:cubicBezTo>
                <a:cubicBezTo>
                  <a:pt x="4018999" y="399997"/>
                  <a:pt x="3985122" y="389500"/>
                  <a:pt x="4069312" y="410547"/>
                </a:cubicBezTo>
                <a:cubicBezTo>
                  <a:pt x="4081753" y="413657"/>
                  <a:pt x="4093940" y="418065"/>
                  <a:pt x="4106635" y="419878"/>
                </a:cubicBezTo>
                <a:cubicBezTo>
                  <a:pt x="4128406" y="422988"/>
                  <a:pt x="4150311" y="425274"/>
                  <a:pt x="4171949" y="429208"/>
                </a:cubicBezTo>
                <a:cubicBezTo>
                  <a:pt x="4246354" y="442736"/>
                  <a:pt x="4180037" y="445512"/>
                  <a:pt x="4302578" y="447869"/>
                </a:cubicBezTo>
                <a:lnTo>
                  <a:pt x="5179655" y="457200"/>
                </a:lnTo>
                <a:lnTo>
                  <a:pt x="5300953" y="466531"/>
                </a:lnTo>
                <a:cubicBezTo>
                  <a:pt x="5332093" y="469239"/>
                  <a:pt x="5363067" y="473849"/>
                  <a:pt x="5394259" y="475861"/>
                </a:cubicBezTo>
                <a:cubicBezTo>
                  <a:pt x="5459512" y="480071"/>
                  <a:pt x="5524888" y="482082"/>
                  <a:pt x="5590202" y="485192"/>
                </a:cubicBezTo>
                <a:cubicBezTo>
                  <a:pt x="5602643" y="488302"/>
                  <a:pt x="5614907" y="492229"/>
                  <a:pt x="5627524" y="494523"/>
                </a:cubicBezTo>
                <a:cubicBezTo>
                  <a:pt x="5649162" y="498457"/>
                  <a:pt x="5671410" y="498908"/>
                  <a:pt x="5692839" y="503853"/>
                </a:cubicBezTo>
                <a:cubicBezTo>
                  <a:pt x="5712006" y="508276"/>
                  <a:pt x="5730161" y="516294"/>
                  <a:pt x="5748822" y="522514"/>
                </a:cubicBezTo>
                <a:cubicBezTo>
                  <a:pt x="5758153" y="525624"/>
                  <a:pt x="5767170" y="529916"/>
                  <a:pt x="5776814" y="531845"/>
                </a:cubicBezTo>
                <a:cubicBezTo>
                  <a:pt x="5792365" y="534955"/>
                  <a:pt x="5808167" y="537003"/>
                  <a:pt x="5823467" y="541176"/>
                </a:cubicBezTo>
                <a:cubicBezTo>
                  <a:pt x="5842445" y="546352"/>
                  <a:pt x="5860368" y="555066"/>
                  <a:pt x="5879451" y="559837"/>
                </a:cubicBezTo>
                <a:lnTo>
                  <a:pt x="5916773" y="569167"/>
                </a:lnTo>
                <a:cubicBezTo>
                  <a:pt x="5929214" y="575388"/>
                  <a:pt x="5941072" y="582945"/>
                  <a:pt x="5954096" y="587829"/>
                </a:cubicBezTo>
                <a:cubicBezTo>
                  <a:pt x="5966103" y="592332"/>
                  <a:pt x="5979948" y="591424"/>
                  <a:pt x="5991418" y="597159"/>
                </a:cubicBezTo>
                <a:cubicBezTo>
                  <a:pt x="6005327" y="604114"/>
                  <a:pt x="6015239" y="617435"/>
                  <a:pt x="6028741" y="625151"/>
                </a:cubicBezTo>
                <a:cubicBezTo>
                  <a:pt x="6045333" y="634632"/>
                  <a:pt x="6089730" y="640398"/>
                  <a:pt x="6103386" y="643812"/>
                </a:cubicBezTo>
                <a:cubicBezTo>
                  <a:pt x="6112928" y="646197"/>
                  <a:pt x="6121836" y="650757"/>
                  <a:pt x="6131378" y="653143"/>
                </a:cubicBezTo>
                <a:cubicBezTo>
                  <a:pt x="6146763" y="656990"/>
                  <a:pt x="6162480" y="659364"/>
                  <a:pt x="6178031" y="662474"/>
                </a:cubicBezTo>
                <a:cubicBezTo>
                  <a:pt x="6190472" y="668694"/>
                  <a:pt x="6203277" y="674234"/>
                  <a:pt x="6215353" y="681135"/>
                </a:cubicBezTo>
                <a:cubicBezTo>
                  <a:pt x="6225090" y="686699"/>
                  <a:pt x="6233315" y="694781"/>
                  <a:pt x="6243345" y="699796"/>
                </a:cubicBezTo>
                <a:cubicBezTo>
                  <a:pt x="6258326" y="707286"/>
                  <a:pt x="6274447" y="712237"/>
                  <a:pt x="6289998" y="718457"/>
                </a:cubicBezTo>
                <a:cubicBezTo>
                  <a:pt x="6299329" y="727788"/>
                  <a:pt x="6306800" y="739455"/>
                  <a:pt x="6317990" y="746449"/>
                </a:cubicBezTo>
                <a:cubicBezTo>
                  <a:pt x="6347660" y="764993"/>
                  <a:pt x="6390149" y="768531"/>
                  <a:pt x="6420627" y="783771"/>
                </a:cubicBezTo>
                <a:cubicBezTo>
                  <a:pt x="6459242" y="803079"/>
                  <a:pt x="6467807" y="809562"/>
                  <a:pt x="6513933" y="821094"/>
                </a:cubicBezTo>
                <a:cubicBezTo>
                  <a:pt x="6526374" y="824204"/>
                  <a:pt x="6538432" y="830266"/>
                  <a:pt x="6551255" y="830425"/>
                </a:cubicBezTo>
                <a:lnTo>
                  <a:pt x="8016161" y="839755"/>
                </a:lnTo>
                <a:cubicBezTo>
                  <a:pt x="8087696" y="842865"/>
                  <a:pt x="8159374" y="843594"/>
                  <a:pt x="8230765" y="849086"/>
                </a:cubicBezTo>
                <a:cubicBezTo>
                  <a:pt x="8240571" y="849840"/>
                  <a:pt x="8249215" y="856031"/>
                  <a:pt x="8258757" y="858416"/>
                </a:cubicBezTo>
                <a:cubicBezTo>
                  <a:pt x="8276491" y="862850"/>
                  <a:pt x="8323577" y="869894"/>
                  <a:pt x="8342733" y="877078"/>
                </a:cubicBezTo>
                <a:cubicBezTo>
                  <a:pt x="8355756" y="881962"/>
                  <a:pt x="8367141" y="890573"/>
                  <a:pt x="8380055" y="895739"/>
                </a:cubicBezTo>
                <a:cubicBezTo>
                  <a:pt x="8398319" y="903044"/>
                  <a:pt x="8419672" y="903488"/>
                  <a:pt x="8436039" y="914400"/>
                </a:cubicBezTo>
                <a:cubicBezTo>
                  <a:pt x="8500205" y="957179"/>
                  <a:pt x="8470745" y="944631"/>
                  <a:pt x="8520014" y="961053"/>
                </a:cubicBezTo>
                <a:cubicBezTo>
                  <a:pt x="8558351" y="986610"/>
                  <a:pt x="8569733" y="995870"/>
                  <a:pt x="8622651" y="1017037"/>
                </a:cubicBezTo>
                <a:cubicBezTo>
                  <a:pt x="8653753" y="1029478"/>
                  <a:pt x="8683459" y="1046234"/>
                  <a:pt x="8715957" y="1054359"/>
                </a:cubicBezTo>
                <a:cubicBezTo>
                  <a:pt x="8771633" y="1068278"/>
                  <a:pt x="8740631" y="1061582"/>
                  <a:pt x="8809263" y="1073020"/>
                </a:cubicBezTo>
                <a:cubicBezTo>
                  <a:pt x="8821704" y="1082351"/>
                  <a:pt x="8832292" y="1094886"/>
                  <a:pt x="8846586" y="1101012"/>
                </a:cubicBezTo>
                <a:cubicBezTo>
                  <a:pt x="8876432" y="1113803"/>
                  <a:pt x="8908517" y="1120637"/>
                  <a:pt x="8939892" y="1129004"/>
                </a:cubicBezTo>
                <a:cubicBezTo>
                  <a:pt x="8961637" y="1134803"/>
                  <a:pt x="9022746" y="1144368"/>
                  <a:pt x="9042529" y="1147665"/>
                </a:cubicBezTo>
                <a:cubicBezTo>
                  <a:pt x="9061190" y="1153886"/>
                  <a:pt x="9079535" y="1161151"/>
                  <a:pt x="9098512" y="1166327"/>
                </a:cubicBezTo>
                <a:cubicBezTo>
                  <a:pt x="9196228" y="1192977"/>
                  <a:pt x="9098658" y="1159839"/>
                  <a:pt x="9182488" y="1184988"/>
                </a:cubicBezTo>
                <a:cubicBezTo>
                  <a:pt x="9230083" y="1199267"/>
                  <a:pt x="9232788" y="1204379"/>
                  <a:pt x="9275794" y="1212980"/>
                </a:cubicBezTo>
                <a:cubicBezTo>
                  <a:pt x="9294345" y="1216690"/>
                  <a:pt x="9313227" y="1218600"/>
                  <a:pt x="9331778" y="1222310"/>
                </a:cubicBezTo>
                <a:cubicBezTo>
                  <a:pt x="9419008" y="1239756"/>
                  <a:pt x="9325975" y="1223192"/>
                  <a:pt x="9397092" y="1240971"/>
                </a:cubicBezTo>
                <a:cubicBezTo>
                  <a:pt x="9412477" y="1244817"/>
                  <a:pt x="9428194" y="1247192"/>
                  <a:pt x="9443745" y="1250302"/>
                </a:cubicBezTo>
                <a:cubicBezTo>
                  <a:pt x="9446855" y="1321837"/>
                  <a:pt x="9448313" y="1393462"/>
                  <a:pt x="9453076" y="1464906"/>
                </a:cubicBezTo>
                <a:cubicBezTo>
                  <a:pt x="9456878" y="1521933"/>
                  <a:pt x="9463697" y="1525952"/>
                  <a:pt x="9471737" y="1576874"/>
                </a:cubicBezTo>
                <a:cubicBezTo>
                  <a:pt x="9478597" y="1620320"/>
                  <a:pt x="9486416" y="1663698"/>
                  <a:pt x="9490398" y="1707502"/>
                </a:cubicBezTo>
                <a:cubicBezTo>
                  <a:pt x="9493508" y="1741714"/>
                  <a:pt x="9495189" y="1776087"/>
                  <a:pt x="9499729" y="1810139"/>
                </a:cubicBezTo>
                <a:cubicBezTo>
                  <a:pt x="9502333" y="1829670"/>
                  <a:pt x="9511992" y="1856259"/>
                  <a:pt x="9518390" y="1875453"/>
                </a:cubicBezTo>
                <a:cubicBezTo>
                  <a:pt x="9521500" y="1894114"/>
                  <a:pt x="9523616" y="1912969"/>
                  <a:pt x="9527720" y="1931437"/>
                </a:cubicBezTo>
                <a:cubicBezTo>
                  <a:pt x="9545088" y="2009593"/>
                  <a:pt x="9530250" y="1893157"/>
                  <a:pt x="9546382" y="2006082"/>
                </a:cubicBezTo>
                <a:cubicBezTo>
                  <a:pt x="9550365" y="2033963"/>
                  <a:pt x="9552602" y="2062065"/>
                  <a:pt x="9555712" y="2090057"/>
                </a:cubicBezTo>
                <a:cubicBezTo>
                  <a:pt x="9552602" y="2161592"/>
                  <a:pt x="9560986" y="2234564"/>
                  <a:pt x="9546382" y="2304661"/>
                </a:cubicBezTo>
                <a:cubicBezTo>
                  <a:pt x="9543767" y="2317215"/>
                  <a:pt x="9520529" y="2308257"/>
                  <a:pt x="9509059" y="2313992"/>
                </a:cubicBezTo>
                <a:cubicBezTo>
                  <a:pt x="9488999" y="2324022"/>
                  <a:pt x="9475068" y="2346915"/>
                  <a:pt x="9453076" y="2351314"/>
                </a:cubicBezTo>
                <a:cubicBezTo>
                  <a:pt x="9437525" y="2354424"/>
                  <a:pt x="9421808" y="2356798"/>
                  <a:pt x="9406422" y="2360645"/>
                </a:cubicBezTo>
                <a:cubicBezTo>
                  <a:pt x="9308508" y="2385125"/>
                  <a:pt x="9463281" y="2353127"/>
                  <a:pt x="9341108" y="2379306"/>
                </a:cubicBezTo>
                <a:cubicBezTo>
                  <a:pt x="9249207" y="2398998"/>
                  <a:pt x="9263274" y="2395757"/>
                  <a:pt x="9182488" y="2407298"/>
                </a:cubicBezTo>
                <a:cubicBezTo>
                  <a:pt x="9173157" y="2410408"/>
                  <a:pt x="9164038" y="2414244"/>
                  <a:pt x="9154496" y="2416629"/>
                </a:cubicBezTo>
                <a:cubicBezTo>
                  <a:pt x="9138383" y="2420657"/>
                  <a:pt x="9064923" y="2434102"/>
                  <a:pt x="9051859" y="2435290"/>
                </a:cubicBezTo>
                <a:cubicBezTo>
                  <a:pt x="9002203" y="2439804"/>
                  <a:pt x="8952348" y="2441776"/>
                  <a:pt x="8902569" y="2444620"/>
                </a:cubicBezTo>
                <a:lnTo>
                  <a:pt x="8725288" y="2453951"/>
                </a:lnTo>
                <a:cubicBezTo>
                  <a:pt x="8684815" y="2456481"/>
                  <a:pt x="8644530" y="2462293"/>
                  <a:pt x="8603990" y="2463282"/>
                </a:cubicBezTo>
                <a:lnTo>
                  <a:pt x="7960178" y="2472612"/>
                </a:lnTo>
                <a:lnTo>
                  <a:pt x="6252676" y="2463282"/>
                </a:lnTo>
                <a:cubicBezTo>
                  <a:pt x="6202818" y="2462781"/>
                  <a:pt x="6153199" y="2456117"/>
                  <a:pt x="6103386" y="2453951"/>
                </a:cubicBezTo>
                <a:cubicBezTo>
                  <a:pt x="5960056" y="2447719"/>
                  <a:pt x="5775279" y="2445364"/>
                  <a:pt x="5627524" y="2435290"/>
                </a:cubicBezTo>
                <a:cubicBezTo>
                  <a:pt x="5555886" y="2430406"/>
                  <a:pt x="5484672" y="2419389"/>
                  <a:pt x="5412920" y="2416629"/>
                </a:cubicBezTo>
                <a:lnTo>
                  <a:pt x="4927729" y="2397967"/>
                </a:lnTo>
                <a:lnTo>
                  <a:pt x="4638480" y="2388637"/>
                </a:lnTo>
                <a:lnTo>
                  <a:pt x="4423876" y="2379306"/>
                </a:lnTo>
                <a:lnTo>
                  <a:pt x="3985337" y="2369976"/>
                </a:lnTo>
                <a:cubicBezTo>
                  <a:pt x="3394326" y="2338869"/>
                  <a:pt x="4108275" y="2373821"/>
                  <a:pt x="2679051" y="2351314"/>
                </a:cubicBezTo>
                <a:cubicBezTo>
                  <a:pt x="2660135" y="2351016"/>
                  <a:pt x="2641820" y="2344484"/>
                  <a:pt x="2623067" y="2341984"/>
                </a:cubicBezTo>
                <a:cubicBezTo>
                  <a:pt x="2595150" y="2338262"/>
                  <a:pt x="2567084" y="2335763"/>
                  <a:pt x="2539092" y="2332653"/>
                </a:cubicBezTo>
                <a:cubicBezTo>
                  <a:pt x="2441720" y="2308312"/>
                  <a:pt x="2526756" y="2327042"/>
                  <a:pt x="2324488" y="2313992"/>
                </a:cubicBezTo>
                <a:cubicBezTo>
                  <a:pt x="2287114" y="2311581"/>
                  <a:pt x="2249956" y="2305762"/>
                  <a:pt x="2212520" y="2304661"/>
                </a:cubicBezTo>
                <a:cubicBezTo>
                  <a:pt x="2038396" y="2299540"/>
                  <a:pt x="1864158" y="2299381"/>
                  <a:pt x="1690006" y="2295331"/>
                </a:cubicBezTo>
                <a:cubicBezTo>
                  <a:pt x="1553902" y="2292166"/>
                  <a:pt x="1356839" y="2284596"/>
                  <a:pt x="1214145" y="2276669"/>
                </a:cubicBezTo>
                <a:cubicBezTo>
                  <a:pt x="1167460" y="2274075"/>
                  <a:pt x="1120839" y="2270449"/>
                  <a:pt x="1074186" y="2267339"/>
                </a:cubicBezTo>
                <a:lnTo>
                  <a:pt x="439704" y="2276669"/>
                </a:lnTo>
                <a:cubicBezTo>
                  <a:pt x="346741" y="2278735"/>
                  <a:pt x="259122" y="2278966"/>
                  <a:pt x="169116" y="2295331"/>
                </a:cubicBezTo>
                <a:cubicBezTo>
                  <a:pt x="156499" y="2297625"/>
                  <a:pt x="144235" y="2301551"/>
                  <a:pt x="131794" y="2304661"/>
                </a:cubicBezTo>
                <a:cubicBezTo>
                  <a:pt x="91361" y="2301551"/>
                  <a:pt x="15958" y="2335514"/>
                  <a:pt x="10496" y="2295331"/>
                </a:cubicBezTo>
                <a:cubicBezTo>
                  <a:pt x="-11267" y="2135216"/>
                  <a:pt x="7001" y="607431"/>
                  <a:pt x="10496" y="429208"/>
                </a:cubicBezTo>
                <a:cubicBezTo>
                  <a:pt x="11110" y="397888"/>
                  <a:pt x="23022" y="381605"/>
                  <a:pt x="47818" y="363894"/>
                </a:cubicBezTo>
                <a:cubicBezTo>
                  <a:pt x="59137" y="355809"/>
                  <a:pt x="72700" y="351453"/>
                  <a:pt x="85141" y="345233"/>
                </a:cubicBezTo>
                <a:cubicBezTo>
                  <a:pt x="112599" y="317774"/>
                  <a:pt x="85141" y="323461"/>
                  <a:pt x="94471" y="317241"/>
                </a:cubicBezTo>
                <a:close/>
              </a:path>
            </a:pathLst>
          </a:custGeom>
          <a:solidFill>
            <a:srgbClr val="92d050"/>
          </a:solidFill>
          <a:ln w="2556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5" name="Picture 8" descr=""/>
          <p:cNvPicPr/>
          <p:nvPr/>
        </p:nvPicPr>
        <p:blipFill>
          <a:blip r:embed="rId2"/>
          <a:stretch/>
        </p:blipFill>
        <p:spPr>
          <a:xfrm>
            <a:off x="0" y="1125360"/>
            <a:ext cx="5410080" cy="44755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9" descr=""/>
          <p:cNvPicPr/>
          <p:nvPr/>
        </p:nvPicPr>
        <p:blipFill>
          <a:blip r:embed="rId3"/>
          <a:stretch/>
        </p:blipFill>
        <p:spPr>
          <a:xfrm>
            <a:off x="6894360" y="5076720"/>
            <a:ext cx="754200" cy="5288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" descr=""/>
          <p:cNvPicPr/>
          <p:nvPr/>
        </p:nvPicPr>
        <p:blipFill>
          <a:blip r:embed="rId4"/>
          <a:stretch/>
        </p:blipFill>
        <p:spPr>
          <a:xfrm>
            <a:off x="5415120" y="4618080"/>
            <a:ext cx="1461960" cy="8906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1" descr=""/>
          <p:cNvPicPr/>
          <p:nvPr/>
        </p:nvPicPr>
        <p:blipFill>
          <a:blip r:embed="rId5"/>
          <a:stretch/>
        </p:blipFill>
        <p:spPr>
          <a:xfrm>
            <a:off x="4290840" y="4221000"/>
            <a:ext cx="1262160" cy="10130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" descr=""/>
          <p:cNvPicPr/>
          <p:nvPr/>
        </p:nvPicPr>
        <p:blipFill>
          <a:blip r:embed="rId6"/>
          <a:stretch/>
        </p:blipFill>
        <p:spPr>
          <a:xfrm>
            <a:off x="7648560" y="4989600"/>
            <a:ext cx="598680" cy="7858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"/>
          <p:cNvPicPr/>
          <p:nvPr/>
        </p:nvPicPr>
        <p:blipFill>
          <a:blip r:embed="rId7"/>
          <a:stretch/>
        </p:blipFill>
        <p:spPr>
          <a:xfrm>
            <a:off x="6621480" y="2762280"/>
            <a:ext cx="111924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10"/>
          <p:cNvSpPr/>
          <p:nvPr/>
        </p:nvSpPr>
        <p:spPr>
          <a:xfrm>
            <a:off x="-17640" y="-100080"/>
            <a:ext cx="9161640" cy="6958080"/>
          </a:xfrm>
          <a:prstGeom prst="rect">
            <a:avLst/>
          </a:prstGeom>
          <a:solidFill>
            <a:srgbClr val="c9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-17640" y="-1179360"/>
            <a:ext cx="9269640" cy="5214960"/>
          </a:xfrm>
          <a:prstGeom prst="rect">
            <a:avLst/>
          </a:prstGeom>
          <a:ln w="0">
            <a:noFill/>
          </a:ln>
        </p:spPr>
      </p:pic>
      <p:sp>
        <p:nvSpPr>
          <p:cNvPr id="83" name="Freeform 6"/>
          <p:cNvSpPr/>
          <p:nvPr/>
        </p:nvSpPr>
        <p:spPr>
          <a:xfrm>
            <a:off x="-378000" y="3645000"/>
            <a:ext cx="9784080" cy="3386160"/>
          </a:xfrm>
          <a:custGeom>
            <a:avLst/>
            <a:gdLst/>
            <a:ahLst/>
            <a:rect l="l" t="t" r="r" b="b"/>
            <a:pathLst>
              <a:path w="9783555" h="2593910">
                <a:moveTo>
                  <a:pt x="98380" y="1670180"/>
                </a:moveTo>
                <a:cubicBezTo>
                  <a:pt x="117041" y="1660849"/>
                  <a:pt x="136671" y="1653246"/>
                  <a:pt x="154363" y="1642188"/>
                </a:cubicBezTo>
                <a:cubicBezTo>
                  <a:pt x="161823" y="1637525"/>
                  <a:pt x="166267" y="1629158"/>
                  <a:pt x="173025" y="1623526"/>
                </a:cubicBezTo>
                <a:cubicBezTo>
                  <a:pt x="184971" y="1613571"/>
                  <a:pt x="197693" y="1604574"/>
                  <a:pt x="210347" y="1595535"/>
                </a:cubicBezTo>
                <a:cubicBezTo>
                  <a:pt x="219472" y="1589017"/>
                  <a:pt x="229825" y="1584171"/>
                  <a:pt x="238339" y="1576873"/>
                </a:cubicBezTo>
                <a:cubicBezTo>
                  <a:pt x="251697" y="1565423"/>
                  <a:pt x="262303" y="1551001"/>
                  <a:pt x="275661" y="1539551"/>
                </a:cubicBezTo>
                <a:cubicBezTo>
                  <a:pt x="284175" y="1532253"/>
                  <a:pt x="295139" y="1528188"/>
                  <a:pt x="303653" y="1520890"/>
                </a:cubicBezTo>
                <a:cubicBezTo>
                  <a:pt x="317012" y="1509440"/>
                  <a:pt x="327618" y="1495017"/>
                  <a:pt x="340976" y="1483567"/>
                </a:cubicBezTo>
                <a:cubicBezTo>
                  <a:pt x="354452" y="1472016"/>
                  <a:pt x="407230" y="1442907"/>
                  <a:pt x="415620" y="1436914"/>
                </a:cubicBezTo>
                <a:cubicBezTo>
                  <a:pt x="444477" y="1416302"/>
                  <a:pt x="468806" y="1389194"/>
                  <a:pt x="499596" y="1371600"/>
                </a:cubicBezTo>
                <a:cubicBezTo>
                  <a:pt x="521367" y="1359159"/>
                  <a:pt x="542897" y="1346285"/>
                  <a:pt x="564910" y="1334278"/>
                </a:cubicBezTo>
                <a:cubicBezTo>
                  <a:pt x="577121" y="1327617"/>
                  <a:pt x="590438" y="1322988"/>
                  <a:pt x="602233" y="1315616"/>
                </a:cubicBezTo>
                <a:cubicBezTo>
                  <a:pt x="615420" y="1307374"/>
                  <a:pt x="626368" y="1295866"/>
                  <a:pt x="639555" y="1287624"/>
                </a:cubicBezTo>
                <a:cubicBezTo>
                  <a:pt x="727038" y="1232947"/>
                  <a:pt x="632952" y="1301672"/>
                  <a:pt x="704869" y="1250302"/>
                </a:cubicBezTo>
                <a:cubicBezTo>
                  <a:pt x="717524" y="1241263"/>
                  <a:pt x="729452" y="1231228"/>
                  <a:pt x="742192" y="1222310"/>
                </a:cubicBezTo>
                <a:cubicBezTo>
                  <a:pt x="760566" y="1209449"/>
                  <a:pt x="782317" y="1200847"/>
                  <a:pt x="798176" y="1184988"/>
                </a:cubicBezTo>
                <a:cubicBezTo>
                  <a:pt x="815756" y="1167407"/>
                  <a:pt x="830774" y="1148728"/>
                  <a:pt x="854159" y="1138335"/>
                </a:cubicBezTo>
                <a:cubicBezTo>
                  <a:pt x="872134" y="1130346"/>
                  <a:pt x="892549" y="1128470"/>
                  <a:pt x="910143" y="1119673"/>
                </a:cubicBezTo>
                <a:cubicBezTo>
                  <a:pt x="922584" y="1113453"/>
                  <a:pt x="935389" y="1107913"/>
                  <a:pt x="947465" y="1101012"/>
                </a:cubicBezTo>
                <a:cubicBezTo>
                  <a:pt x="957202" y="1095448"/>
                  <a:pt x="965150" y="1086768"/>
                  <a:pt x="975457" y="1082351"/>
                </a:cubicBezTo>
                <a:cubicBezTo>
                  <a:pt x="987244" y="1077299"/>
                  <a:pt x="1000773" y="1077523"/>
                  <a:pt x="1012780" y="1073020"/>
                </a:cubicBezTo>
                <a:cubicBezTo>
                  <a:pt x="1025803" y="1068136"/>
                  <a:pt x="1037661" y="1060579"/>
                  <a:pt x="1050102" y="1054359"/>
                </a:cubicBezTo>
                <a:cubicBezTo>
                  <a:pt x="1087424" y="1057469"/>
                  <a:pt x="1124874" y="1059314"/>
                  <a:pt x="1162069" y="1063690"/>
                </a:cubicBezTo>
                <a:cubicBezTo>
                  <a:pt x="1191978" y="1067209"/>
                  <a:pt x="1217045" y="1075906"/>
                  <a:pt x="1246045" y="1082351"/>
                </a:cubicBezTo>
                <a:cubicBezTo>
                  <a:pt x="1261526" y="1085791"/>
                  <a:pt x="1277217" y="1088242"/>
                  <a:pt x="1292698" y="1091682"/>
                </a:cubicBezTo>
                <a:cubicBezTo>
                  <a:pt x="1305216" y="1094464"/>
                  <a:pt x="1317446" y="1098497"/>
                  <a:pt x="1330020" y="1101012"/>
                </a:cubicBezTo>
                <a:cubicBezTo>
                  <a:pt x="1362402" y="1107488"/>
                  <a:pt x="1419930" y="1115189"/>
                  <a:pt x="1451318" y="1119673"/>
                </a:cubicBezTo>
                <a:cubicBezTo>
                  <a:pt x="1566396" y="1116563"/>
                  <a:pt x="1681575" y="1116092"/>
                  <a:pt x="1796551" y="1110343"/>
                </a:cubicBezTo>
                <a:cubicBezTo>
                  <a:pt x="1806374" y="1109852"/>
                  <a:pt x="1815086" y="1103714"/>
                  <a:pt x="1824543" y="1101012"/>
                </a:cubicBezTo>
                <a:cubicBezTo>
                  <a:pt x="1836873" y="1097489"/>
                  <a:pt x="1849582" y="1095367"/>
                  <a:pt x="1861865" y="1091682"/>
                </a:cubicBezTo>
                <a:cubicBezTo>
                  <a:pt x="1880706" y="1086030"/>
                  <a:pt x="1900255" y="1081817"/>
                  <a:pt x="1917849" y="1073020"/>
                </a:cubicBezTo>
                <a:cubicBezTo>
                  <a:pt x="1942731" y="1060579"/>
                  <a:pt x="1966103" y="1044495"/>
                  <a:pt x="1992494" y="1035698"/>
                </a:cubicBezTo>
                <a:cubicBezTo>
                  <a:pt x="2001825" y="1032588"/>
                  <a:pt x="2011532" y="1030437"/>
                  <a:pt x="2020486" y="1026367"/>
                </a:cubicBezTo>
                <a:cubicBezTo>
                  <a:pt x="2045811" y="1014856"/>
                  <a:pt x="2068740" y="997843"/>
                  <a:pt x="2095131" y="989045"/>
                </a:cubicBezTo>
                <a:cubicBezTo>
                  <a:pt x="2135288" y="975658"/>
                  <a:pt x="2113581" y="982099"/>
                  <a:pt x="2160445" y="970384"/>
                </a:cubicBezTo>
                <a:cubicBezTo>
                  <a:pt x="2172886" y="964163"/>
                  <a:pt x="2184743" y="956606"/>
                  <a:pt x="2197767" y="951722"/>
                </a:cubicBezTo>
                <a:cubicBezTo>
                  <a:pt x="2221697" y="942748"/>
                  <a:pt x="2240514" y="944345"/>
                  <a:pt x="2263082" y="933061"/>
                </a:cubicBezTo>
                <a:cubicBezTo>
                  <a:pt x="2273112" y="928046"/>
                  <a:pt x="2281044" y="919415"/>
                  <a:pt x="2291074" y="914400"/>
                </a:cubicBezTo>
                <a:cubicBezTo>
                  <a:pt x="2368381" y="875747"/>
                  <a:pt x="2309200" y="910630"/>
                  <a:pt x="2365718" y="886408"/>
                </a:cubicBezTo>
                <a:cubicBezTo>
                  <a:pt x="2378503" y="880929"/>
                  <a:pt x="2390126" y="872913"/>
                  <a:pt x="2403041" y="867747"/>
                </a:cubicBezTo>
                <a:cubicBezTo>
                  <a:pt x="2421305" y="860442"/>
                  <a:pt x="2440364" y="855307"/>
                  <a:pt x="2459025" y="849086"/>
                </a:cubicBezTo>
                <a:cubicBezTo>
                  <a:pt x="2489794" y="838829"/>
                  <a:pt x="2500212" y="835963"/>
                  <a:pt x="2533669" y="821094"/>
                </a:cubicBezTo>
                <a:cubicBezTo>
                  <a:pt x="2546380" y="815445"/>
                  <a:pt x="2558207" y="807912"/>
                  <a:pt x="2570992" y="802433"/>
                </a:cubicBezTo>
                <a:cubicBezTo>
                  <a:pt x="2580032" y="798559"/>
                  <a:pt x="2589944" y="796976"/>
                  <a:pt x="2598984" y="793102"/>
                </a:cubicBezTo>
                <a:cubicBezTo>
                  <a:pt x="2611768" y="787623"/>
                  <a:pt x="2623283" y="779325"/>
                  <a:pt x="2636306" y="774441"/>
                </a:cubicBezTo>
                <a:cubicBezTo>
                  <a:pt x="2648313" y="769938"/>
                  <a:pt x="2661346" y="768795"/>
                  <a:pt x="2673629" y="765110"/>
                </a:cubicBezTo>
                <a:cubicBezTo>
                  <a:pt x="2692470" y="759458"/>
                  <a:pt x="2710324" y="750307"/>
                  <a:pt x="2729612" y="746449"/>
                </a:cubicBezTo>
                <a:cubicBezTo>
                  <a:pt x="2769376" y="738496"/>
                  <a:pt x="2771473" y="740082"/>
                  <a:pt x="2804257" y="727788"/>
                </a:cubicBezTo>
                <a:cubicBezTo>
                  <a:pt x="2819940" y="721907"/>
                  <a:pt x="2835929" y="716616"/>
                  <a:pt x="2850910" y="709126"/>
                </a:cubicBezTo>
                <a:cubicBezTo>
                  <a:pt x="2879800" y="694681"/>
                  <a:pt x="2886630" y="679384"/>
                  <a:pt x="2916225" y="662473"/>
                </a:cubicBezTo>
                <a:cubicBezTo>
                  <a:pt x="2924764" y="657594"/>
                  <a:pt x="2934886" y="656253"/>
                  <a:pt x="2944216" y="653143"/>
                </a:cubicBezTo>
                <a:cubicBezTo>
                  <a:pt x="3001269" y="615109"/>
                  <a:pt x="2941652" y="657495"/>
                  <a:pt x="3009531" y="597159"/>
                </a:cubicBezTo>
                <a:cubicBezTo>
                  <a:pt x="3024416" y="583928"/>
                  <a:pt x="3040252" y="571786"/>
                  <a:pt x="3056184" y="559837"/>
                </a:cubicBezTo>
                <a:cubicBezTo>
                  <a:pt x="3065155" y="553108"/>
                  <a:pt x="3075662" y="548473"/>
                  <a:pt x="3084176" y="541175"/>
                </a:cubicBezTo>
                <a:cubicBezTo>
                  <a:pt x="3143287" y="490508"/>
                  <a:pt x="3097883" y="516486"/>
                  <a:pt x="3158820" y="475861"/>
                </a:cubicBezTo>
                <a:cubicBezTo>
                  <a:pt x="3195533" y="451385"/>
                  <a:pt x="3230794" y="428322"/>
                  <a:pt x="3270788" y="410547"/>
                </a:cubicBezTo>
                <a:cubicBezTo>
                  <a:pt x="3295041" y="399768"/>
                  <a:pt x="3331788" y="388541"/>
                  <a:pt x="3354763" y="373224"/>
                </a:cubicBezTo>
                <a:cubicBezTo>
                  <a:pt x="3397461" y="344758"/>
                  <a:pt x="3343104" y="358450"/>
                  <a:pt x="3410747" y="335902"/>
                </a:cubicBezTo>
                <a:cubicBezTo>
                  <a:pt x="3435078" y="327792"/>
                  <a:pt x="3460243" y="322271"/>
                  <a:pt x="3485392" y="317241"/>
                </a:cubicBezTo>
                <a:cubicBezTo>
                  <a:pt x="3553610" y="303597"/>
                  <a:pt x="3516345" y="310153"/>
                  <a:pt x="3597359" y="298580"/>
                </a:cubicBezTo>
                <a:cubicBezTo>
                  <a:pt x="3606690" y="295470"/>
                  <a:pt x="3615894" y="291951"/>
                  <a:pt x="3625351" y="289249"/>
                </a:cubicBezTo>
                <a:cubicBezTo>
                  <a:pt x="3637681" y="285726"/>
                  <a:pt x="3650508" y="283973"/>
                  <a:pt x="3662674" y="279918"/>
                </a:cubicBezTo>
                <a:cubicBezTo>
                  <a:pt x="3678563" y="274622"/>
                  <a:pt x="3693168" y="265664"/>
                  <a:pt x="3709327" y="261257"/>
                </a:cubicBezTo>
                <a:cubicBezTo>
                  <a:pt x="3727579" y="256279"/>
                  <a:pt x="3746649" y="255036"/>
                  <a:pt x="3765310" y="251926"/>
                </a:cubicBezTo>
                <a:cubicBezTo>
                  <a:pt x="3849486" y="209839"/>
                  <a:pt x="3745045" y="258685"/>
                  <a:pt x="3877278" y="214604"/>
                </a:cubicBezTo>
                <a:cubicBezTo>
                  <a:pt x="3886608" y="211494"/>
                  <a:pt x="3895812" y="207975"/>
                  <a:pt x="3905269" y="205273"/>
                </a:cubicBezTo>
                <a:cubicBezTo>
                  <a:pt x="3936002" y="196492"/>
                  <a:pt x="3957194" y="193022"/>
                  <a:pt x="3989245" y="186612"/>
                </a:cubicBezTo>
                <a:cubicBezTo>
                  <a:pt x="4088772" y="189722"/>
                  <a:pt x="4188380" y="190843"/>
                  <a:pt x="4287825" y="195943"/>
                </a:cubicBezTo>
                <a:cubicBezTo>
                  <a:pt x="4346867" y="198971"/>
                  <a:pt x="4347418" y="207122"/>
                  <a:pt x="4399792" y="214604"/>
                </a:cubicBezTo>
                <a:cubicBezTo>
                  <a:pt x="4427673" y="218587"/>
                  <a:pt x="4455775" y="220825"/>
                  <a:pt x="4483767" y="223935"/>
                </a:cubicBezTo>
                <a:lnTo>
                  <a:pt x="4558412" y="242596"/>
                </a:lnTo>
                <a:cubicBezTo>
                  <a:pt x="4570853" y="245706"/>
                  <a:pt x="4582990" y="250510"/>
                  <a:pt x="4595735" y="251926"/>
                </a:cubicBezTo>
                <a:cubicBezTo>
                  <a:pt x="4828674" y="277809"/>
                  <a:pt x="4707422" y="267909"/>
                  <a:pt x="4959629" y="279918"/>
                </a:cubicBezTo>
                <a:cubicBezTo>
                  <a:pt x="4975180" y="283028"/>
                  <a:pt x="4990897" y="285402"/>
                  <a:pt x="5006282" y="289249"/>
                </a:cubicBezTo>
                <a:cubicBezTo>
                  <a:pt x="5015824" y="291635"/>
                  <a:pt x="5024499" y="297494"/>
                  <a:pt x="5034274" y="298580"/>
                </a:cubicBezTo>
                <a:cubicBezTo>
                  <a:pt x="5080745" y="303743"/>
                  <a:pt x="5127604" y="304456"/>
                  <a:pt x="5174233" y="307910"/>
                </a:cubicBezTo>
                <a:lnTo>
                  <a:pt x="5286200" y="317241"/>
                </a:lnTo>
                <a:cubicBezTo>
                  <a:pt x="5298641" y="320351"/>
                  <a:pt x="5310848" y="324621"/>
                  <a:pt x="5323522" y="326571"/>
                </a:cubicBezTo>
                <a:cubicBezTo>
                  <a:pt x="5351359" y="330854"/>
                  <a:pt x="5379527" y="332611"/>
                  <a:pt x="5407498" y="335902"/>
                </a:cubicBezTo>
                <a:lnTo>
                  <a:pt x="5482143" y="345233"/>
                </a:lnTo>
                <a:cubicBezTo>
                  <a:pt x="5594110" y="342123"/>
                  <a:pt x="5706181" y="341639"/>
                  <a:pt x="5818045" y="335902"/>
                </a:cubicBezTo>
                <a:cubicBezTo>
                  <a:pt x="5827868" y="335398"/>
                  <a:pt x="5836269" y="327720"/>
                  <a:pt x="5846037" y="326571"/>
                </a:cubicBezTo>
                <a:cubicBezTo>
                  <a:pt x="5889392" y="321471"/>
                  <a:pt x="5933122" y="320351"/>
                  <a:pt x="5976665" y="317241"/>
                </a:cubicBezTo>
                <a:cubicBezTo>
                  <a:pt x="6001547" y="311021"/>
                  <a:pt x="6025861" y="301761"/>
                  <a:pt x="6051310" y="298580"/>
                </a:cubicBezTo>
                <a:lnTo>
                  <a:pt x="6191269" y="279918"/>
                </a:lnTo>
                <a:cubicBezTo>
                  <a:pt x="6216124" y="276604"/>
                  <a:pt x="6241130" y="274401"/>
                  <a:pt x="6265914" y="270588"/>
                </a:cubicBezTo>
                <a:cubicBezTo>
                  <a:pt x="6364959" y="255350"/>
                  <a:pt x="6264984" y="267846"/>
                  <a:pt x="6349890" y="251926"/>
                </a:cubicBezTo>
                <a:cubicBezTo>
                  <a:pt x="6387079" y="244953"/>
                  <a:pt x="6424535" y="239485"/>
                  <a:pt x="6461857" y="233265"/>
                </a:cubicBezTo>
                <a:lnTo>
                  <a:pt x="6517841" y="223935"/>
                </a:lnTo>
                <a:cubicBezTo>
                  <a:pt x="6594689" y="198318"/>
                  <a:pt x="6554352" y="208055"/>
                  <a:pt x="6639139" y="195943"/>
                </a:cubicBezTo>
                <a:cubicBezTo>
                  <a:pt x="6665822" y="187048"/>
                  <a:pt x="6675157" y="183141"/>
                  <a:pt x="6704453" y="177282"/>
                </a:cubicBezTo>
                <a:cubicBezTo>
                  <a:pt x="6723004" y="173572"/>
                  <a:pt x="6741969" y="172055"/>
                  <a:pt x="6760437" y="167951"/>
                </a:cubicBezTo>
                <a:cubicBezTo>
                  <a:pt x="6770038" y="165817"/>
                  <a:pt x="6779249" y="162151"/>
                  <a:pt x="6788429" y="158620"/>
                </a:cubicBezTo>
                <a:cubicBezTo>
                  <a:pt x="6819694" y="146595"/>
                  <a:pt x="6853863" y="139879"/>
                  <a:pt x="6881735" y="121298"/>
                </a:cubicBezTo>
                <a:cubicBezTo>
                  <a:pt x="6891066" y="115078"/>
                  <a:pt x="6899991" y="108201"/>
                  <a:pt x="6909727" y="102637"/>
                </a:cubicBezTo>
                <a:cubicBezTo>
                  <a:pt x="6961795" y="72883"/>
                  <a:pt x="6932769" y="91262"/>
                  <a:pt x="6993702" y="74645"/>
                </a:cubicBezTo>
                <a:cubicBezTo>
                  <a:pt x="7012680" y="69469"/>
                  <a:pt x="7049686" y="55984"/>
                  <a:pt x="7049686" y="55984"/>
                </a:cubicBezTo>
                <a:cubicBezTo>
                  <a:pt x="7059017" y="49763"/>
                  <a:pt x="7067371" y="41740"/>
                  <a:pt x="7077678" y="37322"/>
                </a:cubicBezTo>
                <a:cubicBezTo>
                  <a:pt x="7089465" y="32271"/>
                  <a:pt x="7102670" y="31515"/>
                  <a:pt x="7115000" y="27992"/>
                </a:cubicBezTo>
                <a:cubicBezTo>
                  <a:pt x="7147032" y="18840"/>
                  <a:pt x="7147142" y="16586"/>
                  <a:pt x="7180314" y="0"/>
                </a:cubicBezTo>
                <a:lnTo>
                  <a:pt x="7516216" y="9331"/>
                </a:lnTo>
                <a:cubicBezTo>
                  <a:pt x="7556734" y="10985"/>
                  <a:pt x="7597024" y="16412"/>
                  <a:pt x="7637514" y="18661"/>
                </a:cubicBezTo>
                <a:cubicBezTo>
                  <a:pt x="7709006" y="22633"/>
                  <a:pt x="7780615" y="24229"/>
                  <a:pt x="7852118" y="27992"/>
                </a:cubicBezTo>
                <a:cubicBezTo>
                  <a:pt x="7898810" y="30449"/>
                  <a:pt x="7945412" y="34405"/>
                  <a:pt x="7992078" y="37322"/>
                </a:cubicBezTo>
                <a:lnTo>
                  <a:pt x="8150698" y="46653"/>
                </a:lnTo>
                <a:cubicBezTo>
                  <a:pt x="8178779" y="48813"/>
                  <a:pt x="8206619" y="53509"/>
                  <a:pt x="8234674" y="55984"/>
                </a:cubicBezTo>
                <a:cubicBezTo>
                  <a:pt x="8427093" y="72962"/>
                  <a:pt x="8447966" y="73397"/>
                  <a:pt x="8617229" y="83975"/>
                </a:cubicBezTo>
                <a:cubicBezTo>
                  <a:pt x="8639000" y="87085"/>
                  <a:pt x="8660978" y="88993"/>
                  <a:pt x="8682543" y="93306"/>
                </a:cubicBezTo>
                <a:cubicBezTo>
                  <a:pt x="8692187" y="95235"/>
                  <a:pt x="8700993" y="100252"/>
                  <a:pt x="8710535" y="102637"/>
                </a:cubicBezTo>
                <a:cubicBezTo>
                  <a:pt x="8725920" y="106483"/>
                  <a:pt x="8741637" y="108857"/>
                  <a:pt x="8757188" y="111967"/>
                </a:cubicBezTo>
                <a:cubicBezTo>
                  <a:pt x="8769629" y="118188"/>
                  <a:pt x="8781725" y="125150"/>
                  <a:pt x="8794510" y="130629"/>
                </a:cubicBezTo>
                <a:cubicBezTo>
                  <a:pt x="8816872" y="140213"/>
                  <a:pt x="8836163" y="142530"/>
                  <a:pt x="8859825" y="149290"/>
                </a:cubicBezTo>
                <a:cubicBezTo>
                  <a:pt x="8889486" y="157764"/>
                  <a:pt x="8902901" y="165444"/>
                  <a:pt x="8934469" y="177282"/>
                </a:cubicBezTo>
                <a:cubicBezTo>
                  <a:pt x="8943678" y="180735"/>
                  <a:pt x="8953130" y="183502"/>
                  <a:pt x="8962461" y="186612"/>
                </a:cubicBezTo>
                <a:cubicBezTo>
                  <a:pt x="8971792" y="192832"/>
                  <a:pt x="8980423" y="200258"/>
                  <a:pt x="8990453" y="205273"/>
                </a:cubicBezTo>
                <a:cubicBezTo>
                  <a:pt x="8999250" y="209672"/>
                  <a:pt x="9008956" y="212016"/>
                  <a:pt x="9018445" y="214604"/>
                </a:cubicBezTo>
                <a:cubicBezTo>
                  <a:pt x="9043189" y="221352"/>
                  <a:pt x="9069277" y="223740"/>
                  <a:pt x="9093090" y="233265"/>
                </a:cubicBezTo>
                <a:cubicBezTo>
                  <a:pt x="9108641" y="239485"/>
                  <a:pt x="9123970" y="246293"/>
                  <a:pt x="9139743" y="251926"/>
                </a:cubicBezTo>
                <a:cubicBezTo>
                  <a:pt x="9167530" y="261850"/>
                  <a:pt x="9197327" y="266722"/>
                  <a:pt x="9223718" y="279918"/>
                </a:cubicBezTo>
                <a:cubicBezTo>
                  <a:pt x="9236159" y="286139"/>
                  <a:pt x="9248964" y="291679"/>
                  <a:pt x="9261041" y="298580"/>
                </a:cubicBezTo>
                <a:cubicBezTo>
                  <a:pt x="9270777" y="304144"/>
                  <a:pt x="9279003" y="312226"/>
                  <a:pt x="9289033" y="317241"/>
                </a:cubicBezTo>
                <a:cubicBezTo>
                  <a:pt x="9297830" y="321639"/>
                  <a:pt x="9307694" y="323461"/>
                  <a:pt x="9317025" y="326571"/>
                </a:cubicBezTo>
                <a:cubicBezTo>
                  <a:pt x="9335686" y="339012"/>
                  <a:pt x="9351731" y="356802"/>
                  <a:pt x="9373008" y="363894"/>
                </a:cubicBezTo>
                <a:lnTo>
                  <a:pt x="9456984" y="391886"/>
                </a:lnTo>
                <a:lnTo>
                  <a:pt x="9512967" y="410547"/>
                </a:lnTo>
                <a:lnTo>
                  <a:pt x="9540959" y="419878"/>
                </a:lnTo>
                <a:cubicBezTo>
                  <a:pt x="9556510" y="435429"/>
                  <a:pt x="9580657" y="445667"/>
                  <a:pt x="9587612" y="466531"/>
                </a:cubicBezTo>
                <a:cubicBezTo>
                  <a:pt x="9599725" y="502868"/>
                  <a:pt x="9589989" y="487567"/>
                  <a:pt x="9615604" y="513184"/>
                </a:cubicBezTo>
                <a:cubicBezTo>
                  <a:pt x="9622015" y="545239"/>
                  <a:pt x="9625483" y="566423"/>
                  <a:pt x="9634265" y="597159"/>
                </a:cubicBezTo>
                <a:cubicBezTo>
                  <a:pt x="9650452" y="653813"/>
                  <a:pt x="9638699" y="593550"/>
                  <a:pt x="9652927" y="671804"/>
                </a:cubicBezTo>
                <a:cubicBezTo>
                  <a:pt x="9672457" y="779222"/>
                  <a:pt x="9651875" y="673773"/>
                  <a:pt x="9671588" y="811763"/>
                </a:cubicBezTo>
                <a:cubicBezTo>
                  <a:pt x="9676939" y="849220"/>
                  <a:pt x="9685556" y="886186"/>
                  <a:pt x="9690249" y="923731"/>
                </a:cubicBezTo>
                <a:cubicBezTo>
                  <a:pt x="9693359" y="948612"/>
                  <a:pt x="9696034" y="973552"/>
                  <a:pt x="9699580" y="998375"/>
                </a:cubicBezTo>
                <a:cubicBezTo>
                  <a:pt x="9702255" y="1017104"/>
                  <a:pt x="9706895" y="1035548"/>
                  <a:pt x="9708910" y="1054359"/>
                </a:cubicBezTo>
                <a:cubicBezTo>
                  <a:pt x="9716229" y="1122675"/>
                  <a:pt x="9727571" y="1259633"/>
                  <a:pt x="9727571" y="1259633"/>
                </a:cubicBezTo>
                <a:cubicBezTo>
                  <a:pt x="9719430" y="1495751"/>
                  <a:pt x="9706477" y="1457207"/>
                  <a:pt x="9727571" y="1604865"/>
                </a:cubicBezTo>
                <a:cubicBezTo>
                  <a:pt x="9730246" y="1623594"/>
                  <a:pt x="9732314" y="1642495"/>
                  <a:pt x="9736902" y="1660849"/>
                </a:cubicBezTo>
                <a:cubicBezTo>
                  <a:pt x="9741673" y="1679932"/>
                  <a:pt x="9751705" y="1697544"/>
                  <a:pt x="9755563" y="1716833"/>
                </a:cubicBezTo>
                <a:cubicBezTo>
                  <a:pt x="9758673" y="1732384"/>
                  <a:pt x="9760721" y="1748186"/>
                  <a:pt x="9764894" y="1763486"/>
                </a:cubicBezTo>
                <a:cubicBezTo>
                  <a:pt x="9770070" y="1782463"/>
                  <a:pt x="9783555" y="1819469"/>
                  <a:pt x="9783555" y="1819469"/>
                </a:cubicBezTo>
                <a:cubicBezTo>
                  <a:pt x="9780445" y="1965649"/>
                  <a:pt x="9786121" y="2112280"/>
                  <a:pt x="9774225" y="2258008"/>
                </a:cubicBezTo>
                <a:cubicBezTo>
                  <a:pt x="9773249" y="2269970"/>
                  <a:pt x="9726000" y="2283783"/>
                  <a:pt x="9718241" y="2286000"/>
                </a:cubicBezTo>
                <a:cubicBezTo>
                  <a:pt x="9705911" y="2289523"/>
                  <a:pt x="9693201" y="2291646"/>
                  <a:pt x="9680918" y="2295331"/>
                </a:cubicBezTo>
                <a:cubicBezTo>
                  <a:pt x="9662077" y="2300983"/>
                  <a:pt x="9644408" y="2311210"/>
                  <a:pt x="9624935" y="2313992"/>
                </a:cubicBezTo>
                <a:lnTo>
                  <a:pt x="9559620" y="2323322"/>
                </a:lnTo>
                <a:cubicBezTo>
                  <a:pt x="9526477" y="2334370"/>
                  <a:pt x="9461216" y="2357716"/>
                  <a:pt x="9428992" y="2360645"/>
                </a:cubicBezTo>
                <a:lnTo>
                  <a:pt x="9326355" y="2369975"/>
                </a:lnTo>
                <a:cubicBezTo>
                  <a:pt x="9208860" y="2399350"/>
                  <a:pt x="9295078" y="2379903"/>
                  <a:pt x="9195727" y="2397967"/>
                </a:cubicBezTo>
                <a:cubicBezTo>
                  <a:pt x="9180124" y="2400804"/>
                  <a:pt x="9164862" y="2405794"/>
                  <a:pt x="9149074" y="2407298"/>
                </a:cubicBezTo>
                <a:cubicBezTo>
                  <a:pt x="9053630" y="2416388"/>
                  <a:pt x="8817508" y="2424024"/>
                  <a:pt x="8747857" y="2425959"/>
                </a:cubicBezTo>
                <a:lnTo>
                  <a:pt x="8327980" y="2435290"/>
                </a:lnTo>
                <a:cubicBezTo>
                  <a:pt x="8219123" y="2441510"/>
                  <a:pt x="8110412" y="2451356"/>
                  <a:pt x="8001408" y="2453951"/>
                </a:cubicBezTo>
                <a:lnTo>
                  <a:pt x="7609522" y="2463282"/>
                </a:lnTo>
                <a:lnTo>
                  <a:pt x="7282951" y="2472612"/>
                </a:lnTo>
                <a:lnTo>
                  <a:pt x="6723114" y="2481943"/>
                </a:lnTo>
                <a:lnTo>
                  <a:pt x="6153947" y="2509935"/>
                </a:lnTo>
                <a:lnTo>
                  <a:pt x="5855367" y="2519265"/>
                </a:lnTo>
                <a:cubicBezTo>
                  <a:pt x="5643770" y="2540426"/>
                  <a:pt x="5783817" y="2528744"/>
                  <a:pt x="5398167" y="2537926"/>
                </a:cubicBezTo>
                <a:lnTo>
                  <a:pt x="4978290" y="2547257"/>
                </a:lnTo>
                <a:cubicBezTo>
                  <a:pt x="4756222" y="2591670"/>
                  <a:pt x="4943102" y="2559843"/>
                  <a:pt x="4511759" y="2575249"/>
                </a:cubicBezTo>
                <a:cubicBezTo>
                  <a:pt x="4461930" y="2577029"/>
                  <a:pt x="4412327" y="2584127"/>
                  <a:pt x="4362469" y="2584580"/>
                </a:cubicBezTo>
                <a:lnTo>
                  <a:pt x="2459025" y="2593910"/>
                </a:lnTo>
                <a:lnTo>
                  <a:pt x="1339351" y="2584580"/>
                </a:lnTo>
                <a:cubicBezTo>
                  <a:pt x="1241522" y="2583051"/>
                  <a:pt x="1292768" y="2571714"/>
                  <a:pt x="1208722" y="2565918"/>
                </a:cubicBezTo>
                <a:cubicBezTo>
                  <a:pt x="1137289" y="2560992"/>
                  <a:pt x="1065653" y="2559698"/>
                  <a:pt x="994118" y="2556588"/>
                </a:cubicBezTo>
                <a:lnTo>
                  <a:pt x="928804" y="2547257"/>
                </a:lnTo>
                <a:cubicBezTo>
                  <a:pt x="844244" y="2535982"/>
                  <a:pt x="819817" y="2535312"/>
                  <a:pt x="723531" y="2519265"/>
                </a:cubicBezTo>
                <a:cubicBezTo>
                  <a:pt x="686208" y="2513045"/>
                  <a:pt x="647459" y="2512569"/>
                  <a:pt x="611563" y="2500604"/>
                </a:cubicBezTo>
                <a:lnTo>
                  <a:pt x="555580" y="2481943"/>
                </a:lnTo>
                <a:cubicBezTo>
                  <a:pt x="546249" y="2478833"/>
                  <a:pt x="537232" y="2474541"/>
                  <a:pt x="527588" y="2472612"/>
                </a:cubicBezTo>
                <a:lnTo>
                  <a:pt x="480935" y="2463282"/>
                </a:lnTo>
                <a:cubicBezTo>
                  <a:pt x="468494" y="2457061"/>
                  <a:pt x="456986" y="2448441"/>
                  <a:pt x="443612" y="2444620"/>
                </a:cubicBezTo>
                <a:cubicBezTo>
                  <a:pt x="413114" y="2435906"/>
                  <a:pt x="350306" y="2425959"/>
                  <a:pt x="350306" y="2425959"/>
                </a:cubicBezTo>
                <a:cubicBezTo>
                  <a:pt x="331645" y="2413518"/>
                  <a:pt x="306763" y="2407298"/>
                  <a:pt x="294322" y="2388637"/>
                </a:cubicBezTo>
                <a:cubicBezTo>
                  <a:pt x="288102" y="2379306"/>
                  <a:pt x="283590" y="2368574"/>
                  <a:pt x="275661" y="2360645"/>
                </a:cubicBezTo>
                <a:cubicBezTo>
                  <a:pt x="257575" y="2342559"/>
                  <a:pt x="242443" y="2340242"/>
                  <a:pt x="219678" y="2332653"/>
                </a:cubicBezTo>
                <a:cubicBezTo>
                  <a:pt x="213457" y="2326433"/>
                  <a:pt x="208559" y="2318518"/>
                  <a:pt x="201016" y="2313992"/>
                </a:cubicBezTo>
                <a:cubicBezTo>
                  <a:pt x="192582" y="2308932"/>
                  <a:pt x="182065" y="2308535"/>
                  <a:pt x="173025" y="2304661"/>
                </a:cubicBezTo>
                <a:cubicBezTo>
                  <a:pt x="160240" y="2299182"/>
                  <a:pt x="147629" y="2293156"/>
                  <a:pt x="135702" y="2286000"/>
                </a:cubicBezTo>
                <a:cubicBezTo>
                  <a:pt x="116470" y="2274461"/>
                  <a:pt x="79718" y="2248678"/>
                  <a:pt x="79718" y="2248678"/>
                </a:cubicBezTo>
                <a:cubicBezTo>
                  <a:pt x="82829" y="2037115"/>
                  <a:pt x="-113205" y="1614196"/>
                  <a:pt x="98380" y="1614196"/>
                </a:cubicBezTo>
              </a:path>
            </a:pathLst>
          </a:custGeom>
          <a:solidFill>
            <a:srgbClr val="72af2f"/>
          </a:solidFill>
          <a:ln w="25560">
            <a:solidFill>
              <a:srgbClr val="72af2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Freeform 5"/>
          <p:cNvSpPr/>
          <p:nvPr/>
        </p:nvSpPr>
        <p:spPr>
          <a:xfrm>
            <a:off x="-225360" y="3645000"/>
            <a:ext cx="9556560" cy="3446280"/>
          </a:xfrm>
          <a:custGeom>
            <a:avLst/>
            <a:gdLst/>
            <a:ahLst/>
            <a:rect l="l" t="t" r="r" b="b"/>
            <a:pathLst>
              <a:path w="9555712" h="2472612">
                <a:moveTo>
                  <a:pt x="94471" y="317241"/>
                </a:moveTo>
                <a:cubicBezTo>
                  <a:pt x="103801" y="311021"/>
                  <a:pt x="126079" y="312925"/>
                  <a:pt x="141124" y="307910"/>
                </a:cubicBezTo>
                <a:cubicBezTo>
                  <a:pt x="206137" y="286239"/>
                  <a:pt x="151913" y="293185"/>
                  <a:pt x="215769" y="261257"/>
                </a:cubicBezTo>
                <a:cubicBezTo>
                  <a:pt x="227239" y="255522"/>
                  <a:pt x="240651" y="255037"/>
                  <a:pt x="253092" y="251927"/>
                </a:cubicBezTo>
                <a:cubicBezTo>
                  <a:pt x="270450" y="234569"/>
                  <a:pt x="276203" y="226375"/>
                  <a:pt x="299745" y="214604"/>
                </a:cubicBezTo>
                <a:cubicBezTo>
                  <a:pt x="308542" y="210206"/>
                  <a:pt x="318406" y="208384"/>
                  <a:pt x="327737" y="205274"/>
                </a:cubicBezTo>
                <a:cubicBezTo>
                  <a:pt x="369934" y="163075"/>
                  <a:pt x="317194" y="214058"/>
                  <a:pt x="383720" y="158620"/>
                </a:cubicBezTo>
                <a:cubicBezTo>
                  <a:pt x="390478" y="152988"/>
                  <a:pt x="395062" y="144839"/>
                  <a:pt x="402382" y="139959"/>
                </a:cubicBezTo>
                <a:cubicBezTo>
                  <a:pt x="413955" y="132244"/>
                  <a:pt x="427628" y="128199"/>
                  <a:pt x="439704" y="121298"/>
                </a:cubicBezTo>
                <a:cubicBezTo>
                  <a:pt x="449441" y="115734"/>
                  <a:pt x="458571" y="109155"/>
                  <a:pt x="467696" y="102637"/>
                </a:cubicBezTo>
                <a:cubicBezTo>
                  <a:pt x="480350" y="93598"/>
                  <a:pt x="491424" y="82197"/>
                  <a:pt x="505018" y="74645"/>
                </a:cubicBezTo>
                <a:cubicBezTo>
                  <a:pt x="519659" y="66511"/>
                  <a:pt x="536690" y="63474"/>
                  <a:pt x="551671" y="55984"/>
                </a:cubicBezTo>
                <a:cubicBezTo>
                  <a:pt x="561701" y="50969"/>
                  <a:pt x="570906" y="44328"/>
                  <a:pt x="579663" y="37323"/>
                </a:cubicBezTo>
                <a:cubicBezTo>
                  <a:pt x="586532" y="31827"/>
                  <a:pt x="590456" y="22595"/>
                  <a:pt x="598324" y="18661"/>
                </a:cubicBezTo>
                <a:cubicBezTo>
                  <a:pt x="609794" y="12926"/>
                  <a:pt x="623317" y="12854"/>
                  <a:pt x="635647" y="9331"/>
                </a:cubicBezTo>
                <a:cubicBezTo>
                  <a:pt x="645104" y="6629"/>
                  <a:pt x="654308" y="3110"/>
                  <a:pt x="663639" y="0"/>
                </a:cubicBezTo>
                <a:cubicBezTo>
                  <a:pt x="679047" y="1712"/>
                  <a:pt x="748254" y="3465"/>
                  <a:pt x="775606" y="18661"/>
                </a:cubicBezTo>
                <a:cubicBezTo>
                  <a:pt x="795212" y="29553"/>
                  <a:pt x="811530" y="45954"/>
                  <a:pt x="831590" y="55984"/>
                </a:cubicBezTo>
                <a:cubicBezTo>
                  <a:pt x="844031" y="62204"/>
                  <a:pt x="855998" y="69479"/>
                  <a:pt x="868912" y="74645"/>
                </a:cubicBezTo>
                <a:cubicBezTo>
                  <a:pt x="887176" y="81950"/>
                  <a:pt x="906921" y="85317"/>
                  <a:pt x="924896" y="93306"/>
                </a:cubicBezTo>
                <a:cubicBezTo>
                  <a:pt x="935144" y="97860"/>
                  <a:pt x="942581" y="107550"/>
                  <a:pt x="952888" y="111967"/>
                </a:cubicBezTo>
                <a:cubicBezTo>
                  <a:pt x="964675" y="117019"/>
                  <a:pt x="978203" y="116795"/>
                  <a:pt x="990210" y="121298"/>
                </a:cubicBezTo>
                <a:cubicBezTo>
                  <a:pt x="1087794" y="157892"/>
                  <a:pt x="969056" y="125339"/>
                  <a:pt x="1064855" y="149290"/>
                </a:cubicBezTo>
                <a:lnTo>
                  <a:pt x="1148831" y="205274"/>
                </a:lnTo>
                <a:cubicBezTo>
                  <a:pt x="1158161" y="211494"/>
                  <a:pt x="1165943" y="221215"/>
                  <a:pt x="1176822" y="223935"/>
                </a:cubicBezTo>
                <a:lnTo>
                  <a:pt x="1214145" y="233265"/>
                </a:lnTo>
                <a:cubicBezTo>
                  <a:pt x="1298301" y="275345"/>
                  <a:pt x="1193914" y="226523"/>
                  <a:pt x="1326112" y="270588"/>
                </a:cubicBezTo>
                <a:cubicBezTo>
                  <a:pt x="1344773" y="276808"/>
                  <a:pt x="1363832" y="281944"/>
                  <a:pt x="1382096" y="289249"/>
                </a:cubicBezTo>
                <a:cubicBezTo>
                  <a:pt x="1437881" y="311563"/>
                  <a:pt x="1412860" y="302613"/>
                  <a:pt x="1456741" y="317241"/>
                </a:cubicBezTo>
                <a:cubicBezTo>
                  <a:pt x="1466072" y="326572"/>
                  <a:pt x="1473754" y="337913"/>
                  <a:pt x="1484733" y="345233"/>
                </a:cubicBezTo>
                <a:cubicBezTo>
                  <a:pt x="1492916" y="350688"/>
                  <a:pt x="1503927" y="350165"/>
                  <a:pt x="1512724" y="354563"/>
                </a:cubicBezTo>
                <a:cubicBezTo>
                  <a:pt x="1522754" y="359578"/>
                  <a:pt x="1530409" y="368808"/>
                  <a:pt x="1540716" y="373225"/>
                </a:cubicBezTo>
                <a:cubicBezTo>
                  <a:pt x="1552503" y="378277"/>
                  <a:pt x="1565756" y="378870"/>
                  <a:pt x="1578039" y="382555"/>
                </a:cubicBezTo>
                <a:cubicBezTo>
                  <a:pt x="1596880" y="388207"/>
                  <a:pt x="1615361" y="394996"/>
                  <a:pt x="1634022" y="401216"/>
                </a:cubicBezTo>
                <a:cubicBezTo>
                  <a:pt x="1697546" y="422391"/>
                  <a:pt x="1619431" y="395745"/>
                  <a:pt x="1708667" y="429208"/>
                </a:cubicBezTo>
                <a:cubicBezTo>
                  <a:pt x="1717876" y="432661"/>
                  <a:pt x="1726957" y="436922"/>
                  <a:pt x="1736659" y="438539"/>
                </a:cubicBezTo>
                <a:cubicBezTo>
                  <a:pt x="1764440" y="443169"/>
                  <a:pt x="1792643" y="444759"/>
                  <a:pt x="1820635" y="447869"/>
                </a:cubicBezTo>
                <a:cubicBezTo>
                  <a:pt x="2366648" y="431324"/>
                  <a:pt x="1974630" y="452852"/>
                  <a:pt x="2203190" y="429208"/>
                </a:cubicBezTo>
                <a:lnTo>
                  <a:pt x="2399133" y="410547"/>
                </a:lnTo>
                <a:cubicBezTo>
                  <a:pt x="2430990" y="404175"/>
                  <a:pt x="2469923" y="395867"/>
                  <a:pt x="2501769" y="391886"/>
                </a:cubicBezTo>
                <a:cubicBezTo>
                  <a:pt x="2532785" y="388009"/>
                  <a:pt x="2564010" y="386007"/>
                  <a:pt x="2595076" y="382555"/>
                </a:cubicBezTo>
                <a:cubicBezTo>
                  <a:pt x="2619998" y="379786"/>
                  <a:pt x="2644937" y="377038"/>
                  <a:pt x="2669720" y="373225"/>
                </a:cubicBezTo>
                <a:cubicBezTo>
                  <a:pt x="2685395" y="370814"/>
                  <a:pt x="2700623" y="365747"/>
                  <a:pt x="2716373" y="363894"/>
                </a:cubicBezTo>
                <a:cubicBezTo>
                  <a:pt x="2753569" y="359518"/>
                  <a:pt x="2791018" y="357673"/>
                  <a:pt x="2828341" y="354563"/>
                </a:cubicBezTo>
                <a:cubicBezTo>
                  <a:pt x="2840782" y="351453"/>
                  <a:pt x="2853014" y="347341"/>
                  <a:pt x="2865663" y="345233"/>
                </a:cubicBezTo>
                <a:cubicBezTo>
                  <a:pt x="2890397" y="341111"/>
                  <a:pt x="2915453" y="339216"/>
                  <a:pt x="2940308" y="335902"/>
                </a:cubicBezTo>
                <a:lnTo>
                  <a:pt x="3005622" y="326571"/>
                </a:lnTo>
                <a:cubicBezTo>
                  <a:pt x="3014953" y="323461"/>
                  <a:pt x="3024157" y="319943"/>
                  <a:pt x="3033614" y="317241"/>
                </a:cubicBezTo>
                <a:cubicBezTo>
                  <a:pt x="3236766" y="259199"/>
                  <a:pt x="3481975" y="314333"/>
                  <a:pt x="3668096" y="317241"/>
                </a:cubicBezTo>
                <a:cubicBezTo>
                  <a:pt x="3680537" y="320351"/>
                  <a:pt x="3693088" y="323048"/>
                  <a:pt x="3705418" y="326571"/>
                </a:cubicBezTo>
                <a:cubicBezTo>
                  <a:pt x="3714875" y="329273"/>
                  <a:pt x="3723809" y="333768"/>
                  <a:pt x="3733410" y="335902"/>
                </a:cubicBezTo>
                <a:cubicBezTo>
                  <a:pt x="3802830" y="351329"/>
                  <a:pt x="3780264" y="339674"/>
                  <a:pt x="3854708" y="354563"/>
                </a:cubicBezTo>
                <a:cubicBezTo>
                  <a:pt x="3879857" y="359593"/>
                  <a:pt x="3904471" y="367005"/>
                  <a:pt x="3929353" y="373225"/>
                </a:cubicBezTo>
                <a:cubicBezTo>
                  <a:pt x="3941794" y="376335"/>
                  <a:pt x="3954510" y="378499"/>
                  <a:pt x="3966676" y="382555"/>
                </a:cubicBezTo>
                <a:cubicBezTo>
                  <a:pt x="4018999" y="399997"/>
                  <a:pt x="3985122" y="389500"/>
                  <a:pt x="4069312" y="410547"/>
                </a:cubicBezTo>
                <a:cubicBezTo>
                  <a:pt x="4081753" y="413657"/>
                  <a:pt x="4093940" y="418065"/>
                  <a:pt x="4106635" y="419878"/>
                </a:cubicBezTo>
                <a:cubicBezTo>
                  <a:pt x="4128406" y="422988"/>
                  <a:pt x="4150311" y="425274"/>
                  <a:pt x="4171949" y="429208"/>
                </a:cubicBezTo>
                <a:cubicBezTo>
                  <a:pt x="4246354" y="442736"/>
                  <a:pt x="4180037" y="445512"/>
                  <a:pt x="4302578" y="447869"/>
                </a:cubicBezTo>
                <a:lnTo>
                  <a:pt x="5179655" y="457200"/>
                </a:lnTo>
                <a:lnTo>
                  <a:pt x="5300953" y="466531"/>
                </a:lnTo>
                <a:cubicBezTo>
                  <a:pt x="5332093" y="469239"/>
                  <a:pt x="5363067" y="473849"/>
                  <a:pt x="5394259" y="475861"/>
                </a:cubicBezTo>
                <a:cubicBezTo>
                  <a:pt x="5459512" y="480071"/>
                  <a:pt x="5524888" y="482082"/>
                  <a:pt x="5590202" y="485192"/>
                </a:cubicBezTo>
                <a:cubicBezTo>
                  <a:pt x="5602643" y="488302"/>
                  <a:pt x="5614907" y="492229"/>
                  <a:pt x="5627524" y="494523"/>
                </a:cubicBezTo>
                <a:cubicBezTo>
                  <a:pt x="5649162" y="498457"/>
                  <a:pt x="5671410" y="498908"/>
                  <a:pt x="5692839" y="503853"/>
                </a:cubicBezTo>
                <a:cubicBezTo>
                  <a:pt x="5712006" y="508276"/>
                  <a:pt x="5730161" y="516294"/>
                  <a:pt x="5748822" y="522514"/>
                </a:cubicBezTo>
                <a:cubicBezTo>
                  <a:pt x="5758153" y="525624"/>
                  <a:pt x="5767170" y="529916"/>
                  <a:pt x="5776814" y="531845"/>
                </a:cubicBezTo>
                <a:cubicBezTo>
                  <a:pt x="5792365" y="534955"/>
                  <a:pt x="5808167" y="537003"/>
                  <a:pt x="5823467" y="541176"/>
                </a:cubicBezTo>
                <a:cubicBezTo>
                  <a:pt x="5842445" y="546352"/>
                  <a:pt x="5860368" y="555066"/>
                  <a:pt x="5879451" y="559837"/>
                </a:cubicBezTo>
                <a:lnTo>
                  <a:pt x="5916773" y="569167"/>
                </a:lnTo>
                <a:cubicBezTo>
                  <a:pt x="5929214" y="575388"/>
                  <a:pt x="5941072" y="582945"/>
                  <a:pt x="5954096" y="587829"/>
                </a:cubicBezTo>
                <a:cubicBezTo>
                  <a:pt x="5966103" y="592332"/>
                  <a:pt x="5979948" y="591424"/>
                  <a:pt x="5991418" y="597159"/>
                </a:cubicBezTo>
                <a:cubicBezTo>
                  <a:pt x="6005327" y="604114"/>
                  <a:pt x="6015239" y="617435"/>
                  <a:pt x="6028741" y="625151"/>
                </a:cubicBezTo>
                <a:cubicBezTo>
                  <a:pt x="6045333" y="634632"/>
                  <a:pt x="6089730" y="640398"/>
                  <a:pt x="6103386" y="643812"/>
                </a:cubicBezTo>
                <a:cubicBezTo>
                  <a:pt x="6112928" y="646197"/>
                  <a:pt x="6121836" y="650757"/>
                  <a:pt x="6131378" y="653143"/>
                </a:cubicBezTo>
                <a:cubicBezTo>
                  <a:pt x="6146763" y="656990"/>
                  <a:pt x="6162480" y="659364"/>
                  <a:pt x="6178031" y="662474"/>
                </a:cubicBezTo>
                <a:cubicBezTo>
                  <a:pt x="6190472" y="668694"/>
                  <a:pt x="6203277" y="674234"/>
                  <a:pt x="6215353" y="681135"/>
                </a:cubicBezTo>
                <a:cubicBezTo>
                  <a:pt x="6225090" y="686699"/>
                  <a:pt x="6233315" y="694781"/>
                  <a:pt x="6243345" y="699796"/>
                </a:cubicBezTo>
                <a:cubicBezTo>
                  <a:pt x="6258326" y="707286"/>
                  <a:pt x="6274447" y="712237"/>
                  <a:pt x="6289998" y="718457"/>
                </a:cubicBezTo>
                <a:cubicBezTo>
                  <a:pt x="6299329" y="727788"/>
                  <a:pt x="6306800" y="739455"/>
                  <a:pt x="6317990" y="746449"/>
                </a:cubicBezTo>
                <a:cubicBezTo>
                  <a:pt x="6347660" y="764993"/>
                  <a:pt x="6390149" y="768531"/>
                  <a:pt x="6420627" y="783771"/>
                </a:cubicBezTo>
                <a:cubicBezTo>
                  <a:pt x="6459242" y="803079"/>
                  <a:pt x="6467807" y="809562"/>
                  <a:pt x="6513933" y="821094"/>
                </a:cubicBezTo>
                <a:cubicBezTo>
                  <a:pt x="6526374" y="824204"/>
                  <a:pt x="6538432" y="830266"/>
                  <a:pt x="6551255" y="830425"/>
                </a:cubicBezTo>
                <a:lnTo>
                  <a:pt x="8016161" y="839755"/>
                </a:lnTo>
                <a:cubicBezTo>
                  <a:pt x="8087696" y="842865"/>
                  <a:pt x="8159374" y="843594"/>
                  <a:pt x="8230765" y="849086"/>
                </a:cubicBezTo>
                <a:cubicBezTo>
                  <a:pt x="8240571" y="849840"/>
                  <a:pt x="8249215" y="856031"/>
                  <a:pt x="8258757" y="858416"/>
                </a:cubicBezTo>
                <a:cubicBezTo>
                  <a:pt x="8276491" y="862850"/>
                  <a:pt x="8323577" y="869894"/>
                  <a:pt x="8342733" y="877078"/>
                </a:cubicBezTo>
                <a:cubicBezTo>
                  <a:pt x="8355756" y="881962"/>
                  <a:pt x="8367141" y="890573"/>
                  <a:pt x="8380055" y="895739"/>
                </a:cubicBezTo>
                <a:cubicBezTo>
                  <a:pt x="8398319" y="903044"/>
                  <a:pt x="8419672" y="903488"/>
                  <a:pt x="8436039" y="914400"/>
                </a:cubicBezTo>
                <a:cubicBezTo>
                  <a:pt x="8500205" y="957179"/>
                  <a:pt x="8470745" y="944631"/>
                  <a:pt x="8520014" y="961053"/>
                </a:cubicBezTo>
                <a:cubicBezTo>
                  <a:pt x="8558351" y="986610"/>
                  <a:pt x="8569733" y="995870"/>
                  <a:pt x="8622651" y="1017037"/>
                </a:cubicBezTo>
                <a:cubicBezTo>
                  <a:pt x="8653753" y="1029478"/>
                  <a:pt x="8683459" y="1046234"/>
                  <a:pt x="8715957" y="1054359"/>
                </a:cubicBezTo>
                <a:cubicBezTo>
                  <a:pt x="8771633" y="1068278"/>
                  <a:pt x="8740631" y="1061582"/>
                  <a:pt x="8809263" y="1073020"/>
                </a:cubicBezTo>
                <a:cubicBezTo>
                  <a:pt x="8821704" y="1082351"/>
                  <a:pt x="8832292" y="1094886"/>
                  <a:pt x="8846586" y="1101012"/>
                </a:cubicBezTo>
                <a:cubicBezTo>
                  <a:pt x="8876432" y="1113803"/>
                  <a:pt x="8908517" y="1120637"/>
                  <a:pt x="8939892" y="1129004"/>
                </a:cubicBezTo>
                <a:cubicBezTo>
                  <a:pt x="8961637" y="1134803"/>
                  <a:pt x="9022746" y="1144368"/>
                  <a:pt x="9042529" y="1147665"/>
                </a:cubicBezTo>
                <a:cubicBezTo>
                  <a:pt x="9061190" y="1153886"/>
                  <a:pt x="9079535" y="1161151"/>
                  <a:pt x="9098512" y="1166327"/>
                </a:cubicBezTo>
                <a:cubicBezTo>
                  <a:pt x="9196228" y="1192977"/>
                  <a:pt x="9098658" y="1159839"/>
                  <a:pt x="9182488" y="1184988"/>
                </a:cubicBezTo>
                <a:cubicBezTo>
                  <a:pt x="9230083" y="1199267"/>
                  <a:pt x="9232788" y="1204379"/>
                  <a:pt x="9275794" y="1212980"/>
                </a:cubicBezTo>
                <a:cubicBezTo>
                  <a:pt x="9294345" y="1216690"/>
                  <a:pt x="9313227" y="1218600"/>
                  <a:pt x="9331778" y="1222310"/>
                </a:cubicBezTo>
                <a:cubicBezTo>
                  <a:pt x="9419008" y="1239756"/>
                  <a:pt x="9325975" y="1223192"/>
                  <a:pt x="9397092" y="1240971"/>
                </a:cubicBezTo>
                <a:cubicBezTo>
                  <a:pt x="9412477" y="1244817"/>
                  <a:pt x="9428194" y="1247192"/>
                  <a:pt x="9443745" y="1250302"/>
                </a:cubicBezTo>
                <a:cubicBezTo>
                  <a:pt x="9446855" y="1321837"/>
                  <a:pt x="9448313" y="1393462"/>
                  <a:pt x="9453076" y="1464906"/>
                </a:cubicBezTo>
                <a:cubicBezTo>
                  <a:pt x="9456878" y="1521933"/>
                  <a:pt x="9463697" y="1525952"/>
                  <a:pt x="9471737" y="1576874"/>
                </a:cubicBezTo>
                <a:cubicBezTo>
                  <a:pt x="9478597" y="1620320"/>
                  <a:pt x="9486416" y="1663698"/>
                  <a:pt x="9490398" y="1707502"/>
                </a:cubicBezTo>
                <a:cubicBezTo>
                  <a:pt x="9493508" y="1741714"/>
                  <a:pt x="9495189" y="1776087"/>
                  <a:pt x="9499729" y="1810139"/>
                </a:cubicBezTo>
                <a:cubicBezTo>
                  <a:pt x="9502333" y="1829670"/>
                  <a:pt x="9511992" y="1856259"/>
                  <a:pt x="9518390" y="1875453"/>
                </a:cubicBezTo>
                <a:cubicBezTo>
                  <a:pt x="9521500" y="1894114"/>
                  <a:pt x="9523616" y="1912969"/>
                  <a:pt x="9527720" y="1931437"/>
                </a:cubicBezTo>
                <a:cubicBezTo>
                  <a:pt x="9545088" y="2009593"/>
                  <a:pt x="9530250" y="1893157"/>
                  <a:pt x="9546382" y="2006082"/>
                </a:cubicBezTo>
                <a:cubicBezTo>
                  <a:pt x="9550365" y="2033963"/>
                  <a:pt x="9552602" y="2062065"/>
                  <a:pt x="9555712" y="2090057"/>
                </a:cubicBezTo>
                <a:cubicBezTo>
                  <a:pt x="9552602" y="2161592"/>
                  <a:pt x="9560986" y="2234564"/>
                  <a:pt x="9546382" y="2304661"/>
                </a:cubicBezTo>
                <a:cubicBezTo>
                  <a:pt x="9543767" y="2317215"/>
                  <a:pt x="9520529" y="2308257"/>
                  <a:pt x="9509059" y="2313992"/>
                </a:cubicBezTo>
                <a:cubicBezTo>
                  <a:pt x="9488999" y="2324022"/>
                  <a:pt x="9475068" y="2346915"/>
                  <a:pt x="9453076" y="2351314"/>
                </a:cubicBezTo>
                <a:cubicBezTo>
                  <a:pt x="9437525" y="2354424"/>
                  <a:pt x="9421808" y="2356798"/>
                  <a:pt x="9406422" y="2360645"/>
                </a:cubicBezTo>
                <a:cubicBezTo>
                  <a:pt x="9308508" y="2385125"/>
                  <a:pt x="9463281" y="2353127"/>
                  <a:pt x="9341108" y="2379306"/>
                </a:cubicBezTo>
                <a:cubicBezTo>
                  <a:pt x="9249207" y="2398998"/>
                  <a:pt x="9263274" y="2395757"/>
                  <a:pt x="9182488" y="2407298"/>
                </a:cubicBezTo>
                <a:cubicBezTo>
                  <a:pt x="9173157" y="2410408"/>
                  <a:pt x="9164038" y="2414244"/>
                  <a:pt x="9154496" y="2416629"/>
                </a:cubicBezTo>
                <a:cubicBezTo>
                  <a:pt x="9138383" y="2420657"/>
                  <a:pt x="9064923" y="2434102"/>
                  <a:pt x="9051859" y="2435290"/>
                </a:cubicBezTo>
                <a:cubicBezTo>
                  <a:pt x="9002203" y="2439804"/>
                  <a:pt x="8952348" y="2441776"/>
                  <a:pt x="8902569" y="2444620"/>
                </a:cubicBezTo>
                <a:lnTo>
                  <a:pt x="8725288" y="2453951"/>
                </a:lnTo>
                <a:cubicBezTo>
                  <a:pt x="8684815" y="2456481"/>
                  <a:pt x="8644530" y="2462293"/>
                  <a:pt x="8603990" y="2463282"/>
                </a:cubicBezTo>
                <a:lnTo>
                  <a:pt x="7960178" y="2472612"/>
                </a:lnTo>
                <a:lnTo>
                  <a:pt x="6252676" y="2463282"/>
                </a:lnTo>
                <a:cubicBezTo>
                  <a:pt x="6202818" y="2462781"/>
                  <a:pt x="6153199" y="2456117"/>
                  <a:pt x="6103386" y="2453951"/>
                </a:cubicBezTo>
                <a:cubicBezTo>
                  <a:pt x="5960056" y="2447719"/>
                  <a:pt x="5775279" y="2445364"/>
                  <a:pt x="5627524" y="2435290"/>
                </a:cubicBezTo>
                <a:cubicBezTo>
                  <a:pt x="5555886" y="2430406"/>
                  <a:pt x="5484672" y="2419389"/>
                  <a:pt x="5412920" y="2416629"/>
                </a:cubicBezTo>
                <a:lnTo>
                  <a:pt x="4927729" y="2397967"/>
                </a:lnTo>
                <a:lnTo>
                  <a:pt x="4638480" y="2388637"/>
                </a:lnTo>
                <a:lnTo>
                  <a:pt x="4423876" y="2379306"/>
                </a:lnTo>
                <a:lnTo>
                  <a:pt x="3985337" y="2369976"/>
                </a:lnTo>
                <a:cubicBezTo>
                  <a:pt x="3394326" y="2338869"/>
                  <a:pt x="4108275" y="2373821"/>
                  <a:pt x="2679051" y="2351314"/>
                </a:cubicBezTo>
                <a:cubicBezTo>
                  <a:pt x="2660135" y="2351016"/>
                  <a:pt x="2641820" y="2344484"/>
                  <a:pt x="2623067" y="2341984"/>
                </a:cubicBezTo>
                <a:cubicBezTo>
                  <a:pt x="2595150" y="2338262"/>
                  <a:pt x="2567084" y="2335763"/>
                  <a:pt x="2539092" y="2332653"/>
                </a:cubicBezTo>
                <a:cubicBezTo>
                  <a:pt x="2441720" y="2308312"/>
                  <a:pt x="2526756" y="2327042"/>
                  <a:pt x="2324488" y="2313992"/>
                </a:cubicBezTo>
                <a:cubicBezTo>
                  <a:pt x="2287114" y="2311581"/>
                  <a:pt x="2249956" y="2305762"/>
                  <a:pt x="2212520" y="2304661"/>
                </a:cubicBezTo>
                <a:cubicBezTo>
                  <a:pt x="2038396" y="2299540"/>
                  <a:pt x="1864158" y="2299381"/>
                  <a:pt x="1690006" y="2295331"/>
                </a:cubicBezTo>
                <a:cubicBezTo>
                  <a:pt x="1553902" y="2292166"/>
                  <a:pt x="1356839" y="2284596"/>
                  <a:pt x="1214145" y="2276669"/>
                </a:cubicBezTo>
                <a:cubicBezTo>
                  <a:pt x="1167460" y="2274075"/>
                  <a:pt x="1120839" y="2270449"/>
                  <a:pt x="1074186" y="2267339"/>
                </a:cubicBezTo>
                <a:lnTo>
                  <a:pt x="439704" y="2276669"/>
                </a:lnTo>
                <a:cubicBezTo>
                  <a:pt x="346741" y="2278735"/>
                  <a:pt x="259122" y="2278966"/>
                  <a:pt x="169116" y="2295331"/>
                </a:cubicBezTo>
                <a:cubicBezTo>
                  <a:pt x="156499" y="2297625"/>
                  <a:pt x="144235" y="2301551"/>
                  <a:pt x="131794" y="2304661"/>
                </a:cubicBezTo>
                <a:cubicBezTo>
                  <a:pt x="91361" y="2301551"/>
                  <a:pt x="15958" y="2335514"/>
                  <a:pt x="10496" y="2295331"/>
                </a:cubicBezTo>
                <a:cubicBezTo>
                  <a:pt x="-11267" y="2135216"/>
                  <a:pt x="7001" y="607431"/>
                  <a:pt x="10496" y="429208"/>
                </a:cubicBezTo>
                <a:cubicBezTo>
                  <a:pt x="11110" y="397888"/>
                  <a:pt x="23022" y="381605"/>
                  <a:pt x="47818" y="363894"/>
                </a:cubicBezTo>
                <a:cubicBezTo>
                  <a:pt x="59137" y="355809"/>
                  <a:pt x="72700" y="351453"/>
                  <a:pt x="85141" y="345233"/>
                </a:cubicBezTo>
                <a:cubicBezTo>
                  <a:pt x="112599" y="317774"/>
                  <a:pt x="85141" y="323461"/>
                  <a:pt x="94471" y="317241"/>
                </a:cubicBezTo>
                <a:close/>
              </a:path>
            </a:pathLst>
          </a:custGeom>
          <a:solidFill>
            <a:srgbClr val="92d050"/>
          </a:solidFill>
          <a:ln w="2556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5" name="Picture 8" descr=""/>
          <p:cNvPicPr/>
          <p:nvPr/>
        </p:nvPicPr>
        <p:blipFill>
          <a:blip r:embed="rId2"/>
          <a:stretch/>
        </p:blipFill>
        <p:spPr>
          <a:xfrm>
            <a:off x="0" y="1125360"/>
            <a:ext cx="5410080" cy="44755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9" descr=""/>
          <p:cNvPicPr/>
          <p:nvPr/>
        </p:nvPicPr>
        <p:blipFill>
          <a:blip r:embed="rId3"/>
          <a:stretch/>
        </p:blipFill>
        <p:spPr>
          <a:xfrm>
            <a:off x="6894360" y="5076720"/>
            <a:ext cx="754200" cy="5288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"/>
          <p:cNvPicPr/>
          <p:nvPr/>
        </p:nvPicPr>
        <p:blipFill>
          <a:blip r:embed="rId4"/>
          <a:stretch/>
        </p:blipFill>
        <p:spPr>
          <a:xfrm>
            <a:off x="5415120" y="4618080"/>
            <a:ext cx="1461960" cy="890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1" descr=""/>
          <p:cNvPicPr/>
          <p:nvPr/>
        </p:nvPicPr>
        <p:blipFill>
          <a:blip r:embed="rId5"/>
          <a:stretch/>
        </p:blipFill>
        <p:spPr>
          <a:xfrm>
            <a:off x="4290840" y="4221000"/>
            <a:ext cx="1262160" cy="10130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" descr=""/>
          <p:cNvPicPr/>
          <p:nvPr/>
        </p:nvPicPr>
        <p:blipFill>
          <a:blip r:embed="rId6"/>
          <a:stretch/>
        </p:blipFill>
        <p:spPr>
          <a:xfrm>
            <a:off x="7648560" y="4989600"/>
            <a:ext cx="598680" cy="7858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"/>
          <p:cNvPicPr/>
          <p:nvPr/>
        </p:nvPicPr>
        <p:blipFill>
          <a:blip r:embed="rId7"/>
          <a:stretch/>
        </p:blipFill>
        <p:spPr>
          <a:xfrm>
            <a:off x="6659640" y="5840280"/>
            <a:ext cx="1535040" cy="7668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"/>
          <p:cNvPicPr/>
          <p:nvPr/>
        </p:nvPicPr>
        <p:blipFill>
          <a:blip r:embed="rId8"/>
          <a:stretch/>
        </p:blipFill>
        <p:spPr>
          <a:xfrm>
            <a:off x="6621480" y="2762280"/>
            <a:ext cx="111924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10"/>
          <p:cNvSpPr/>
          <p:nvPr/>
        </p:nvSpPr>
        <p:spPr>
          <a:xfrm>
            <a:off x="-17640" y="-100080"/>
            <a:ext cx="9161640" cy="6958080"/>
          </a:xfrm>
          <a:prstGeom prst="rect">
            <a:avLst/>
          </a:prstGeom>
          <a:solidFill>
            <a:srgbClr val="c9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-17640" y="-1179360"/>
            <a:ext cx="9269640" cy="5214960"/>
          </a:xfrm>
          <a:prstGeom prst="rect">
            <a:avLst/>
          </a:prstGeom>
          <a:ln w="0">
            <a:noFill/>
          </a:ln>
        </p:spPr>
      </p:pic>
      <p:sp>
        <p:nvSpPr>
          <p:cNvPr id="94" name="Freeform 6"/>
          <p:cNvSpPr/>
          <p:nvPr/>
        </p:nvSpPr>
        <p:spPr>
          <a:xfrm>
            <a:off x="-378000" y="3645000"/>
            <a:ext cx="9784080" cy="3386160"/>
          </a:xfrm>
          <a:custGeom>
            <a:avLst/>
            <a:gdLst/>
            <a:ahLst/>
            <a:rect l="l" t="t" r="r" b="b"/>
            <a:pathLst>
              <a:path w="9783555" h="2593910">
                <a:moveTo>
                  <a:pt x="98380" y="1670180"/>
                </a:moveTo>
                <a:cubicBezTo>
                  <a:pt x="117041" y="1660849"/>
                  <a:pt x="136671" y="1653246"/>
                  <a:pt x="154363" y="1642188"/>
                </a:cubicBezTo>
                <a:cubicBezTo>
                  <a:pt x="161823" y="1637525"/>
                  <a:pt x="166267" y="1629158"/>
                  <a:pt x="173025" y="1623526"/>
                </a:cubicBezTo>
                <a:cubicBezTo>
                  <a:pt x="184971" y="1613571"/>
                  <a:pt x="197693" y="1604574"/>
                  <a:pt x="210347" y="1595535"/>
                </a:cubicBezTo>
                <a:cubicBezTo>
                  <a:pt x="219472" y="1589017"/>
                  <a:pt x="229825" y="1584171"/>
                  <a:pt x="238339" y="1576873"/>
                </a:cubicBezTo>
                <a:cubicBezTo>
                  <a:pt x="251697" y="1565423"/>
                  <a:pt x="262303" y="1551001"/>
                  <a:pt x="275661" y="1539551"/>
                </a:cubicBezTo>
                <a:cubicBezTo>
                  <a:pt x="284175" y="1532253"/>
                  <a:pt x="295139" y="1528188"/>
                  <a:pt x="303653" y="1520890"/>
                </a:cubicBezTo>
                <a:cubicBezTo>
                  <a:pt x="317012" y="1509440"/>
                  <a:pt x="327618" y="1495017"/>
                  <a:pt x="340976" y="1483567"/>
                </a:cubicBezTo>
                <a:cubicBezTo>
                  <a:pt x="354452" y="1472016"/>
                  <a:pt x="407230" y="1442907"/>
                  <a:pt x="415620" y="1436914"/>
                </a:cubicBezTo>
                <a:cubicBezTo>
                  <a:pt x="444477" y="1416302"/>
                  <a:pt x="468806" y="1389194"/>
                  <a:pt x="499596" y="1371600"/>
                </a:cubicBezTo>
                <a:cubicBezTo>
                  <a:pt x="521367" y="1359159"/>
                  <a:pt x="542897" y="1346285"/>
                  <a:pt x="564910" y="1334278"/>
                </a:cubicBezTo>
                <a:cubicBezTo>
                  <a:pt x="577121" y="1327617"/>
                  <a:pt x="590438" y="1322988"/>
                  <a:pt x="602233" y="1315616"/>
                </a:cubicBezTo>
                <a:cubicBezTo>
                  <a:pt x="615420" y="1307374"/>
                  <a:pt x="626368" y="1295866"/>
                  <a:pt x="639555" y="1287624"/>
                </a:cubicBezTo>
                <a:cubicBezTo>
                  <a:pt x="727038" y="1232947"/>
                  <a:pt x="632952" y="1301672"/>
                  <a:pt x="704869" y="1250302"/>
                </a:cubicBezTo>
                <a:cubicBezTo>
                  <a:pt x="717524" y="1241263"/>
                  <a:pt x="729452" y="1231228"/>
                  <a:pt x="742192" y="1222310"/>
                </a:cubicBezTo>
                <a:cubicBezTo>
                  <a:pt x="760566" y="1209449"/>
                  <a:pt x="782317" y="1200847"/>
                  <a:pt x="798176" y="1184988"/>
                </a:cubicBezTo>
                <a:cubicBezTo>
                  <a:pt x="815756" y="1167407"/>
                  <a:pt x="830774" y="1148728"/>
                  <a:pt x="854159" y="1138335"/>
                </a:cubicBezTo>
                <a:cubicBezTo>
                  <a:pt x="872134" y="1130346"/>
                  <a:pt x="892549" y="1128470"/>
                  <a:pt x="910143" y="1119673"/>
                </a:cubicBezTo>
                <a:cubicBezTo>
                  <a:pt x="922584" y="1113453"/>
                  <a:pt x="935389" y="1107913"/>
                  <a:pt x="947465" y="1101012"/>
                </a:cubicBezTo>
                <a:cubicBezTo>
                  <a:pt x="957202" y="1095448"/>
                  <a:pt x="965150" y="1086768"/>
                  <a:pt x="975457" y="1082351"/>
                </a:cubicBezTo>
                <a:cubicBezTo>
                  <a:pt x="987244" y="1077299"/>
                  <a:pt x="1000773" y="1077523"/>
                  <a:pt x="1012780" y="1073020"/>
                </a:cubicBezTo>
                <a:cubicBezTo>
                  <a:pt x="1025803" y="1068136"/>
                  <a:pt x="1037661" y="1060579"/>
                  <a:pt x="1050102" y="1054359"/>
                </a:cubicBezTo>
                <a:cubicBezTo>
                  <a:pt x="1087424" y="1057469"/>
                  <a:pt x="1124874" y="1059314"/>
                  <a:pt x="1162069" y="1063690"/>
                </a:cubicBezTo>
                <a:cubicBezTo>
                  <a:pt x="1191978" y="1067209"/>
                  <a:pt x="1217045" y="1075906"/>
                  <a:pt x="1246045" y="1082351"/>
                </a:cubicBezTo>
                <a:cubicBezTo>
                  <a:pt x="1261526" y="1085791"/>
                  <a:pt x="1277217" y="1088242"/>
                  <a:pt x="1292698" y="1091682"/>
                </a:cubicBezTo>
                <a:cubicBezTo>
                  <a:pt x="1305216" y="1094464"/>
                  <a:pt x="1317446" y="1098497"/>
                  <a:pt x="1330020" y="1101012"/>
                </a:cubicBezTo>
                <a:cubicBezTo>
                  <a:pt x="1362402" y="1107488"/>
                  <a:pt x="1419930" y="1115189"/>
                  <a:pt x="1451318" y="1119673"/>
                </a:cubicBezTo>
                <a:cubicBezTo>
                  <a:pt x="1566396" y="1116563"/>
                  <a:pt x="1681575" y="1116092"/>
                  <a:pt x="1796551" y="1110343"/>
                </a:cubicBezTo>
                <a:cubicBezTo>
                  <a:pt x="1806374" y="1109852"/>
                  <a:pt x="1815086" y="1103714"/>
                  <a:pt x="1824543" y="1101012"/>
                </a:cubicBezTo>
                <a:cubicBezTo>
                  <a:pt x="1836873" y="1097489"/>
                  <a:pt x="1849582" y="1095367"/>
                  <a:pt x="1861865" y="1091682"/>
                </a:cubicBezTo>
                <a:cubicBezTo>
                  <a:pt x="1880706" y="1086030"/>
                  <a:pt x="1900255" y="1081817"/>
                  <a:pt x="1917849" y="1073020"/>
                </a:cubicBezTo>
                <a:cubicBezTo>
                  <a:pt x="1942731" y="1060579"/>
                  <a:pt x="1966103" y="1044495"/>
                  <a:pt x="1992494" y="1035698"/>
                </a:cubicBezTo>
                <a:cubicBezTo>
                  <a:pt x="2001825" y="1032588"/>
                  <a:pt x="2011532" y="1030437"/>
                  <a:pt x="2020486" y="1026367"/>
                </a:cubicBezTo>
                <a:cubicBezTo>
                  <a:pt x="2045811" y="1014856"/>
                  <a:pt x="2068740" y="997843"/>
                  <a:pt x="2095131" y="989045"/>
                </a:cubicBezTo>
                <a:cubicBezTo>
                  <a:pt x="2135288" y="975658"/>
                  <a:pt x="2113581" y="982099"/>
                  <a:pt x="2160445" y="970384"/>
                </a:cubicBezTo>
                <a:cubicBezTo>
                  <a:pt x="2172886" y="964163"/>
                  <a:pt x="2184743" y="956606"/>
                  <a:pt x="2197767" y="951722"/>
                </a:cubicBezTo>
                <a:cubicBezTo>
                  <a:pt x="2221697" y="942748"/>
                  <a:pt x="2240514" y="944345"/>
                  <a:pt x="2263082" y="933061"/>
                </a:cubicBezTo>
                <a:cubicBezTo>
                  <a:pt x="2273112" y="928046"/>
                  <a:pt x="2281044" y="919415"/>
                  <a:pt x="2291074" y="914400"/>
                </a:cubicBezTo>
                <a:cubicBezTo>
                  <a:pt x="2368381" y="875747"/>
                  <a:pt x="2309200" y="910630"/>
                  <a:pt x="2365718" y="886408"/>
                </a:cubicBezTo>
                <a:cubicBezTo>
                  <a:pt x="2378503" y="880929"/>
                  <a:pt x="2390126" y="872913"/>
                  <a:pt x="2403041" y="867747"/>
                </a:cubicBezTo>
                <a:cubicBezTo>
                  <a:pt x="2421305" y="860442"/>
                  <a:pt x="2440364" y="855307"/>
                  <a:pt x="2459025" y="849086"/>
                </a:cubicBezTo>
                <a:cubicBezTo>
                  <a:pt x="2489794" y="838829"/>
                  <a:pt x="2500212" y="835963"/>
                  <a:pt x="2533669" y="821094"/>
                </a:cubicBezTo>
                <a:cubicBezTo>
                  <a:pt x="2546380" y="815445"/>
                  <a:pt x="2558207" y="807912"/>
                  <a:pt x="2570992" y="802433"/>
                </a:cubicBezTo>
                <a:cubicBezTo>
                  <a:pt x="2580032" y="798559"/>
                  <a:pt x="2589944" y="796976"/>
                  <a:pt x="2598984" y="793102"/>
                </a:cubicBezTo>
                <a:cubicBezTo>
                  <a:pt x="2611768" y="787623"/>
                  <a:pt x="2623283" y="779325"/>
                  <a:pt x="2636306" y="774441"/>
                </a:cubicBezTo>
                <a:cubicBezTo>
                  <a:pt x="2648313" y="769938"/>
                  <a:pt x="2661346" y="768795"/>
                  <a:pt x="2673629" y="765110"/>
                </a:cubicBezTo>
                <a:cubicBezTo>
                  <a:pt x="2692470" y="759458"/>
                  <a:pt x="2710324" y="750307"/>
                  <a:pt x="2729612" y="746449"/>
                </a:cubicBezTo>
                <a:cubicBezTo>
                  <a:pt x="2769376" y="738496"/>
                  <a:pt x="2771473" y="740082"/>
                  <a:pt x="2804257" y="727788"/>
                </a:cubicBezTo>
                <a:cubicBezTo>
                  <a:pt x="2819940" y="721907"/>
                  <a:pt x="2835929" y="716616"/>
                  <a:pt x="2850910" y="709126"/>
                </a:cubicBezTo>
                <a:cubicBezTo>
                  <a:pt x="2879800" y="694681"/>
                  <a:pt x="2886630" y="679384"/>
                  <a:pt x="2916225" y="662473"/>
                </a:cubicBezTo>
                <a:cubicBezTo>
                  <a:pt x="2924764" y="657594"/>
                  <a:pt x="2934886" y="656253"/>
                  <a:pt x="2944216" y="653143"/>
                </a:cubicBezTo>
                <a:cubicBezTo>
                  <a:pt x="3001269" y="615109"/>
                  <a:pt x="2941652" y="657495"/>
                  <a:pt x="3009531" y="597159"/>
                </a:cubicBezTo>
                <a:cubicBezTo>
                  <a:pt x="3024416" y="583928"/>
                  <a:pt x="3040252" y="571786"/>
                  <a:pt x="3056184" y="559837"/>
                </a:cubicBezTo>
                <a:cubicBezTo>
                  <a:pt x="3065155" y="553108"/>
                  <a:pt x="3075662" y="548473"/>
                  <a:pt x="3084176" y="541175"/>
                </a:cubicBezTo>
                <a:cubicBezTo>
                  <a:pt x="3143287" y="490508"/>
                  <a:pt x="3097883" y="516486"/>
                  <a:pt x="3158820" y="475861"/>
                </a:cubicBezTo>
                <a:cubicBezTo>
                  <a:pt x="3195533" y="451385"/>
                  <a:pt x="3230794" y="428322"/>
                  <a:pt x="3270788" y="410547"/>
                </a:cubicBezTo>
                <a:cubicBezTo>
                  <a:pt x="3295041" y="399768"/>
                  <a:pt x="3331788" y="388541"/>
                  <a:pt x="3354763" y="373224"/>
                </a:cubicBezTo>
                <a:cubicBezTo>
                  <a:pt x="3397461" y="344758"/>
                  <a:pt x="3343104" y="358450"/>
                  <a:pt x="3410747" y="335902"/>
                </a:cubicBezTo>
                <a:cubicBezTo>
                  <a:pt x="3435078" y="327792"/>
                  <a:pt x="3460243" y="322271"/>
                  <a:pt x="3485392" y="317241"/>
                </a:cubicBezTo>
                <a:cubicBezTo>
                  <a:pt x="3553610" y="303597"/>
                  <a:pt x="3516345" y="310153"/>
                  <a:pt x="3597359" y="298580"/>
                </a:cubicBezTo>
                <a:cubicBezTo>
                  <a:pt x="3606690" y="295470"/>
                  <a:pt x="3615894" y="291951"/>
                  <a:pt x="3625351" y="289249"/>
                </a:cubicBezTo>
                <a:cubicBezTo>
                  <a:pt x="3637681" y="285726"/>
                  <a:pt x="3650508" y="283973"/>
                  <a:pt x="3662674" y="279918"/>
                </a:cubicBezTo>
                <a:cubicBezTo>
                  <a:pt x="3678563" y="274622"/>
                  <a:pt x="3693168" y="265664"/>
                  <a:pt x="3709327" y="261257"/>
                </a:cubicBezTo>
                <a:cubicBezTo>
                  <a:pt x="3727579" y="256279"/>
                  <a:pt x="3746649" y="255036"/>
                  <a:pt x="3765310" y="251926"/>
                </a:cubicBezTo>
                <a:cubicBezTo>
                  <a:pt x="3849486" y="209839"/>
                  <a:pt x="3745045" y="258685"/>
                  <a:pt x="3877278" y="214604"/>
                </a:cubicBezTo>
                <a:cubicBezTo>
                  <a:pt x="3886608" y="211494"/>
                  <a:pt x="3895812" y="207975"/>
                  <a:pt x="3905269" y="205273"/>
                </a:cubicBezTo>
                <a:cubicBezTo>
                  <a:pt x="3936002" y="196492"/>
                  <a:pt x="3957194" y="193022"/>
                  <a:pt x="3989245" y="186612"/>
                </a:cubicBezTo>
                <a:cubicBezTo>
                  <a:pt x="4088772" y="189722"/>
                  <a:pt x="4188380" y="190843"/>
                  <a:pt x="4287825" y="195943"/>
                </a:cubicBezTo>
                <a:cubicBezTo>
                  <a:pt x="4346867" y="198971"/>
                  <a:pt x="4347418" y="207122"/>
                  <a:pt x="4399792" y="214604"/>
                </a:cubicBezTo>
                <a:cubicBezTo>
                  <a:pt x="4427673" y="218587"/>
                  <a:pt x="4455775" y="220825"/>
                  <a:pt x="4483767" y="223935"/>
                </a:cubicBezTo>
                <a:lnTo>
                  <a:pt x="4558412" y="242596"/>
                </a:lnTo>
                <a:cubicBezTo>
                  <a:pt x="4570853" y="245706"/>
                  <a:pt x="4582990" y="250510"/>
                  <a:pt x="4595735" y="251926"/>
                </a:cubicBezTo>
                <a:cubicBezTo>
                  <a:pt x="4828674" y="277809"/>
                  <a:pt x="4707422" y="267909"/>
                  <a:pt x="4959629" y="279918"/>
                </a:cubicBezTo>
                <a:cubicBezTo>
                  <a:pt x="4975180" y="283028"/>
                  <a:pt x="4990897" y="285402"/>
                  <a:pt x="5006282" y="289249"/>
                </a:cubicBezTo>
                <a:cubicBezTo>
                  <a:pt x="5015824" y="291635"/>
                  <a:pt x="5024499" y="297494"/>
                  <a:pt x="5034274" y="298580"/>
                </a:cubicBezTo>
                <a:cubicBezTo>
                  <a:pt x="5080745" y="303743"/>
                  <a:pt x="5127604" y="304456"/>
                  <a:pt x="5174233" y="307910"/>
                </a:cubicBezTo>
                <a:lnTo>
                  <a:pt x="5286200" y="317241"/>
                </a:lnTo>
                <a:cubicBezTo>
                  <a:pt x="5298641" y="320351"/>
                  <a:pt x="5310848" y="324621"/>
                  <a:pt x="5323522" y="326571"/>
                </a:cubicBezTo>
                <a:cubicBezTo>
                  <a:pt x="5351359" y="330854"/>
                  <a:pt x="5379527" y="332611"/>
                  <a:pt x="5407498" y="335902"/>
                </a:cubicBezTo>
                <a:lnTo>
                  <a:pt x="5482143" y="345233"/>
                </a:lnTo>
                <a:cubicBezTo>
                  <a:pt x="5594110" y="342123"/>
                  <a:pt x="5706181" y="341639"/>
                  <a:pt x="5818045" y="335902"/>
                </a:cubicBezTo>
                <a:cubicBezTo>
                  <a:pt x="5827868" y="335398"/>
                  <a:pt x="5836269" y="327720"/>
                  <a:pt x="5846037" y="326571"/>
                </a:cubicBezTo>
                <a:cubicBezTo>
                  <a:pt x="5889392" y="321471"/>
                  <a:pt x="5933122" y="320351"/>
                  <a:pt x="5976665" y="317241"/>
                </a:cubicBezTo>
                <a:cubicBezTo>
                  <a:pt x="6001547" y="311021"/>
                  <a:pt x="6025861" y="301761"/>
                  <a:pt x="6051310" y="298580"/>
                </a:cubicBezTo>
                <a:lnTo>
                  <a:pt x="6191269" y="279918"/>
                </a:lnTo>
                <a:cubicBezTo>
                  <a:pt x="6216124" y="276604"/>
                  <a:pt x="6241130" y="274401"/>
                  <a:pt x="6265914" y="270588"/>
                </a:cubicBezTo>
                <a:cubicBezTo>
                  <a:pt x="6364959" y="255350"/>
                  <a:pt x="6264984" y="267846"/>
                  <a:pt x="6349890" y="251926"/>
                </a:cubicBezTo>
                <a:cubicBezTo>
                  <a:pt x="6387079" y="244953"/>
                  <a:pt x="6424535" y="239485"/>
                  <a:pt x="6461857" y="233265"/>
                </a:cubicBezTo>
                <a:lnTo>
                  <a:pt x="6517841" y="223935"/>
                </a:lnTo>
                <a:cubicBezTo>
                  <a:pt x="6594689" y="198318"/>
                  <a:pt x="6554352" y="208055"/>
                  <a:pt x="6639139" y="195943"/>
                </a:cubicBezTo>
                <a:cubicBezTo>
                  <a:pt x="6665822" y="187048"/>
                  <a:pt x="6675157" y="183141"/>
                  <a:pt x="6704453" y="177282"/>
                </a:cubicBezTo>
                <a:cubicBezTo>
                  <a:pt x="6723004" y="173572"/>
                  <a:pt x="6741969" y="172055"/>
                  <a:pt x="6760437" y="167951"/>
                </a:cubicBezTo>
                <a:cubicBezTo>
                  <a:pt x="6770038" y="165817"/>
                  <a:pt x="6779249" y="162151"/>
                  <a:pt x="6788429" y="158620"/>
                </a:cubicBezTo>
                <a:cubicBezTo>
                  <a:pt x="6819694" y="146595"/>
                  <a:pt x="6853863" y="139879"/>
                  <a:pt x="6881735" y="121298"/>
                </a:cubicBezTo>
                <a:cubicBezTo>
                  <a:pt x="6891066" y="115078"/>
                  <a:pt x="6899991" y="108201"/>
                  <a:pt x="6909727" y="102637"/>
                </a:cubicBezTo>
                <a:cubicBezTo>
                  <a:pt x="6961795" y="72883"/>
                  <a:pt x="6932769" y="91262"/>
                  <a:pt x="6993702" y="74645"/>
                </a:cubicBezTo>
                <a:cubicBezTo>
                  <a:pt x="7012680" y="69469"/>
                  <a:pt x="7049686" y="55984"/>
                  <a:pt x="7049686" y="55984"/>
                </a:cubicBezTo>
                <a:cubicBezTo>
                  <a:pt x="7059017" y="49763"/>
                  <a:pt x="7067371" y="41740"/>
                  <a:pt x="7077678" y="37322"/>
                </a:cubicBezTo>
                <a:cubicBezTo>
                  <a:pt x="7089465" y="32271"/>
                  <a:pt x="7102670" y="31515"/>
                  <a:pt x="7115000" y="27992"/>
                </a:cubicBezTo>
                <a:cubicBezTo>
                  <a:pt x="7147032" y="18840"/>
                  <a:pt x="7147142" y="16586"/>
                  <a:pt x="7180314" y="0"/>
                </a:cubicBezTo>
                <a:lnTo>
                  <a:pt x="7516216" y="9331"/>
                </a:lnTo>
                <a:cubicBezTo>
                  <a:pt x="7556734" y="10985"/>
                  <a:pt x="7597024" y="16412"/>
                  <a:pt x="7637514" y="18661"/>
                </a:cubicBezTo>
                <a:cubicBezTo>
                  <a:pt x="7709006" y="22633"/>
                  <a:pt x="7780615" y="24229"/>
                  <a:pt x="7852118" y="27992"/>
                </a:cubicBezTo>
                <a:cubicBezTo>
                  <a:pt x="7898810" y="30449"/>
                  <a:pt x="7945412" y="34405"/>
                  <a:pt x="7992078" y="37322"/>
                </a:cubicBezTo>
                <a:lnTo>
                  <a:pt x="8150698" y="46653"/>
                </a:lnTo>
                <a:cubicBezTo>
                  <a:pt x="8178779" y="48813"/>
                  <a:pt x="8206619" y="53509"/>
                  <a:pt x="8234674" y="55984"/>
                </a:cubicBezTo>
                <a:cubicBezTo>
                  <a:pt x="8427093" y="72962"/>
                  <a:pt x="8447966" y="73397"/>
                  <a:pt x="8617229" y="83975"/>
                </a:cubicBezTo>
                <a:cubicBezTo>
                  <a:pt x="8639000" y="87085"/>
                  <a:pt x="8660978" y="88993"/>
                  <a:pt x="8682543" y="93306"/>
                </a:cubicBezTo>
                <a:cubicBezTo>
                  <a:pt x="8692187" y="95235"/>
                  <a:pt x="8700993" y="100252"/>
                  <a:pt x="8710535" y="102637"/>
                </a:cubicBezTo>
                <a:cubicBezTo>
                  <a:pt x="8725920" y="106483"/>
                  <a:pt x="8741637" y="108857"/>
                  <a:pt x="8757188" y="111967"/>
                </a:cubicBezTo>
                <a:cubicBezTo>
                  <a:pt x="8769629" y="118188"/>
                  <a:pt x="8781725" y="125150"/>
                  <a:pt x="8794510" y="130629"/>
                </a:cubicBezTo>
                <a:cubicBezTo>
                  <a:pt x="8816872" y="140213"/>
                  <a:pt x="8836163" y="142530"/>
                  <a:pt x="8859825" y="149290"/>
                </a:cubicBezTo>
                <a:cubicBezTo>
                  <a:pt x="8889486" y="157764"/>
                  <a:pt x="8902901" y="165444"/>
                  <a:pt x="8934469" y="177282"/>
                </a:cubicBezTo>
                <a:cubicBezTo>
                  <a:pt x="8943678" y="180735"/>
                  <a:pt x="8953130" y="183502"/>
                  <a:pt x="8962461" y="186612"/>
                </a:cubicBezTo>
                <a:cubicBezTo>
                  <a:pt x="8971792" y="192832"/>
                  <a:pt x="8980423" y="200258"/>
                  <a:pt x="8990453" y="205273"/>
                </a:cubicBezTo>
                <a:cubicBezTo>
                  <a:pt x="8999250" y="209672"/>
                  <a:pt x="9008956" y="212016"/>
                  <a:pt x="9018445" y="214604"/>
                </a:cubicBezTo>
                <a:cubicBezTo>
                  <a:pt x="9043189" y="221352"/>
                  <a:pt x="9069277" y="223740"/>
                  <a:pt x="9093090" y="233265"/>
                </a:cubicBezTo>
                <a:cubicBezTo>
                  <a:pt x="9108641" y="239485"/>
                  <a:pt x="9123970" y="246293"/>
                  <a:pt x="9139743" y="251926"/>
                </a:cubicBezTo>
                <a:cubicBezTo>
                  <a:pt x="9167530" y="261850"/>
                  <a:pt x="9197327" y="266722"/>
                  <a:pt x="9223718" y="279918"/>
                </a:cubicBezTo>
                <a:cubicBezTo>
                  <a:pt x="9236159" y="286139"/>
                  <a:pt x="9248964" y="291679"/>
                  <a:pt x="9261041" y="298580"/>
                </a:cubicBezTo>
                <a:cubicBezTo>
                  <a:pt x="9270777" y="304144"/>
                  <a:pt x="9279003" y="312226"/>
                  <a:pt x="9289033" y="317241"/>
                </a:cubicBezTo>
                <a:cubicBezTo>
                  <a:pt x="9297830" y="321639"/>
                  <a:pt x="9307694" y="323461"/>
                  <a:pt x="9317025" y="326571"/>
                </a:cubicBezTo>
                <a:cubicBezTo>
                  <a:pt x="9335686" y="339012"/>
                  <a:pt x="9351731" y="356802"/>
                  <a:pt x="9373008" y="363894"/>
                </a:cubicBezTo>
                <a:lnTo>
                  <a:pt x="9456984" y="391886"/>
                </a:lnTo>
                <a:lnTo>
                  <a:pt x="9512967" y="410547"/>
                </a:lnTo>
                <a:lnTo>
                  <a:pt x="9540959" y="419878"/>
                </a:lnTo>
                <a:cubicBezTo>
                  <a:pt x="9556510" y="435429"/>
                  <a:pt x="9580657" y="445667"/>
                  <a:pt x="9587612" y="466531"/>
                </a:cubicBezTo>
                <a:cubicBezTo>
                  <a:pt x="9599725" y="502868"/>
                  <a:pt x="9589989" y="487567"/>
                  <a:pt x="9615604" y="513184"/>
                </a:cubicBezTo>
                <a:cubicBezTo>
                  <a:pt x="9622015" y="545239"/>
                  <a:pt x="9625483" y="566423"/>
                  <a:pt x="9634265" y="597159"/>
                </a:cubicBezTo>
                <a:cubicBezTo>
                  <a:pt x="9650452" y="653813"/>
                  <a:pt x="9638699" y="593550"/>
                  <a:pt x="9652927" y="671804"/>
                </a:cubicBezTo>
                <a:cubicBezTo>
                  <a:pt x="9672457" y="779222"/>
                  <a:pt x="9651875" y="673773"/>
                  <a:pt x="9671588" y="811763"/>
                </a:cubicBezTo>
                <a:cubicBezTo>
                  <a:pt x="9676939" y="849220"/>
                  <a:pt x="9685556" y="886186"/>
                  <a:pt x="9690249" y="923731"/>
                </a:cubicBezTo>
                <a:cubicBezTo>
                  <a:pt x="9693359" y="948612"/>
                  <a:pt x="9696034" y="973552"/>
                  <a:pt x="9699580" y="998375"/>
                </a:cubicBezTo>
                <a:cubicBezTo>
                  <a:pt x="9702255" y="1017104"/>
                  <a:pt x="9706895" y="1035548"/>
                  <a:pt x="9708910" y="1054359"/>
                </a:cubicBezTo>
                <a:cubicBezTo>
                  <a:pt x="9716229" y="1122675"/>
                  <a:pt x="9727571" y="1259633"/>
                  <a:pt x="9727571" y="1259633"/>
                </a:cubicBezTo>
                <a:cubicBezTo>
                  <a:pt x="9719430" y="1495751"/>
                  <a:pt x="9706477" y="1457207"/>
                  <a:pt x="9727571" y="1604865"/>
                </a:cubicBezTo>
                <a:cubicBezTo>
                  <a:pt x="9730246" y="1623594"/>
                  <a:pt x="9732314" y="1642495"/>
                  <a:pt x="9736902" y="1660849"/>
                </a:cubicBezTo>
                <a:cubicBezTo>
                  <a:pt x="9741673" y="1679932"/>
                  <a:pt x="9751705" y="1697544"/>
                  <a:pt x="9755563" y="1716833"/>
                </a:cubicBezTo>
                <a:cubicBezTo>
                  <a:pt x="9758673" y="1732384"/>
                  <a:pt x="9760721" y="1748186"/>
                  <a:pt x="9764894" y="1763486"/>
                </a:cubicBezTo>
                <a:cubicBezTo>
                  <a:pt x="9770070" y="1782463"/>
                  <a:pt x="9783555" y="1819469"/>
                  <a:pt x="9783555" y="1819469"/>
                </a:cubicBezTo>
                <a:cubicBezTo>
                  <a:pt x="9780445" y="1965649"/>
                  <a:pt x="9786121" y="2112280"/>
                  <a:pt x="9774225" y="2258008"/>
                </a:cubicBezTo>
                <a:cubicBezTo>
                  <a:pt x="9773249" y="2269970"/>
                  <a:pt x="9726000" y="2283783"/>
                  <a:pt x="9718241" y="2286000"/>
                </a:cubicBezTo>
                <a:cubicBezTo>
                  <a:pt x="9705911" y="2289523"/>
                  <a:pt x="9693201" y="2291646"/>
                  <a:pt x="9680918" y="2295331"/>
                </a:cubicBezTo>
                <a:cubicBezTo>
                  <a:pt x="9662077" y="2300983"/>
                  <a:pt x="9644408" y="2311210"/>
                  <a:pt x="9624935" y="2313992"/>
                </a:cubicBezTo>
                <a:lnTo>
                  <a:pt x="9559620" y="2323322"/>
                </a:lnTo>
                <a:cubicBezTo>
                  <a:pt x="9526477" y="2334370"/>
                  <a:pt x="9461216" y="2357716"/>
                  <a:pt x="9428992" y="2360645"/>
                </a:cubicBezTo>
                <a:lnTo>
                  <a:pt x="9326355" y="2369975"/>
                </a:lnTo>
                <a:cubicBezTo>
                  <a:pt x="9208860" y="2399350"/>
                  <a:pt x="9295078" y="2379903"/>
                  <a:pt x="9195727" y="2397967"/>
                </a:cubicBezTo>
                <a:cubicBezTo>
                  <a:pt x="9180124" y="2400804"/>
                  <a:pt x="9164862" y="2405794"/>
                  <a:pt x="9149074" y="2407298"/>
                </a:cubicBezTo>
                <a:cubicBezTo>
                  <a:pt x="9053630" y="2416388"/>
                  <a:pt x="8817508" y="2424024"/>
                  <a:pt x="8747857" y="2425959"/>
                </a:cubicBezTo>
                <a:lnTo>
                  <a:pt x="8327980" y="2435290"/>
                </a:lnTo>
                <a:cubicBezTo>
                  <a:pt x="8219123" y="2441510"/>
                  <a:pt x="8110412" y="2451356"/>
                  <a:pt x="8001408" y="2453951"/>
                </a:cubicBezTo>
                <a:lnTo>
                  <a:pt x="7609522" y="2463282"/>
                </a:lnTo>
                <a:lnTo>
                  <a:pt x="7282951" y="2472612"/>
                </a:lnTo>
                <a:lnTo>
                  <a:pt x="6723114" y="2481943"/>
                </a:lnTo>
                <a:lnTo>
                  <a:pt x="6153947" y="2509935"/>
                </a:lnTo>
                <a:lnTo>
                  <a:pt x="5855367" y="2519265"/>
                </a:lnTo>
                <a:cubicBezTo>
                  <a:pt x="5643770" y="2540426"/>
                  <a:pt x="5783817" y="2528744"/>
                  <a:pt x="5398167" y="2537926"/>
                </a:cubicBezTo>
                <a:lnTo>
                  <a:pt x="4978290" y="2547257"/>
                </a:lnTo>
                <a:cubicBezTo>
                  <a:pt x="4756222" y="2591670"/>
                  <a:pt x="4943102" y="2559843"/>
                  <a:pt x="4511759" y="2575249"/>
                </a:cubicBezTo>
                <a:cubicBezTo>
                  <a:pt x="4461930" y="2577029"/>
                  <a:pt x="4412327" y="2584127"/>
                  <a:pt x="4362469" y="2584580"/>
                </a:cubicBezTo>
                <a:lnTo>
                  <a:pt x="2459025" y="2593910"/>
                </a:lnTo>
                <a:lnTo>
                  <a:pt x="1339351" y="2584580"/>
                </a:lnTo>
                <a:cubicBezTo>
                  <a:pt x="1241522" y="2583051"/>
                  <a:pt x="1292768" y="2571714"/>
                  <a:pt x="1208722" y="2565918"/>
                </a:cubicBezTo>
                <a:cubicBezTo>
                  <a:pt x="1137289" y="2560992"/>
                  <a:pt x="1065653" y="2559698"/>
                  <a:pt x="994118" y="2556588"/>
                </a:cubicBezTo>
                <a:lnTo>
                  <a:pt x="928804" y="2547257"/>
                </a:lnTo>
                <a:cubicBezTo>
                  <a:pt x="844244" y="2535982"/>
                  <a:pt x="819817" y="2535312"/>
                  <a:pt x="723531" y="2519265"/>
                </a:cubicBezTo>
                <a:cubicBezTo>
                  <a:pt x="686208" y="2513045"/>
                  <a:pt x="647459" y="2512569"/>
                  <a:pt x="611563" y="2500604"/>
                </a:cubicBezTo>
                <a:lnTo>
                  <a:pt x="555580" y="2481943"/>
                </a:lnTo>
                <a:cubicBezTo>
                  <a:pt x="546249" y="2478833"/>
                  <a:pt x="537232" y="2474541"/>
                  <a:pt x="527588" y="2472612"/>
                </a:cubicBezTo>
                <a:lnTo>
                  <a:pt x="480935" y="2463282"/>
                </a:lnTo>
                <a:cubicBezTo>
                  <a:pt x="468494" y="2457061"/>
                  <a:pt x="456986" y="2448441"/>
                  <a:pt x="443612" y="2444620"/>
                </a:cubicBezTo>
                <a:cubicBezTo>
                  <a:pt x="413114" y="2435906"/>
                  <a:pt x="350306" y="2425959"/>
                  <a:pt x="350306" y="2425959"/>
                </a:cubicBezTo>
                <a:cubicBezTo>
                  <a:pt x="331645" y="2413518"/>
                  <a:pt x="306763" y="2407298"/>
                  <a:pt x="294322" y="2388637"/>
                </a:cubicBezTo>
                <a:cubicBezTo>
                  <a:pt x="288102" y="2379306"/>
                  <a:pt x="283590" y="2368574"/>
                  <a:pt x="275661" y="2360645"/>
                </a:cubicBezTo>
                <a:cubicBezTo>
                  <a:pt x="257575" y="2342559"/>
                  <a:pt x="242443" y="2340242"/>
                  <a:pt x="219678" y="2332653"/>
                </a:cubicBezTo>
                <a:cubicBezTo>
                  <a:pt x="213457" y="2326433"/>
                  <a:pt x="208559" y="2318518"/>
                  <a:pt x="201016" y="2313992"/>
                </a:cubicBezTo>
                <a:cubicBezTo>
                  <a:pt x="192582" y="2308932"/>
                  <a:pt x="182065" y="2308535"/>
                  <a:pt x="173025" y="2304661"/>
                </a:cubicBezTo>
                <a:cubicBezTo>
                  <a:pt x="160240" y="2299182"/>
                  <a:pt x="147629" y="2293156"/>
                  <a:pt x="135702" y="2286000"/>
                </a:cubicBezTo>
                <a:cubicBezTo>
                  <a:pt x="116470" y="2274461"/>
                  <a:pt x="79718" y="2248678"/>
                  <a:pt x="79718" y="2248678"/>
                </a:cubicBezTo>
                <a:cubicBezTo>
                  <a:pt x="82829" y="2037115"/>
                  <a:pt x="-113205" y="1614196"/>
                  <a:pt x="98380" y="1614196"/>
                </a:cubicBezTo>
              </a:path>
            </a:pathLst>
          </a:custGeom>
          <a:solidFill>
            <a:srgbClr val="72af2f"/>
          </a:solidFill>
          <a:ln w="25560">
            <a:solidFill>
              <a:srgbClr val="72af2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Freeform 5"/>
          <p:cNvSpPr/>
          <p:nvPr/>
        </p:nvSpPr>
        <p:spPr>
          <a:xfrm>
            <a:off x="-225360" y="3645000"/>
            <a:ext cx="9556560" cy="3446280"/>
          </a:xfrm>
          <a:custGeom>
            <a:avLst/>
            <a:gdLst/>
            <a:ahLst/>
            <a:rect l="l" t="t" r="r" b="b"/>
            <a:pathLst>
              <a:path w="9555712" h="2472612">
                <a:moveTo>
                  <a:pt x="94471" y="317241"/>
                </a:moveTo>
                <a:cubicBezTo>
                  <a:pt x="103801" y="311021"/>
                  <a:pt x="126079" y="312925"/>
                  <a:pt x="141124" y="307910"/>
                </a:cubicBezTo>
                <a:cubicBezTo>
                  <a:pt x="206137" y="286239"/>
                  <a:pt x="151913" y="293185"/>
                  <a:pt x="215769" y="261257"/>
                </a:cubicBezTo>
                <a:cubicBezTo>
                  <a:pt x="227239" y="255522"/>
                  <a:pt x="240651" y="255037"/>
                  <a:pt x="253092" y="251927"/>
                </a:cubicBezTo>
                <a:cubicBezTo>
                  <a:pt x="270450" y="234569"/>
                  <a:pt x="276203" y="226375"/>
                  <a:pt x="299745" y="214604"/>
                </a:cubicBezTo>
                <a:cubicBezTo>
                  <a:pt x="308542" y="210206"/>
                  <a:pt x="318406" y="208384"/>
                  <a:pt x="327737" y="205274"/>
                </a:cubicBezTo>
                <a:cubicBezTo>
                  <a:pt x="369934" y="163075"/>
                  <a:pt x="317194" y="214058"/>
                  <a:pt x="383720" y="158620"/>
                </a:cubicBezTo>
                <a:cubicBezTo>
                  <a:pt x="390478" y="152988"/>
                  <a:pt x="395062" y="144839"/>
                  <a:pt x="402382" y="139959"/>
                </a:cubicBezTo>
                <a:cubicBezTo>
                  <a:pt x="413955" y="132244"/>
                  <a:pt x="427628" y="128199"/>
                  <a:pt x="439704" y="121298"/>
                </a:cubicBezTo>
                <a:cubicBezTo>
                  <a:pt x="449441" y="115734"/>
                  <a:pt x="458571" y="109155"/>
                  <a:pt x="467696" y="102637"/>
                </a:cubicBezTo>
                <a:cubicBezTo>
                  <a:pt x="480350" y="93598"/>
                  <a:pt x="491424" y="82197"/>
                  <a:pt x="505018" y="74645"/>
                </a:cubicBezTo>
                <a:cubicBezTo>
                  <a:pt x="519659" y="66511"/>
                  <a:pt x="536690" y="63474"/>
                  <a:pt x="551671" y="55984"/>
                </a:cubicBezTo>
                <a:cubicBezTo>
                  <a:pt x="561701" y="50969"/>
                  <a:pt x="570906" y="44328"/>
                  <a:pt x="579663" y="37323"/>
                </a:cubicBezTo>
                <a:cubicBezTo>
                  <a:pt x="586532" y="31827"/>
                  <a:pt x="590456" y="22595"/>
                  <a:pt x="598324" y="18661"/>
                </a:cubicBezTo>
                <a:cubicBezTo>
                  <a:pt x="609794" y="12926"/>
                  <a:pt x="623317" y="12854"/>
                  <a:pt x="635647" y="9331"/>
                </a:cubicBezTo>
                <a:cubicBezTo>
                  <a:pt x="645104" y="6629"/>
                  <a:pt x="654308" y="3110"/>
                  <a:pt x="663639" y="0"/>
                </a:cubicBezTo>
                <a:cubicBezTo>
                  <a:pt x="679047" y="1712"/>
                  <a:pt x="748254" y="3465"/>
                  <a:pt x="775606" y="18661"/>
                </a:cubicBezTo>
                <a:cubicBezTo>
                  <a:pt x="795212" y="29553"/>
                  <a:pt x="811530" y="45954"/>
                  <a:pt x="831590" y="55984"/>
                </a:cubicBezTo>
                <a:cubicBezTo>
                  <a:pt x="844031" y="62204"/>
                  <a:pt x="855998" y="69479"/>
                  <a:pt x="868912" y="74645"/>
                </a:cubicBezTo>
                <a:cubicBezTo>
                  <a:pt x="887176" y="81950"/>
                  <a:pt x="906921" y="85317"/>
                  <a:pt x="924896" y="93306"/>
                </a:cubicBezTo>
                <a:cubicBezTo>
                  <a:pt x="935144" y="97860"/>
                  <a:pt x="942581" y="107550"/>
                  <a:pt x="952888" y="111967"/>
                </a:cubicBezTo>
                <a:cubicBezTo>
                  <a:pt x="964675" y="117019"/>
                  <a:pt x="978203" y="116795"/>
                  <a:pt x="990210" y="121298"/>
                </a:cubicBezTo>
                <a:cubicBezTo>
                  <a:pt x="1087794" y="157892"/>
                  <a:pt x="969056" y="125339"/>
                  <a:pt x="1064855" y="149290"/>
                </a:cubicBezTo>
                <a:lnTo>
                  <a:pt x="1148831" y="205274"/>
                </a:lnTo>
                <a:cubicBezTo>
                  <a:pt x="1158161" y="211494"/>
                  <a:pt x="1165943" y="221215"/>
                  <a:pt x="1176822" y="223935"/>
                </a:cubicBezTo>
                <a:lnTo>
                  <a:pt x="1214145" y="233265"/>
                </a:lnTo>
                <a:cubicBezTo>
                  <a:pt x="1298301" y="275345"/>
                  <a:pt x="1193914" y="226523"/>
                  <a:pt x="1326112" y="270588"/>
                </a:cubicBezTo>
                <a:cubicBezTo>
                  <a:pt x="1344773" y="276808"/>
                  <a:pt x="1363832" y="281944"/>
                  <a:pt x="1382096" y="289249"/>
                </a:cubicBezTo>
                <a:cubicBezTo>
                  <a:pt x="1437881" y="311563"/>
                  <a:pt x="1412860" y="302613"/>
                  <a:pt x="1456741" y="317241"/>
                </a:cubicBezTo>
                <a:cubicBezTo>
                  <a:pt x="1466072" y="326572"/>
                  <a:pt x="1473754" y="337913"/>
                  <a:pt x="1484733" y="345233"/>
                </a:cubicBezTo>
                <a:cubicBezTo>
                  <a:pt x="1492916" y="350688"/>
                  <a:pt x="1503927" y="350165"/>
                  <a:pt x="1512724" y="354563"/>
                </a:cubicBezTo>
                <a:cubicBezTo>
                  <a:pt x="1522754" y="359578"/>
                  <a:pt x="1530409" y="368808"/>
                  <a:pt x="1540716" y="373225"/>
                </a:cubicBezTo>
                <a:cubicBezTo>
                  <a:pt x="1552503" y="378277"/>
                  <a:pt x="1565756" y="378870"/>
                  <a:pt x="1578039" y="382555"/>
                </a:cubicBezTo>
                <a:cubicBezTo>
                  <a:pt x="1596880" y="388207"/>
                  <a:pt x="1615361" y="394996"/>
                  <a:pt x="1634022" y="401216"/>
                </a:cubicBezTo>
                <a:cubicBezTo>
                  <a:pt x="1697546" y="422391"/>
                  <a:pt x="1619431" y="395745"/>
                  <a:pt x="1708667" y="429208"/>
                </a:cubicBezTo>
                <a:cubicBezTo>
                  <a:pt x="1717876" y="432661"/>
                  <a:pt x="1726957" y="436922"/>
                  <a:pt x="1736659" y="438539"/>
                </a:cubicBezTo>
                <a:cubicBezTo>
                  <a:pt x="1764440" y="443169"/>
                  <a:pt x="1792643" y="444759"/>
                  <a:pt x="1820635" y="447869"/>
                </a:cubicBezTo>
                <a:cubicBezTo>
                  <a:pt x="2366648" y="431324"/>
                  <a:pt x="1974630" y="452852"/>
                  <a:pt x="2203190" y="429208"/>
                </a:cubicBezTo>
                <a:lnTo>
                  <a:pt x="2399133" y="410547"/>
                </a:lnTo>
                <a:cubicBezTo>
                  <a:pt x="2430990" y="404175"/>
                  <a:pt x="2469923" y="395867"/>
                  <a:pt x="2501769" y="391886"/>
                </a:cubicBezTo>
                <a:cubicBezTo>
                  <a:pt x="2532785" y="388009"/>
                  <a:pt x="2564010" y="386007"/>
                  <a:pt x="2595076" y="382555"/>
                </a:cubicBezTo>
                <a:cubicBezTo>
                  <a:pt x="2619998" y="379786"/>
                  <a:pt x="2644937" y="377038"/>
                  <a:pt x="2669720" y="373225"/>
                </a:cubicBezTo>
                <a:cubicBezTo>
                  <a:pt x="2685395" y="370814"/>
                  <a:pt x="2700623" y="365747"/>
                  <a:pt x="2716373" y="363894"/>
                </a:cubicBezTo>
                <a:cubicBezTo>
                  <a:pt x="2753569" y="359518"/>
                  <a:pt x="2791018" y="357673"/>
                  <a:pt x="2828341" y="354563"/>
                </a:cubicBezTo>
                <a:cubicBezTo>
                  <a:pt x="2840782" y="351453"/>
                  <a:pt x="2853014" y="347341"/>
                  <a:pt x="2865663" y="345233"/>
                </a:cubicBezTo>
                <a:cubicBezTo>
                  <a:pt x="2890397" y="341111"/>
                  <a:pt x="2915453" y="339216"/>
                  <a:pt x="2940308" y="335902"/>
                </a:cubicBezTo>
                <a:lnTo>
                  <a:pt x="3005622" y="326571"/>
                </a:lnTo>
                <a:cubicBezTo>
                  <a:pt x="3014953" y="323461"/>
                  <a:pt x="3024157" y="319943"/>
                  <a:pt x="3033614" y="317241"/>
                </a:cubicBezTo>
                <a:cubicBezTo>
                  <a:pt x="3236766" y="259199"/>
                  <a:pt x="3481975" y="314333"/>
                  <a:pt x="3668096" y="317241"/>
                </a:cubicBezTo>
                <a:cubicBezTo>
                  <a:pt x="3680537" y="320351"/>
                  <a:pt x="3693088" y="323048"/>
                  <a:pt x="3705418" y="326571"/>
                </a:cubicBezTo>
                <a:cubicBezTo>
                  <a:pt x="3714875" y="329273"/>
                  <a:pt x="3723809" y="333768"/>
                  <a:pt x="3733410" y="335902"/>
                </a:cubicBezTo>
                <a:cubicBezTo>
                  <a:pt x="3802830" y="351329"/>
                  <a:pt x="3780264" y="339674"/>
                  <a:pt x="3854708" y="354563"/>
                </a:cubicBezTo>
                <a:cubicBezTo>
                  <a:pt x="3879857" y="359593"/>
                  <a:pt x="3904471" y="367005"/>
                  <a:pt x="3929353" y="373225"/>
                </a:cubicBezTo>
                <a:cubicBezTo>
                  <a:pt x="3941794" y="376335"/>
                  <a:pt x="3954510" y="378499"/>
                  <a:pt x="3966676" y="382555"/>
                </a:cubicBezTo>
                <a:cubicBezTo>
                  <a:pt x="4018999" y="399997"/>
                  <a:pt x="3985122" y="389500"/>
                  <a:pt x="4069312" y="410547"/>
                </a:cubicBezTo>
                <a:cubicBezTo>
                  <a:pt x="4081753" y="413657"/>
                  <a:pt x="4093940" y="418065"/>
                  <a:pt x="4106635" y="419878"/>
                </a:cubicBezTo>
                <a:cubicBezTo>
                  <a:pt x="4128406" y="422988"/>
                  <a:pt x="4150311" y="425274"/>
                  <a:pt x="4171949" y="429208"/>
                </a:cubicBezTo>
                <a:cubicBezTo>
                  <a:pt x="4246354" y="442736"/>
                  <a:pt x="4180037" y="445512"/>
                  <a:pt x="4302578" y="447869"/>
                </a:cubicBezTo>
                <a:lnTo>
                  <a:pt x="5179655" y="457200"/>
                </a:lnTo>
                <a:lnTo>
                  <a:pt x="5300953" y="466531"/>
                </a:lnTo>
                <a:cubicBezTo>
                  <a:pt x="5332093" y="469239"/>
                  <a:pt x="5363067" y="473849"/>
                  <a:pt x="5394259" y="475861"/>
                </a:cubicBezTo>
                <a:cubicBezTo>
                  <a:pt x="5459512" y="480071"/>
                  <a:pt x="5524888" y="482082"/>
                  <a:pt x="5590202" y="485192"/>
                </a:cubicBezTo>
                <a:cubicBezTo>
                  <a:pt x="5602643" y="488302"/>
                  <a:pt x="5614907" y="492229"/>
                  <a:pt x="5627524" y="494523"/>
                </a:cubicBezTo>
                <a:cubicBezTo>
                  <a:pt x="5649162" y="498457"/>
                  <a:pt x="5671410" y="498908"/>
                  <a:pt x="5692839" y="503853"/>
                </a:cubicBezTo>
                <a:cubicBezTo>
                  <a:pt x="5712006" y="508276"/>
                  <a:pt x="5730161" y="516294"/>
                  <a:pt x="5748822" y="522514"/>
                </a:cubicBezTo>
                <a:cubicBezTo>
                  <a:pt x="5758153" y="525624"/>
                  <a:pt x="5767170" y="529916"/>
                  <a:pt x="5776814" y="531845"/>
                </a:cubicBezTo>
                <a:cubicBezTo>
                  <a:pt x="5792365" y="534955"/>
                  <a:pt x="5808167" y="537003"/>
                  <a:pt x="5823467" y="541176"/>
                </a:cubicBezTo>
                <a:cubicBezTo>
                  <a:pt x="5842445" y="546352"/>
                  <a:pt x="5860368" y="555066"/>
                  <a:pt x="5879451" y="559837"/>
                </a:cubicBezTo>
                <a:lnTo>
                  <a:pt x="5916773" y="569167"/>
                </a:lnTo>
                <a:cubicBezTo>
                  <a:pt x="5929214" y="575388"/>
                  <a:pt x="5941072" y="582945"/>
                  <a:pt x="5954096" y="587829"/>
                </a:cubicBezTo>
                <a:cubicBezTo>
                  <a:pt x="5966103" y="592332"/>
                  <a:pt x="5979948" y="591424"/>
                  <a:pt x="5991418" y="597159"/>
                </a:cubicBezTo>
                <a:cubicBezTo>
                  <a:pt x="6005327" y="604114"/>
                  <a:pt x="6015239" y="617435"/>
                  <a:pt x="6028741" y="625151"/>
                </a:cubicBezTo>
                <a:cubicBezTo>
                  <a:pt x="6045333" y="634632"/>
                  <a:pt x="6089730" y="640398"/>
                  <a:pt x="6103386" y="643812"/>
                </a:cubicBezTo>
                <a:cubicBezTo>
                  <a:pt x="6112928" y="646197"/>
                  <a:pt x="6121836" y="650757"/>
                  <a:pt x="6131378" y="653143"/>
                </a:cubicBezTo>
                <a:cubicBezTo>
                  <a:pt x="6146763" y="656990"/>
                  <a:pt x="6162480" y="659364"/>
                  <a:pt x="6178031" y="662474"/>
                </a:cubicBezTo>
                <a:cubicBezTo>
                  <a:pt x="6190472" y="668694"/>
                  <a:pt x="6203277" y="674234"/>
                  <a:pt x="6215353" y="681135"/>
                </a:cubicBezTo>
                <a:cubicBezTo>
                  <a:pt x="6225090" y="686699"/>
                  <a:pt x="6233315" y="694781"/>
                  <a:pt x="6243345" y="699796"/>
                </a:cubicBezTo>
                <a:cubicBezTo>
                  <a:pt x="6258326" y="707286"/>
                  <a:pt x="6274447" y="712237"/>
                  <a:pt x="6289998" y="718457"/>
                </a:cubicBezTo>
                <a:cubicBezTo>
                  <a:pt x="6299329" y="727788"/>
                  <a:pt x="6306800" y="739455"/>
                  <a:pt x="6317990" y="746449"/>
                </a:cubicBezTo>
                <a:cubicBezTo>
                  <a:pt x="6347660" y="764993"/>
                  <a:pt x="6390149" y="768531"/>
                  <a:pt x="6420627" y="783771"/>
                </a:cubicBezTo>
                <a:cubicBezTo>
                  <a:pt x="6459242" y="803079"/>
                  <a:pt x="6467807" y="809562"/>
                  <a:pt x="6513933" y="821094"/>
                </a:cubicBezTo>
                <a:cubicBezTo>
                  <a:pt x="6526374" y="824204"/>
                  <a:pt x="6538432" y="830266"/>
                  <a:pt x="6551255" y="830425"/>
                </a:cubicBezTo>
                <a:lnTo>
                  <a:pt x="8016161" y="839755"/>
                </a:lnTo>
                <a:cubicBezTo>
                  <a:pt x="8087696" y="842865"/>
                  <a:pt x="8159374" y="843594"/>
                  <a:pt x="8230765" y="849086"/>
                </a:cubicBezTo>
                <a:cubicBezTo>
                  <a:pt x="8240571" y="849840"/>
                  <a:pt x="8249215" y="856031"/>
                  <a:pt x="8258757" y="858416"/>
                </a:cubicBezTo>
                <a:cubicBezTo>
                  <a:pt x="8276491" y="862850"/>
                  <a:pt x="8323577" y="869894"/>
                  <a:pt x="8342733" y="877078"/>
                </a:cubicBezTo>
                <a:cubicBezTo>
                  <a:pt x="8355756" y="881962"/>
                  <a:pt x="8367141" y="890573"/>
                  <a:pt x="8380055" y="895739"/>
                </a:cubicBezTo>
                <a:cubicBezTo>
                  <a:pt x="8398319" y="903044"/>
                  <a:pt x="8419672" y="903488"/>
                  <a:pt x="8436039" y="914400"/>
                </a:cubicBezTo>
                <a:cubicBezTo>
                  <a:pt x="8500205" y="957179"/>
                  <a:pt x="8470745" y="944631"/>
                  <a:pt x="8520014" y="961053"/>
                </a:cubicBezTo>
                <a:cubicBezTo>
                  <a:pt x="8558351" y="986610"/>
                  <a:pt x="8569733" y="995870"/>
                  <a:pt x="8622651" y="1017037"/>
                </a:cubicBezTo>
                <a:cubicBezTo>
                  <a:pt x="8653753" y="1029478"/>
                  <a:pt x="8683459" y="1046234"/>
                  <a:pt x="8715957" y="1054359"/>
                </a:cubicBezTo>
                <a:cubicBezTo>
                  <a:pt x="8771633" y="1068278"/>
                  <a:pt x="8740631" y="1061582"/>
                  <a:pt x="8809263" y="1073020"/>
                </a:cubicBezTo>
                <a:cubicBezTo>
                  <a:pt x="8821704" y="1082351"/>
                  <a:pt x="8832292" y="1094886"/>
                  <a:pt x="8846586" y="1101012"/>
                </a:cubicBezTo>
                <a:cubicBezTo>
                  <a:pt x="8876432" y="1113803"/>
                  <a:pt x="8908517" y="1120637"/>
                  <a:pt x="8939892" y="1129004"/>
                </a:cubicBezTo>
                <a:cubicBezTo>
                  <a:pt x="8961637" y="1134803"/>
                  <a:pt x="9022746" y="1144368"/>
                  <a:pt x="9042529" y="1147665"/>
                </a:cubicBezTo>
                <a:cubicBezTo>
                  <a:pt x="9061190" y="1153886"/>
                  <a:pt x="9079535" y="1161151"/>
                  <a:pt x="9098512" y="1166327"/>
                </a:cubicBezTo>
                <a:cubicBezTo>
                  <a:pt x="9196228" y="1192977"/>
                  <a:pt x="9098658" y="1159839"/>
                  <a:pt x="9182488" y="1184988"/>
                </a:cubicBezTo>
                <a:cubicBezTo>
                  <a:pt x="9230083" y="1199267"/>
                  <a:pt x="9232788" y="1204379"/>
                  <a:pt x="9275794" y="1212980"/>
                </a:cubicBezTo>
                <a:cubicBezTo>
                  <a:pt x="9294345" y="1216690"/>
                  <a:pt x="9313227" y="1218600"/>
                  <a:pt x="9331778" y="1222310"/>
                </a:cubicBezTo>
                <a:cubicBezTo>
                  <a:pt x="9419008" y="1239756"/>
                  <a:pt x="9325975" y="1223192"/>
                  <a:pt x="9397092" y="1240971"/>
                </a:cubicBezTo>
                <a:cubicBezTo>
                  <a:pt x="9412477" y="1244817"/>
                  <a:pt x="9428194" y="1247192"/>
                  <a:pt x="9443745" y="1250302"/>
                </a:cubicBezTo>
                <a:cubicBezTo>
                  <a:pt x="9446855" y="1321837"/>
                  <a:pt x="9448313" y="1393462"/>
                  <a:pt x="9453076" y="1464906"/>
                </a:cubicBezTo>
                <a:cubicBezTo>
                  <a:pt x="9456878" y="1521933"/>
                  <a:pt x="9463697" y="1525952"/>
                  <a:pt x="9471737" y="1576874"/>
                </a:cubicBezTo>
                <a:cubicBezTo>
                  <a:pt x="9478597" y="1620320"/>
                  <a:pt x="9486416" y="1663698"/>
                  <a:pt x="9490398" y="1707502"/>
                </a:cubicBezTo>
                <a:cubicBezTo>
                  <a:pt x="9493508" y="1741714"/>
                  <a:pt x="9495189" y="1776087"/>
                  <a:pt x="9499729" y="1810139"/>
                </a:cubicBezTo>
                <a:cubicBezTo>
                  <a:pt x="9502333" y="1829670"/>
                  <a:pt x="9511992" y="1856259"/>
                  <a:pt x="9518390" y="1875453"/>
                </a:cubicBezTo>
                <a:cubicBezTo>
                  <a:pt x="9521500" y="1894114"/>
                  <a:pt x="9523616" y="1912969"/>
                  <a:pt x="9527720" y="1931437"/>
                </a:cubicBezTo>
                <a:cubicBezTo>
                  <a:pt x="9545088" y="2009593"/>
                  <a:pt x="9530250" y="1893157"/>
                  <a:pt x="9546382" y="2006082"/>
                </a:cubicBezTo>
                <a:cubicBezTo>
                  <a:pt x="9550365" y="2033963"/>
                  <a:pt x="9552602" y="2062065"/>
                  <a:pt x="9555712" y="2090057"/>
                </a:cubicBezTo>
                <a:cubicBezTo>
                  <a:pt x="9552602" y="2161592"/>
                  <a:pt x="9560986" y="2234564"/>
                  <a:pt x="9546382" y="2304661"/>
                </a:cubicBezTo>
                <a:cubicBezTo>
                  <a:pt x="9543767" y="2317215"/>
                  <a:pt x="9520529" y="2308257"/>
                  <a:pt x="9509059" y="2313992"/>
                </a:cubicBezTo>
                <a:cubicBezTo>
                  <a:pt x="9488999" y="2324022"/>
                  <a:pt x="9475068" y="2346915"/>
                  <a:pt x="9453076" y="2351314"/>
                </a:cubicBezTo>
                <a:cubicBezTo>
                  <a:pt x="9437525" y="2354424"/>
                  <a:pt x="9421808" y="2356798"/>
                  <a:pt x="9406422" y="2360645"/>
                </a:cubicBezTo>
                <a:cubicBezTo>
                  <a:pt x="9308508" y="2385125"/>
                  <a:pt x="9463281" y="2353127"/>
                  <a:pt x="9341108" y="2379306"/>
                </a:cubicBezTo>
                <a:cubicBezTo>
                  <a:pt x="9249207" y="2398998"/>
                  <a:pt x="9263274" y="2395757"/>
                  <a:pt x="9182488" y="2407298"/>
                </a:cubicBezTo>
                <a:cubicBezTo>
                  <a:pt x="9173157" y="2410408"/>
                  <a:pt x="9164038" y="2414244"/>
                  <a:pt x="9154496" y="2416629"/>
                </a:cubicBezTo>
                <a:cubicBezTo>
                  <a:pt x="9138383" y="2420657"/>
                  <a:pt x="9064923" y="2434102"/>
                  <a:pt x="9051859" y="2435290"/>
                </a:cubicBezTo>
                <a:cubicBezTo>
                  <a:pt x="9002203" y="2439804"/>
                  <a:pt x="8952348" y="2441776"/>
                  <a:pt x="8902569" y="2444620"/>
                </a:cubicBezTo>
                <a:lnTo>
                  <a:pt x="8725288" y="2453951"/>
                </a:lnTo>
                <a:cubicBezTo>
                  <a:pt x="8684815" y="2456481"/>
                  <a:pt x="8644530" y="2462293"/>
                  <a:pt x="8603990" y="2463282"/>
                </a:cubicBezTo>
                <a:lnTo>
                  <a:pt x="7960178" y="2472612"/>
                </a:lnTo>
                <a:lnTo>
                  <a:pt x="6252676" y="2463282"/>
                </a:lnTo>
                <a:cubicBezTo>
                  <a:pt x="6202818" y="2462781"/>
                  <a:pt x="6153199" y="2456117"/>
                  <a:pt x="6103386" y="2453951"/>
                </a:cubicBezTo>
                <a:cubicBezTo>
                  <a:pt x="5960056" y="2447719"/>
                  <a:pt x="5775279" y="2445364"/>
                  <a:pt x="5627524" y="2435290"/>
                </a:cubicBezTo>
                <a:cubicBezTo>
                  <a:pt x="5555886" y="2430406"/>
                  <a:pt x="5484672" y="2419389"/>
                  <a:pt x="5412920" y="2416629"/>
                </a:cubicBezTo>
                <a:lnTo>
                  <a:pt x="4927729" y="2397967"/>
                </a:lnTo>
                <a:lnTo>
                  <a:pt x="4638480" y="2388637"/>
                </a:lnTo>
                <a:lnTo>
                  <a:pt x="4423876" y="2379306"/>
                </a:lnTo>
                <a:lnTo>
                  <a:pt x="3985337" y="2369976"/>
                </a:lnTo>
                <a:cubicBezTo>
                  <a:pt x="3394326" y="2338869"/>
                  <a:pt x="4108275" y="2373821"/>
                  <a:pt x="2679051" y="2351314"/>
                </a:cubicBezTo>
                <a:cubicBezTo>
                  <a:pt x="2660135" y="2351016"/>
                  <a:pt x="2641820" y="2344484"/>
                  <a:pt x="2623067" y="2341984"/>
                </a:cubicBezTo>
                <a:cubicBezTo>
                  <a:pt x="2595150" y="2338262"/>
                  <a:pt x="2567084" y="2335763"/>
                  <a:pt x="2539092" y="2332653"/>
                </a:cubicBezTo>
                <a:cubicBezTo>
                  <a:pt x="2441720" y="2308312"/>
                  <a:pt x="2526756" y="2327042"/>
                  <a:pt x="2324488" y="2313992"/>
                </a:cubicBezTo>
                <a:cubicBezTo>
                  <a:pt x="2287114" y="2311581"/>
                  <a:pt x="2249956" y="2305762"/>
                  <a:pt x="2212520" y="2304661"/>
                </a:cubicBezTo>
                <a:cubicBezTo>
                  <a:pt x="2038396" y="2299540"/>
                  <a:pt x="1864158" y="2299381"/>
                  <a:pt x="1690006" y="2295331"/>
                </a:cubicBezTo>
                <a:cubicBezTo>
                  <a:pt x="1553902" y="2292166"/>
                  <a:pt x="1356839" y="2284596"/>
                  <a:pt x="1214145" y="2276669"/>
                </a:cubicBezTo>
                <a:cubicBezTo>
                  <a:pt x="1167460" y="2274075"/>
                  <a:pt x="1120839" y="2270449"/>
                  <a:pt x="1074186" y="2267339"/>
                </a:cubicBezTo>
                <a:lnTo>
                  <a:pt x="439704" y="2276669"/>
                </a:lnTo>
                <a:cubicBezTo>
                  <a:pt x="346741" y="2278735"/>
                  <a:pt x="259122" y="2278966"/>
                  <a:pt x="169116" y="2295331"/>
                </a:cubicBezTo>
                <a:cubicBezTo>
                  <a:pt x="156499" y="2297625"/>
                  <a:pt x="144235" y="2301551"/>
                  <a:pt x="131794" y="2304661"/>
                </a:cubicBezTo>
                <a:cubicBezTo>
                  <a:pt x="91361" y="2301551"/>
                  <a:pt x="15958" y="2335514"/>
                  <a:pt x="10496" y="2295331"/>
                </a:cubicBezTo>
                <a:cubicBezTo>
                  <a:pt x="-11267" y="2135216"/>
                  <a:pt x="7001" y="607431"/>
                  <a:pt x="10496" y="429208"/>
                </a:cubicBezTo>
                <a:cubicBezTo>
                  <a:pt x="11110" y="397888"/>
                  <a:pt x="23022" y="381605"/>
                  <a:pt x="47818" y="363894"/>
                </a:cubicBezTo>
                <a:cubicBezTo>
                  <a:pt x="59137" y="355809"/>
                  <a:pt x="72700" y="351453"/>
                  <a:pt x="85141" y="345233"/>
                </a:cubicBezTo>
                <a:cubicBezTo>
                  <a:pt x="112599" y="317774"/>
                  <a:pt x="85141" y="323461"/>
                  <a:pt x="94471" y="317241"/>
                </a:cubicBezTo>
                <a:close/>
              </a:path>
            </a:pathLst>
          </a:custGeom>
          <a:solidFill>
            <a:srgbClr val="92d050"/>
          </a:solidFill>
          <a:ln w="2556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6" name="Picture 8" descr=""/>
          <p:cNvPicPr/>
          <p:nvPr/>
        </p:nvPicPr>
        <p:blipFill>
          <a:blip r:embed="rId2"/>
          <a:stretch/>
        </p:blipFill>
        <p:spPr>
          <a:xfrm>
            <a:off x="0" y="1125360"/>
            <a:ext cx="5410080" cy="44755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9" descr=""/>
          <p:cNvPicPr/>
          <p:nvPr/>
        </p:nvPicPr>
        <p:blipFill>
          <a:blip r:embed="rId3"/>
          <a:stretch/>
        </p:blipFill>
        <p:spPr>
          <a:xfrm>
            <a:off x="6894360" y="5076720"/>
            <a:ext cx="754200" cy="5288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0" descr=""/>
          <p:cNvPicPr/>
          <p:nvPr/>
        </p:nvPicPr>
        <p:blipFill>
          <a:blip r:embed="rId4"/>
          <a:stretch/>
        </p:blipFill>
        <p:spPr>
          <a:xfrm>
            <a:off x="5415120" y="4618080"/>
            <a:ext cx="1461960" cy="8906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1" descr=""/>
          <p:cNvPicPr/>
          <p:nvPr/>
        </p:nvPicPr>
        <p:blipFill>
          <a:blip r:embed="rId5"/>
          <a:stretch/>
        </p:blipFill>
        <p:spPr>
          <a:xfrm>
            <a:off x="4290840" y="4221000"/>
            <a:ext cx="1262160" cy="10130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" descr=""/>
          <p:cNvPicPr/>
          <p:nvPr/>
        </p:nvPicPr>
        <p:blipFill>
          <a:blip r:embed="rId6"/>
          <a:stretch/>
        </p:blipFill>
        <p:spPr>
          <a:xfrm>
            <a:off x="7648560" y="4989600"/>
            <a:ext cx="598680" cy="7858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" descr=""/>
          <p:cNvPicPr/>
          <p:nvPr/>
        </p:nvPicPr>
        <p:blipFill>
          <a:blip r:embed="rId7"/>
          <a:stretch/>
        </p:blipFill>
        <p:spPr>
          <a:xfrm>
            <a:off x="6659640" y="5840280"/>
            <a:ext cx="1535040" cy="7668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"/>
          <p:cNvPicPr/>
          <p:nvPr/>
        </p:nvPicPr>
        <p:blipFill>
          <a:blip r:embed="rId8"/>
          <a:stretch/>
        </p:blipFill>
        <p:spPr>
          <a:xfrm>
            <a:off x="6621480" y="2762280"/>
            <a:ext cx="1119240" cy="7714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2" descr=""/>
          <p:cNvPicPr/>
          <p:nvPr/>
        </p:nvPicPr>
        <p:blipFill>
          <a:blip r:embed="rId9"/>
          <a:stretch/>
        </p:blipFill>
        <p:spPr>
          <a:xfrm>
            <a:off x="5784840" y="5950080"/>
            <a:ext cx="874800" cy="65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10"/>
          <p:cNvSpPr/>
          <p:nvPr/>
        </p:nvSpPr>
        <p:spPr>
          <a:xfrm>
            <a:off x="-17640" y="-100080"/>
            <a:ext cx="9161640" cy="6958080"/>
          </a:xfrm>
          <a:prstGeom prst="rect">
            <a:avLst/>
          </a:prstGeom>
          <a:solidFill>
            <a:srgbClr val="c9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5" name="Picture 4" descr=""/>
          <p:cNvPicPr/>
          <p:nvPr/>
        </p:nvPicPr>
        <p:blipFill>
          <a:blip r:embed="rId1"/>
          <a:stretch/>
        </p:blipFill>
        <p:spPr>
          <a:xfrm>
            <a:off x="-17640" y="-1179360"/>
            <a:ext cx="9269640" cy="5214960"/>
          </a:xfrm>
          <a:prstGeom prst="rect">
            <a:avLst/>
          </a:prstGeom>
          <a:ln w="0">
            <a:noFill/>
          </a:ln>
        </p:spPr>
      </p:pic>
      <p:sp>
        <p:nvSpPr>
          <p:cNvPr id="106" name="Freeform 6"/>
          <p:cNvSpPr/>
          <p:nvPr/>
        </p:nvSpPr>
        <p:spPr>
          <a:xfrm>
            <a:off x="-378000" y="3645000"/>
            <a:ext cx="9784080" cy="3386160"/>
          </a:xfrm>
          <a:custGeom>
            <a:avLst/>
            <a:gdLst/>
            <a:ahLst/>
            <a:rect l="l" t="t" r="r" b="b"/>
            <a:pathLst>
              <a:path w="9783555" h="2593910">
                <a:moveTo>
                  <a:pt x="98380" y="1670180"/>
                </a:moveTo>
                <a:cubicBezTo>
                  <a:pt x="117041" y="1660849"/>
                  <a:pt x="136671" y="1653246"/>
                  <a:pt x="154363" y="1642188"/>
                </a:cubicBezTo>
                <a:cubicBezTo>
                  <a:pt x="161823" y="1637525"/>
                  <a:pt x="166267" y="1629158"/>
                  <a:pt x="173025" y="1623526"/>
                </a:cubicBezTo>
                <a:cubicBezTo>
                  <a:pt x="184971" y="1613571"/>
                  <a:pt x="197693" y="1604574"/>
                  <a:pt x="210347" y="1595535"/>
                </a:cubicBezTo>
                <a:cubicBezTo>
                  <a:pt x="219472" y="1589017"/>
                  <a:pt x="229825" y="1584171"/>
                  <a:pt x="238339" y="1576873"/>
                </a:cubicBezTo>
                <a:cubicBezTo>
                  <a:pt x="251697" y="1565423"/>
                  <a:pt x="262303" y="1551001"/>
                  <a:pt x="275661" y="1539551"/>
                </a:cubicBezTo>
                <a:cubicBezTo>
                  <a:pt x="284175" y="1532253"/>
                  <a:pt x="295139" y="1528188"/>
                  <a:pt x="303653" y="1520890"/>
                </a:cubicBezTo>
                <a:cubicBezTo>
                  <a:pt x="317012" y="1509440"/>
                  <a:pt x="327618" y="1495017"/>
                  <a:pt x="340976" y="1483567"/>
                </a:cubicBezTo>
                <a:cubicBezTo>
                  <a:pt x="354452" y="1472016"/>
                  <a:pt x="407230" y="1442907"/>
                  <a:pt x="415620" y="1436914"/>
                </a:cubicBezTo>
                <a:cubicBezTo>
                  <a:pt x="444477" y="1416302"/>
                  <a:pt x="468806" y="1389194"/>
                  <a:pt x="499596" y="1371600"/>
                </a:cubicBezTo>
                <a:cubicBezTo>
                  <a:pt x="521367" y="1359159"/>
                  <a:pt x="542897" y="1346285"/>
                  <a:pt x="564910" y="1334278"/>
                </a:cubicBezTo>
                <a:cubicBezTo>
                  <a:pt x="577121" y="1327617"/>
                  <a:pt x="590438" y="1322988"/>
                  <a:pt x="602233" y="1315616"/>
                </a:cubicBezTo>
                <a:cubicBezTo>
                  <a:pt x="615420" y="1307374"/>
                  <a:pt x="626368" y="1295866"/>
                  <a:pt x="639555" y="1287624"/>
                </a:cubicBezTo>
                <a:cubicBezTo>
                  <a:pt x="727038" y="1232947"/>
                  <a:pt x="632952" y="1301672"/>
                  <a:pt x="704869" y="1250302"/>
                </a:cubicBezTo>
                <a:cubicBezTo>
                  <a:pt x="717524" y="1241263"/>
                  <a:pt x="729452" y="1231228"/>
                  <a:pt x="742192" y="1222310"/>
                </a:cubicBezTo>
                <a:cubicBezTo>
                  <a:pt x="760566" y="1209449"/>
                  <a:pt x="782317" y="1200847"/>
                  <a:pt x="798176" y="1184988"/>
                </a:cubicBezTo>
                <a:cubicBezTo>
                  <a:pt x="815756" y="1167407"/>
                  <a:pt x="830774" y="1148728"/>
                  <a:pt x="854159" y="1138335"/>
                </a:cubicBezTo>
                <a:cubicBezTo>
                  <a:pt x="872134" y="1130346"/>
                  <a:pt x="892549" y="1128470"/>
                  <a:pt x="910143" y="1119673"/>
                </a:cubicBezTo>
                <a:cubicBezTo>
                  <a:pt x="922584" y="1113453"/>
                  <a:pt x="935389" y="1107913"/>
                  <a:pt x="947465" y="1101012"/>
                </a:cubicBezTo>
                <a:cubicBezTo>
                  <a:pt x="957202" y="1095448"/>
                  <a:pt x="965150" y="1086768"/>
                  <a:pt x="975457" y="1082351"/>
                </a:cubicBezTo>
                <a:cubicBezTo>
                  <a:pt x="987244" y="1077299"/>
                  <a:pt x="1000773" y="1077523"/>
                  <a:pt x="1012780" y="1073020"/>
                </a:cubicBezTo>
                <a:cubicBezTo>
                  <a:pt x="1025803" y="1068136"/>
                  <a:pt x="1037661" y="1060579"/>
                  <a:pt x="1050102" y="1054359"/>
                </a:cubicBezTo>
                <a:cubicBezTo>
                  <a:pt x="1087424" y="1057469"/>
                  <a:pt x="1124874" y="1059314"/>
                  <a:pt x="1162069" y="1063690"/>
                </a:cubicBezTo>
                <a:cubicBezTo>
                  <a:pt x="1191978" y="1067209"/>
                  <a:pt x="1217045" y="1075906"/>
                  <a:pt x="1246045" y="1082351"/>
                </a:cubicBezTo>
                <a:cubicBezTo>
                  <a:pt x="1261526" y="1085791"/>
                  <a:pt x="1277217" y="1088242"/>
                  <a:pt x="1292698" y="1091682"/>
                </a:cubicBezTo>
                <a:cubicBezTo>
                  <a:pt x="1305216" y="1094464"/>
                  <a:pt x="1317446" y="1098497"/>
                  <a:pt x="1330020" y="1101012"/>
                </a:cubicBezTo>
                <a:cubicBezTo>
                  <a:pt x="1362402" y="1107488"/>
                  <a:pt x="1419930" y="1115189"/>
                  <a:pt x="1451318" y="1119673"/>
                </a:cubicBezTo>
                <a:cubicBezTo>
                  <a:pt x="1566396" y="1116563"/>
                  <a:pt x="1681575" y="1116092"/>
                  <a:pt x="1796551" y="1110343"/>
                </a:cubicBezTo>
                <a:cubicBezTo>
                  <a:pt x="1806374" y="1109852"/>
                  <a:pt x="1815086" y="1103714"/>
                  <a:pt x="1824543" y="1101012"/>
                </a:cubicBezTo>
                <a:cubicBezTo>
                  <a:pt x="1836873" y="1097489"/>
                  <a:pt x="1849582" y="1095367"/>
                  <a:pt x="1861865" y="1091682"/>
                </a:cubicBezTo>
                <a:cubicBezTo>
                  <a:pt x="1880706" y="1086030"/>
                  <a:pt x="1900255" y="1081817"/>
                  <a:pt x="1917849" y="1073020"/>
                </a:cubicBezTo>
                <a:cubicBezTo>
                  <a:pt x="1942731" y="1060579"/>
                  <a:pt x="1966103" y="1044495"/>
                  <a:pt x="1992494" y="1035698"/>
                </a:cubicBezTo>
                <a:cubicBezTo>
                  <a:pt x="2001825" y="1032588"/>
                  <a:pt x="2011532" y="1030437"/>
                  <a:pt x="2020486" y="1026367"/>
                </a:cubicBezTo>
                <a:cubicBezTo>
                  <a:pt x="2045811" y="1014856"/>
                  <a:pt x="2068740" y="997843"/>
                  <a:pt x="2095131" y="989045"/>
                </a:cubicBezTo>
                <a:cubicBezTo>
                  <a:pt x="2135288" y="975658"/>
                  <a:pt x="2113581" y="982099"/>
                  <a:pt x="2160445" y="970384"/>
                </a:cubicBezTo>
                <a:cubicBezTo>
                  <a:pt x="2172886" y="964163"/>
                  <a:pt x="2184743" y="956606"/>
                  <a:pt x="2197767" y="951722"/>
                </a:cubicBezTo>
                <a:cubicBezTo>
                  <a:pt x="2221697" y="942748"/>
                  <a:pt x="2240514" y="944345"/>
                  <a:pt x="2263082" y="933061"/>
                </a:cubicBezTo>
                <a:cubicBezTo>
                  <a:pt x="2273112" y="928046"/>
                  <a:pt x="2281044" y="919415"/>
                  <a:pt x="2291074" y="914400"/>
                </a:cubicBezTo>
                <a:cubicBezTo>
                  <a:pt x="2368381" y="875747"/>
                  <a:pt x="2309200" y="910630"/>
                  <a:pt x="2365718" y="886408"/>
                </a:cubicBezTo>
                <a:cubicBezTo>
                  <a:pt x="2378503" y="880929"/>
                  <a:pt x="2390126" y="872913"/>
                  <a:pt x="2403041" y="867747"/>
                </a:cubicBezTo>
                <a:cubicBezTo>
                  <a:pt x="2421305" y="860442"/>
                  <a:pt x="2440364" y="855307"/>
                  <a:pt x="2459025" y="849086"/>
                </a:cubicBezTo>
                <a:cubicBezTo>
                  <a:pt x="2489794" y="838829"/>
                  <a:pt x="2500212" y="835963"/>
                  <a:pt x="2533669" y="821094"/>
                </a:cubicBezTo>
                <a:cubicBezTo>
                  <a:pt x="2546380" y="815445"/>
                  <a:pt x="2558207" y="807912"/>
                  <a:pt x="2570992" y="802433"/>
                </a:cubicBezTo>
                <a:cubicBezTo>
                  <a:pt x="2580032" y="798559"/>
                  <a:pt x="2589944" y="796976"/>
                  <a:pt x="2598984" y="793102"/>
                </a:cubicBezTo>
                <a:cubicBezTo>
                  <a:pt x="2611768" y="787623"/>
                  <a:pt x="2623283" y="779325"/>
                  <a:pt x="2636306" y="774441"/>
                </a:cubicBezTo>
                <a:cubicBezTo>
                  <a:pt x="2648313" y="769938"/>
                  <a:pt x="2661346" y="768795"/>
                  <a:pt x="2673629" y="765110"/>
                </a:cubicBezTo>
                <a:cubicBezTo>
                  <a:pt x="2692470" y="759458"/>
                  <a:pt x="2710324" y="750307"/>
                  <a:pt x="2729612" y="746449"/>
                </a:cubicBezTo>
                <a:cubicBezTo>
                  <a:pt x="2769376" y="738496"/>
                  <a:pt x="2771473" y="740082"/>
                  <a:pt x="2804257" y="727788"/>
                </a:cubicBezTo>
                <a:cubicBezTo>
                  <a:pt x="2819940" y="721907"/>
                  <a:pt x="2835929" y="716616"/>
                  <a:pt x="2850910" y="709126"/>
                </a:cubicBezTo>
                <a:cubicBezTo>
                  <a:pt x="2879800" y="694681"/>
                  <a:pt x="2886630" y="679384"/>
                  <a:pt x="2916225" y="662473"/>
                </a:cubicBezTo>
                <a:cubicBezTo>
                  <a:pt x="2924764" y="657594"/>
                  <a:pt x="2934886" y="656253"/>
                  <a:pt x="2944216" y="653143"/>
                </a:cubicBezTo>
                <a:cubicBezTo>
                  <a:pt x="3001269" y="615109"/>
                  <a:pt x="2941652" y="657495"/>
                  <a:pt x="3009531" y="597159"/>
                </a:cubicBezTo>
                <a:cubicBezTo>
                  <a:pt x="3024416" y="583928"/>
                  <a:pt x="3040252" y="571786"/>
                  <a:pt x="3056184" y="559837"/>
                </a:cubicBezTo>
                <a:cubicBezTo>
                  <a:pt x="3065155" y="553108"/>
                  <a:pt x="3075662" y="548473"/>
                  <a:pt x="3084176" y="541175"/>
                </a:cubicBezTo>
                <a:cubicBezTo>
                  <a:pt x="3143287" y="490508"/>
                  <a:pt x="3097883" y="516486"/>
                  <a:pt x="3158820" y="475861"/>
                </a:cubicBezTo>
                <a:cubicBezTo>
                  <a:pt x="3195533" y="451385"/>
                  <a:pt x="3230794" y="428322"/>
                  <a:pt x="3270788" y="410547"/>
                </a:cubicBezTo>
                <a:cubicBezTo>
                  <a:pt x="3295041" y="399768"/>
                  <a:pt x="3331788" y="388541"/>
                  <a:pt x="3354763" y="373224"/>
                </a:cubicBezTo>
                <a:cubicBezTo>
                  <a:pt x="3397461" y="344758"/>
                  <a:pt x="3343104" y="358450"/>
                  <a:pt x="3410747" y="335902"/>
                </a:cubicBezTo>
                <a:cubicBezTo>
                  <a:pt x="3435078" y="327792"/>
                  <a:pt x="3460243" y="322271"/>
                  <a:pt x="3485392" y="317241"/>
                </a:cubicBezTo>
                <a:cubicBezTo>
                  <a:pt x="3553610" y="303597"/>
                  <a:pt x="3516345" y="310153"/>
                  <a:pt x="3597359" y="298580"/>
                </a:cubicBezTo>
                <a:cubicBezTo>
                  <a:pt x="3606690" y="295470"/>
                  <a:pt x="3615894" y="291951"/>
                  <a:pt x="3625351" y="289249"/>
                </a:cubicBezTo>
                <a:cubicBezTo>
                  <a:pt x="3637681" y="285726"/>
                  <a:pt x="3650508" y="283973"/>
                  <a:pt x="3662674" y="279918"/>
                </a:cubicBezTo>
                <a:cubicBezTo>
                  <a:pt x="3678563" y="274622"/>
                  <a:pt x="3693168" y="265664"/>
                  <a:pt x="3709327" y="261257"/>
                </a:cubicBezTo>
                <a:cubicBezTo>
                  <a:pt x="3727579" y="256279"/>
                  <a:pt x="3746649" y="255036"/>
                  <a:pt x="3765310" y="251926"/>
                </a:cubicBezTo>
                <a:cubicBezTo>
                  <a:pt x="3849486" y="209839"/>
                  <a:pt x="3745045" y="258685"/>
                  <a:pt x="3877278" y="214604"/>
                </a:cubicBezTo>
                <a:cubicBezTo>
                  <a:pt x="3886608" y="211494"/>
                  <a:pt x="3895812" y="207975"/>
                  <a:pt x="3905269" y="205273"/>
                </a:cubicBezTo>
                <a:cubicBezTo>
                  <a:pt x="3936002" y="196492"/>
                  <a:pt x="3957194" y="193022"/>
                  <a:pt x="3989245" y="186612"/>
                </a:cubicBezTo>
                <a:cubicBezTo>
                  <a:pt x="4088772" y="189722"/>
                  <a:pt x="4188380" y="190843"/>
                  <a:pt x="4287825" y="195943"/>
                </a:cubicBezTo>
                <a:cubicBezTo>
                  <a:pt x="4346867" y="198971"/>
                  <a:pt x="4347418" y="207122"/>
                  <a:pt x="4399792" y="214604"/>
                </a:cubicBezTo>
                <a:cubicBezTo>
                  <a:pt x="4427673" y="218587"/>
                  <a:pt x="4455775" y="220825"/>
                  <a:pt x="4483767" y="223935"/>
                </a:cubicBezTo>
                <a:lnTo>
                  <a:pt x="4558412" y="242596"/>
                </a:lnTo>
                <a:cubicBezTo>
                  <a:pt x="4570853" y="245706"/>
                  <a:pt x="4582990" y="250510"/>
                  <a:pt x="4595735" y="251926"/>
                </a:cubicBezTo>
                <a:cubicBezTo>
                  <a:pt x="4828674" y="277809"/>
                  <a:pt x="4707422" y="267909"/>
                  <a:pt x="4959629" y="279918"/>
                </a:cubicBezTo>
                <a:cubicBezTo>
                  <a:pt x="4975180" y="283028"/>
                  <a:pt x="4990897" y="285402"/>
                  <a:pt x="5006282" y="289249"/>
                </a:cubicBezTo>
                <a:cubicBezTo>
                  <a:pt x="5015824" y="291635"/>
                  <a:pt x="5024499" y="297494"/>
                  <a:pt x="5034274" y="298580"/>
                </a:cubicBezTo>
                <a:cubicBezTo>
                  <a:pt x="5080745" y="303743"/>
                  <a:pt x="5127604" y="304456"/>
                  <a:pt x="5174233" y="307910"/>
                </a:cubicBezTo>
                <a:lnTo>
                  <a:pt x="5286200" y="317241"/>
                </a:lnTo>
                <a:cubicBezTo>
                  <a:pt x="5298641" y="320351"/>
                  <a:pt x="5310848" y="324621"/>
                  <a:pt x="5323522" y="326571"/>
                </a:cubicBezTo>
                <a:cubicBezTo>
                  <a:pt x="5351359" y="330854"/>
                  <a:pt x="5379527" y="332611"/>
                  <a:pt x="5407498" y="335902"/>
                </a:cubicBezTo>
                <a:lnTo>
                  <a:pt x="5482143" y="345233"/>
                </a:lnTo>
                <a:cubicBezTo>
                  <a:pt x="5594110" y="342123"/>
                  <a:pt x="5706181" y="341639"/>
                  <a:pt x="5818045" y="335902"/>
                </a:cubicBezTo>
                <a:cubicBezTo>
                  <a:pt x="5827868" y="335398"/>
                  <a:pt x="5836269" y="327720"/>
                  <a:pt x="5846037" y="326571"/>
                </a:cubicBezTo>
                <a:cubicBezTo>
                  <a:pt x="5889392" y="321471"/>
                  <a:pt x="5933122" y="320351"/>
                  <a:pt x="5976665" y="317241"/>
                </a:cubicBezTo>
                <a:cubicBezTo>
                  <a:pt x="6001547" y="311021"/>
                  <a:pt x="6025861" y="301761"/>
                  <a:pt x="6051310" y="298580"/>
                </a:cubicBezTo>
                <a:lnTo>
                  <a:pt x="6191269" y="279918"/>
                </a:lnTo>
                <a:cubicBezTo>
                  <a:pt x="6216124" y="276604"/>
                  <a:pt x="6241130" y="274401"/>
                  <a:pt x="6265914" y="270588"/>
                </a:cubicBezTo>
                <a:cubicBezTo>
                  <a:pt x="6364959" y="255350"/>
                  <a:pt x="6264984" y="267846"/>
                  <a:pt x="6349890" y="251926"/>
                </a:cubicBezTo>
                <a:cubicBezTo>
                  <a:pt x="6387079" y="244953"/>
                  <a:pt x="6424535" y="239485"/>
                  <a:pt x="6461857" y="233265"/>
                </a:cubicBezTo>
                <a:lnTo>
                  <a:pt x="6517841" y="223935"/>
                </a:lnTo>
                <a:cubicBezTo>
                  <a:pt x="6594689" y="198318"/>
                  <a:pt x="6554352" y="208055"/>
                  <a:pt x="6639139" y="195943"/>
                </a:cubicBezTo>
                <a:cubicBezTo>
                  <a:pt x="6665822" y="187048"/>
                  <a:pt x="6675157" y="183141"/>
                  <a:pt x="6704453" y="177282"/>
                </a:cubicBezTo>
                <a:cubicBezTo>
                  <a:pt x="6723004" y="173572"/>
                  <a:pt x="6741969" y="172055"/>
                  <a:pt x="6760437" y="167951"/>
                </a:cubicBezTo>
                <a:cubicBezTo>
                  <a:pt x="6770038" y="165817"/>
                  <a:pt x="6779249" y="162151"/>
                  <a:pt x="6788429" y="158620"/>
                </a:cubicBezTo>
                <a:cubicBezTo>
                  <a:pt x="6819694" y="146595"/>
                  <a:pt x="6853863" y="139879"/>
                  <a:pt x="6881735" y="121298"/>
                </a:cubicBezTo>
                <a:cubicBezTo>
                  <a:pt x="6891066" y="115078"/>
                  <a:pt x="6899991" y="108201"/>
                  <a:pt x="6909727" y="102637"/>
                </a:cubicBezTo>
                <a:cubicBezTo>
                  <a:pt x="6961795" y="72883"/>
                  <a:pt x="6932769" y="91262"/>
                  <a:pt x="6993702" y="74645"/>
                </a:cubicBezTo>
                <a:cubicBezTo>
                  <a:pt x="7012680" y="69469"/>
                  <a:pt x="7049686" y="55984"/>
                  <a:pt x="7049686" y="55984"/>
                </a:cubicBezTo>
                <a:cubicBezTo>
                  <a:pt x="7059017" y="49763"/>
                  <a:pt x="7067371" y="41740"/>
                  <a:pt x="7077678" y="37322"/>
                </a:cubicBezTo>
                <a:cubicBezTo>
                  <a:pt x="7089465" y="32271"/>
                  <a:pt x="7102670" y="31515"/>
                  <a:pt x="7115000" y="27992"/>
                </a:cubicBezTo>
                <a:cubicBezTo>
                  <a:pt x="7147032" y="18840"/>
                  <a:pt x="7147142" y="16586"/>
                  <a:pt x="7180314" y="0"/>
                </a:cubicBezTo>
                <a:lnTo>
                  <a:pt x="7516216" y="9331"/>
                </a:lnTo>
                <a:cubicBezTo>
                  <a:pt x="7556734" y="10985"/>
                  <a:pt x="7597024" y="16412"/>
                  <a:pt x="7637514" y="18661"/>
                </a:cubicBezTo>
                <a:cubicBezTo>
                  <a:pt x="7709006" y="22633"/>
                  <a:pt x="7780615" y="24229"/>
                  <a:pt x="7852118" y="27992"/>
                </a:cubicBezTo>
                <a:cubicBezTo>
                  <a:pt x="7898810" y="30449"/>
                  <a:pt x="7945412" y="34405"/>
                  <a:pt x="7992078" y="37322"/>
                </a:cubicBezTo>
                <a:lnTo>
                  <a:pt x="8150698" y="46653"/>
                </a:lnTo>
                <a:cubicBezTo>
                  <a:pt x="8178779" y="48813"/>
                  <a:pt x="8206619" y="53509"/>
                  <a:pt x="8234674" y="55984"/>
                </a:cubicBezTo>
                <a:cubicBezTo>
                  <a:pt x="8427093" y="72962"/>
                  <a:pt x="8447966" y="73397"/>
                  <a:pt x="8617229" y="83975"/>
                </a:cubicBezTo>
                <a:cubicBezTo>
                  <a:pt x="8639000" y="87085"/>
                  <a:pt x="8660978" y="88993"/>
                  <a:pt x="8682543" y="93306"/>
                </a:cubicBezTo>
                <a:cubicBezTo>
                  <a:pt x="8692187" y="95235"/>
                  <a:pt x="8700993" y="100252"/>
                  <a:pt x="8710535" y="102637"/>
                </a:cubicBezTo>
                <a:cubicBezTo>
                  <a:pt x="8725920" y="106483"/>
                  <a:pt x="8741637" y="108857"/>
                  <a:pt x="8757188" y="111967"/>
                </a:cubicBezTo>
                <a:cubicBezTo>
                  <a:pt x="8769629" y="118188"/>
                  <a:pt x="8781725" y="125150"/>
                  <a:pt x="8794510" y="130629"/>
                </a:cubicBezTo>
                <a:cubicBezTo>
                  <a:pt x="8816872" y="140213"/>
                  <a:pt x="8836163" y="142530"/>
                  <a:pt x="8859825" y="149290"/>
                </a:cubicBezTo>
                <a:cubicBezTo>
                  <a:pt x="8889486" y="157764"/>
                  <a:pt x="8902901" y="165444"/>
                  <a:pt x="8934469" y="177282"/>
                </a:cubicBezTo>
                <a:cubicBezTo>
                  <a:pt x="8943678" y="180735"/>
                  <a:pt x="8953130" y="183502"/>
                  <a:pt x="8962461" y="186612"/>
                </a:cubicBezTo>
                <a:cubicBezTo>
                  <a:pt x="8971792" y="192832"/>
                  <a:pt x="8980423" y="200258"/>
                  <a:pt x="8990453" y="205273"/>
                </a:cubicBezTo>
                <a:cubicBezTo>
                  <a:pt x="8999250" y="209672"/>
                  <a:pt x="9008956" y="212016"/>
                  <a:pt x="9018445" y="214604"/>
                </a:cubicBezTo>
                <a:cubicBezTo>
                  <a:pt x="9043189" y="221352"/>
                  <a:pt x="9069277" y="223740"/>
                  <a:pt x="9093090" y="233265"/>
                </a:cubicBezTo>
                <a:cubicBezTo>
                  <a:pt x="9108641" y="239485"/>
                  <a:pt x="9123970" y="246293"/>
                  <a:pt x="9139743" y="251926"/>
                </a:cubicBezTo>
                <a:cubicBezTo>
                  <a:pt x="9167530" y="261850"/>
                  <a:pt x="9197327" y="266722"/>
                  <a:pt x="9223718" y="279918"/>
                </a:cubicBezTo>
                <a:cubicBezTo>
                  <a:pt x="9236159" y="286139"/>
                  <a:pt x="9248964" y="291679"/>
                  <a:pt x="9261041" y="298580"/>
                </a:cubicBezTo>
                <a:cubicBezTo>
                  <a:pt x="9270777" y="304144"/>
                  <a:pt x="9279003" y="312226"/>
                  <a:pt x="9289033" y="317241"/>
                </a:cubicBezTo>
                <a:cubicBezTo>
                  <a:pt x="9297830" y="321639"/>
                  <a:pt x="9307694" y="323461"/>
                  <a:pt x="9317025" y="326571"/>
                </a:cubicBezTo>
                <a:cubicBezTo>
                  <a:pt x="9335686" y="339012"/>
                  <a:pt x="9351731" y="356802"/>
                  <a:pt x="9373008" y="363894"/>
                </a:cubicBezTo>
                <a:lnTo>
                  <a:pt x="9456984" y="391886"/>
                </a:lnTo>
                <a:lnTo>
                  <a:pt x="9512967" y="410547"/>
                </a:lnTo>
                <a:lnTo>
                  <a:pt x="9540959" y="419878"/>
                </a:lnTo>
                <a:cubicBezTo>
                  <a:pt x="9556510" y="435429"/>
                  <a:pt x="9580657" y="445667"/>
                  <a:pt x="9587612" y="466531"/>
                </a:cubicBezTo>
                <a:cubicBezTo>
                  <a:pt x="9599725" y="502868"/>
                  <a:pt x="9589989" y="487567"/>
                  <a:pt x="9615604" y="513184"/>
                </a:cubicBezTo>
                <a:cubicBezTo>
                  <a:pt x="9622015" y="545239"/>
                  <a:pt x="9625483" y="566423"/>
                  <a:pt x="9634265" y="597159"/>
                </a:cubicBezTo>
                <a:cubicBezTo>
                  <a:pt x="9650452" y="653813"/>
                  <a:pt x="9638699" y="593550"/>
                  <a:pt x="9652927" y="671804"/>
                </a:cubicBezTo>
                <a:cubicBezTo>
                  <a:pt x="9672457" y="779222"/>
                  <a:pt x="9651875" y="673773"/>
                  <a:pt x="9671588" y="811763"/>
                </a:cubicBezTo>
                <a:cubicBezTo>
                  <a:pt x="9676939" y="849220"/>
                  <a:pt x="9685556" y="886186"/>
                  <a:pt x="9690249" y="923731"/>
                </a:cubicBezTo>
                <a:cubicBezTo>
                  <a:pt x="9693359" y="948612"/>
                  <a:pt x="9696034" y="973552"/>
                  <a:pt x="9699580" y="998375"/>
                </a:cubicBezTo>
                <a:cubicBezTo>
                  <a:pt x="9702255" y="1017104"/>
                  <a:pt x="9706895" y="1035548"/>
                  <a:pt x="9708910" y="1054359"/>
                </a:cubicBezTo>
                <a:cubicBezTo>
                  <a:pt x="9716229" y="1122675"/>
                  <a:pt x="9727571" y="1259633"/>
                  <a:pt x="9727571" y="1259633"/>
                </a:cubicBezTo>
                <a:cubicBezTo>
                  <a:pt x="9719430" y="1495751"/>
                  <a:pt x="9706477" y="1457207"/>
                  <a:pt x="9727571" y="1604865"/>
                </a:cubicBezTo>
                <a:cubicBezTo>
                  <a:pt x="9730246" y="1623594"/>
                  <a:pt x="9732314" y="1642495"/>
                  <a:pt x="9736902" y="1660849"/>
                </a:cubicBezTo>
                <a:cubicBezTo>
                  <a:pt x="9741673" y="1679932"/>
                  <a:pt x="9751705" y="1697544"/>
                  <a:pt x="9755563" y="1716833"/>
                </a:cubicBezTo>
                <a:cubicBezTo>
                  <a:pt x="9758673" y="1732384"/>
                  <a:pt x="9760721" y="1748186"/>
                  <a:pt x="9764894" y="1763486"/>
                </a:cubicBezTo>
                <a:cubicBezTo>
                  <a:pt x="9770070" y="1782463"/>
                  <a:pt x="9783555" y="1819469"/>
                  <a:pt x="9783555" y="1819469"/>
                </a:cubicBezTo>
                <a:cubicBezTo>
                  <a:pt x="9780445" y="1965649"/>
                  <a:pt x="9786121" y="2112280"/>
                  <a:pt x="9774225" y="2258008"/>
                </a:cubicBezTo>
                <a:cubicBezTo>
                  <a:pt x="9773249" y="2269970"/>
                  <a:pt x="9726000" y="2283783"/>
                  <a:pt x="9718241" y="2286000"/>
                </a:cubicBezTo>
                <a:cubicBezTo>
                  <a:pt x="9705911" y="2289523"/>
                  <a:pt x="9693201" y="2291646"/>
                  <a:pt x="9680918" y="2295331"/>
                </a:cubicBezTo>
                <a:cubicBezTo>
                  <a:pt x="9662077" y="2300983"/>
                  <a:pt x="9644408" y="2311210"/>
                  <a:pt x="9624935" y="2313992"/>
                </a:cubicBezTo>
                <a:lnTo>
                  <a:pt x="9559620" y="2323322"/>
                </a:lnTo>
                <a:cubicBezTo>
                  <a:pt x="9526477" y="2334370"/>
                  <a:pt x="9461216" y="2357716"/>
                  <a:pt x="9428992" y="2360645"/>
                </a:cubicBezTo>
                <a:lnTo>
                  <a:pt x="9326355" y="2369975"/>
                </a:lnTo>
                <a:cubicBezTo>
                  <a:pt x="9208860" y="2399350"/>
                  <a:pt x="9295078" y="2379903"/>
                  <a:pt x="9195727" y="2397967"/>
                </a:cubicBezTo>
                <a:cubicBezTo>
                  <a:pt x="9180124" y="2400804"/>
                  <a:pt x="9164862" y="2405794"/>
                  <a:pt x="9149074" y="2407298"/>
                </a:cubicBezTo>
                <a:cubicBezTo>
                  <a:pt x="9053630" y="2416388"/>
                  <a:pt x="8817508" y="2424024"/>
                  <a:pt x="8747857" y="2425959"/>
                </a:cubicBezTo>
                <a:lnTo>
                  <a:pt x="8327980" y="2435290"/>
                </a:lnTo>
                <a:cubicBezTo>
                  <a:pt x="8219123" y="2441510"/>
                  <a:pt x="8110412" y="2451356"/>
                  <a:pt x="8001408" y="2453951"/>
                </a:cubicBezTo>
                <a:lnTo>
                  <a:pt x="7609522" y="2463282"/>
                </a:lnTo>
                <a:lnTo>
                  <a:pt x="7282951" y="2472612"/>
                </a:lnTo>
                <a:lnTo>
                  <a:pt x="6723114" y="2481943"/>
                </a:lnTo>
                <a:lnTo>
                  <a:pt x="6153947" y="2509935"/>
                </a:lnTo>
                <a:lnTo>
                  <a:pt x="5855367" y="2519265"/>
                </a:lnTo>
                <a:cubicBezTo>
                  <a:pt x="5643770" y="2540426"/>
                  <a:pt x="5783817" y="2528744"/>
                  <a:pt x="5398167" y="2537926"/>
                </a:cubicBezTo>
                <a:lnTo>
                  <a:pt x="4978290" y="2547257"/>
                </a:lnTo>
                <a:cubicBezTo>
                  <a:pt x="4756222" y="2591670"/>
                  <a:pt x="4943102" y="2559843"/>
                  <a:pt x="4511759" y="2575249"/>
                </a:cubicBezTo>
                <a:cubicBezTo>
                  <a:pt x="4461930" y="2577029"/>
                  <a:pt x="4412327" y="2584127"/>
                  <a:pt x="4362469" y="2584580"/>
                </a:cubicBezTo>
                <a:lnTo>
                  <a:pt x="2459025" y="2593910"/>
                </a:lnTo>
                <a:lnTo>
                  <a:pt x="1339351" y="2584580"/>
                </a:lnTo>
                <a:cubicBezTo>
                  <a:pt x="1241522" y="2583051"/>
                  <a:pt x="1292768" y="2571714"/>
                  <a:pt x="1208722" y="2565918"/>
                </a:cubicBezTo>
                <a:cubicBezTo>
                  <a:pt x="1137289" y="2560992"/>
                  <a:pt x="1065653" y="2559698"/>
                  <a:pt x="994118" y="2556588"/>
                </a:cubicBezTo>
                <a:lnTo>
                  <a:pt x="928804" y="2547257"/>
                </a:lnTo>
                <a:cubicBezTo>
                  <a:pt x="844244" y="2535982"/>
                  <a:pt x="819817" y="2535312"/>
                  <a:pt x="723531" y="2519265"/>
                </a:cubicBezTo>
                <a:cubicBezTo>
                  <a:pt x="686208" y="2513045"/>
                  <a:pt x="647459" y="2512569"/>
                  <a:pt x="611563" y="2500604"/>
                </a:cubicBezTo>
                <a:lnTo>
                  <a:pt x="555580" y="2481943"/>
                </a:lnTo>
                <a:cubicBezTo>
                  <a:pt x="546249" y="2478833"/>
                  <a:pt x="537232" y="2474541"/>
                  <a:pt x="527588" y="2472612"/>
                </a:cubicBezTo>
                <a:lnTo>
                  <a:pt x="480935" y="2463282"/>
                </a:lnTo>
                <a:cubicBezTo>
                  <a:pt x="468494" y="2457061"/>
                  <a:pt x="456986" y="2448441"/>
                  <a:pt x="443612" y="2444620"/>
                </a:cubicBezTo>
                <a:cubicBezTo>
                  <a:pt x="413114" y="2435906"/>
                  <a:pt x="350306" y="2425959"/>
                  <a:pt x="350306" y="2425959"/>
                </a:cubicBezTo>
                <a:cubicBezTo>
                  <a:pt x="331645" y="2413518"/>
                  <a:pt x="306763" y="2407298"/>
                  <a:pt x="294322" y="2388637"/>
                </a:cubicBezTo>
                <a:cubicBezTo>
                  <a:pt x="288102" y="2379306"/>
                  <a:pt x="283590" y="2368574"/>
                  <a:pt x="275661" y="2360645"/>
                </a:cubicBezTo>
                <a:cubicBezTo>
                  <a:pt x="257575" y="2342559"/>
                  <a:pt x="242443" y="2340242"/>
                  <a:pt x="219678" y="2332653"/>
                </a:cubicBezTo>
                <a:cubicBezTo>
                  <a:pt x="213457" y="2326433"/>
                  <a:pt x="208559" y="2318518"/>
                  <a:pt x="201016" y="2313992"/>
                </a:cubicBezTo>
                <a:cubicBezTo>
                  <a:pt x="192582" y="2308932"/>
                  <a:pt x="182065" y="2308535"/>
                  <a:pt x="173025" y="2304661"/>
                </a:cubicBezTo>
                <a:cubicBezTo>
                  <a:pt x="160240" y="2299182"/>
                  <a:pt x="147629" y="2293156"/>
                  <a:pt x="135702" y="2286000"/>
                </a:cubicBezTo>
                <a:cubicBezTo>
                  <a:pt x="116470" y="2274461"/>
                  <a:pt x="79718" y="2248678"/>
                  <a:pt x="79718" y="2248678"/>
                </a:cubicBezTo>
                <a:cubicBezTo>
                  <a:pt x="82829" y="2037115"/>
                  <a:pt x="-113205" y="1614196"/>
                  <a:pt x="98380" y="1614196"/>
                </a:cubicBezTo>
              </a:path>
            </a:pathLst>
          </a:custGeom>
          <a:solidFill>
            <a:srgbClr val="72af2f"/>
          </a:solidFill>
          <a:ln w="25560">
            <a:solidFill>
              <a:srgbClr val="72af2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Freeform 5"/>
          <p:cNvSpPr/>
          <p:nvPr/>
        </p:nvSpPr>
        <p:spPr>
          <a:xfrm>
            <a:off x="-225360" y="3645000"/>
            <a:ext cx="9556560" cy="3446280"/>
          </a:xfrm>
          <a:custGeom>
            <a:avLst/>
            <a:gdLst/>
            <a:ahLst/>
            <a:rect l="l" t="t" r="r" b="b"/>
            <a:pathLst>
              <a:path w="9555712" h="2472612">
                <a:moveTo>
                  <a:pt x="94471" y="317241"/>
                </a:moveTo>
                <a:cubicBezTo>
                  <a:pt x="103801" y="311021"/>
                  <a:pt x="126079" y="312925"/>
                  <a:pt x="141124" y="307910"/>
                </a:cubicBezTo>
                <a:cubicBezTo>
                  <a:pt x="206137" y="286239"/>
                  <a:pt x="151913" y="293185"/>
                  <a:pt x="215769" y="261257"/>
                </a:cubicBezTo>
                <a:cubicBezTo>
                  <a:pt x="227239" y="255522"/>
                  <a:pt x="240651" y="255037"/>
                  <a:pt x="253092" y="251927"/>
                </a:cubicBezTo>
                <a:cubicBezTo>
                  <a:pt x="270450" y="234569"/>
                  <a:pt x="276203" y="226375"/>
                  <a:pt x="299745" y="214604"/>
                </a:cubicBezTo>
                <a:cubicBezTo>
                  <a:pt x="308542" y="210206"/>
                  <a:pt x="318406" y="208384"/>
                  <a:pt x="327737" y="205274"/>
                </a:cubicBezTo>
                <a:cubicBezTo>
                  <a:pt x="369934" y="163075"/>
                  <a:pt x="317194" y="214058"/>
                  <a:pt x="383720" y="158620"/>
                </a:cubicBezTo>
                <a:cubicBezTo>
                  <a:pt x="390478" y="152988"/>
                  <a:pt x="395062" y="144839"/>
                  <a:pt x="402382" y="139959"/>
                </a:cubicBezTo>
                <a:cubicBezTo>
                  <a:pt x="413955" y="132244"/>
                  <a:pt x="427628" y="128199"/>
                  <a:pt x="439704" y="121298"/>
                </a:cubicBezTo>
                <a:cubicBezTo>
                  <a:pt x="449441" y="115734"/>
                  <a:pt x="458571" y="109155"/>
                  <a:pt x="467696" y="102637"/>
                </a:cubicBezTo>
                <a:cubicBezTo>
                  <a:pt x="480350" y="93598"/>
                  <a:pt x="491424" y="82197"/>
                  <a:pt x="505018" y="74645"/>
                </a:cubicBezTo>
                <a:cubicBezTo>
                  <a:pt x="519659" y="66511"/>
                  <a:pt x="536690" y="63474"/>
                  <a:pt x="551671" y="55984"/>
                </a:cubicBezTo>
                <a:cubicBezTo>
                  <a:pt x="561701" y="50969"/>
                  <a:pt x="570906" y="44328"/>
                  <a:pt x="579663" y="37323"/>
                </a:cubicBezTo>
                <a:cubicBezTo>
                  <a:pt x="586532" y="31827"/>
                  <a:pt x="590456" y="22595"/>
                  <a:pt x="598324" y="18661"/>
                </a:cubicBezTo>
                <a:cubicBezTo>
                  <a:pt x="609794" y="12926"/>
                  <a:pt x="623317" y="12854"/>
                  <a:pt x="635647" y="9331"/>
                </a:cubicBezTo>
                <a:cubicBezTo>
                  <a:pt x="645104" y="6629"/>
                  <a:pt x="654308" y="3110"/>
                  <a:pt x="663639" y="0"/>
                </a:cubicBezTo>
                <a:cubicBezTo>
                  <a:pt x="679047" y="1712"/>
                  <a:pt x="748254" y="3465"/>
                  <a:pt x="775606" y="18661"/>
                </a:cubicBezTo>
                <a:cubicBezTo>
                  <a:pt x="795212" y="29553"/>
                  <a:pt x="811530" y="45954"/>
                  <a:pt x="831590" y="55984"/>
                </a:cubicBezTo>
                <a:cubicBezTo>
                  <a:pt x="844031" y="62204"/>
                  <a:pt x="855998" y="69479"/>
                  <a:pt x="868912" y="74645"/>
                </a:cubicBezTo>
                <a:cubicBezTo>
                  <a:pt x="887176" y="81950"/>
                  <a:pt x="906921" y="85317"/>
                  <a:pt x="924896" y="93306"/>
                </a:cubicBezTo>
                <a:cubicBezTo>
                  <a:pt x="935144" y="97860"/>
                  <a:pt x="942581" y="107550"/>
                  <a:pt x="952888" y="111967"/>
                </a:cubicBezTo>
                <a:cubicBezTo>
                  <a:pt x="964675" y="117019"/>
                  <a:pt x="978203" y="116795"/>
                  <a:pt x="990210" y="121298"/>
                </a:cubicBezTo>
                <a:cubicBezTo>
                  <a:pt x="1087794" y="157892"/>
                  <a:pt x="969056" y="125339"/>
                  <a:pt x="1064855" y="149290"/>
                </a:cubicBezTo>
                <a:lnTo>
                  <a:pt x="1148831" y="205274"/>
                </a:lnTo>
                <a:cubicBezTo>
                  <a:pt x="1158161" y="211494"/>
                  <a:pt x="1165943" y="221215"/>
                  <a:pt x="1176822" y="223935"/>
                </a:cubicBezTo>
                <a:lnTo>
                  <a:pt x="1214145" y="233265"/>
                </a:lnTo>
                <a:cubicBezTo>
                  <a:pt x="1298301" y="275345"/>
                  <a:pt x="1193914" y="226523"/>
                  <a:pt x="1326112" y="270588"/>
                </a:cubicBezTo>
                <a:cubicBezTo>
                  <a:pt x="1344773" y="276808"/>
                  <a:pt x="1363832" y="281944"/>
                  <a:pt x="1382096" y="289249"/>
                </a:cubicBezTo>
                <a:cubicBezTo>
                  <a:pt x="1437881" y="311563"/>
                  <a:pt x="1412860" y="302613"/>
                  <a:pt x="1456741" y="317241"/>
                </a:cubicBezTo>
                <a:cubicBezTo>
                  <a:pt x="1466072" y="326572"/>
                  <a:pt x="1473754" y="337913"/>
                  <a:pt x="1484733" y="345233"/>
                </a:cubicBezTo>
                <a:cubicBezTo>
                  <a:pt x="1492916" y="350688"/>
                  <a:pt x="1503927" y="350165"/>
                  <a:pt x="1512724" y="354563"/>
                </a:cubicBezTo>
                <a:cubicBezTo>
                  <a:pt x="1522754" y="359578"/>
                  <a:pt x="1530409" y="368808"/>
                  <a:pt x="1540716" y="373225"/>
                </a:cubicBezTo>
                <a:cubicBezTo>
                  <a:pt x="1552503" y="378277"/>
                  <a:pt x="1565756" y="378870"/>
                  <a:pt x="1578039" y="382555"/>
                </a:cubicBezTo>
                <a:cubicBezTo>
                  <a:pt x="1596880" y="388207"/>
                  <a:pt x="1615361" y="394996"/>
                  <a:pt x="1634022" y="401216"/>
                </a:cubicBezTo>
                <a:cubicBezTo>
                  <a:pt x="1697546" y="422391"/>
                  <a:pt x="1619431" y="395745"/>
                  <a:pt x="1708667" y="429208"/>
                </a:cubicBezTo>
                <a:cubicBezTo>
                  <a:pt x="1717876" y="432661"/>
                  <a:pt x="1726957" y="436922"/>
                  <a:pt x="1736659" y="438539"/>
                </a:cubicBezTo>
                <a:cubicBezTo>
                  <a:pt x="1764440" y="443169"/>
                  <a:pt x="1792643" y="444759"/>
                  <a:pt x="1820635" y="447869"/>
                </a:cubicBezTo>
                <a:cubicBezTo>
                  <a:pt x="2366648" y="431324"/>
                  <a:pt x="1974630" y="452852"/>
                  <a:pt x="2203190" y="429208"/>
                </a:cubicBezTo>
                <a:lnTo>
                  <a:pt x="2399133" y="410547"/>
                </a:lnTo>
                <a:cubicBezTo>
                  <a:pt x="2430990" y="404175"/>
                  <a:pt x="2469923" y="395867"/>
                  <a:pt x="2501769" y="391886"/>
                </a:cubicBezTo>
                <a:cubicBezTo>
                  <a:pt x="2532785" y="388009"/>
                  <a:pt x="2564010" y="386007"/>
                  <a:pt x="2595076" y="382555"/>
                </a:cubicBezTo>
                <a:cubicBezTo>
                  <a:pt x="2619998" y="379786"/>
                  <a:pt x="2644937" y="377038"/>
                  <a:pt x="2669720" y="373225"/>
                </a:cubicBezTo>
                <a:cubicBezTo>
                  <a:pt x="2685395" y="370814"/>
                  <a:pt x="2700623" y="365747"/>
                  <a:pt x="2716373" y="363894"/>
                </a:cubicBezTo>
                <a:cubicBezTo>
                  <a:pt x="2753569" y="359518"/>
                  <a:pt x="2791018" y="357673"/>
                  <a:pt x="2828341" y="354563"/>
                </a:cubicBezTo>
                <a:cubicBezTo>
                  <a:pt x="2840782" y="351453"/>
                  <a:pt x="2853014" y="347341"/>
                  <a:pt x="2865663" y="345233"/>
                </a:cubicBezTo>
                <a:cubicBezTo>
                  <a:pt x="2890397" y="341111"/>
                  <a:pt x="2915453" y="339216"/>
                  <a:pt x="2940308" y="335902"/>
                </a:cubicBezTo>
                <a:lnTo>
                  <a:pt x="3005622" y="326571"/>
                </a:lnTo>
                <a:cubicBezTo>
                  <a:pt x="3014953" y="323461"/>
                  <a:pt x="3024157" y="319943"/>
                  <a:pt x="3033614" y="317241"/>
                </a:cubicBezTo>
                <a:cubicBezTo>
                  <a:pt x="3236766" y="259199"/>
                  <a:pt x="3481975" y="314333"/>
                  <a:pt x="3668096" y="317241"/>
                </a:cubicBezTo>
                <a:cubicBezTo>
                  <a:pt x="3680537" y="320351"/>
                  <a:pt x="3693088" y="323048"/>
                  <a:pt x="3705418" y="326571"/>
                </a:cubicBezTo>
                <a:cubicBezTo>
                  <a:pt x="3714875" y="329273"/>
                  <a:pt x="3723809" y="333768"/>
                  <a:pt x="3733410" y="335902"/>
                </a:cubicBezTo>
                <a:cubicBezTo>
                  <a:pt x="3802830" y="351329"/>
                  <a:pt x="3780264" y="339674"/>
                  <a:pt x="3854708" y="354563"/>
                </a:cubicBezTo>
                <a:cubicBezTo>
                  <a:pt x="3879857" y="359593"/>
                  <a:pt x="3904471" y="367005"/>
                  <a:pt x="3929353" y="373225"/>
                </a:cubicBezTo>
                <a:cubicBezTo>
                  <a:pt x="3941794" y="376335"/>
                  <a:pt x="3954510" y="378499"/>
                  <a:pt x="3966676" y="382555"/>
                </a:cubicBezTo>
                <a:cubicBezTo>
                  <a:pt x="4018999" y="399997"/>
                  <a:pt x="3985122" y="389500"/>
                  <a:pt x="4069312" y="410547"/>
                </a:cubicBezTo>
                <a:cubicBezTo>
                  <a:pt x="4081753" y="413657"/>
                  <a:pt x="4093940" y="418065"/>
                  <a:pt x="4106635" y="419878"/>
                </a:cubicBezTo>
                <a:cubicBezTo>
                  <a:pt x="4128406" y="422988"/>
                  <a:pt x="4150311" y="425274"/>
                  <a:pt x="4171949" y="429208"/>
                </a:cubicBezTo>
                <a:cubicBezTo>
                  <a:pt x="4246354" y="442736"/>
                  <a:pt x="4180037" y="445512"/>
                  <a:pt x="4302578" y="447869"/>
                </a:cubicBezTo>
                <a:lnTo>
                  <a:pt x="5179655" y="457200"/>
                </a:lnTo>
                <a:lnTo>
                  <a:pt x="5300953" y="466531"/>
                </a:lnTo>
                <a:cubicBezTo>
                  <a:pt x="5332093" y="469239"/>
                  <a:pt x="5363067" y="473849"/>
                  <a:pt x="5394259" y="475861"/>
                </a:cubicBezTo>
                <a:cubicBezTo>
                  <a:pt x="5459512" y="480071"/>
                  <a:pt x="5524888" y="482082"/>
                  <a:pt x="5590202" y="485192"/>
                </a:cubicBezTo>
                <a:cubicBezTo>
                  <a:pt x="5602643" y="488302"/>
                  <a:pt x="5614907" y="492229"/>
                  <a:pt x="5627524" y="494523"/>
                </a:cubicBezTo>
                <a:cubicBezTo>
                  <a:pt x="5649162" y="498457"/>
                  <a:pt x="5671410" y="498908"/>
                  <a:pt x="5692839" y="503853"/>
                </a:cubicBezTo>
                <a:cubicBezTo>
                  <a:pt x="5712006" y="508276"/>
                  <a:pt x="5730161" y="516294"/>
                  <a:pt x="5748822" y="522514"/>
                </a:cubicBezTo>
                <a:cubicBezTo>
                  <a:pt x="5758153" y="525624"/>
                  <a:pt x="5767170" y="529916"/>
                  <a:pt x="5776814" y="531845"/>
                </a:cubicBezTo>
                <a:cubicBezTo>
                  <a:pt x="5792365" y="534955"/>
                  <a:pt x="5808167" y="537003"/>
                  <a:pt x="5823467" y="541176"/>
                </a:cubicBezTo>
                <a:cubicBezTo>
                  <a:pt x="5842445" y="546352"/>
                  <a:pt x="5860368" y="555066"/>
                  <a:pt x="5879451" y="559837"/>
                </a:cubicBezTo>
                <a:lnTo>
                  <a:pt x="5916773" y="569167"/>
                </a:lnTo>
                <a:cubicBezTo>
                  <a:pt x="5929214" y="575388"/>
                  <a:pt x="5941072" y="582945"/>
                  <a:pt x="5954096" y="587829"/>
                </a:cubicBezTo>
                <a:cubicBezTo>
                  <a:pt x="5966103" y="592332"/>
                  <a:pt x="5979948" y="591424"/>
                  <a:pt x="5991418" y="597159"/>
                </a:cubicBezTo>
                <a:cubicBezTo>
                  <a:pt x="6005327" y="604114"/>
                  <a:pt x="6015239" y="617435"/>
                  <a:pt x="6028741" y="625151"/>
                </a:cubicBezTo>
                <a:cubicBezTo>
                  <a:pt x="6045333" y="634632"/>
                  <a:pt x="6089730" y="640398"/>
                  <a:pt x="6103386" y="643812"/>
                </a:cubicBezTo>
                <a:cubicBezTo>
                  <a:pt x="6112928" y="646197"/>
                  <a:pt x="6121836" y="650757"/>
                  <a:pt x="6131378" y="653143"/>
                </a:cubicBezTo>
                <a:cubicBezTo>
                  <a:pt x="6146763" y="656990"/>
                  <a:pt x="6162480" y="659364"/>
                  <a:pt x="6178031" y="662474"/>
                </a:cubicBezTo>
                <a:cubicBezTo>
                  <a:pt x="6190472" y="668694"/>
                  <a:pt x="6203277" y="674234"/>
                  <a:pt x="6215353" y="681135"/>
                </a:cubicBezTo>
                <a:cubicBezTo>
                  <a:pt x="6225090" y="686699"/>
                  <a:pt x="6233315" y="694781"/>
                  <a:pt x="6243345" y="699796"/>
                </a:cubicBezTo>
                <a:cubicBezTo>
                  <a:pt x="6258326" y="707286"/>
                  <a:pt x="6274447" y="712237"/>
                  <a:pt x="6289998" y="718457"/>
                </a:cubicBezTo>
                <a:cubicBezTo>
                  <a:pt x="6299329" y="727788"/>
                  <a:pt x="6306800" y="739455"/>
                  <a:pt x="6317990" y="746449"/>
                </a:cubicBezTo>
                <a:cubicBezTo>
                  <a:pt x="6347660" y="764993"/>
                  <a:pt x="6390149" y="768531"/>
                  <a:pt x="6420627" y="783771"/>
                </a:cubicBezTo>
                <a:cubicBezTo>
                  <a:pt x="6459242" y="803079"/>
                  <a:pt x="6467807" y="809562"/>
                  <a:pt x="6513933" y="821094"/>
                </a:cubicBezTo>
                <a:cubicBezTo>
                  <a:pt x="6526374" y="824204"/>
                  <a:pt x="6538432" y="830266"/>
                  <a:pt x="6551255" y="830425"/>
                </a:cubicBezTo>
                <a:lnTo>
                  <a:pt x="8016161" y="839755"/>
                </a:lnTo>
                <a:cubicBezTo>
                  <a:pt x="8087696" y="842865"/>
                  <a:pt x="8159374" y="843594"/>
                  <a:pt x="8230765" y="849086"/>
                </a:cubicBezTo>
                <a:cubicBezTo>
                  <a:pt x="8240571" y="849840"/>
                  <a:pt x="8249215" y="856031"/>
                  <a:pt x="8258757" y="858416"/>
                </a:cubicBezTo>
                <a:cubicBezTo>
                  <a:pt x="8276491" y="862850"/>
                  <a:pt x="8323577" y="869894"/>
                  <a:pt x="8342733" y="877078"/>
                </a:cubicBezTo>
                <a:cubicBezTo>
                  <a:pt x="8355756" y="881962"/>
                  <a:pt x="8367141" y="890573"/>
                  <a:pt x="8380055" y="895739"/>
                </a:cubicBezTo>
                <a:cubicBezTo>
                  <a:pt x="8398319" y="903044"/>
                  <a:pt x="8419672" y="903488"/>
                  <a:pt x="8436039" y="914400"/>
                </a:cubicBezTo>
                <a:cubicBezTo>
                  <a:pt x="8500205" y="957179"/>
                  <a:pt x="8470745" y="944631"/>
                  <a:pt x="8520014" y="961053"/>
                </a:cubicBezTo>
                <a:cubicBezTo>
                  <a:pt x="8558351" y="986610"/>
                  <a:pt x="8569733" y="995870"/>
                  <a:pt x="8622651" y="1017037"/>
                </a:cubicBezTo>
                <a:cubicBezTo>
                  <a:pt x="8653753" y="1029478"/>
                  <a:pt x="8683459" y="1046234"/>
                  <a:pt x="8715957" y="1054359"/>
                </a:cubicBezTo>
                <a:cubicBezTo>
                  <a:pt x="8771633" y="1068278"/>
                  <a:pt x="8740631" y="1061582"/>
                  <a:pt x="8809263" y="1073020"/>
                </a:cubicBezTo>
                <a:cubicBezTo>
                  <a:pt x="8821704" y="1082351"/>
                  <a:pt x="8832292" y="1094886"/>
                  <a:pt x="8846586" y="1101012"/>
                </a:cubicBezTo>
                <a:cubicBezTo>
                  <a:pt x="8876432" y="1113803"/>
                  <a:pt x="8908517" y="1120637"/>
                  <a:pt x="8939892" y="1129004"/>
                </a:cubicBezTo>
                <a:cubicBezTo>
                  <a:pt x="8961637" y="1134803"/>
                  <a:pt x="9022746" y="1144368"/>
                  <a:pt x="9042529" y="1147665"/>
                </a:cubicBezTo>
                <a:cubicBezTo>
                  <a:pt x="9061190" y="1153886"/>
                  <a:pt x="9079535" y="1161151"/>
                  <a:pt x="9098512" y="1166327"/>
                </a:cubicBezTo>
                <a:cubicBezTo>
                  <a:pt x="9196228" y="1192977"/>
                  <a:pt x="9098658" y="1159839"/>
                  <a:pt x="9182488" y="1184988"/>
                </a:cubicBezTo>
                <a:cubicBezTo>
                  <a:pt x="9230083" y="1199267"/>
                  <a:pt x="9232788" y="1204379"/>
                  <a:pt x="9275794" y="1212980"/>
                </a:cubicBezTo>
                <a:cubicBezTo>
                  <a:pt x="9294345" y="1216690"/>
                  <a:pt x="9313227" y="1218600"/>
                  <a:pt x="9331778" y="1222310"/>
                </a:cubicBezTo>
                <a:cubicBezTo>
                  <a:pt x="9419008" y="1239756"/>
                  <a:pt x="9325975" y="1223192"/>
                  <a:pt x="9397092" y="1240971"/>
                </a:cubicBezTo>
                <a:cubicBezTo>
                  <a:pt x="9412477" y="1244817"/>
                  <a:pt x="9428194" y="1247192"/>
                  <a:pt x="9443745" y="1250302"/>
                </a:cubicBezTo>
                <a:cubicBezTo>
                  <a:pt x="9446855" y="1321837"/>
                  <a:pt x="9448313" y="1393462"/>
                  <a:pt x="9453076" y="1464906"/>
                </a:cubicBezTo>
                <a:cubicBezTo>
                  <a:pt x="9456878" y="1521933"/>
                  <a:pt x="9463697" y="1525952"/>
                  <a:pt x="9471737" y="1576874"/>
                </a:cubicBezTo>
                <a:cubicBezTo>
                  <a:pt x="9478597" y="1620320"/>
                  <a:pt x="9486416" y="1663698"/>
                  <a:pt x="9490398" y="1707502"/>
                </a:cubicBezTo>
                <a:cubicBezTo>
                  <a:pt x="9493508" y="1741714"/>
                  <a:pt x="9495189" y="1776087"/>
                  <a:pt x="9499729" y="1810139"/>
                </a:cubicBezTo>
                <a:cubicBezTo>
                  <a:pt x="9502333" y="1829670"/>
                  <a:pt x="9511992" y="1856259"/>
                  <a:pt x="9518390" y="1875453"/>
                </a:cubicBezTo>
                <a:cubicBezTo>
                  <a:pt x="9521500" y="1894114"/>
                  <a:pt x="9523616" y="1912969"/>
                  <a:pt x="9527720" y="1931437"/>
                </a:cubicBezTo>
                <a:cubicBezTo>
                  <a:pt x="9545088" y="2009593"/>
                  <a:pt x="9530250" y="1893157"/>
                  <a:pt x="9546382" y="2006082"/>
                </a:cubicBezTo>
                <a:cubicBezTo>
                  <a:pt x="9550365" y="2033963"/>
                  <a:pt x="9552602" y="2062065"/>
                  <a:pt x="9555712" y="2090057"/>
                </a:cubicBezTo>
                <a:cubicBezTo>
                  <a:pt x="9552602" y="2161592"/>
                  <a:pt x="9560986" y="2234564"/>
                  <a:pt x="9546382" y="2304661"/>
                </a:cubicBezTo>
                <a:cubicBezTo>
                  <a:pt x="9543767" y="2317215"/>
                  <a:pt x="9520529" y="2308257"/>
                  <a:pt x="9509059" y="2313992"/>
                </a:cubicBezTo>
                <a:cubicBezTo>
                  <a:pt x="9488999" y="2324022"/>
                  <a:pt x="9475068" y="2346915"/>
                  <a:pt x="9453076" y="2351314"/>
                </a:cubicBezTo>
                <a:cubicBezTo>
                  <a:pt x="9437525" y="2354424"/>
                  <a:pt x="9421808" y="2356798"/>
                  <a:pt x="9406422" y="2360645"/>
                </a:cubicBezTo>
                <a:cubicBezTo>
                  <a:pt x="9308508" y="2385125"/>
                  <a:pt x="9463281" y="2353127"/>
                  <a:pt x="9341108" y="2379306"/>
                </a:cubicBezTo>
                <a:cubicBezTo>
                  <a:pt x="9249207" y="2398998"/>
                  <a:pt x="9263274" y="2395757"/>
                  <a:pt x="9182488" y="2407298"/>
                </a:cubicBezTo>
                <a:cubicBezTo>
                  <a:pt x="9173157" y="2410408"/>
                  <a:pt x="9164038" y="2414244"/>
                  <a:pt x="9154496" y="2416629"/>
                </a:cubicBezTo>
                <a:cubicBezTo>
                  <a:pt x="9138383" y="2420657"/>
                  <a:pt x="9064923" y="2434102"/>
                  <a:pt x="9051859" y="2435290"/>
                </a:cubicBezTo>
                <a:cubicBezTo>
                  <a:pt x="9002203" y="2439804"/>
                  <a:pt x="8952348" y="2441776"/>
                  <a:pt x="8902569" y="2444620"/>
                </a:cubicBezTo>
                <a:lnTo>
                  <a:pt x="8725288" y="2453951"/>
                </a:lnTo>
                <a:cubicBezTo>
                  <a:pt x="8684815" y="2456481"/>
                  <a:pt x="8644530" y="2462293"/>
                  <a:pt x="8603990" y="2463282"/>
                </a:cubicBezTo>
                <a:lnTo>
                  <a:pt x="7960178" y="2472612"/>
                </a:lnTo>
                <a:lnTo>
                  <a:pt x="6252676" y="2463282"/>
                </a:lnTo>
                <a:cubicBezTo>
                  <a:pt x="6202818" y="2462781"/>
                  <a:pt x="6153199" y="2456117"/>
                  <a:pt x="6103386" y="2453951"/>
                </a:cubicBezTo>
                <a:cubicBezTo>
                  <a:pt x="5960056" y="2447719"/>
                  <a:pt x="5775279" y="2445364"/>
                  <a:pt x="5627524" y="2435290"/>
                </a:cubicBezTo>
                <a:cubicBezTo>
                  <a:pt x="5555886" y="2430406"/>
                  <a:pt x="5484672" y="2419389"/>
                  <a:pt x="5412920" y="2416629"/>
                </a:cubicBezTo>
                <a:lnTo>
                  <a:pt x="4927729" y="2397967"/>
                </a:lnTo>
                <a:lnTo>
                  <a:pt x="4638480" y="2388637"/>
                </a:lnTo>
                <a:lnTo>
                  <a:pt x="4423876" y="2379306"/>
                </a:lnTo>
                <a:lnTo>
                  <a:pt x="3985337" y="2369976"/>
                </a:lnTo>
                <a:cubicBezTo>
                  <a:pt x="3394326" y="2338869"/>
                  <a:pt x="4108275" y="2373821"/>
                  <a:pt x="2679051" y="2351314"/>
                </a:cubicBezTo>
                <a:cubicBezTo>
                  <a:pt x="2660135" y="2351016"/>
                  <a:pt x="2641820" y="2344484"/>
                  <a:pt x="2623067" y="2341984"/>
                </a:cubicBezTo>
                <a:cubicBezTo>
                  <a:pt x="2595150" y="2338262"/>
                  <a:pt x="2567084" y="2335763"/>
                  <a:pt x="2539092" y="2332653"/>
                </a:cubicBezTo>
                <a:cubicBezTo>
                  <a:pt x="2441720" y="2308312"/>
                  <a:pt x="2526756" y="2327042"/>
                  <a:pt x="2324488" y="2313992"/>
                </a:cubicBezTo>
                <a:cubicBezTo>
                  <a:pt x="2287114" y="2311581"/>
                  <a:pt x="2249956" y="2305762"/>
                  <a:pt x="2212520" y="2304661"/>
                </a:cubicBezTo>
                <a:cubicBezTo>
                  <a:pt x="2038396" y="2299540"/>
                  <a:pt x="1864158" y="2299381"/>
                  <a:pt x="1690006" y="2295331"/>
                </a:cubicBezTo>
                <a:cubicBezTo>
                  <a:pt x="1553902" y="2292166"/>
                  <a:pt x="1356839" y="2284596"/>
                  <a:pt x="1214145" y="2276669"/>
                </a:cubicBezTo>
                <a:cubicBezTo>
                  <a:pt x="1167460" y="2274075"/>
                  <a:pt x="1120839" y="2270449"/>
                  <a:pt x="1074186" y="2267339"/>
                </a:cubicBezTo>
                <a:lnTo>
                  <a:pt x="439704" y="2276669"/>
                </a:lnTo>
                <a:cubicBezTo>
                  <a:pt x="346741" y="2278735"/>
                  <a:pt x="259122" y="2278966"/>
                  <a:pt x="169116" y="2295331"/>
                </a:cubicBezTo>
                <a:cubicBezTo>
                  <a:pt x="156499" y="2297625"/>
                  <a:pt x="144235" y="2301551"/>
                  <a:pt x="131794" y="2304661"/>
                </a:cubicBezTo>
                <a:cubicBezTo>
                  <a:pt x="91361" y="2301551"/>
                  <a:pt x="15958" y="2335514"/>
                  <a:pt x="10496" y="2295331"/>
                </a:cubicBezTo>
                <a:cubicBezTo>
                  <a:pt x="-11267" y="2135216"/>
                  <a:pt x="7001" y="607431"/>
                  <a:pt x="10496" y="429208"/>
                </a:cubicBezTo>
                <a:cubicBezTo>
                  <a:pt x="11110" y="397888"/>
                  <a:pt x="23022" y="381605"/>
                  <a:pt x="47818" y="363894"/>
                </a:cubicBezTo>
                <a:cubicBezTo>
                  <a:pt x="59137" y="355809"/>
                  <a:pt x="72700" y="351453"/>
                  <a:pt x="85141" y="345233"/>
                </a:cubicBezTo>
                <a:cubicBezTo>
                  <a:pt x="112599" y="317774"/>
                  <a:pt x="85141" y="323461"/>
                  <a:pt x="94471" y="317241"/>
                </a:cubicBezTo>
                <a:close/>
              </a:path>
            </a:pathLst>
          </a:custGeom>
          <a:solidFill>
            <a:srgbClr val="92d050"/>
          </a:solidFill>
          <a:ln w="2556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8" name="Picture 8" descr=""/>
          <p:cNvPicPr/>
          <p:nvPr/>
        </p:nvPicPr>
        <p:blipFill>
          <a:blip r:embed="rId2"/>
          <a:stretch/>
        </p:blipFill>
        <p:spPr>
          <a:xfrm>
            <a:off x="0" y="1125360"/>
            <a:ext cx="5410080" cy="44755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9" descr=""/>
          <p:cNvPicPr/>
          <p:nvPr/>
        </p:nvPicPr>
        <p:blipFill>
          <a:blip r:embed="rId3"/>
          <a:stretch/>
        </p:blipFill>
        <p:spPr>
          <a:xfrm>
            <a:off x="6894360" y="5076720"/>
            <a:ext cx="754200" cy="5288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0" descr=""/>
          <p:cNvPicPr/>
          <p:nvPr/>
        </p:nvPicPr>
        <p:blipFill>
          <a:blip r:embed="rId4"/>
          <a:stretch/>
        </p:blipFill>
        <p:spPr>
          <a:xfrm>
            <a:off x="5415120" y="4618080"/>
            <a:ext cx="1461960" cy="890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1" descr=""/>
          <p:cNvPicPr/>
          <p:nvPr/>
        </p:nvPicPr>
        <p:blipFill>
          <a:blip r:embed="rId5"/>
          <a:stretch/>
        </p:blipFill>
        <p:spPr>
          <a:xfrm>
            <a:off x="4290840" y="4221000"/>
            <a:ext cx="1262160" cy="10130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" descr=""/>
          <p:cNvPicPr/>
          <p:nvPr/>
        </p:nvPicPr>
        <p:blipFill>
          <a:blip r:embed="rId6"/>
          <a:stretch/>
        </p:blipFill>
        <p:spPr>
          <a:xfrm>
            <a:off x="7648560" y="4989600"/>
            <a:ext cx="598680" cy="7858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"/>
          <p:cNvPicPr/>
          <p:nvPr/>
        </p:nvPicPr>
        <p:blipFill>
          <a:blip r:embed="rId7"/>
          <a:stretch/>
        </p:blipFill>
        <p:spPr>
          <a:xfrm>
            <a:off x="6659640" y="5840280"/>
            <a:ext cx="1535040" cy="7668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"/>
          <p:cNvPicPr/>
          <p:nvPr/>
        </p:nvPicPr>
        <p:blipFill>
          <a:blip r:embed="rId8"/>
          <a:stretch/>
        </p:blipFill>
        <p:spPr>
          <a:xfrm>
            <a:off x="6621480" y="2762280"/>
            <a:ext cx="1119240" cy="7714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2" descr=""/>
          <p:cNvPicPr/>
          <p:nvPr/>
        </p:nvPicPr>
        <p:blipFill>
          <a:blip r:embed="rId9"/>
          <a:stretch/>
        </p:blipFill>
        <p:spPr>
          <a:xfrm>
            <a:off x="5784840" y="5950080"/>
            <a:ext cx="874800" cy="657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" descr=""/>
          <p:cNvPicPr/>
          <p:nvPr/>
        </p:nvPicPr>
        <p:blipFill>
          <a:blip r:embed="rId10"/>
          <a:stretch/>
        </p:blipFill>
        <p:spPr>
          <a:xfrm>
            <a:off x="5008680" y="6022800"/>
            <a:ext cx="544320" cy="5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10"/>
          <p:cNvSpPr/>
          <p:nvPr/>
        </p:nvSpPr>
        <p:spPr>
          <a:xfrm>
            <a:off x="-17640" y="-100080"/>
            <a:ext cx="9161640" cy="6958080"/>
          </a:xfrm>
          <a:prstGeom prst="rect">
            <a:avLst/>
          </a:prstGeom>
          <a:solidFill>
            <a:srgbClr val="c9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-17640" y="-1179360"/>
            <a:ext cx="9269640" cy="5214960"/>
          </a:xfrm>
          <a:prstGeom prst="rect">
            <a:avLst/>
          </a:prstGeom>
          <a:ln w="0">
            <a:noFill/>
          </a:ln>
        </p:spPr>
      </p:pic>
      <p:sp>
        <p:nvSpPr>
          <p:cNvPr id="119" name="Freeform 6"/>
          <p:cNvSpPr/>
          <p:nvPr/>
        </p:nvSpPr>
        <p:spPr>
          <a:xfrm>
            <a:off x="-378000" y="3645000"/>
            <a:ext cx="9784080" cy="3386160"/>
          </a:xfrm>
          <a:custGeom>
            <a:avLst/>
            <a:gdLst/>
            <a:ahLst/>
            <a:rect l="l" t="t" r="r" b="b"/>
            <a:pathLst>
              <a:path w="9783555" h="2593910">
                <a:moveTo>
                  <a:pt x="98380" y="1670180"/>
                </a:moveTo>
                <a:cubicBezTo>
                  <a:pt x="117041" y="1660849"/>
                  <a:pt x="136671" y="1653246"/>
                  <a:pt x="154363" y="1642188"/>
                </a:cubicBezTo>
                <a:cubicBezTo>
                  <a:pt x="161823" y="1637525"/>
                  <a:pt x="166267" y="1629158"/>
                  <a:pt x="173025" y="1623526"/>
                </a:cubicBezTo>
                <a:cubicBezTo>
                  <a:pt x="184971" y="1613571"/>
                  <a:pt x="197693" y="1604574"/>
                  <a:pt x="210347" y="1595535"/>
                </a:cubicBezTo>
                <a:cubicBezTo>
                  <a:pt x="219472" y="1589017"/>
                  <a:pt x="229825" y="1584171"/>
                  <a:pt x="238339" y="1576873"/>
                </a:cubicBezTo>
                <a:cubicBezTo>
                  <a:pt x="251697" y="1565423"/>
                  <a:pt x="262303" y="1551001"/>
                  <a:pt x="275661" y="1539551"/>
                </a:cubicBezTo>
                <a:cubicBezTo>
                  <a:pt x="284175" y="1532253"/>
                  <a:pt x="295139" y="1528188"/>
                  <a:pt x="303653" y="1520890"/>
                </a:cubicBezTo>
                <a:cubicBezTo>
                  <a:pt x="317012" y="1509440"/>
                  <a:pt x="327618" y="1495017"/>
                  <a:pt x="340976" y="1483567"/>
                </a:cubicBezTo>
                <a:cubicBezTo>
                  <a:pt x="354452" y="1472016"/>
                  <a:pt x="407230" y="1442907"/>
                  <a:pt x="415620" y="1436914"/>
                </a:cubicBezTo>
                <a:cubicBezTo>
                  <a:pt x="444477" y="1416302"/>
                  <a:pt x="468806" y="1389194"/>
                  <a:pt x="499596" y="1371600"/>
                </a:cubicBezTo>
                <a:cubicBezTo>
                  <a:pt x="521367" y="1359159"/>
                  <a:pt x="542897" y="1346285"/>
                  <a:pt x="564910" y="1334278"/>
                </a:cubicBezTo>
                <a:cubicBezTo>
                  <a:pt x="577121" y="1327617"/>
                  <a:pt x="590438" y="1322988"/>
                  <a:pt x="602233" y="1315616"/>
                </a:cubicBezTo>
                <a:cubicBezTo>
                  <a:pt x="615420" y="1307374"/>
                  <a:pt x="626368" y="1295866"/>
                  <a:pt x="639555" y="1287624"/>
                </a:cubicBezTo>
                <a:cubicBezTo>
                  <a:pt x="727038" y="1232947"/>
                  <a:pt x="632952" y="1301672"/>
                  <a:pt x="704869" y="1250302"/>
                </a:cubicBezTo>
                <a:cubicBezTo>
                  <a:pt x="717524" y="1241263"/>
                  <a:pt x="729452" y="1231228"/>
                  <a:pt x="742192" y="1222310"/>
                </a:cubicBezTo>
                <a:cubicBezTo>
                  <a:pt x="760566" y="1209449"/>
                  <a:pt x="782317" y="1200847"/>
                  <a:pt x="798176" y="1184988"/>
                </a:cubicBezTo>
                <a:cubicBezTo>
                  <a:pt x="815756" y="1167407"/>
                  <a:pt x="830774" y="1148728"/>
                  <a:pt x="854159" y="1138335"/>
                </a:cubicBezTo>
                <a:cubicBezTo>
                  <a:pt x="872134" y="1130346"/>
                  <a:pt x="892549" y="1128470"/>
                  <a:pt x="910143" y="1119673"/>
                </a:cubicBezTo>
                <a:cubicBezTo>
                  <a:pt x="922584" y="1113453"/>
                  <a:pt x="935389" y="1107913"/>
                  <a:pt x="947465" y="1101012"/>
                </a:cubicBezTo>
                <a:cubicBezTo>
                  <a:pt x="957202" y="1095448"/>
                  <a:pt x="965150" y="1086768"/>
                  <a:pt x="975457" y="1082351"/>
                </a:cubicBezTo>
                <a:cubicBezTo>
                  <a:pt x="987244" y="1077299"/>
                  <a:pt x="1000773" y="1077523"/>
                  <a:pt x="1012780" y="1073020"/>
                </a:cubicBezTo>
                <a:cubicBezTo>
                  <a:pt x="1025803" y="1068136"/>
                  <a:pt x="1037661" y="1060579"/>
                  <a:pt x="1050102" y="1054359"/>
                </a:cubicBezTo>
                <a:cubicBezTo>
                  <a:pt x="1087424" y="1057469"/>
                  <a:pt x="1124874" y="1059314"/>
                  <a:pt x="1162069" y="1063690"/>
                </a:cubicBezTo>
                <a:cubicBezTo>
                  <a:pt x="1191978" y="1067209"/>
                  <a:pt x="1217045" y="1075906"/>
                  <a:pt x="1246045" y="1082351"/>
                </a:cubicBezTo>
                <a:cubicBezTo>
                  <a:pt x="1261526" y="1085791"/>
                  <a:pt x="1277217" y="1088242"/>
                  <a:pt x="1292698" y="1091682"/>
                </a:cubicBezTo>
                <a:cubicBezTo>
                  <a:pt x="1305216" y="1094464"/>
                  <a:pt x="1317446" y="1098497"/>
                  <a:pt x="1330020" y="1101012"/>
                </a:cubicBezTo>
                <a:cubicBezTo>
                  <a:pt x="1362402" y="1107488"/>
                  <a:pt x="1419930" y="1115189"/>
                  <a:pt x="1451318" y="1119673"/>
                </a:cubicBezTo>
                <a:cubicBezTo>
                  <a:pt x="1566396" y="1116563"/>
                  <a:pt x="1681575" y="1116092"/>
                  <a:pt x="1796551" y="1110343"/>
                </a:cubicBezTo>
                <a:cubicBezTo>
                  <a:pt x="1806374" y="1109852"/>
                  <a:pt x="1815086" y="1103714"/>
                  <a:pt x="1824543" y="1101012"/>
                </a:cubicBezTo>
                <a:cubicBezTo>
                  <a:pt x="1836873" y="1097489"/>
                  <a:pt x="1849582" y="1095367"/>
                  <a:pt x="1861865" y="1091682"/>
                </a:cubicBezTo>
                <a:cubicBezTo>
                  <a:pt x="1880706" y="1086030"/>
                  <a:pt x="1900255" y="1081817"/>
                  <a:pt x="1917849" y="1073020"/>
                </a:cubicBezTo>
                <a:cubicBezTo>
                  <a:pt x="1942731" y="1060579"/>
                  <a:pt x="1966103" y="1044495"/>
                  <a:pt x="1992494" y="1035698"/>
                </a:cubicBezTo>
                <a:cubicBezTo>
                  <a:pt x="2001825" y="1032588"/>
                  <a:pt x="2011532" y="1030437"/>
                  <a:pt x="2020486" y="1026367"/>
                </a:cubicBezTo>
                <a:cubicBezTo>
                  <a:pt x="2045811" y="1014856"/>
                  <a:pt x="2068740" y="997843"/>
                  <a:pt x="2095131" y="989045"/>
                </a:cubicBezTo>
                <a:cubicBezTo>
                  <a:pt x="2135288" y="975658"/>
                  <a:pt x="2113581" y="982099"/>
                  <a:pt x="2160445" y="970384"/>
                </a:cubicBezTo>
                <a:cubicBezTo>
                  <a:pt x="2172886" y="964163"/>
                  <a:pt x="2184743" y="956606"/>
                  <a:pt x="2197767" y="951722"/>
                </a:cubicBezTo>
                <a:cubicBezTo>
                  <a:pt x="2221697" y="942748"/>
                  <a:pt x="2240514" y="944345"/>
                  <a:pt x="2263082" y="933061"/>
                </a:cubicBezTo>
                <a:cubicBezTo>
                  <a:pt x="2273112" y="928046"/>
                  <a:pt x="2281044" y="919415"/>
                  <a:pt x="2291074" y="914400"/>
                </a:cubicBezTo>
                <a:cubicBezTo>
                  <a:pt x="2368381" y="875747"/>
                  <a:pt x="2309200" y="910630"/>
                  <a:pt x="2365718" y="886408"/>
                </a:cubicBezTo>
                <a:cubicBezTo>
                  <a:pt x="2378503" y="880929"/>
                  <a:pt x="2390126" y="872913"/>
                  <a:pt x="2403041" y="867747"/>
                </a:cubicBezTo>
                <a:cubicBezTo>
                  <a:pt x="2421305" y="860442"/>
                  <a:pt x="2440364" y="855307"/>
                  <a:pt x="2459025" y="849086"/>
                </a:cubicBezTo>
                <a:cubicBezTo>
                  <a:pt x="2489794" y="838829"/>
                  <a:pt x="2500212" y="835963"/>
                  <a:pt x="2533669" y="821094"/>
                </a:cubicBezTo>
                <a:cubicBezTo>
                  <a:pt x="2546380" y="815445"/>
                  <a:pt x="2558207" y="807912"/>
                  <a:pt x="2570992" y="802433"/>
                </a:cubicBezTo>
                <a:cubicBezTo>
                  <a:pt x="2580032" y="798559"/>
                  <a:pt x="2589944" y="796976"/>
                  <a:pt x="2598984" y="793102"/>
                </a:cubicBezTo>
                <a:cubicBezTo>
                  <a:pt x="2611768" y="787623"/>
                  <a:pt x="2623283" y="779325"/>
                  <a:pt x="2636306" y="774441"/>
                </a:cubicBezTo>
                <a:cubicBezTo>
                  <a:pt x="2648313" y="769938"/>
                  <a:pt x="2661346" y="768795"/>
                  <a:pt x="2673629" y="765110"/>
                </a:cubicBezTo>
                <a:cubicBezTo>
                  <a:pt x="2692470" y="759458"/>
                  <a:pt x="2710324" y="750307"/>
                  <a:pt x="2729612" y="746449"/>
                </a:cubicBezTo>
                <a:cubicBezTo>
                  <a:pt x="2769376" y="738496"/>
                  <a:pt x="2771473" y="740082"/>
                  <a:pt x="2804257" y="727788"/>
                </a:cubicBezTo>
                <a:cubicBezTo>
                  <a:pt x="2819940" y="721907"/>
                  <a:pt x="2835929" y="716616"/>
                  <a:pt x="2850910" y="709126"/>
                </a:cubicBezTo>
                <a:cubicBezTo>
                  <a:pt x="2879800" y="694681"/>
                  <a:pt x="2886630" y="679384"/>
                  <a:pt x="2916225" y="662473"/>
                </a:cubicBezTo>
                <a:cubicBezTo>
                  <a:pt x="2924764" y="657594"/>
                  <a:pt x="2934886" y="656253"/>
                  <a:pt x="2944216" y="653143"/>
                </a:cubicBezTo>
                <a:cubicBezTo>
                  <a:pt x="3001269" y="615109"/>
                  <a:pt x="2941652" y="657495"/>
                  <a:pt x="3009531" y="597159"/>
                </a:cubicBezTo>
                <a:cubicBezTo>
                  <a:pt x="3024416" y="583928"/>
                  <a:pt x="3040252" y="571786"/>
                  <a:pt x="3056184" y="559837"/>
                </a:cubicBezTo>
                <a:cubicBezTo>
                  <a:pt x="3065155" y="553108"/>
                  <a:pt x="3075662" y="548473"/>
                  <a:pt x="3084176" y="541175"/>
                </a:cubicBezTo>
                <a:cubicBezTo>
                  <a:pt x="3143287" y="490508"/>
                  <a:pt x="3097883" y="516486"/>
                  <a:pt x="3158820" y="475861"/>
                </a:cubicBezTo>
                <a:cubicBezTo>
                  <a:pt x="3195533" y="451385"/>
                  <a:pt x="3230794" y="428322"/>
                  <a:pt x="3270788" y="410547"/>
                </a:cubicBezTo>
                <a:cubicBezTo>
                  <a:pt x="3295041" y="399768"/>
                  <a:pt x="3331788" y="388541"/>
                  <a:pt x="3354763" y="373224"/>
                </a:cubicBezTo>
                <a:cubicBezTo>
                  <a:pt x="3397461" y="344758"/>
                  <a:pt x="3343104" y="358450"/>
                  <a:pt x="3410747" y="335902"/>
                </a:cubicBezTo>
                <a:cubicBezTo>
                  <a:pt x="3435078" y="327792"/>
                  <a:pt x="3460243" y="322271"/>
                  <a:pt x="3485392" y="317241"/>
                </a:cubicBezTo>
                <a:cubicBezTo>
                  <a:pt x="3553610" y="303597"/>
                  <a:pt x="3516345" y="310153"/>
                  <a:pt x="3597359" y="298580"/>
                </a:cubicBezTo>
                <a:cubicBezTo>
                  <a:pt x="3606690" y="295470"/>
                  <a:pt x="3615894" y="291951"/>
                  <a:pt x="3625351" y="289249"/>
                </a:cubicBezTo>
                <a:cubicBezTo>
                  <a:pt x="3637681" y="285726"/>
                  <a:pt x="3650508" y="283973"/>
                  <a:pt x="3662674" y="279918"/>
                </a:cubicBezTo>
                <a:cubicBezTo>
                  <a:pt x="3678563" y="274622"/>
                  <a:pt x="3693168" y="265664"/>
                  <a:pt x="3709327" y="261257"/>
                </a:cubicBezTo>
                <a:cubicBezTo>
                  <a:pt x="3727579" y="256279"/>
                  <a:pt x="3746649" y="255036"/>
                  <a:pt x="3765310" y="251926"/>
                </a:cubicBezTo>
                <a:cubicBezTo>
                  <a:pt x="3849486" y="209839"/>
                  <a:pt x="3745045" y="258685"/>
                  <a:pt x="3877278" y="214604"/>
                </a:cubicBezTo>
                <a:cubicBezTo>
                  <a:pt x="3886608" y="211494"/>
                  <a:pt x="3895812" y="207975"/>
                  <a:pt x="3905269" y="205273"/>
                </a:cubicBezTo>
                <a:cubicBezTo>
                  <a:pt x="3936002" y="196492"/>
                  <a:pt x="3957194" y="193022"/>
                  <a:pt x="3989245" y="186612"/>
                </a:cubicBezTo>
                <a:cubicBezTo>
                  <a:pt x="4088772" y="189722"/>
                  <a:pt x="4188380" y="190843"/>
                  <a:pt x="4287825" y="195943"/>
                </a:cubicBezTo>
                <a:cubicBezTo>
                  <a:pt x="4346867" y="198971"/>
                  <a:pt x="4347418" y="207122"/>
                  <a:pt x="4399792" y="214604"/>
                </a:cubicBezTo>
                <a:cubicBezTo>
                  <a:pt x="4427673" y="218587"/>
                  <a:pt x="4455775" y="220825"/>
                  <a:pt x="4483767" y="223935"/>
                </a:cubicBezTo>
                <a:lnTo>
                  <a:pt x="4558412" y="242596"/>
                </a:lnTo>
                <a:cubicBezTo>
                  <a:pt x="4570853" y="245706"/>
                  <a:pt x="4582990" y="250510"/>
                  <a:pt x="4595735" y="251926"/>
                </a:cubicBezTo>
                <a:cubicBezTo>
                  <a:pt x="4828674" y="277809"/>
                  <a:pt x="4707422" y="267909"/>
                  <a:pt x="4959629" y="279918"/>
                </a:cubicBezTo>
                <a:cubicBezTo>
                  <a:pt x="4975180" y="283028"/>
                  <a:pt x="4990897" y="285402"/>
                  <a:pt x="5006282" y="289249"/>
                </a:cubicBezTo>
                <a:cubicBezTo>
                  <a:pt x="5015824" y="291635"/>
                  <a:pt x="5024499" y="297494"/>
                  <a:pt x="5034274" y="298580"/>
                </a:cubicBezTo>
                <a:cubicBezTo>
                  <a:pt x="5080745" y="303743"/>
                  <a:pt x="5127604" y="304456"/>
                  <a:pt x="5174233" y="307910"/>
                </a:cubicBezTo>
                <a:lnTo>
                  <a:pt x="5286200" y="317241"/>
                </a:lnTo>
                <a:cubicBezTo>
                  <a:pt x="5298641" y="320351"/>
                  <a:pt x="5310848" y="324621"/>
                  <a:pt x="5323522" y="326571"/>
                </a:cubicBezTo>
                <a:cubicBezTo>
                  <a:pt x="5351359" y="330854"/>
                  <a:pt x="5379527" y="332611"/>
                  <a:pt x="5407498" y="335902"/>
                </a:cubicBezTo>
                <a:lnTo>
                  <a:pt x="5482143" y="345233"/>
                </a:lnTo>
                <a:cubicBezTo>
                  <a:pt x="5594110" y="342123"/>
                  <a:pt x="5706181" y="341639"/>
                  <a:pt x="5818045" y="335902"/>
                </a:cubicBezTo>
                <a:cubicBezTo>
                  <a:pt x="5827868" y="335398"/>
                  <a:pt x="5836269" y="327720"/>
                  <a:pt x="5846037" y="326571"/>
                </a:cubicBezTo>
                <a:cubicBezTo>
                  <a:pt x="5889392" y="321471"/>
                  <a:pt x="5933122" y="320351"/>
                  <a:pt x="5976665" y="317241"/>
                </a:cubicBezTo>
                <a:cubicBezTo>
                  <a:pt x="6001547" y="311021"/>
                  <a:pt x="6025861" y="301761"/>
                  <a:pt x="6051310" y="298580"/>
                </a:cubicBezTo>
                <a:lnTo>
                  <a:pt x="6191269" y="279918"/>
                </a:lnTo>
                <a:cubicBezTo>
                  <a:pt x="6216124" y="276604"/>
                  <a:pt x="6241130" y="274401"/>
                  <a:pt x="6265914" y="270588"/>
                </a:cubicBezTo>
                <a:cubicBezTo>
                  <a:pt x="6364959" y="255350"/>
                  <a:pt x="6264984" y="267846"/>
                  <a:pt x="6349890" y="251926"/>
                </a:cubicBezTo>
                <a:cubicBezTo>
                  <a:pt x="6387079" y="244953"/>
                  <a:pt x="6424535" y="239485"/>
                  <a:pt x="6461857" y="233265"/>
                </a:cubicBezTo>
                <a:lnTo>
                  <a:pt x="6517841" y="223935"/>
                </a:lnTo>
                <a:cubicBezTo>
                  <a:pt x="6594689" y="198318"/>
                  <a:pt x="6554352" y="208055"/>
                  <a:pt x="6639139" y="195943"/>
                </a:cubicBezTo>
                <a:cubicBezTo>
                  <a:pt x="6665822" y="187048"/>
                  <a:pt x="6675157" y="183141"/>
                  <a:pt x="6704453" y="177282"/>
                </a:cubicBezTo>
                <a:cubicBezTo>
                  <a:pt x="6723004" y="173572"/>
                  <a:pt x="6741969" y="172055"/>
                  <a:pt x="6760437" y="167951"/>
                </a:cubicBezTo>
                <a:cubicBezTo>
                  <a:pt x="6770038" y="165817"/>
                  <a:pt x="6779249" y="162151"/>
                  <a:pt x="6788429" y="158620"/>
                </a:cubicBezTo>
                <a:cubicBezTo>
                  <a:pt x="6819694" y="146595"/>
                  <a:pt x="6853863" y="139879"/>
                  <a:pt x="6881735" y="121298"/>
                </a:cubicBezTo>
                <a:cubicBezTo>
                  <a:pt x="6891066" y="115078"/>
                  <a:pt x="6899991" y="108201"/>
                  <a:pt x="6909727" y="102637"/>
                </a:cubicBezTo>
                <a:cubicBezTo>
                  <a:pt x="6961795" y="72883"/>
                  <a:pt x="6932769" y="91262"/>
                  <a:pt x="6993702" y="74645"/>
                </a:cubicBezTo>
                <a:cubicBezTo>
                  <a:pt x="7012680" y="69469"/>
                  <a:pt x="7049686" y="55984"/>
                  <a:pt x="7049686" y="55984"/>
                </a:cubicBezTo>
                <a:cubicBezTo>
                  <a:pt x="7059017" y="49763"/>
                  <a:pt x="7067371" y="41740"/>
                  <a:pt x="7077678" y="37322"/>
                </a:cubicBezTo>
                <a:cubicBezTo>
                  <a:pt x="7089465" y="32271"/>
                  <a:pt x="7102670" y="31515"/>
                  <a:pt x="7115000" y="27992"/>
                </a:cubicBezTo>
                <a:cubicBezTo>
                  <a:pt x="7147032" y="18840"/>
                  <a:pt x="7147142" y="16586"/>
                  <a:pt x="7180314" y="0"/>
                </a:cubicBezTo>
                <a:lnTo>
                  <a:pt x="7516216" y="9331"/>
                </a:lnTo>
                <a:cubicBezTo>
                  <a:pt x="7556734" y="10985"/>
                  <a:pt x="7597024" y="16412"/>
                  <a:pt x="7637514" y="18661"/>
                </a:cubicBezTo>
                <a:cubicBezTo>
                  <a:pt x="7709006" y="22633"/>
                  <a:pt x="7780615" y="24229"/>
                  <a:pt x="7852118" y="27992"/>
                </a:cubicBezTo>
                <a:cubicBezTo>
                  <a:pt x="7898810" y="30449"/>
                  <a:pt x="7945412" y="34405"/>
                  <a:pt x="7992078" y="37322"/>
                </a:cubicBezTo>
                <a:lnTo>
                  <a:pt x="8150698" y="46653"/>
                </a:lnTo>
                <a:cubicBezTo>
                  <a:pt x="8178779" y="48813"/>
                  <a:pt x="8206619" y="53509"/>
                  <a:pt x="8234674" y="55984"/>
                </a:cubicBezTo>
                <a:cubicBezTo>
                  <a:pt x="8427093" y="72962"/>
                  <a:pt x="8447966" y="73397"/>
                  <a:pt x="8617229" y="83975"/>
                </a:cubicBezTo>
                <a:cubicBezTo>
                  <a:pt x="8639000" y="87085"/>
                  <a:pt x="8660978" y="88993"/>
                  <a:pt x="8682543" y="93306"/>
                </a:cubicBezTo>
                <a:cubicBezTo>
                  <a:pt x="8692187" y="95235"/>
                  <a:pt x="8700993" y="100252"/>
                  <a:pt x="8710535" y="102637"/>
                </a:cubicBezTo>
                <a:cubicBezTo>
                  <a:pt x="8725920" y="106483"/>
                  <a:pt x="8741637" y="108857"/>
                  <a:pt x="8757188" y="111967"/>
                </a:cubicBezTo>
                <a:cubicBezTo>
                  <a:pt x="8769629" y="118188"/>
                  <a:pt x="8781725" y="125150"/>
                  <a:pt x="8794510" y="130629"/>
                </a:cubicBezTo>
                <a:cubicBezTo>
                  <a:pt x="8816872" y="140213"/>
                  <a:pt x="8836163" y="142530"/>
                  <a:pt x="8859825" y="149290"/>
                </a:cubicBezTo>
                <a:cubicBezTo>
                  <a:pt x="8889486" y="157764"/>
                  <a:pt x="8902901" y="165444"/>
                  <a:pt x="8934469" y="177282"/>
                </a:cubicBezTo>
                <a:cubicBezTo>
                  <a:pt x="8943678" y="180735"/>
                  <a:pt x="8953130" y="183502"/>
                  <a:pt x="8962461" y="186612"/>
                </a:cubicBezTo>
                <a:cubicBezTo>
                  <a:pt x="8971792" y="192832"/>
                  <a:pt x="8980423" y="200258"/>
                  <a:pt x="8990453" y="205273"/>
                </a:cubicBezTo>
                <a:cubicBezTo>
                  <a:pt x="8999250" y="209672"/>
                  <a:pt x="9008956" y="212016"/>
                  <a:pt x="9018445" y="214604"/>
                </a:cubicBezTo>
                <a:cubicBezTo>
                  <a:pt x="9043189" y="221352"/>
                  <a:pt x="9069277" y="223740"/>
                  <a:pt x="9093090" y="233265"/>
                </a:cubicBezTo>
                <a:cubicBezTo>
                  <a:pt x="9108641" y="239485"/>
                  <a:pt x="9123970" y="246293"/>
                  <a:pt x="9139743" y="251926"/>
                </a:cubicBezTo>
                <a:cubicBezTo>
                  <a:pt x="9167530" y="261850"/>
                  <a:pt x="9197327" y="266722"/>
                  <a:pt x="9223718" y="279918"/>
                </a:cubicBezTo>
                <a:cubicBezTo>
                  <a:pt x="9236159" y="286139"/>
                  <a:pt x="9248964" y="291679"/>
                  <a:pt x="9261041" y="298580"/>
                </a:cubicBezTo>
                <a:cubicBezTo>
                  <a:pt x="9270777" y="304144"/>
                  <a:pt x="9279003" y="312226"/>
                  <a:pt x="9289033" y="317241"/>
                </a:cubicBezTo>
                <a:cubicBezTo>
                  <a:pt x="9297830" y="321639"/>
                  <a:pt x="9307694" y="323461"/>
                  <a:pt x="9317025" y="326571"/>
                </a:cubicBezTo>
                <a:cubicBezTo>
                  <a:pt x="9335686" y="339012"/>
                  <a:pt x="9351731" y="356802"/>
                  <a:pt x="9373008" y="363894"/>
                </a:cubicBezTo>
                <a:lnTo>
                  <a:pt x="9456984" y="391886"/>
                </a:lnTo>
                <a:lnTo>
                  <a:pt x="9512967" y="410547"/>
                </a:lnTo>
                <a:lnTo>
                  <a:pt x="9540959" y="419878"/>
                </a:lnTo>
                <a:cubicBezTo>
                  <a:pt x="9556510" y="435429"/>
                  <a:pt x="9580657" y="445667"/>
                  <a:pt x="9587612" y="466531"/>
                </a:cubicBezTo>
                <a:cubicBezTo>
                  <a:pt x="9599725" y="502868"/>
                  <a:pt x="9589989" y="487567"/>
                  <a:pt x="9615604" y="513184"/>
                </a:cubicBezTo>
                <a:cubicBezTo>
                  <a:pt x="9622015" y="545239"/>
                  <a:pt x="9625483" y="566423"/>
                  <a:pt x="9634265" y="597159"/>
                </a:cubicBezTo>
                <a:cubicBezTo>
                  <a:pt x="9650452" y="653813"/>
                  <a:pt x="9638699" y="593550"/>
                  <a:pt x="9652927" y="671804"/>
                </a:cubicBezTo>
                <a:cubicBezTo>
                  <a:pt x="9672457" y="779222"/>
                  <a:pt x="9651875" y="673773"/>
                  <a:pt x="9671588" y="811763"/>
                </a:cubicBezTo>
                <a:cubicBezTo>
                  <a:pt x="9676939" y="849220"/>
                  <a:pt x="9685556" y="886186"/>
                  <a:pt x="9690249" y="923731"/>
                </a:cubicBezTo>
                <a:cubicBezTo>
                  <a:pt x="9693359" y="948612"/>
                  <a:pt x="9696034" y="973552"/>
                  <a:pt x="9699580" y="998375"/>
                </a:cubicBezTo>
                <a:cubicBezTo>
                  <a:pt x="9702255" y="1017104"/>
                  <a:pt x="9706895" y="1035548"/>
                  <a:pt x="9708910" y="1054359"/>
                </a:cubicBezTo>
                <a:cubicBezTo>
                  <a:pt x="9716229" y="1122675"/>
                  <a:pt x="9727571" y="1259633"/>
                  <a:pt x="9727571" y="1259633"/>
                </a:cubicBezTo>
                <a:cubicBezTo>
                  <a:pt x="9719430" y="1495751"/>
                  <a:pt x="9706477" y="1457207"/>
                  <a:pt x="9727571" y="1604865"/>
                </a:cubicBezTo>
                <a:cubicBezTo>
                  <a:pt x="9730246" y="1623594"/>
                  <a:pt x="9732314" y="1642495"/>
                  <a:pt x="9736902" y="1660849"/>
                </a:cubicBezTo>
                <a:cubicBezTo>
                  <a:pt x="9741673" y="1679932"/>
                  <a:pt x="9751705" y="1697544"/>
                  <a:pt x="9755563" y="1716833"/>
                </a:cubicBezTo>
                <a:cubicBezTo>
                  <a:pt x="9758673" y="1732384"/>
                  <a:pt x="9760721" y="1748186"/>
                  <a:pt x="9764894" y="1763486"/>
                </a:cubicBezTo>
                <a:cubicBezTo>
                  <a:pt x="9770070" y="1782463"/>
                  <a:pt x="9783555" y="1819469"/>
                  <a:pt x="9783555" y="1819469"/>
                </a:cubicBezTo>
                <a:cubicBezTo>
                  <a:pt x="9780445" y="1965649"/>
                  <a:pt x="9786121" y="2112280"/>
                  <a:pt x="9774225" y="2258008"/>
                </a:cubicBezTo>
                <a:cubicBezTo>
                  <a:pt x="9773249" y="2269970"/>
                  <a:pt x="9726000" y="2283783"/>
                  <a:pt x="9718241" y="2286000"/>
                </a:cubicBezTo>
                <a:cubicBezTo>
                  <a:pt x="9705911" y="2289523"/>
                  <a:pt x="9693201" y="2291646"/>
                  <a:pt x="9680918" y="2295331"/>
                </a:cubicBezTo>
                <a:cubicBezTo>
                  <a:pt x="9662077" y="2300983"/>
                  <a:pt x="9644408" y="2311210"/>
                  <a:pt x="9624935" y="2313992"/>
                </a:cubicBezTo>
                <a:lnTo>
                  <a:pt x="9559620" y="2323322"/>
                </a:lnTo>
                <a:cubicBezTo>
                  <a:pt x="9526477" y="2334370"/>
                  <a:pt x="9461216" y="2357716"/>
                  <a:pt x="9428992" y="2360645"/>
                </a:cubicBezTo>
                <a:lnTo>
                  <a:pt x="9326355" y="2369975"/>
                </a:lnTo>
                <a:cubicBezTo>
                  <a:pt x="9208860" y="2399350"/>
                  <a:pt x="9295078" y="2379903"/>
                  <a:pt x="9195727" y="2397967"/>
                </a:cubicBezTo>
                <a:cubicBezTo>
                  <a:pt x="9180124" y="2400804"/>
                  <a:pt x="9164862" y="2405794"/>
                  <a:pt x="9149074" y="2407298"/>
                </a:cubicBezTo>
                <a:cubicBezTo>
                  <a:pt x="9053630" y="2416388"/>
                  <a:pt x="8817508" y="2424024"/>
                  <a:pt x="8747857" y="2425959"/>
                </a:cubicBezTo>
                <a:lnTo>
                  <a:pt x="8327980" y="2435290"/>
                </a:lnTo>
                <a:cubicBezTo>
                  <a:pt x="8219123" y="2441510"/>
                  <a:pt x="8110412" y="2451356"/>
                  <a:pt x="8001408" y="2453951"/>
                </a:cubicBezTo>
                <a:lnTo>
                  <a:pt x="7609522" y="2463282"/>
                </a:lnTo>
                <a:lnTo>
                  <a:pt x="7282951" y="2472612"/>
                </a:lnTo>
                <a:lnTo>
                  <a:pt x="6723114" y="2481943"/>
                </a:lnTo>
                <a:lnTo>
                  <a:pt x="6153947" y="2509935"/>
                </a:lnTo>
                <a:lnTo>
                  <a:pt x="5855367" y="2519265"/>
                </a:lnTo>
                <a:cubicBezTo>
                  <a:pt x="5643770" y="2540426"/>
                  <a:pt x="5783817" y="2528744"/>
                  <a:pt x="5398167" y="2537926"/>
                </a:cubicBezTo>
                <a:lnTo>
                  <a:pt x="4978290" y="2547257"/>
                </a:lnTo>
                <a:cubicBezTo>
                  <a:pt x="4756222" y="2591670"/>
                  <a:pt x="4943102" y="2559843"/>
                  <a:pt x="4511759" y="2575249"/>
                </a:cubicBezTo>
                <a:cubicBezTo>
                  <a:pt x="4461930" y="2577029"/>
                  <a:pt x="4412327" y="2584127"/>
                  <a:pt x="4362469" y="2584580"/>
                </a:cubicBezTo>
                <a:lnTo>
                  <a:pt x="2459025" y="2593910"/>
                </a:lnTo>
                <a:lnTo>
                  <a:pt x="1339351" y="2584580"/>
                </a:lnTo>
                <a:cubicBezTo>
                  <a:pt x="1241522" y="2583051"/>
                  <a:pt x="1292768" y="2571714"/>
                  <a:pt x="1208722" y="2565918"/>
                </a:cubicBezTo>
                <a:cubicBezTo>
                  <a:pt x="1137289" y="2560992"/>
                  <a:pt x="1065653" y="2559698"/>
                  <a:pt x="994118" y="2556588"/>
                </a:cubicBezTo>
                <a:lnTo>
                  <a:pt x="928804" y="2547257"/>
                </a:lnTo>
                <a:cubicBezTo>
                  <a:pt x="844244" y="2535982"/>
                  <a:pt x="819817" y="2535312"/>
                  <a:pt x="723531" y="2519265"/>
                </a:cubicBezTo>
                <a:cubicBezTo>
                  <a:pt x="686208" y="2513045"/>
                  <a:pt x="647459" y="2512569"/>
                  <a:pt x="611563" y="2500604"/>
                </a:cubicBezTo>
                <a:lnTo>
                  <a:pt x="555580" y="2481943"/>
                </a:lnTo>
                <a:cubicBezTo>
                  <a:pt x="546249" y="2478833"/>
                  <a:pt x="537232" y="2474541"/>
                  <a:pt x="527588" y="2472612"/>
                </a:cubicBezTo>
                <a:lnTo>
                  <a:pt x="480935" y="2463282"/>
                </a:lnTo>
                <a:cubicBezTo>
                  <a:pt x="468494" y="2457061"/>
                  <a:pt x="456986" y="2448441"/>
                  <a:pt x="443612" y="2444620"/>
                </a:cubicBezTo>
                <a:cubicBezTo>
                  <a:pt x="413114" y="2435906"/>
                  <a:pt x="350306" y="2425959"/>
                  <a:pt x="350306" y="2425959"/>
                </a:cubicBezTo>
                <a:cubicBezTo>
                  <a:pt x="331645" y="2413518"/>
                  <a:pt x="306763" y="2407298"/>
                  <a:pt x="294322" y="2388637"/>
                </a:cubicBezTo>
                <a:cubicBezTo>
                  <a:pt x="288102" y="2379306"/>
                  <a:pt x="283590" y="2368574"/>
                  <a:pt x="275661" y="2360645"/>
                </a:cubicBezTo>
                <a:cubicBezTo>
                  <a:pt x="257575" y="2342559"/>
                  <a:pt x="242443" y="2340242"/>
                  <a:pt x="219678" y="2332653"/>
                </a:cubicBezTo>
                <a:cubicBezTo>
                  <a:pt x="213457" y="2326433"/>
                  <a:pt x="208559" y="2318518"/>
                  <a:pt x="201016" y="2313992"/>
                </a:cubicBezTo>
                <a:cubicBezTo>
                  <a:pt x="192582" y="2308932"/>
                  <a:pt x="182065" y="2308535"/>
                  <a:pt x="173025" y="2304661"/>
                </a:cubicBezTo>
                <a:cubicBezTo>
                  <a:pt x="160240" y="2299182"/>
                  <a:pt x="147629" y="2293156"/>
                  <a:pt x="135702" y="2286000"/>
                </a:cubicBezTo>
                <a:cubicBezTo>
                  <a:pt x="116470" y="2274461"/>
                  <a:pt x="79718" y="2248678"/>
                  <a:pt x="79718" y="2248678"/>
                </a:cubicBezTo>
                <a:cubicBezTo>
                  <a:pt x="82829" y="2037115"/>
                  <a:pt x="-113205" y="1614196"/>
                  <a:pt x="98380" y="1614196"/>
                </a:cubicBezTo>
              </a:path>
            </a:pathLst>
          </a:custGeom>
          <a:solidFill>
            <a:srgbClr val="72af2f"/>
          </a:solidFill>
          <a:ln w="25560">
            <a:solidFill>
              <a:srgbClr val="72af2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Freeform 5"/>
          <p:cNvSpPr/>
          <p:nvPr/>
        </p:nvSpPr>
        <p:spPr>
          <a:xfrm>
            <a:off x="-225360" y="3645000"/>
            <a:ext cx="9556560" cy="3446280"/>
          </a:xfrm>
          <a:custGeom>
            <a:avLst/>
            <a:gdLst/>
            <a:ahLst/>
            <a:rect l="l" t="t" r="r" b="b"/>
            <a:pathLst>
              <a:path w="9555712" h="2472612">
                <a:moveTo>
                  <a:pt x="94471" y="317241"/>
                </a:moveTo>
                <a:cubicBezTo>
                  <a:pt x="103801" y="311021"/>
                  <a:pt x="126079" y="312925"/>
                  <a:pt x="141124" y="307910"/>
                </a:cubicBezTo>
                <a:cubicBezTo>
                  <a:pt x="206137" y="286239"/>
                  <a:pt x="151913" y="293185"/>
                  <a:pt x="215769" y="261257"/>
                </a:cubicBezTo>
                <a:cubicBezTo>
                  <a:pt x="227239" y="255522"/>
                  <a:pt x="240651" y="255037"/>
                  <a:pt x="253092" y="251927"/>
                </a:cubicBezTo>
                <a:cubicBezTo>
                  <a:pt x="270450" y="234569"/>
                  <a:pt x="276203" y="226375"/>
                  <a:pt x="299745" y="214604"/>
                </a:cubicBezTo>
                <a:cubicBezTo>
                  <a:pt x="308542" y="210206"/>
                  <a:pt x="318406" y="208384"/>
                  <a:pt x="327737" y="205274"/>
                </a:cubicBezTo>
                <a:cubicBezTo>
                  <a:pt x="369934" y="163075"/>
                  <a:pt x="317194" y="214058"/>
                  <a:pt x="383720" y="158620"/>
                </a:cubicBezTo>
                <a:cubicBezTo>
                  <a:pt x="390478" y="152988"/>
                  <a:pt x="395062" y="144839"/>
                  <a:pt x="402382" y="139959"/>
                </a:cubicBezTo>
                <a:cubicBezTo>
                  <a:pt x="413955" y="132244"/>
                  <a:pt x="427628" y="128199"/>
                  <a:pt x="439704" y="121298"/>
                </a:cubicBezTo>
                <a:cubicBezTo>
                  <a:pt x="449441" y="115734"/>
                  <a:pt x="458571" y="109155"/>
                  <a:pt x="467696" y="102637"/>
                </a:cubicBezTo>
                <a:cubicBezTo>
                  <a:pt x="480350" y="93598"/>
                  <a:pt x="491424" y="82197"/>
                  <a:pt x="505018" y="74645"/>
                </a:cubicBezTo>
                <a:cubicBezTo>
                  <a:pt x="519659" y="66511"/>
                  <a:pt x="536690" y="63474"/>
                  <a:pt x="551671" y="55984"/>
                </a:cubicBezTo>
                <a:cubicBezTo>
                  <a:pt x="561701" y="50969"/>
                  <a:pt x="570906" y="44328"/>
                  <a:pt x="579663" y="37323"/>
                </a:cubicBezTo>
                <a:cubicBezTo>
                  <a:pt x="586532" y="31827"/>
                  <a:pt x="590456" y="22595"/>
                  <a:pt x="598324" y="18661"/>
                </a:cubicBezTo>
                <a:cubicBezTo>
                  <a:pt x="609794" y="12926"/>
                  <a:pt x="623317" y="12854"/>
                  <a:pt x="635647" y="9331"/>
                </a:cubicBezTo>
                <a:cubicBezTo>
                  <a:pt x="645104" y="6629"/>
                  <a:pt x="654308" y="3110"/>
                  <a:pt x="663639" y="0"/>
                </a:cubicBezTo>
                <a:cubicBezTo>
                  <a:pt x="679047" y="1712"/>
                  <a:pt x="748254" y="3465"/>
                  <a:pt x="775606" y="18661"/>
                </a:cubicBezTo>
                <a:cubicBezTo>
                  <a:pt x="795212" y="29553"/>
                  <a:pt x="811530" y="45954"/>
                  <a:pt x="831590" y="55984"/>
                </a:cubicBezTo>
                <a:cubicBezTo>
                  <a:pt x="844031" y="62204"/>
                  <a:pt x="855998" y="69479"/>
                  <a:pt x="868912" y="74645"/>
                </a:cubicBezTo>
                <a:cubicBezTo>
                  <a:pt x="887176" y="81950"/>
                  <a:pt x="906921" y="85317"/>
                  <a:pt x="924896" y="93306"/>
                </a:cubicBezTo>
                <a:cubicBezTo>
                  <a:pt x="935144" y="97860"/>
                  <a:pt x="942581" y="107550"/>
                  <a:pt x="952888" y="111967"/>
                </a:cubicBezTo>
                <a:cubicBezTo>
                  <a:pt x="964675" y="117019"/>
                  <a:pt x="978203" y="116795"/>
                  <a:pt x="990210" y="121298"/>
                </a:cubicBezTo>
                <a:cubicBezTo>
                  <a:pt x="1087794" y="157892"/>
                  <a:pt x="969056" y="125339"/>
                  <a:pt x="1064855" y="149290"/>
                </a:cubicBezTo>
                <a:lnTo>
                  <a:pt x="1148831" y="205274"/>
                </a:lnTo>
                <a:cubicBezTo>
                  <a:pt x="1158161" y="211494"/>
                  <a:pt x="1165943" y="221215"/>
                  <a:pt x="1176822" y="223935"/>
                </a:cubicBezTo>
                <a:lnTo>
                  <a:pt x="1214145" y="233265"/>
                </a:lnTo>
                <a:cubicBezTo>
                  <a:pt x="1298301" y="275345"/>
                  <a:pt x="1193914" y="226523"/>
                  <a:pt x="1326112" y="270588"/>
                </a:cubicBezTo>
                <a:cubicBezTo>
                  <a:pt x="1344773" y="276808"/>
                  <a:pt x="1363832" y="281944"/>
                  <a:pt x="1382096" y="289249"/>
                </a:cubicBezTo>
                <a:cubicBezTo>
                  <a:pt x="1437881" y="311563"/>
                  <a:pt x="1412860" y="302613"/>
                  <a:pt x="1456741" y="317241"/>
                </a:cubicBezTo>
                <a:cubicBezTo>
                  <a:pt x="1466072" y="326572"/>
                  <a:pt x="1473754" y="337913"/>
                  <a:pt x="1484733" y="345233"/>
                </a:cubicBezTo>
                <a:cubicBezTo>
                  <a:pt x="1492916" y="350688"/>
                  <a:pt x="1503927" y="350165"/>
                  <a:pt x="1512724" y="354563"/>
                </a:cubicBezTo>
                <a:cubicBezTo>
                  <a:pt x="1522754" y="359578"/>
                  <a:pt x="1530409" y="368808"/>
                  <a:pt x="1540716" y="373225"/>
                </a:cubicBezTo>
                <a:cubicBezTo>
                  <a:pt x="1552503" y="378277"/>
                  <a:pt x="1565756" y="378870"/>
                  <a:pt x="1578039" y="382555"/>
                </a:cubicBezTo>
                <a:cubicBezTo>
                  <a:pt x="1596880" y="388207"/>
                  <a:pt x="1615361" y="394996"/>
                  <a:pt x="1634022" y="401216"/>
                </a:cubicBezTo>
                <a:cubicBezTo>
                  <a:pt x="1697546" y="422391"/>
                  <a:pt x="1619431" y="395745"/>
                  <a:pt x="1708667" y="429208"/>
                </a:cubicBezTo>
                <a:cubicBezTo>
                  <a:pt x="1717876" y="432661"/>
                  <a:pt x="1726957" y="436922"/>
                  <a:pt x="1736659" y="438539"/>
                </a:cubicBezTo>
                <a:cubicBezTo>
                  <a:pt x="1764440" y="443169"/>
                  <a:pt x="1792643" y="444759"/>
                  <a:pt x="1820635" y="447869"/>
                </a:cubicBezTo>
                <a:cubicBezTo>
                  <a:pt x="2366648" y="431324"/>
                  <a:pt x="1974630" y="452852"/>
                  <a:pt x="2203190" y="429208"/>
                </a:cubicBezTo>
                <a:lnTo>
                  <a:pt x="2399133" y="410547"/>
                </a:lnTo>
                <a:cubicBezTo>
                  <a:pt x="2430990" y="404175"/>
                  <a:pt x="2469923" y="395867"/>
                  <a:pt x="2501769" y="391886"/>
                </a:cubicBezTo>
                <a:cubicBezTo>
                  <a:pt x="2532785" y="388009"/>
                  <a:pt x="2564010" y="386007"/>
                  <a:pt x="2595076" y="382555"/>
                </a:cubicBezTo>
                <a:cubicBezTo>
                  <a:pt x="2619998" y="379786"/>
                  <a:pt x="2644937" y="377038"/>
                  <a:pt x="2669720" y="373225"/>
                </a:cubicBezTo>
                <a:cubicBezTo>
                  <a:pt x="2685395" y="370814"/>
                  <a:pt x="2700623" y="365747"/>
                  <a:pt x="2716373" y="363894"/>
                </a:cubicBezTo>
                <a:cubicBezTo>
                  <a:pt x="2753569" y="359518"/>
                  <a:pt x="2791018" y="357673"/>
                  <a:pt x="2828341" y="354563"/>
                </a:cubicBezTo>
                <a:cubicBezTo>
                  <a:pt x="2840782" y="351453"/>
                  <a:pt x="2853014" y="347341"/>
                  <a:pt x="2865663" y="345233"/>
                </a:cubicBezTo>
                <a:cubicBezTo>
                  <a:pt x="2890397" y="341111"/>
                  <a:pt x="2915453" y="339216"/>
                  <a:pt x="2940308" y="335902"/>
                </a:cubicBezTo>
                <a:lnTo>
                  <a:pt x="3005622" y="326571"/>
                </a:lnTo>
                <a:cubicBezTo>
                  <a:pt x="3014953" y="323461"/>
                  <a:pt x="3024157" y="319943"/>
                  <a:pt x="3033614" y="317241"/>
                </a:cubicBezTo>
                <a:cubicBezTo>
                  <a:pt x="3236766" y="259199"/>
                  <a:pt x="3481975" y="314333"/>
                  <a:pt x="3668096" y="317241"/>
                </a:cubicBezTo>
                <a:cubicBezTo>
                  <a:pt x="3680537" y="320351"/>
                  <a:pt x="3693088" y="323048"/>
                  <a:pt x="3705418" y="326571"/>
                </a:cubicBezTo>
                <a:cubicBezTo>
                  <a:pt x="3714875" y="329273"/>
                  <a:pt x="3723809" y="333768"/>
                  <a:pt x="3733410" y="335902"/>
                </a:cubicBezTo>
                <a:cubicBezTo>
                  <a:pt x="3802830" y="351329"/>
                  <a:pt x="3780264" y="339674"/>
                  <a:pt x="3854708" y="354563"/>
                </a:cubicBezTo>
                <a:cubicBezTo>
                  <a:pt x="3879857" y="359593"/>
                  <a:pt x="3904471" y="367005"/>
                  <a:pt x="3929353" y="373225"/>
                </a:cubicBezTo>
                <a:cubicBezTo>
                  <a:pt x="3941794" y="376335"/>
                  <a:pt x="3954510" y="378499"/>
                  <a:pt x="3966676" y="382555"/>
                </a:cubicBezTo>
                <a:cubicBezTo>
                  <a:pt x="4018999" y="399997"/>
                  <a:pt x="3985122" y="389500"/>
                  <a:pt x="4069312" y="410547"/>
                </a:cubicBezTo>
                <a:cubicBezTo>
                  <a:pt x="4081753" y="413657"/>
                  <a:pt x="4093940" y="418065"/>
                  <a:pt x="4106635" y="419878"/>
                </a:cubicBezTo>
                <a:cubicBezTo>
                  <a:pt x="4128406" y="422988"/>
                  <a:pt x="4150311" y="425274"/>
                  <a:pt x="4171949" y="429208"/>
                </a:cubicBezTo>
                <a:cubicBezTo>
                  <a:pt x="4246354" y="442736"/>
                  <a:pt x="4180037" y="445512"/>
                  <a:pt x="4302578" y="447869"/>
                </a:cubicBezTo>
                <a:lnTo>
                  <a:pt x="5179655" y="457200"/>
                </a:lnTo>
                <a:lnTo>
                  <a:pt x="5300953" y="466531"/>
                </a:lnTo>
                <a:cubicBezTo>
                  <a:pt x="5332093" y="469239"/>
                  <a:pt x="5363067" y="473849"/>
                  <a:pt x="5394259" y="475861"/>
                </a:cubicBezTo>
                <a:cubicBezTo>
                  <a:pt x="5459512" y="480071"/>
                  <a:pt x="5524888" y="482082"/>
                  <a:pt x="5590202" y="485192"/>
                </a:cubicBezTo>
                <a:cubicBezTo>
                  <a:pt x="5602643" y="488302"/>
                  <a:pt x="5614907" y="492229"/>
                  <a:pt x="5627524" y="494523"/>
                </a:cubicBezTo>
                <a:cubicBezTo>
                  <a:pt x="5649162" y="498457"/>
                  <a:pt x="5671410" y="498908"/>
                  <a:pt x="5692839" y="503853"/>
                </a:cubicBezTo>
                <a:cubicBezTo>
                  <a:pt x="5712006" y="508276"/>
                  <a:pt x="5730161" y="516294"/>
                  <a:pt x="5748822" y="522514"/>
                </a:cubicBezTo>
                <a:cubicBezTo>
                  <a:pt x="5758153" y="525624"/>
                  <a:pt x="5767170" y="529916"/>
                  <a:pt x="5776814" y="531845"/>
                </a:cubicBezTo>
                <a:cubicBezTo>
                  <a:pt x="5792365" y="534955"/>
                  <a:pt x="5808167" y="537003"/>
                  <a:pt x="5823467" y="541176"/>
                </a:cubicBezTo>
                <a:cubicBezTo>
                  <a:pt x="5842445" y="546352"/>
                  <a:pt x="5860368" y="555066"/>
                  <a:pt x="5879451" y="559837"/>
                </a:cubicBezTo>
                <a:lnTo>
                  <a:pt x="5916773" y="569167"/>
                </a:lnTo>
                <a:cubicBezTo>
                  <a:pt x="5929214" y="575388"/>
                  <a:pt x="5941072" y="582945"/>
                  <a:pt x="5954096" y="587829"/>
                </a:cubicBezTo>
                <a:cubicBezTo>
                  <a:pt x="5966103" y="592332"/>
                  <a:pt x="5979948" y="591424"/>
                  <a:pt x="5991418" y="597159"/>
                </a:cubicBezTo>
                <a:cubicBezTo>
                  <a:pt x="6005327" y="604114"/>
                  <a:pt x="6015239" y="617435"/>
                  <a:pt x="6028741" y="625151"/>
                </a:cubicBezTo>
                <a:cubicBezTo>
                  <a:pt x="6045333" y="634632"/>
                  <a:pt x="6089730" y="640398"/>
                  <a:pt x="6103386" y="643812"/>
                </a:cubicBezTo>
                <a:cubicBezTo>
                  <a:pt x="6112928" y="646197"/>
                  <a:pt x="6121836" y="650757"/>
                  <a:pt x="6131378" y="653143"/>
                </a:cubicBezTo>
                <a:cubicBezTo>
                  <a:pt x="6146763" y="656990"/>
                  <a:pt x="6162480" y="659364"/>
                  <a:pt x="6178031" y="662474"/>
                </a:cubicBezTo>
                <a:cubicBezTo>
                  <a:pt x="6190472" y="668694"/>
                  <a:pt x="6203277" y="674234"/>
                  <a:pt x="6215353" y="681135"/>
                </a:cubicBezTo>
                <a:cubicBezTo>
                  <a:pt x="6225090" y="686699"/>
                  <a:pt x="6233315" y="694781"/>
                  <a:pt x="6243345" y="699796"/>
                </a:cubicBezTo>
                <a:cubicBezTo>
                  <a:pt x="6258326" y="707286"/>
                  <a:pt x="6274447" y="712237"/>
                  <a:pt x="6289998" y="718457"/>
                </a:cubicBezTo>
                <a:cubicBezTo>
                  <a:pt x="6299329" y="727788"/>
                  <a:pt x="6306800" y="739455"/>
                  <a:pt x="6317990" y="746449"/>
                </a:cubicBezTo>
                <a:cubicBezTo>
                  <a:pt x="6347660" y="764993"/>
                  <a:pt x="6390149" y="768531"/>
                  <a:pt x="6420627" y="783771"/>
                </a:cubicBezTo>
                <a:cubicBezTo>
                  <a:pt x="6459242" y="803079"/>
                  <a:pt x="6467807" y="809562"/>
                  <a:pt x="6513933" y="821094"/>
                </a:cubicBezTo>
                <a:cubicBezTo>
                  <a:pt x="6526374" y="824204"/>
                  <a:pt x="6538432" y="830266"/>
                  <a:pt x="6551255" y="830425"/>
                </a:cubicBezTo>
                <a:lnTo>
                  <a:pt x="8016161" y="839755"/>
                </a:lnTo>
                <a:cubicBezTo>
                  <a:pt x="8087696" y="842865"/>
                  <a:pt x="8159374" y="843594"/>
                  <a:pt x="8230765" y="849086"/>
                </a:cubicBezTo>
                <a:cubicBezTo>
                  <a:pt x="8240571" y="849840"/>
                  <a:pt x="8249215" y="856031"/>
                  <a:pt x="8258757" y="858416"/>
                </a:cubicBezTo>
                <a:cubicBezTo>
                  <a:pt x="8276491" y="862850"/>
                  <a:pt x="8323577" y="869894"/>
                  <a:pt x="8342733" y="877078"/>
                </a:cubicBezTo>
                <a:cubicBezTo>
                  <a:pt x="8355756" y="881962"/>
                  <a:pt x="8367141" y="890573"/>
                  <a:pt x="8380055" y="895739"/>
                </a:cubicBezTo>
                <a:cubicBezTo>
                  <a:pt x="8398319" y="903044"/>
                  <a:pt x="8419672" y="903488"/>
                  <a:pt x="8436039" y="914400"/>
                </a:cubicBezTo>
                <a:cubicBezTo>
                  <a:pt x="8500205" y="957179"/>
                  <a:pt x="8470745" y="944631"/>
                  <a:pt x="8520014" y="961053"/>
                </a:cubicBezTo>
                <a:cubicBezTo>
                  <a:pt x="8558351" y="986610"/>
                  <a:pt x="8569733" y="995870"/>
                  <a:pt x="8622651" y="1017037"/>
                </a:cubicBezTo>
                <a:cubicBezTo>
                  <a:pt x="8653753" y="1029478"/>
                  <a:pt x="8683459" y="1046234"/>
                  <a:pt x="8715957" y="1054359"/>
                </a:cubicBezTo>
                <a:cubicBezTo>
                  <a:pt x="8771633" y="1068278"/>
                  <a:pt x="8740631" y="1061582"/>
                  <a:pt x="8809263" y="1073020"/>
                </a:cubicBezTo>
                <a:cubicBezTo>
                  <a:pt x="8821704" y="1082351"/>
                  <a:pt x="8832292" y="1094886"/>
                  <a:pt x="8846586" y="1101012"/>
                </a:cubicBezTo>
                <a:cubicBezTo>
                  <a:pt x="8876432" y="1113803"/>
                  <a:pt x="8908517" y="1120637"/>
                  <a:pt x="8939892" y="1129004"/>
                </a:cubicBezTo>
                <a:cubicBezTo>
                  <a:pt x="8961637" y="1134803"/>
                  <a:pt x="9022746" y="1144368"/>
                  <a:pt x="9042529" y="1147665"/>
                </a:cubicBezTo>
                <a:cubicBezTo>
                  <a:pt x="9061190" y="1153886"/>
                  <a:pt x="9079535" y="1161151"/>
                  <a:pt x="9098512" y="1166327"/>
                </a:cubicBezTo>
                <a:cubicBezTo>
                  <a:pt x="9196228" y="1192977"/>
                  <a:pt x="9098658" y="1159839"/>
                  <a:pt x="9182488" y="1184988"/>
                </a:cubicBezTo>
                <a:cubicBezTo>
                  <a:pt x="9230083" y="1199267"/>
                  <a:pt x="9232788" y="1204379"/>
                  <a:pt x="9275794" y="1212980"/>
                </a:cubicBezTo>
                <a:cubicBezTo>
                  <a:pt x="9294345" y="1216690"/>
                  <a:pt x="9313227" y="1218600"/>
                  <a:pt x="9331778" y="1222310"/>
                </a:cubicBezTo>
                <a:cubicBezTo>
                  <a:pt x="9419008" y="1239756"/>
                  <a:pt x="9325975" y="1223192"/>
                  <a:pt x="9397092" y="1240971"/>
                </a:cubicBezTo>
                <a:cubicBezTo>
                  <a:pt x="9412477" y="1244817"/>
                  <a:pt x="9428194" y="1247192"/>
                  <a:pt x="9443745" y="1250302"/>
                </a:cubicBezTo>
                <a:cubicBezTo>
                  <a:pt x="9446855" y="1321837"/>
                  <a:pt x="9448313" y="1393462"/>
                  <a:pt x="9453076" y="1464906"/>
                </a:cubicBezTo>
                <a:cubicBezTo>
                  <a:pt x="9456878" y="1521933"/>
                  <a:pt x="9463697" y="1525952"/>
                  <a:pt x="9471737" y="1576874"/>
                </a:cubicBezTo>
                <a:cubicBezTo>
                  <a:pt x="9478597" y="1620320"/>
                  <a:pt x="9486416" y="1663698"/>
                  <a:pt x="9490398" y="1707502"/>
                </a:cubicBezTo>
                <a:cubicBezTo>
                  <a:pt x="9493508" y="1741714"/>
                  <a:pt x="9495189" y="1776087"/>
                  <a:pt x="9499729" y="1810139"/>
                </a:cubicBezTo>
                <a:cubicBezTo>
                  <a:pt x="9502333" y="1829670"/>
                  <a:pt x="9511992" y="1856259"/>
                  <a:pt x="9518390" y="1875453"/>
                </a:cubicBezTo>
                <a:cubicBezTo>
                  <a:pt x="9521500" y="1894114"/>
                  <a:pt x="9523616" y="1912969"/>
                  <a:pt x="9527720" y="1931437"/>
                </a:cubicBezTo>
                <a:cubicBezTo>
                  <a:pt x="9545088" y="2009593"/>
                  <a:pt x="9530250" y="1893157"/>
                  <a:pt x="9546382" y="2006082"/>
                </a:cubicBezTo>
                <a:cubicBezTo>
                  <a:pt x="9550365" y="2033963"/>
                  <a:pt x="9552602" y="2062065"/>
                  <a:pt x="9555712" y="2090057"/>
                </a:cubicBezTo>
                <a:cubicBezTo>
                  <a:pt x="9552602" y="2161592"/>
                  <a:pt x="9560986" y="2234564"/>
                  <a:pt x="9546382" y="2304661"/>
                </a:cubicBezTo>
                <a:cubicBezTo>
                  <a:pt x="9543767" y="2317215"/>
                  <a:pt x="9520529" y="2308257"/>
                  <a:pt x="9509059" y="2313992"/>
                </a:cubicBezTo>
                <a:cubicBezTo>
                  <a:pt x="9488999" y="2324022"/>
                  <a:pt x="9475068" y="2346915"/>
                  <a:pt x="9453076" y="2351314"/>
                </a:cubicBezTo>
                <a:cubicBezTo>
                  <a:pt x="9437525" y="2354424"/>
                  <a:pt x="9421808" y="2356798"/>
                  <a:pt x="9406422" y="2360645"/>
                </a:cubicBezTo>
                <a:cubicBezTo>
                  <a:pt x="9308508" y="2385125"/>
                  <a:pt x="9463281" y="2353127"/>
                  <a:pt x="9341108" y="2379306"/>
                </a:cubicBezTo>
                <a:cubicBezTo>
                  <a:pt x="9249207" y="2398998"/>
                  <a:pt x="9263274" y="2395757"/>
                  <a:pt x="9182488" y="2407298"/>
                </a:cubicBezTo>
                <a:cubicBezTo>
                  <a:pt x="9173157" y="2410408"/>
                  <a:pt x="9164038" y="2414244"/>
                  <a:pt x="9154496" y="2416629"/>
                </a:cubicBezTo>
                <a:cubicBezTo>
                  <a:pt x="9138383" y="2420657"/>
                  <a:pt x="9064923" y="2434102"/>
                  <a:pt x="9051859" y="2435290"/>
                </a:cubicBezTo>
                <a:cubicBezTo>
                  <a:pt x="9002203" y="2439804"/>
                  <a:pt x="8952348" y="2441776"/>
                  <a:pt x="8902569" y="2444620"/>
                </a:cubicBezTo>
                <a:lnTo>
                  <a:pt x="8725288" y="2453951"/>
                </a:lnTo>
                <a:cubicBezTo>
                  <a:pt x="8684815" y="2456481"/>
                  <a:pt x="8644530" y="2462293"/>
                  <a:pt x="8603990" y="2463282"/>
                </a:cubicBezTo>
                <a:lnTo>
                  <a:pt x="7960178" y="2472612"/>
                </a:lnTo>
                <a:lnTo>
                  <a:pt x="6252676" y="2463282"/>
                </a:lnTo>
                <a:cubicBezTo>
                  <a:pt x="6202818" y="2462781"/>
                  <a:pt x="6153199" y="2456117"/>
                  <a:pt x="6103386" y="2453951"/>
                </a:cubicBezTo>
                <a:cubicBezTo>
                  <a:pt x="5960056" y="2447719"/>
                  <a:pt x="5775279" y="2445364"/>
                  <a:pt x="5627524" y="2435290"/>
                </a:cubicBezTo>
                <a:cubicBezTo>
                  <a:pt x="5555886" y="2430406"/>
                  <a:pt x="5484672" y="2419389"/>
                  <a:pt x="5412920" y="2416629"/>
                </a:cubicBezTo>
                <a:lnTo>
                  <a:pt x="4927729" y="2397967"/>
                </a:lnTo>
                <a:lnTo>
                  <a:pt x="4638480" y="2388637"/>
                </a:lnTo>
                <a:lnTo>
                  <a:pt x="4423876" y="2379306"/>
                </a:lnTo>
                <a:lnTo>
                  <a:pt x="3985337" y="2369976"/>
                </a:lnTo>
                <a:cubicBezTo>
                  <a:pt x="3394326" y="2338869"/>
                  <a:pt x="4108275" y="2373821"/>
                  <a:pt x="2679051" y="2351314"/>
                </a:cubicBezTo>
                <a:cubicBezTo>
                  <a:pt x="2660135" y="2351016"/>
                  <a:pt x="2641820" y="2344484"/>
                  <a:pt x="2623067" y="2341984"/>
                </a:cubicBezTo>
                <a:cubicBezTo>
                  <a:pt x="2595150" y="2338262"/>
                  <a:pt x="2567084" y="2335763"/>
                  <a:pt x="2539092" y="2332653"/>
                </a:cubicBezTo>
                <a:cubicBezTo>
                  <a:pt x="2441720" y="2308312"/>
                  <a:pt x="2526756" y="2327042"/>
                  <a:pt x="2324488" y="2313992"/>
                </a:cubicBezTo>
                <a:cubicBezTo>
                  <a:pt x="2287114" y="2311581"/>
                  <a:pt x="2249956" y="2305762"/>
                  <a:pt x="2212520" y="2304661"/>
                </a:cubicBezTo>
                <a:cubicBezTo>
                  <a:pt x="2038396" y="2299540"/>
                  <a:pt x="1864158" y="2299381"/>
                  <a:pt x="1690006" y="2295331"/>
                </a:cubicBezTo>
                <a:cubicBezTo>
                  <a:pt x="1553902" y="2292166"/>
                  <a:pt x="1356839" y="2284596"/>
                  <a:pt x="1214145" y="2276669"/>
                </a:cubicBezTo>
                <a:cubicBezTo>
                  <a:pt x="1167460" y="2274075"/>
                  <a:pt x="1120839" y="2270449"/>
                  <a:pt x="1074186" y="2267339"/>
                </a:cubicBezTo>
                <a:lnTo>
                  <a:pt x="439704" y="2276669"/>
                </a:lnTo>
                <a:cubicBezTo>
                  <a:pt x="346741" y="2278735"/>
                  <a:pt x="259122" y="2278966"/>
                  <a:pt x="169116" y="2295331"/>
                </a:cubicBezTo>
                <a:cubicBezTo>
                  <a:pt x="156499" y="2297625"/>
                  <a:pt x="144235" y="2301551"/>
                  <a:pt x="131794" y="2304661"/>
                </a:cubicBezTo>
                <a:cubicBezTo>
                  <a:pt x="91361" y="2301551"/>
                  <a:pt x="15958" y="2335514"/>
                  <a:pt x="10496" y="2295331"/>
                </a:cubicBezTo>
                <a:cubicBezTo>
                  <a:pt x="-11267" y="2135216"/>
                  <a:pt x="7001" y="607431"/>
                  <a:pt x="10496" y="429208"/>
                </a:cubicBezTo>
                <a:cubicBezTo>
                  <a:pt x="11110" y="397888"/>
                  <a:pt x="23022" y="381605"/>
                  <a:pt x="47818" y="363894"/>
                </a:cubicBezTo>
                <a:cubicBezTo>
                  <a:pt x="59137" y="355809"/>
                  <a:pt x="72700" y="351453"/>
                  <a:pt x="85141" y="345233"/>
                </a:cubicBezTo>
                <a:cubicBezTo>
                  <a:pt x="112599" y="317774"/>
                  <a:pt x="85141" y="323461"/>
                  <a:pt x="94471" y="317241"/>
                </a:cubicBezTo>
                <a:close/>
              </a:path>
            </a:pathLst>
          </a:custGeom>
          <a:solidFill>
            <a:srgbClr val="92d050"/>
          </a:solidFill>
          <a:ln w="2556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1" name="Picture 8" descr=""/>
          <p:cNvPicPr/>
          <p:nvPr/>
        </p:nvPicPr>
        <p:blipFill>
          <a:blip r:embed="rId2"/>
          <a:stretch/>
        </p:blipFill>
        <p:spPr>
          <a:xfrm>
            <a:off x="0" y="1125360"/>
            <a:ext cx="5410080" cy="44755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9" descr=""/>
          <p:cNvPicPr/>
          <p:nvPr/>
        </p:nvPicPr>
        <p:blipFill>
          <a:blip r:embed="rId3"/>
          <a:stretch/>
        </p:blipFill>
        <p:spPr>
          <a:xfrm>
            <a:off x="6894360" y="5076720"/>
            <a:ext cx="754200" cy="5288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0" descr=""/>
          <p:cNvPicPr/>
          <p:nvPr/>
        </p:nvPicPr>
        <p:blipFill>
          <a:blip r:embed="rId4"/>
          <a:stretch/>
        </p:blipFill>
        <p:spPr>
          <a:xfrm>
            <a:off x="5415120" y="4618080"/>
            <a:ext cx="1461960" cy="8906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1" descr=""/>
          <p:cNvPicPr/>
          <p:nvPr/>
        </p:nvPicPr>
        <p:blipFill>
          <a:blip r:embed="rId5"/>
          <a:stretch/>
        </p:blipFill>
        <p:spPr>
          <a:xfrm>
            <a:off x="4290840" y="4221000"/>
            <a:ext cx="1262160" cy="10130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" descr=""/>
          <p:cNvPicPr/>
          <p:nvPr/>
        </p:nvPicPr>
        <p:blipFill>
          <a:blip r:embed="rId6"/>
          <a:stretch/>
        </p:blipFill>
        <p:spPr>
          <a:xfrm>
            <a:off x="7648560" y="4989600"/>
            <a:ext cx="598680" cy="7858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" descr=""/>
          <p:cNvPicPr/>
          <p:nvPr/>
        </p:nvPicPr>
        <p:blipFill>
          <a:blip r:embed="rId7"/>
          <a:stretch/>
        </p:blipFill>
        <p:spPr>
          <a:xfrm>
            <a:off x="6659640" y="5840280"/>
            <a:ext cx="1535040" cy="7668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3" descr=""/>
          <p:cNvPicPr/>
          <p:nvPr/>
        </p:nvPicPr>
        <p:blipFill>
          <a:blip r:embed="rId8"/>
          <a:stretch/>
        </p:blipFill>
        <p:spPr>
          <a:xfrm>
            <a:off x="6621480" y="2762280"/>
            <a:ext cx="1119240" cy="7714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2" descr=""/>
          <p:cNvPicPr/>
          <p:nvPr/>
        </p:nvPicPr>
        <p:blipFill>
          <a:blip r:embed="rId9"/>
          <a:stretch/>
        </p:blipFill>
        <p:spPr>
          <a:xfrm>
            <a:off x="5784840" y="5950080"/>
            <a:ext cx="874800" cy="657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" descr=""/>
          <p:cNvPicPr/>
          <p:nvPr/>
        </p:nvPicPr>
        <p:blipFill>
          <a:blip r:embed="rId10"/>
          <a:stretch/>
        </p:blipFill>
        <p:spPr>
          <a:xfrm>
            <a:off x="5008680" y="6022800"/>
            <a:ext cx="544320" cy="5112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" descr=""/>
          <p:cNvPicPr/>
          <p:nvPr/>
        </p:nvPicPr>
        <p:blipFill>
          <a:blip r:embed="rId11"/>
          <a:stretch/>
        </p:blipFill>
        <p:spPr>
          <a:xfrm>
            <a:off x="4260960" y="6175440"/>
            <a:ext cx="527040" cy="3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1-02-11T15:24:27Z</dcterms:modified>
  <cp:revision>141</cp:revision>
  <dc:subject/>
  <dc:title>TITLE</dc:title>
</cp:coreProperties>
</file>