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388-8A49-4ACE-B1F1-BA281244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0B1-47F4-4BA2-9DF3-AD4A1764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A0F-940B-484C-B79D-6E5C043A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7C8-71B8-41F5-B213-A2C3EDCD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13B-1458-4902-85A9-CD42D8D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DEF-A230-4D01-B048-4F230DC8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6F5-2DCD-47C6-8E1F-C5C7A57A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44D-0C44-42A1-B6F0-39C238D1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CD5-DC48-4191-87D3-15309CC9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DD3-7FFD-437A-9AF9-2D7BC29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BE2-1B0E-4138-9550-C7415788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DD8-1D79-4E7D-BF6C-38AF023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416-B8F8-454A-B5A7-7F9C9E1B32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4290840" y="4570560"/>
            <a:ext cx="12621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13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12"/>
          <a:stretch/>
        </p:blipFill>
        <p:spPr>
          <a:xfrm>
            <a:off x="2075040" y="3741840"/>
            <a:ext cx="22698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49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4290840" y="457056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tretch/>
        </p:blipFill>
        <p:spPr>
          <a:xfrm>
            <a:off x="5415120" y="4967280"/>
            <a:ext cx="14619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6894360" y="54259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5415120" y="49672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5"/>
          <a:stretch/>
        </p:blipFill>
        <p:spPr>
          <a:xfrm>
            <a:off x="4290840" y="4570560"/>
            <a:ext cx="12621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64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7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7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8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4:27Z</dcterms:modified>
  <cp:revision>141</cp:revision>
  <dc:subject/>
  <dc:title>TITLE</dc:title>
</cp:coreProperties>
</file>