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F175-0F24-435C-9FEB-790CEF3FB00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247E-37C6-4BA2-83A6-AC31DBAA240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D60C-0DBE-4E42-943E-355903F1D77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7301-5068-4F3A-A167-3E4DED9D9F6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EBA5-890D-4448-BA74-505B838457A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7E4F-3788-4DAC-AAC7-4C2DE6E2375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9623-AEDB-4C5F-9B69-D0F586D8BCA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78FC-4AD1-47A9-A8C6-7D3FDFFA478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D977-8217-4444-B7CE-FE86B153582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D97A-DE3F-4832-A5AB-0CE3F0CC380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0E61-E7F5-45AA-BE70-AC35E0D42DC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AFFF-C8FB-41A5-B7C2-6AB219537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909C-6255-4F16-95D4-9270C5C4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F2EB-93F1-47CE-9042-90529DB55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C269-99BC-45C5-8A0D-C932EC2C6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6D8A-C637-4B31-9ABF-9C1E7B3D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139C-7EAA-40D8-883F-5FF2B9EA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82FB-F2C0-4E42-9C7D-BD5F2023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3EE1-38BF-4FFB-B195-5393B783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3CC7-05C4-4FDA-8F61-7B7D7D5F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BBDB-D9D9-4E12-9728-6620BAE2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67E3-3D5A-4386-8D70-749F5E2D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73FF-0B55-4C68-9A1B-6547EA3A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F609-685A-4469-8E7B-4C319C16B35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395280" y="404640"/>
            <a:ext cx="93672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95280" y="2633760"/>
          <a:ext cx="8424720" cy="295596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29559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51" name="Picture 2" descr="monkey-1197100_1280"/>
          <p:cNvPicPr/>
          <p:nvPr/>
        </p:nvPicPr>
        <p:blipFill>
          <a:blip r:embed="rId1"/>
          <a:srcRect l="28760" t="10789" r="25798" b="0"/>
          <a:stretch/>
        </p:blipFill>
        <p:spPr>
          <a:xfrm>
            <a:off x="3713040" y="2941560"/>
            <a:ext cx="1789200" cy="2340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bison-4045362_1280"/>
          <p:cNvPicPr/>
          <p:nvPr/>
        </p:nvPicPr>
        <p:blipFill>
          <a:blip r:embed="rId2"/>
          <a:srcRect l="19230" t="0" r="2602" b="0"/>
          <a:stretch/>
        </p:blipFill>
        <p:spPr>
          <a:xfrm>
            <a:off x="468360" y="3068640"/>
            <a:ext cx="2703600" cy="1944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horse-3611921_1280"/>
          <p:cNvPicPr/>
          <p:nvPr/>
        </p:nvPicPr>
        <p:blipFill>
          <a:blip r:embed="rId3"/>
          <a:stretch/>
        </p:blipFill>
        <p:spPr>
          <a:xfrm>
            <a:off x="6058080" y="3068640"/>
            <a:ext cx="2690640" cy="16923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419040" y="2986200"/>
            <a:ext cx="2752920" cy="23414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395280" y="404640"/>
            <a:ext cx="93672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95280" y="2633760"/>
          <a:ext cx="8424720" cy="295596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29559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114" name="Picture 3" descr="elephant-1421167_1280"/>
          <p:cNvPicPr/>
          <p:nvPr/>
        </p:nvPicPr>
        <p:blipFill>
          <a:blip r:embed="rId1"/>
          <a:srcRect l="0" t="0" r="18197" b="0"/>
          <a:stretch/>
        </p:blipFill>
        <p:spPr>
          <a:xfrm>
            <a:off x="539640" y="2997360"/>
            <a:ext cx="2535480" cy="2062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gorilla-1099264_1280"/>
          <p:cNvPicPr/>
          <p:nvPr/>
        </p:nvPicPr>
        <p:blipFill>
          <a:blip r:embed="rId2"/>
          <a:srcRect l="10996" t="11280" r="18608" b="0"/>
          <a:stretch/>
        </p:blipFill>
        <p:spPr>
          <a:xfrm>
            <a:off x="6068880" y="2852640"/>
            <a:ext cx="2679840" cy="2535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lama-5301776_1280"/>
          <p:cNvPicPr/>
          <p:nvPr/>
        </p:nvPicPr>
        <p:blipFill>
          <a:blip r:embed="rId3"/>
          <a:srcRect l="14552" t="0" r="42106" b="0"/>
          <a:stretch/>
        </p:blipFill>
        <p:spPr>
          <a:xfrm>
            <a:off x="3689280" y="2700360"/>
            <a:ext cx="1835280" cy="28209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511200" y="2986200"/>
            <a:ext cx="2635200" cy="21715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395280" y="404640"/>
            <a:ext cx="93672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95280" y="2633760"/>
          <a:ext cx="8424720" cy="295596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29559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58" name="Picture 3" descr="elephant-1421167_1280"/>
          <p:cNvPicPr/>
          <p:nvPr/>
        </p:nvPicPr>
        <p:blipFill>
          <a:blip r:embed="rId1"/>
          <a:srcRect l="0" t="0" r="18197" b="0"/>
          <a:stretch/>
        </p:blipFill>
        <p:spPr>
          <a:xfrm>
            <a:off x="539640" y="2997360"/>
            <a:ext cx="2535480" cy="2062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lama-5301776_1280"/>
          <p:cNvPicPr/>
          <p:nvPr/>
        </p:nvPicPr>
        <p:blipFill>
          <a:blip r:embed="rId2"/>
          <a:srcRect l="14552" t="0" r="42106" b="0"/>
          <a:stretch/>
        </p:blipFill>
        <p:spPr>
          <a:xfrm>
            <a:off x="3654360" y="2700360"/>
            <a:ext cx="1835280" cy="2820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ostrich-341989_1280"/>
          <p:cNvPicPr/>
          <p:nvPr/>
        </p:nvPicPr>
        <p:blipFill>
          <a:blip r:embed="rId3"/>
          <a:srcRect l="15645" t="13959" r="0" b="11418"/>
          <a:stretch/>
        </p:blipFill>
        <p:spPr>
          <a:xfrm>
            <a:off x="6284880" y="2744640"/>
            <a:ext cx="2319480" cy="27338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3641760" y="2700360"/>
            <a:ext cx="2082600" cy="28893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395280" y="404640"/>
            <a:ext cx="93672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95280" y="2633760"/>
          <a:ext cx="8424720" cy="295596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29559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65" name="Picture 3" descr="elephant-1421167_1280"/>
          <p:cNvPicPr/>
          <p:nvPr/>
        </p:nvPicPr>
        <p:blipFill>
          <a:blip r:embed="rId1"/>
          <a:srcRect l="0" t="0" r="18197" b="0"/>
          <a:stretch/>
        </p:blipFill>
        <p:spPr>
          <a:xfrm>
            <a:off x="3340080" y="2997360"/>
            <a:ext cx="2535120" cy="2062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bear-5300995_1280"/>
          <p:cNvPicPr/>
          <p:nvPr/>
        </p:nvPicPr>
        <p:blipFill>
          <a:blip r:embed="rId2"/>
          <a:stretch/>
        </p:blipFill>
        <p:spPr>
          <a:xfrm>
            <a:off x="468360" y="2997360"/>
            <a:ext cx="2697120" cy="1800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bison-4045362_1280"/>
          <p:cNvPicPr/>
          <p:nvPr/>
        </p:nvPicPr>
        <p:blipFill>
          <a:blip r:embed="rId3"/>
          <a:srcRect l="19230" t="0" r="2602" b="0"/>
          <a:stretch/>
        </p:blipFill>
        <p:spPr>
          <a:xfrm>
            <a:off x="6086520" y="3056040"/>
            <a:ext cx="2703600" cy="19447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412920" y="2790720"/>
            <a:ext cx="2752560" cy="26416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395280" y="404640"/>
            <a:ext cx="93672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95280" y="2633760"/>
          <a:ext cx="8424720" cy="295596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29559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72" name="Picture 2" descr="monkey-1197100_1280"/>
          <p:cNvPicPr/>
          <p:nvPr/>
        </p:nvPicPr>
        <p:blipFill>
          <a:blip r:embed="rId1"/>
          <a:srcRect l="28760" t="10789" r="25798" b="0"/>
          <a:stretch/>
        </p:blipFill>
        <p:spPr>
          <a:xfrm>
            <a:off x="863640" y="2766960"/>
            <a:ext cx="2052720" cy="2687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zebra-1491253_1280"/>
          <p:cNvPicPr/>
          <p:nvPr/>
        </p:nvPicPr>
        <p:blipFill>
          <a:blip r:embed="rId2"/>
          <a:stretch/>
        </p:blipFill>
        <p:spPr>
          <a:xfrm>
            <a:off x="6080040" y="3189240"/>
            <a:ext cx="2595600" cy="1731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ostrich-341989_1280"/>
          <p:cNvPicPr/>
          <p:nvPr/>
        </p:nvPicPr>
        <p:blipFill>
          <a:blip r:embed="rId3"/>
          <a:srcRect l="15645" t="13959" r="0" b="11418"/>
          <a:stretch/>
        </p:blipFill>
        <p:spPr>
          <a:xfrm>
            <a:off x="3476520" y="2736720"/>
            <a:ext cx="2319480" cy="27338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5"/>
          <p:cNvSpPr/>
          <p:nvPr/>
        </p:nvSpPr>
        <p:spPr>
          <a:xfrm>
            <a:off x="3368520" y="2736720"/>
            <a:ext cx="2568600" cy="28530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95280" y="404640"/>
            <a:ext cx="93672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95280" y="2633760"/>
          <a:ext cx="8424720" cy="295596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29559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79" name="Picture 2" descr="bear-5300995_1280"/>
          <p:cNvPicPr/>
          <p:nvPr/>
        </p:nvPicPr>
        <p:blipFill>
          <a:blip r:embed="rId1"/>
          <a:stretch/>
        </p:blipFill>
        <p:spPr>
          <a:xfrm>
            <a:off x="6053040" y="3181320"/>
            <a:ext cx="2698920" cy="1800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lama-5301776_1280"/>
          <p:cNvPicPr/>
          <p:nvPr/>
        </p:nvPicPr>
        <p:blipFill>
          <a:blip r:embed="rId2"/>
          <a:srcRect l="14552" t="0" r="42106" b="0"/>
          <a:stretch/>
        </p:blipFill>
        <p:spPr>
          <a:xfrm>
            <a:off x="874800" y="2671920"/>
            <a:ext cx="1834920" cy="2820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giraffe-171318_1920"/>
          <p:cNvPicPr/>
          <p:nvPr/>
        </p:nvPicPr>
        <p:blipFill>
          <a:blip r:embed="rId3"/>
          <a:srcRect l="0" t="25035" r="17441" b="0"/>
          <a:stretch/>
        </p:blipFill>
        <p:spPr>
          <a:xfrm>
            <a:off x="3568680" y="2690640"/>
            <a:ext cx="2077920" cy="28242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5"/>
          <p:cNvSpPr/>
          <p:nvPr/>
        </p:nvSpPr>
        <p:spPr>
          <a:xfrm>
            <a:off x="3260880" y="2671920"/>
            <a:ext cx="2693880" cy="29178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395280" y="404640"/>
            <a:ext cx="93672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95280" y="2633760"/>
          <a:ext cx="8424720" cy="295596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29559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86" name="Picture 2" descr="gorilla-1099264_1280"/>
          <p:cNvPicPr/>
          <p:nvPr/>
        </p:nvPicPr>
        <p:blipFill>
          <a:blip r:embed="rId1"/>
          <a:srcRect l="10996" t="11280" r="18608" b="0"/>
          <a:stretch/>
        </p:blipFill>
        <p:spPr>
          <a:xfrm>
            <a:off x="539640" y="2878200"/>
            <a:ext cx="2562480" cy="2422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horse-3611921_1280"/>
          <p:cNvPicPr/>
          <p:nvPr/>
        </p:nvPicPr>
        <p:blipFill>
          <a:blip r:embed="rId2"/>
          <a:stretch/>
        </p:blipFill>
        <p:spPr>
          <a:xfrm>
            <a:off x="3281400" y="3195720"/>
            <a:ext cx="2690640" cy="1690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giraffe-171318_1920"/>
          <p:cNvPicPr/>
          <p:nvPr/>
        </p:nvPicPr>
        <p:blipFill>
          <a:blip r:embed="rId3"/>
          <a:srcRect l="0" t="25035" r="17441" b="0"/>
          <a:stretch/>
        </p:blipFill>
        <p:spPr>
          <a:xfrm>
            <a:off x="6443640" y="2693880"/>
            <a:ext cx="2076480" cy="28227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3281400" y="2678040"/>
            <a:ext cx="2690640" cy="28227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395280" y="404640"/>
            <a:ext cx="93672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95280" y="2633760"/>
          <a:ext cx="8424720" cy="295596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29559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93" name="Picture 2" descr="bear-5300995_1280"/>
          <p:cNvPicPr/>
          <p:nvPr/>
        </p:nvPicPr>
        <p:blipFill>
          <a:blip r:embed="rId1"/>
          <a:stretch/>
        </p:blipFill>
        <p:spPr>
          <a:xfrm>
            <a:off x="468360" y="2997360"/>
            <a:ext cx="2697120" cy="1800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gorilla-1099264_1280"/>
          <p:cNvPicPr/>
          <p:nvPr/>
        </p:nvPicPr>
        <p:blipFill>
          <a:blip r:embed="rId2"/>
          <a:srcRect l="10996" t="11280" r="18608" b="0"/>
          <a:stretch/>
        </p:blipFill>
        <p:spPr>
          <a:xfrm>
            <a:off x="3321000" y="2960640"/>
            <a:ext cx="2546280" cy="2408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giraffe-171318_1920"/>
          <p:cNvPicPr/>
          <p:nvPr/>
        </p:nvPicPr>
        <p:blipFill>
          <a:blip r:embed="rId3"/>
          <a:srcRect l="0" t="25035" r="17441" b="0"/>
          <a:stretch/>
        </p:blipFill>
        <p:spPr>
          <a:xfrm>
            <a:off x="6443640" y="2693880"/>
            <a:ext cx="2076480" cy="28227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3276720" y="2693880"/>
            <a:ext cx="2698560" cy="28227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395280" y="404640"/>
            <a:ext cx="93672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95280" y="2633760"/>
          <a:ext cx="8424720" cy="295596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29559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100" name="Picture 2" descr="monkey-1197100_1280"/>
          <p:cNvPicPr/>
          <p:nvPr/>
        </p:nvPicPr>
        <p:blipFill>
          <a:blip r:embed="rId1"/>
          <a:srcRect l="28760" t="10789" r="25798" b="0"/>
          <a:stretch/>
        </p:blipFill>
        <p:spPr>
          <a:xfrm>
            <a:off x="6443640" y="2738520"/>
            <a:ext cx="2052720" cy="2687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zebra-1491253_1280"/>
          <p:cNvPicPr/>
          <p:nvPr/>
        </p:nvPicPr>
        <p:blipFill>
          <a:blip r:embed="rId2"/>
          <a:stretch/>
        </p:blipFill>
        <p:spPr>
          <a:xfrm>
            <a:off x="3273480" y="3209760"/>
            <a:ext cx="2597040" cy="1731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ostrich-341989_1280"/>
          <p:cNvPicPr/>
          <p:nvPr/>
        </p:nvPicPr>
        <p:blipFill>
          <a:blip r:embed="rId3"/>
          <a:srcRect l="15645" t="13959" r="0" b="11418"/>
          <a:stretch/>
        </p:blipFill>
        <p:spPr>
          <a:xfrm>
            <a:off x="631800" y="2744640"/>
            <a:ext cx="2317680" cy="27338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6189840" y="2711520"/>
            <a:ext cx="2595240" cy="27669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395280" y="404640"/>
            <a:ext cx="93672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95280" y="2633760"/>
          <a:ext cx="8424720" cy="295596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29559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107" name="Picture 2" descr="bison-4045362_1280"/>
          <p:cNvPicPr/>
          <p:nvPr/>
        </p:nvPicPr>
        <p:blipFill>
          <a:blip r:embed="rId1"/>
          <a:srcRect l="19230" t="0" r="2602" b="0"/>
          <a:stretch/>
        </p:blipFill>
        <p:spPr>
          <a:xfrm>
            <a:off x="468360" y="3068640"/>
            <a:ext cx="2703600" cy="1944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horse-3611921_1280"/>
          <p:cNvPicPr/>
          <p:nvPr/>
        </p:nvPicPr>
        <p:blipFill>
          <a:blip r:embed="rId2"/>
          <a:stretch/>
        </p:blipFill>
        <p:spPr>
          <a:xfrm>
            <a:off x="3281400" y="3195720"/>
            <a:ext cx="2690640" cy="1690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zebra-1491253_1280"/>
          <p:cNvPicPr/>
          <p:nvPr/>
        </p:nvPicPr>
        <p:blipFill>
          <a:blip r:embed="rId3"/>
          <a:stretch/>
        </p:blipFill>
        <p:spPr>
          <a:xfrm>
            <a:off x="6080040" y="3189240"/>
            <a:ext cx="2595600" cy="17319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6064200" y="2708280"/>
            <a:ext cx="2727360" cy="26924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21-10-01T09:13:41Z</dcterms:modified>
  <cp:revision>126</cp:revision>
  <dc:subject/>
  <dc:title>TITLE</dc:title>
</cp:coreProperties>
</file>