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CA86-4E29-4DE9-A3C4-17569E57B18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5B7A-ECEE-4AA7-A69C-6C29ABD88AD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6A50-6FF0-4EA2-8549-06AE632551E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DCC5-ABCB-49AB-B0B1-FABF730757C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7520-8C7D-4AC7-BABC-02D1EF58108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1F2D-FC8C-4CD9-9AEB-2F8D31D3DD6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15DD-5DDD-4B26-B6FB-9BCFC40E7D8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6546-1AB2-462F-88DB-1259DA66580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DD05-5885-4232-8378-8943CE447F6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146E-4EB0-46F3-9199-0F9B9533DC3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E3D9-7911-459F-A218-C017A1B2190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D3BC-624A-46A7-A857-DF5E4519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0734-5CA4-4C5E-AFA8-4F6223D2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1406-2AAA-4B3B-97EA-88694A23D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F10A-2DC8-484A-AE64-E80B17E61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24D3-B2F7-4D57-BC7A-F9BF7503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A40E-F62A-405E-90EF-E342A27E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4CE1-0435-4CD3-8D17-CC19DB5E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C2F7-6882-4FD1-84E0-376B128D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D5CD-EA80-42A1-97C9-BEB83F46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8B7E-CDA2-41CF-90EA-E75F257A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270A-C02A-4F46-800B-0185B136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7EA9-ABED-45B9-B410-40AA1665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9E78-BC6E-4D5B-BE8E-C1FC20E82D4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395280" y="404640"/>
            <a:ext cx="9367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95280" y="2633760"/>
          <a:ext cx="8424720" cy="295596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2955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51" name="Picture 2" descr="monkey-1197100_1280"/>
          <p:cNvPicPr/>
          <p:nvPr/>
        </p:nvPicPr>
        <p:blipFill>
          <a:blip r:embed="rId1"/>
          <a:srcRect l="28760" t="10789" r="25798" b="0"/>
          <a:stretch/>
        </p:blipFill>
        <p:spPr>
          <a:xfrm>
            <a:off x="3713040" y="2941560"/>
            <a:ext cx="1789200" cy="234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bison-4045362_1280"/>
          <p:cNvPicPr/>
          <p:nvPr/>
        </p:nvPicPr>
        <p:blipFill>
          <a:blip r:embed="rId2"/>
          <a:srcRect l="19230" t="0" r="2602" b="0"/>
          <a:stretch/>
        </p:blipFill>
        <p:spPr>
          <a:xfrm>
            <a:off x="468360" y="3068640"/>
            <a:ext cx="2703600" cy="1944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orse-3611921_1280"/>
          <p:cNvPicPr/>
          <p:nvPr/>
        </p:nvPicPr>
        <p:blipFill>
          <a:blip r:embed="rId3"/>
          <a:stretch/>
        </p:blipFill>
        <p:spPr>
          <a:xfrm>
            <a:off x="6058080" y="3068640"/>
            <a:ext cx="2690640" cy="16923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419040" y="2986200"/>
            <a:ext cx="2752920" cy="2341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395280" y="404640"/>
            <a:ext cx="9367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5280" y="2633760"/>
          <a:ext cx="8424720" cy="295596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2955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114" name="Picture 3" descr="elephant-1421167_1280"/>
          <p:cNvPicPr/>
          <p:nvPr/>
        </p:nvPicPr>
        <p:blipFill>
          <a:blip r:embed="rId1"/>
          <a:srcRect l="0" t="0" r="18197" b="0"/>
          <a:stretch/>
        </p:blipFill>
        <p:spPr>
          <a:xfrm>
            <a:off x="539640" y="2997360"/>
            <a:ext cx="2535480" cy="2062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gorilla-1099264_1280"/>
          <p:cNvPicPr/>
          <p:nvPr/>
        </p:nvPicPr>
        <p:blipFill>
          <a:blip r:embed="rId2"/>
          <a:srcRect l="10996" t="11280" r="18608" b="0"/>
          <a:stretch/>
        </p:blipFill>
        <p:spPr>
          <a:xfrm>
            <a:off x="6068880" y="2852640"/>
            <a:ext cx="2679840" cy="2535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lama-5301776_1280"/>
          <p:cNvPicPr/>
          <p:nvPr/>
        </p:nvPicPr>
        <p:blipFill>
          <a:blip r:embed="rId3"/>
          <a:srcRect l="14552" t="0" r="42106" b="0"/>
          <a:stretch/>
        </p:blipFill>
        <p:spPr>
          <a:xfrm>
            <a:off x="3689280" y="2700360"/>
            <a:ext cx="1835280" cy="28209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511200" y="2986200"/>
            <a:ext cx="2635200" cy="21715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395280" y="404640"/>
            <a:ext cx="9367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95280" y="2633760"/>
          <a:ext cx="8424720" cy="295596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2955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58" name="Picture 3" descr="elephant-1421167_1280"/>
          <p:cNvPicPr/>
          <p:nvPr/>
        </p:nvPicPr>
        <p:blipFill>
          <a:blip r:embed="rId1"/>
          <a:srcRect l="0" t="0" r="18197" b="0"/>
          <a:stretch/>
        </p:blipFill>
        <p:spPr>
          <a:xfrm>
            <a:off x="539640" y="2997360"/>
            <a:ext cx="2535480" cy="2062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lama-5301776_1280"/>
          <p:cNvPicPr/>
          <p:nvPr/>
        </p:nvPicPr>
        <p:blipFill>
          <a:blip r:embed="rId2"/>
          <a:srcRect l="14552" t="0" r="42106" b="0"/>
          <a:stretch/>
        </p:blipFill>
        <p:spPr>
          <a:xfrm>
            <a:off x="3654360" y="2700360"/>
            <a:ext cx="1835280" cy="2820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ostrich-341989_1280"/>
          <p:cNvPicPr/>
          <p:nvPr/>
        </p:nvPicPr>
        <p:blipFill>
          <a:blip r:embed="rId3"/>
          <a:srcRect l="15645" t="13959" r="0" b="11418"/>
          <a:stretch/>
        </p:blipFill>
        <p:spPr>
          <a:xfrm>
            <a:off x="6284880" y="2744640"/>
            <a:ext cx="2319480" cy="27338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3641760" y="2700360"/>
            <a:ext cx="2082600" cy="28893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395280" y="404640"/>
            <a:ext cx="9367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95280" y="2633760"/>
          <a:ext cx="8424720" cy="295596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2955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65" name="Picture 3" descr="elephant-1421167_1280"/>
          <p:cNvPicPr/>
          <p:nvPr/>
        </p:nvPicPr>
        <p:blipFill>
          <a:blip r:embed="rId1"/>
          <a:srcRect l="0" t="0" r="18197" b="0"/>
          <a:stretch/>
        </p:blipFill>
        <p:spPr>
          <a:xfrm>
            <a:off x="3340080" y="2997360"/>
            <a:ext cx="2535120" cy="2062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bear-5300995_1280"/>
          <p:cNvPicPr/>
          <p:nvPr/>
        </p:nvPicPr>
        <p:blipFill>
          <a:blip r:embed="rId2"/>
          <a:stretch/>
        </p:blipFill>
        <p:spPr>
          <a:xfrm>
            <a:off x="468360" y="2997360"/>
            <a:ext cx="2697120" cy="1800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bison-4045362_1280"/>
          <p:cNvPicPr/>
          <p:nvPr/>
        </p:nvPicPr>
        <p:blipFill>
          <a:blip r:embed="rId3"/>
          <a:srcRect l="19230" t="0" r="2602" b="0"/>
          <a:stretch/>
        </p:blipFill>
        <p:spPr>
          <a:xfrm>
            <a:off x="6086520" y="3056040"/>
            <a:ext cx="2703600" cy="19447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412920" y="2790720"/>
            <a:ext cx="2752560" cy="26416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395280" y="404640"/>
            <a:ext cx="9367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95280" y="2633760"/>
          <a:ext cx="8424720" cy="295596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2955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72" name="Picture 2" descr="monkey-1197100_1280"/>
          <p:cNvPicPr/>
          <p:nvPr/>
        </p:nvPicPr>
        <p:blipFill>
          <a:blip r:embed="rId1"/>
          <a:srcRect l="28760" t="10789" r="25798" b="0"/>
          <a:stretch/>
        </p:blipFill>
        <p:spPr>
          <a:xfrm>
            <a:off x="863640" y="2766960"/>
            <a:ext cx="2052720" cy="2687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zebra-1491253_1280"/>
          <p:cNvPicPr/>
          <p:nvPr/>
        </p:nvPicPr>
        <p:blipFill>
          <a:blip r:embed="rId2"/>
          <a:stretch/>
        </p:blipFill>
        <p:spPr>
          <a:xfrm>
            <a:off x="6080040" y="3189240"/>
            <a:ext cx="2595600" cy="1731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ostrich-341989_1280"/>
          <p:cNvPicPr/>
          <p:nvPr/>
        </p:nvPicPr>
        <p:blipFill>
          <a:blip r:embed="rId3"/>
          <a:srcRect l="15645" t="13959" r="0" b="11418"/>
          <a:stretch/>
        </p:blipFill>
        <p:spPr>
          <a:xfrm>
            <a:off x="3476520" y="2736720"/>
            <a:ext cx="2319480" cy="27338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5"/>
          <p:cNvSpPr/>
          <p:nvPr/>
        </p:nvSpPr>
        <p:spPr>
          <a:xfrm>
            <a:off x="3368520" y="2736720"/>
            <a:ext cx="2568600" cy="28530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95280" y="404640"/>
            <a:ext cx="9367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95280" y="2633760"/>
          <a:ext cx="8424720" cy="295596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2955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79" name="Picture 2" descr="bear-5300995_1280"/>
          <p:cNvPicPr/>
          <p:nvPr/>
        </p:nvPicPr>
        <p:blipFill>
          <a:blip r:embed="rId1"/>
          <a:stretch/>
        </p:blipFill>
        <p:spPr>
          <a:xfrm>
            <a:off x="6053040" y="3181320"/>
            <a:ext cx="2698920" cy="1800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lama-5301776_1280"/>
          <p:cNvPicPr/>
          <p:nvPr/>
        </p:nvPicPr>
        <p:blipFill>
          <a:blip r:embed="rId2"/>
          <a:srcRect l="14552" t="0" r="42106" b="0"/>
          <a:stretch/>
        </p:blipFill>
        <p:spPr>
          <a:xfrm>
            <a:off x="874800" y="2671920"/>
            <a:ext cx="1834920" cy="2820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giraffe-171318_1920"/>
          <p:cNvPicPr/>
          <p:nvPr/>
        </p:nvPicPr>
        <p:blipFill>
          <a:blip r:embed="rId3"/>
          <a:srcRect l="0" t="25035" r="17441" b="0"/>
          <a:stretch/>
        </p:blipFill>
        <p:spPr>
          <a:xfrm>
            <a:off x="3568680" y="2690640"/>
            <a:ext cx="2077920" cy="28242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3260880" y="2671920"/>
            <a:ext cx="2693880" cy="29178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395280" y="404640"/>
            <a:ext cx="9367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95280" y="2633760"/>
          <a:ext cx="8424720" cy="295596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2955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86" name="Picture 2" descr="gorilla-1099264_1280"/>
          <p:cNvPicPr/>
          <p:nvPr/>
        </p:nvPicPr>
        <p:blipFill>
          <a:blip r:embed="rId1"/>
          <a:srcRect l="10996" t="11280" r="18608" b="0"/>
          <a:stretch/>
        </p:blipFill>
        <p:spPr>
          <a:xfrm>
            <a:off x="539640" y="2878200"/>
            <a:ext cx="2562480" cy="2422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orse-3611921_1280"/>
          <p:cNvPicPr/>
          <p:nvPr/>
        </p:nvPicPr>
        <p:blipFill>
          <a:blip r:embed="rId2"/>
          <a:stretch/>
        </p:blipFill>
        <p:spPr>
          <a:xfrm>
            <a:off x="3281400" y="3195720"/>
            <a:ext cx="2690640" cy="1690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giraffe-171318_1920"/>
          <p:cNvPicPr/>
          <p:nvPr/>
        </p:nvPicPr>
        <p:blipFill>
          <a:blip r:embed="rId3"/>
          <a:srcRect l="0" t="25035" r="17441" b="0"/>
          <a:stretch/>
        </p:blipFill>
        <p:spPr>
          <a:xfrm>
            <a:off x="6443640" y="2693880"/>
            <a:ext cx="2076480" cy="28227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3281400" y="2678040"/>
            <a:ext cx="2690640" cy="28227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395280" y="404640"/>
            <a:ext cx="9367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95280" y="2633760"/>
          <a:ext cx="8424720" cy="295596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2955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93" name="Picture 2" descr="bear-5300995_1280"/>
          <p:cNvPicPr/>
          <p:nvPr/>
        </p:nvPicPr>
        <p:blipFill>
          <a:blip r:embed="rId1"/>
          <a:stretch/>
        </p:blipFill>
        <p:spPr>
          <a:xfrm>
            <a:off x="468360" y="2997360"/>
            <a:ext cx="2697120" cy="1800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gorilla-1099264_1280"/>
          <p:cNvPicPr/>
          <p:nvPr/>
        </p:nvPicPr>
        <p:blipFill>
          <a:blip r:embed="rId2"/>
          <a:srcRect l="10996" t="11280" r="18608" b="0"/>
          <a:stretch/>
        </p:blipFill>
        <p:spPr>
          <a:xfrm>
            <a:off x="3321000" y="2960640"/>
            <a:ext cx="2546280" cy="2408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giraffe-171318_1920"/>
          <p:cNvPicPr/>
          <p:nvPr/>
        </p:nvPicPr>
        <p:blipFill>
          <a:blip r:embed="rId3"/>
          <a:srcRect l="0" t="25035" r="17441" b="0"/>
          <a:stretch/>
        </p:blipFill>
        <p:spPr>
          <a:xfrm>
            <a:off x="6443640" y="2693880"/>
            <a:ext cx="2076480" cy="28227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3276720" y="2693880"/>
            <a:ext cx="2698560" cy="28227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395280" y="404640"/>
            <a:ext cx="9367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95280" y="2633760"/>
          <a:ext cx="8424720" cy="295596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2955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100" name="Picture 2" descr="monkey-1197100_1280"/>
          <p:cNvPicPr/>
          <p:nvPr/>
        </p:nvPicPr>
        <p:blipFill>
          <a:blip r:embed="rId1"/>
          <a:srcRect l="28760" t="10789" r="25798" b="0"/>
          <a:stretch/>
        </p:blipFill>
        <p:spPr>
          <a:xfrm>
            <a:off x="6443640" y="2738520"/>
            <a:ext cx="2052720" cy="2687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zebra-1491253_1280"/>
          <p:cNvPicPr/>
          <p:nvPr/>
        </p:nvPicPr>
        <p:blipFill>
          <a:blip r:embed="rId2"/>
          <a:stretch/>
        </p:blipFill>
        <p:spPr>
          <a:xfrm>
            <a:off x="3273480" y="3209760"/>
            <a:ext cx="2597040" cy="1731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ostrich-341989_1280"/>
          <p:cNvPicPr/>
          <p:nvPr/>
        </p:nvPicPr>
        <p:blipFill>
          <a:blip r:embed="rId3"/>
          <a:srcRect l="15645" t="13959" r="0" b="11418"/>
          <a:stretch/>
        </p:blipFill>
        <p:spPr>
          <a:xfrm>
            <a:off x="631800" y="2744640"/>
            <a:ext cx="2317680" cy="27338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6189840" y="2711520"/>
            <a:ext cx="2595240" cy="27669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395280" y="404640"/>
            <a:ext cx="9367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95280" y="2633760"/>
          <a:ext cx="8424720" cy="295596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2955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107" name="Picture 2" descr="bison-4045362_1280"/>
          <p:cNvPicPr/>
          <p:nvPr/>
        </p:nvPicPr>
        <p:blipFill>
          <a:blip r:embed="rId1"/>
          <a:srcRect l="19230" t="0" r="2602" b="0"/>
          <a:stretch/>
        </p:blipFill>
        <p:spPr>
          <a:xfrm>
            <a:off x="468360" y="3068640"/>
            <a:ext cx="2703600" cy="1944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horse-3611921_1280"/>
          <p:cNvPicPr/>
          <p:nvPr/>
        </p:nvPicPr>
        <p:blipFill>
          <a:blip r:embed="rId2"/>
          <a:stretch/>
        </p:blipFill>
        <p:spPr>
          <a:xfrm>
            <a:off x="3281400" y="3195720"/>
            <a:ext cx="2690640" cy="1690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zebra-1491253_1280"/>
          <p:cNvPicPr/>
          <p:nvPr/>
        </p:nvPicPr>
        <p:blipFill>
          <a:blip r:embed="rId3"/>
          <a:stretch/>
        </p:blipFill>
        <p:spPr>
          <a:xfrm>
            <a:off x="6080040" y="3189240"/>
            <a:ext cx="2595600" cy="17319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6064200" y="2708280"/>
            <a:ext cx="2727360" cy="2692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21-10-01T09:13:41Z</dcterms:modified>
  <cp:revision>126</cp:revision>
  <dc:subject/>
  <dc:title>TITLE</dc:title>
</cp:coreProperties>
</file>