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4F9C-07A1-46CD-8DE4-8635136D5D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7D9C-9AFD-49AB-925A-A7437078CB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C52B-4E26-460A-88DF-95C5F11EF0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A2D-68DF-4B50-960A-95CB0E45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65F-76D1-4F53-8EE2-7A19E4E9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E11-BE0D-4BCB-BB2B-C789DE76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6A1-3216-490F-8B36-F6997C4E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9F6-A569-44FD-B822-C167DE29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89E-DC2D-47CC-BDAE-FD95D4E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95D-3AE1-421D-9074-C798A826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232-6B1A-4F47-A706-AF9DE925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AAC-8B40-414C-80B5-E20E55AE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09E-B56B-4E17-B92D-F4CFDB9D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B54-E6C9-4C56-BE08-AA418EE1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0AD-7FA4-4B58-8DEF-0135414E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F856-9641-4E1E-B6A0-7D7387E994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115920"/>
          <a:ext cx="8928000" cy="661176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  <a:gridCol w="2232000"/>
              </a:tblGrid>
              <a:tr h="165240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r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276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mel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420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gu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240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fl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4729320" y="3502080"/>
            <a:ext cx="1947600" cy="153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640400" y="1844640"/>
            <a:ext cx="2124000" cy="141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165240" y="5195880"/>
            <a:ext cx="2154240" cy="140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128520" y="3548160"/>
            <a:ext cx="215424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4643280" y="208080"/>
            <a:ext cx="2129040" cy="142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6"/>
          <a:stretch/>
        </p:blipFill>
        <p:spPr>
          <a:xfrm>
            <a:off x="179280" y="1919160"/>
            <a:ext cx="2124360" cy="136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7"/>
          <a:stretch/>
        </p:blipFill>
        <p:spPr>
          <a:xfrm>
            <a:off x="147600" y="281160"/>
            <a:ext cx="213516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8"/>
          <a:stretch/>
        </p:blipFill>
        <p:spPr>
          <a:xfrm>
            <a:off x="4695840" y="5162400"/>
            <a:ext cx="2036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8000" y="115920"/>
          <a:ext cx="8928000" cy="661176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  <a:gridCol w="2232000"/>
              </a:tblGrid>
              <a:tr h="165240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r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276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mel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420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gu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240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fl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729320" y="3502080"/>
            <a:ext cx="1947600" cy="153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640400" y="1844640"/>
            <a:ext cx="2124000" cy="1414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165240" y="5195880"/>
            <a:ext cx="2154240" cy="140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4"/>
          <a:stretch/>
        </p:blipFill>
        <p:spPr>
          <a:xfrm>
            <a:off x="128520" y="3548160"/>
            <a:ext cx="2154240" cy="136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5"/>
          <a:stretch/>
        </p:blipFill>
        <p:spPr>
          <a:xfrm>
            <a:off x="4643280" y="208080"/>
            <a:ext cx="2129040" cy="142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6"/>
          <a:stretch/>
        </p:blipFill>
        <p:spPr>
          <a:xfrm>
            <a:off x="179280" y="1919160"/>
            <a:ext cx="2124360" cy="136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7"/>
          <a:stretch/>
        </p:blipFill>
        <p:spPr>
          <a:xfrm>
            <a:off x="147600" y="281160"/>
            <a:ext cx="2135160" cy="1419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8"/>
          <a:stretch/>
        </p:blipFill>
        <p:spPr>
          <a:xfrm>
            <a:off x="4695840" y="5162400"/>
            <a:ext cx="2036880" cy="145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2340000" y="115920"/>
          <a:ext cx="2232000" cy="661176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652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4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2"/>
          <p:cNvSpPr/>
          <p:nvPr/>
        </p:nvSpPr>
        <p:spPr>
          <a:xfrm>
            <a:off x="3348000" y="5589720"/>
            <a:ext cx="36036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04000" y="115920"/>
          <a:ext cx="2232000" cy="661176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652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4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17"/>
          <p:cNvSpPr/>
          <p:nvPr/>
        </p:nvSpPr>
        <p:spPr>
          <a:xfrm>
            <a:off x="8101080" y="5589720"/>
            <a:ext cx="36036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12:36Z</dcterms:modified>
  <cp:revision>137</cp:revision>
  <dc:subject/>
  <dc:title>TITLE</dc:title>
</cp:coreProperties>
</file>