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50F9-9299-4E2B-A95F-41B9DB388FF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F5E4-E55A-4C86-9DFD-7FDED8372D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2E1F-17B4-43DC-8512-0730397BBDF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CD89-7BD4-4D1A-BBAB-D5D90C51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A8A-500F-4BD9-8970-C4057609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3D98-0870-4CC3-8CFE-46AAEE04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7C9-A8F4-418B-85DF-CF563330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DA78-8856-415F-9C3C-1B9A5182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814-E80A-43CE-8DAD-8EF75061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628-EB44-408B-956A-4491DF19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F02-7CBB-402B-9B84-42831A88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77EF-CF0E-40E3-B300-81AEAB3A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7A4F-9123-4418-AE2F-5681A907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449-8212-4AFC-8081-DF381DAF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664-2594-482F-8326-C4A89EF1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BF2E-94DC-4128-98C1-F99DEA7D76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8000" y="115920"/>
          <a:ext cx="8928000" cy="661176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  <a:gridCol w="2232000"/>
              </a:tblGrid>
              <a:tr h="1652400"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r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2760"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mel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rpie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4200"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gu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2400"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ufl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4729320" y="3502080"/>
            <a:ext cx="1947600" cy="153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4640400" y="1844640"/>
            <a:ext cx="2124000" cy="1414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165240" y="5195880"/>
            <a:ext cx="2154240" cy="1401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4"/>
          <a:stretch/>
        </p:blipFill>
        <p:spPr>
          <a:xfrm>
            <a:off x="128520" y="3548160"/>
            <a:ext cx="2154240" cy="136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5"/>
          <a:stretch/>
        </p:blipFill>
        <p:spPr>
          <a:xfrm>
            <a:off x="4643280" y="208080"/>
            <a:ext cx="2129040" cy="1420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6"/>
          <a:stretch/>
        </p:blipFill>
        <p:spPr>
          <a:xfrm>
            <a:off x="179280" y="1919160"/>
            <a:ext cx="2124360" cy="1365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7"/>
          <a:stretch/>
        </p:blipFill>
        <p:spPr>
          <a:xfrm>
            <a:off x="147600" y="281160"/>
            <a:ext cx="2135160" cy="1419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8"/>
          <a:stretch/>
        </p:blipFill>
        <p:spPr>
          <a:xfrm>
            <a:off x="4695840" y="5162400"/>
            <a:ext cx="203688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08000" y="115920"/>
          <a:ext cx="8928000" cy="661176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  <a:gridCol w="2232000"/>
              </a:tblGrid>
              <a:tr h="1652400"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r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2760"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mel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rpie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4200"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gu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2400"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ufl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4729320" y="3502080"/>
            <a:ext cx="1947600" cy="153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640400" y="1844640"/>
            <a:ext cx="2124000" cy="1414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3"/>
          <a:stretch/>
        </p:blipFill>
        <p:spPr>
          <a:xfrm>
            <a:off x="165240" y="5195880"/>
            <a:ext cx="2154240" cy="140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4"/>
          <a:stretch/>
        </p:blipFill>
        <p:spPr>
          <a:xfrm>
            <a:off x="128520" y="3548160"/>
            <a:ext cx="2154240" cy="1363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5"/>
          <a:stretch/>
        </p:blipFill>
        <p:spPr>
          <a:xfrm>
            <a:off x="4643280" y="208080"/>
            <a:ext cx="2129040" cy="142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6"/>
          <a:stretch/>
        </p:blipFill>
        <p:spPr>
          <a:xfrm>
            <a:off x="179280" y="1919160"/>
            <a:ext cx="2124360" cy="1365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7"/>
          <a:stretch/>
        </p:blipFill>
        <p:spPr>
          <a:xfrm>
            <a:off x="147600" y="281160"/>
            <a:ext cx="2135160" cy="1419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"/>
          <p:cNvPicPr/>
          <p:nvPr/>
        </p:nvPicPr>
        <p:blipFill>
          <a:blip r:embed="rId8"/>
          <a:stretch/>
        </p:blipFill>
        <p:spPr>
          <a:xfrm>
            <a:off x="4695840" y="5162400"/>
            <a:ext cx="2036880" cy="145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2340000" y="115920"/>
          <a:ext cx="2232000" cy="661176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652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</a:t>
                      </a:r>
                      <a:r>
                        <a:rPr b="0" lang="en-GB" sz="28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4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</a:t>
                      </a:r>
                      <a:r>
                        <a:rPr b="0" lang="en-GB" sz="28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</a:t>
                      </a:r>
                      <a:r>
                        <a:rPr b="0" lang="en-GB" sz="28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2"/>
          <p:cNvSpPr/>
          <p:nvPr/>
        </p:nvSpPr>
        <p:spPr>
          <a:xfrm>
            <a:off x="3348000" y="5589720"/>
            <a:ext cx="360360" cy="21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04000" y="115920"/>
          <a:ext cx="2232000" cy="661176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652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</a:t>
                      </a:r>
                      <a:r>
                        <a:rPr b="0" lang="en-GB" sz="28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GB" sz="28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4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</a:t>
                      </a:r>
                      <a:r>
                        <a:rPr b="0" lang="en-GB" sz="28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</a:t>
                      </a:r>
                      <a:r>
                        <a:rPr b="0" lang="en-GB" sz="28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Rectangle 17"/>
          <p:cNvSpPr/>
          <p:nvPr/>
        </p:nvSpPr>
        <p:spPr>
          <a:xfrm>
            <a:off x="8101080" y="5589720"/>
            <a:ext cx="360360" cy="21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12:36Z</dcterms:modified>
  <cp:revision>137</cp:revision>
  <dc:subject/>
  <dc:title>TITLE</dc:title>
</cp:coreProperties>
</file>