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773-82D2-4A5A-AECE-F077AAB5EC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52D1-FA6E-4126-AA12-6FCCAC32FF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4151-3B01-44C6-93AC-3BFDCECFC8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EF3B-F070-4EC0-9B25-31854C8B06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CF6A-2D2D-4BF6-8B18-584C2A37EF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635-29C5-43AB-A0F9-7F6FD9D1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229-44EA-4054-8EFA-1DEEEB2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F2A-6671-4DD8-966B-58C6696B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C1C-716F-4C67-8E08-0CA17E2A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83D2-BC5E-474F-94E8-1C7E391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0784-18AF-47CD-BF77-3D9844A4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C372-C3FF-4483-AD6D-BAE20FE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792-0194-41FE-8760-2D79241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FE5C-C212-4DA9-B335-25A9EE7D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93BB-58D0-4836-BF38-4EC811A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551A-7D84-44F7-9528-09B56793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5B8-C3DA-4C88-91C2-4D98B0D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60A-3A57-42C4-A71A-98369DB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C8B-99F6-4579-8327-3CEB97F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39A-86B6-43CE-948B-FBA3FBBD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FA38-9D03-4CBE-AB6E-25B9645A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995-53AE-48DD-A8E0-11487F09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476B-5DF2-4F53-A562-193CAB8C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3D3C-7756-4829-A4C7-276FC298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2CD5-D9DC-430E-99C7-1804D4C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2C8A-CAD0-4DDC-971D-EDE0DC2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D867-8CAF-43F4-82E4-8A56A2B8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625-6D5E-43FB-AB68-6608F90E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0B6B-D15E-44B2-8400-8A95B83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0E26-ABD3-4B35-AA05-422252B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0950-C404-4975-BD25-DA29BE4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1E03-C2FE-48AC-BBA4-9D5EB19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9E8D-73A3-489F-871F-DDFCE42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0DFF-6D4F-416A-8E3C-355350B2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3893-C292-473B-9594-D6793F52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2DD-70FB-4ABA-A72F-E13D8C61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2BA-FFAA-4DDE-871B-7563D6E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459-D2CF-4F1C-A3B7-43B8A7F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543-9E56-4209-AD4B-AEEA8503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4F5-986F-4402-9061-822AE8C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C43-139A-422C-B4FF-45A16D8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154-1C26-4373-8C84-E526D4864B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FED-6E68-4839-961B-64361FC2D5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B07-53D6-4FFA-9959-56A8F8567E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peak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peak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Straight Connector 2"/>
          <p:cNvSpPr/>
          <p:nvPr/>
        </p:nvSpPr>
        <p:spPr>
          <a:xfrm>
            <a:off x="255600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Straight Connector 15"/>
          <p:cNvSpPr/>
          <p:nvPr/>
        </p:nvSpPr>
        <p:spPr>
          <a:xfrm flipV="1">
            <a:off x="241128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peak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179280" y="4118040"/>
            <a:ext cx="361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peak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hab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danc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danc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Straight Connector 2"/>
          <p:cNvSpPr/>
          <p:nvPr/>
        </p:nvSpPr>
        <p:spPr>
          <a:xfrm>
            <a:off x="226836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Straight Connector 15"/>
          <p:cNvSpPr/>
          <p:nvPr/>
        </p:nvSpPr>
        <p:spPr>
          <a:xfrm flipV="1">
            <a:off x="212400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4413240" y="4241880"/>
            <a:ext cx="455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danc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danc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bail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sing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sing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Straight Connector 2"/>
          <p:cNvSpPr/>
          <p:nvPr/>
        </p:nvSpPr>
        <p:spPr>
          <a:xfrm>
            <a:off x="2629080" y="1409760"/>
            <a:ext cx="86328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Straight Connector 15"/>
          <p:cNvSpPr/>
          <p:nvPr/>
        </p:nvSpPr>
        <p:spPr>
          <a:xfrm flipV="1">
            <a:off x="248436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sing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sing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cant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9280" y="1125360"/>
            <a:ext cx="41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ar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248000" y="1125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to arriv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165240" y="272880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280040" y="2728800"/>
            <a:ext cx="45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Comic Sans MS"/>
              </a:rPr>
              <a:t>I arrive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Straight Connector 2"/>
          <p:cNvSpPr/>
          <p:nvPr/>
        </p:nvSpPr>
        <p:spPr>
          <a:xfrm>
            <a:off x="2195640" y="1409760"/>
            <a:ext cx="863640" cy="11635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Straight Connector 15"/>
          <p:cNvSpPr/>
          <p:nvPr/>
        </p:nvSpPr>
        <p:spPr>
          <a:xfrm flipV="1">
            <a:off x="2050920" y="1409760"/>
            <a:ext cx="1224000" cy="100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4413240" y="424188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you arriv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179280" y="411804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s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4444920" y="5805360"/>
            <a:ext cx="45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he/she arr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179280" y="5386320"/>
            <a:ext cx="36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a"/>
                </a:solidFill>
                <a:latin typeface="Comic Sans MS"/>
              </a:rPr>
              <a:t>lleg</a:t>
            </a:r>
            <a:r>
              <a:rPr b="0" lang="en-GB" sz="8800" spc="-1" strike="noStrike" u="sng">
                <a:solidFill>
                  <a:srgbClr val="66ffff"/>
                </a:solidFill>
                <a:uFillTx/>
                <a:latin typeface="Comic Sans MS"/>
              </a:rPr>
              <a:t>a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22:34Z</dcterms:modified>
  <cp:revision>369</cp:revision>
  <dc:subject/>
  <dc:title>TITLE</dc:title>
</cp:coreProperties>
</file>