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749-67A5-4705-BCA3-F2017EEF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F33-0DFB-4200-AE9B-77DB9D2F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532-F8A4-4A31-A28B-6648895D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966-4B8F-45C4-9868-B4153994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81A-10C8-4A0D-B3EE-9E6D74D5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DEE-BF17-4E53-B8A4-E8329975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214-10E8-48F4-9C5D-2F0FCC19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EF6-B1BB-4F1B-9A23-61EE5669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1E7-CF21-4AF1-B5A4-20F78A39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642-E2B3-4FD7-8830-217A9A21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EF2-C02F-41E6-BFD6-D11BB665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3FF-8B6A-4ED2-9B15-AA173E58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E65A-751F-44C1-A55A-F179222F3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N:\Work\CLARE\A S T\Presentations\chocolate.rm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5183280" cy="4602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3429000">
            <a:off x="5722560" y="4438080"/>
            <a:ext cx="3017880" cy="567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3415200">
            <a:off x="5987520" y="150948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484280"/>
            <a:ext cx="86421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 Rounded MT Bold"/>
              </a:rPr>
              <a:t>Bate, bate, chocola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5736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 Rounded MT Bold"/>
              </a:rPr>
              <a:t>Bate, bate, CHOCOLATE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/>
          </p:cNvPr>
          <p:cNvSpPr/>
          <p:nvPr/>
        </p:nvSpPr>
        <p:spPr>
          <a:xfrm>
            <a:off x="2124000" y="1989000"/>
            <a:ext cx="5112000" cy="2448000"/>
          </a:xfrm>
          <a:custGeom>
            <a:avLst/>
            <a:gdLst>
              <a:gd name="textAreaLeft" fmla="*/ 158400 w 5112000"/>
              <a:gd name="textAreaRight" fmla="*/ 4953600 w 5112000"/>
              <a:gd name="textAreaTop" fmla="*/ 158400 h 2448000"/>
              <a:gd name="textAreaBottom" fmla="*/ 2289600 h 2448000"/>
            </a:gdLst>
            <a:ahLst/>
            <a:rect l="textAreaLeft" t="textAreaTop" r="textAreaRight" b="textAreaBottom"/>
            <a:pathLst>
              <a:path w="45102" h="21600">
                <a:moveTo>
                  <a:pt x="0" y="0"/>
                </a:moveTo>
                <a:lnTo>
                  <a:pt x="45102" y="0"/>
                </a:lnTo>
                <a:lnTo>
                  <a:pt x="45102" y="21600"/>
                </a:lnTo>
                <a:lnTo>
                  <a:pt x="0" y="21600"/>
                </a:lnTo>
                <a:close/>
              </a:path>
              <a:path fill="lightenLess" w="45102" h="21600">
                <a:moveTo>
                  <a:pt x="0" y="0"/>
                </a:moveTo>
                <a:lnTo>
                  <a:pt x="45102" y="0"/>
                </a:lnTo>
                <a:lnTo>
                  <a:pt x="43702" y="1400"/>
                </a:lnTo>
                <a:lnTo>
                  <a:pt x="1400" y="1400"/>
                </a:lnTo>
                <a:close/>
              </a:path>
              <a:path fill="darken" w="45102" h="21600">
                <a:moveTo>
                  <a:pt x="45102" y="0"/>
                </a:moveTo>
                <a:lnTo>
                  <a:pt x="45102" y="21600"/>
                </a:lnTo>
                <a:lnTo>
                  <a:pt x="43702" y="20200"/>
                </a:lnTo>
                <a:lnTo>
                  <a:pt x="43702" y="1400"/>
                </a:lnTo>
                <a:close/>
              </a:path>
              <a:path fill="darkenLess" w="45102" h="21600">
                <a:moveTo>
                  <a:pt x="45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02" y="20200"/>
                </a:lnTo>
                <a:close/>
              </a:path>
              <a:path fill="lighten" w="45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02" h="21600">
                <a:moveTo>
                  <a:pt x="15545" y="8406"/>
                </a:moveTo>
                <a:lnTo>
                  <a:pt x="19975" y="8406"/>
                </a:lnTo>
                <a:lnTo>
                  <a:pt x="24396" y="3794"/>
                </a:lnTo>
                <a:lnTo>
                  <a:pt x="24396" y="17806"/>
                </a:lnTo>
                <a:lnTo>
                  <a:pt x="19975" y="13194"/>
                </a:lnTo>
                <a:lnTo>
                  <a:pt x="15545" y="13194"/>
                </a:lnTo>
                <a:close/>
              </a:path>
              <a:path fill="darken" w="45102" h="21600">
                <a:moveTo>
                  <a:pt x="26050" y="10800"/>
                </a:moveTo>
                <a:lnTo>
                  <a:pt x="29558" y="10800"/>
                </a:lnTo>
              </a:path>
              <a:path fill="darken" w="45102" h="21600">
                <a:moveTo>
                  <a:pt x="26050" y="8406"/>
                </a:moveTo>
                <a:lnTo>
                  <a:pt x="29558" y="5639"/>
                </a:lnTo>
              </a:path>
              <a:path fill="darken" w="45102" h="21600">
                <a:moveTo>
                  <a:pt x="26050" y="13194"/>
                </a:moveTo>
                <a:lnTo>
                  <a:pt x="29558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260280"/>
            <a:ext cx="8642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0" spc="-1" strike="noStrike">
                <a:solidFill>
                  <a:srgbClr val="000000"/>
                </a:solidFill>
                <a:latin typeface="Arial Rounded MT Bold"/>
              </a:rPr>
              <a:t>Bate, bate, chocolat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700280"/>
            <a:ext cx="8424720" cy="2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0" spc="-1" strike="noStrike">
                <a:solidFill>
                  <a:srgbClr val="000000"/>
                </a:solidFill>
                <a:latin typeface="Arial Rounded MT Bold"/>
              </a:rPr>
              <a:t>Tu nariz de cacahuate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90680" y="1699920"/>
            <a:ext cx="84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 Rounded MT Bold"/>
              </a:rPr>
              <a:t>Uno, dos, tres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 Rounded MT Bold"/>
              </a:rPr>
              <a:t>CHO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90680" y="1699920"/>
            <a:ext cx="84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 Rounded MT Bold"/>
              </a:rPr>
              <a:t>Uno, dos, tres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 Rounded MT Bold"/>
              </a:rPr>
              <a:t>CO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90680" y="1699920"/>
            <a:ext cx="84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 Rounded MT Bold"/>
              </a:rPr>
              <a:t>Uno, dos, tres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 Rounded MT Bold"/>
              </a:rPr>
              <a:t>LA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90680" y="1699920"/>
            <a:ext cx="84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 Rounded MT Bold"/>
              </a:rPr>
              <a:t>Uno, dos, tres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 Rounded MT Bold"/>
              </a:rPr>
              <a:t>T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484280"/>
            <a:ext cx="86421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 Rounded MT Bold"/>
              </a:rPr>
              <a:t>Chocolate, chocola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20:17:33Z</dcterms:created>
  <dc:creator>CSeccombe</dc:creator>
  <dc:description/>
  <dc:language>en-US</dc:language>
  <cp:lastModifiedBy>Clare</cp:lastModifiedBy>
  <dcterms:modified xsi:type="dcterms:W3CDTF">2010-03-22T20:18:33Z</dcterms:modified>
  <cp:revision>25</cp:revision>
  <dc:subject/>
  <dc:title>Slide 1</dc:title>
</cp:coreProperties>
</file>