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11C-A658-4C21-8A04-A05A59C0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160-C2F7-41A7-8000-D1D0D1EF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A09-6C70-41F1-ACBA-49017B06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4ED-8781-4F73-9AE2-EE35409A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182-98C4-4D51-9944-5CB466EF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30B-00DA-41C7-97F4-2BF10A90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FC1-41C1-4B37-989B-CABE1736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279-A5A0-4EFB-B351-09E16325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4BD-3285-4B23-AC03-4A0DE43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64E-0E77-485A-8475-AB05619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651-D6A1-481B-AB51-FDA3005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2C-140C-41CB-ACB9-B0A4E35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2C3A-CC1D-4A1D-984A-AB32ED55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:\Work\CLARE\A S T\Presentations\chocolate.r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5183280" cy="460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3429000">
            <a:off x="5722560" y="4438080"/>
            <a:ext cx="3017880" cy="56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3415200">
            <a:off x="5987520" y="150948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48428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Bate, bate, chocola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5736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Bate, bate, CHOCOLATE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/>
          </p:cNvPr>
          <p:cNvSpPr/>
          <p:nvPr/>
        </p:nvSpPr>
        <p:spPr>
          <a:xfrm>
            <a:off x="2124000" y="1989000"/>
            <a:ext cx="5112000" cy="2448000"/>
          </a:xfrm>
          <a:custGeom>
            <a:avLst/>
            <a:gdLst>
              <a:gd name="textAreaLeft" fmla="*/ 158400 w 5112000"/>
              <a:gd name="textAreaRight" fmla="*/ 4953600 w 5112000"/>
              <a:gd name="textAreaTop" fmla="*/ 158400 h 2448000"/>
              <a:gd name="textAreaBottom" fmla="*/ 2289600 h 2448000"/>
            </a:gdLst>
            <a:ahLst/>
            <a:rect l="textAreaLeft" t="textAreaTop" r="textAreaRight" b="textAreaBottom"/>
            <a:pathLst>
              <a:path w="45102" h="21600">
                <a:moveTo>
                  <a:pt x="0" y="0"/>
                </a:moveTo>
                <a:lnTo>
                  <a:pt x="45102" y="0"/>
                </a:lnTo>
                <a:lnTo>
                  <a:pt x="45102" y="21600"/>
                </a:lnTo>
                <a:lnTo>
                  <a:pt x="0" y="21600"/>
                </a:lnTo>
                <a:close/>
              </a:path>
              <a:path fill="lightenLess" w="45102" h="21600">
                <a:moveTo>
                  <a:pt x="0" y="0"/>
                </a:moveTo>
                <a:lnTo>
                  <a:pt x="45102" y="0"/>
                </a:lnTo>
                <a:lnTo>
                  <a:pt x="43702" y="1400"/>
                </a:lnTo>
                <a:lnTo>
                  <a:pt x="1400" y="1400"/>
                </a:lnTo>
                <a:close/>
              </a:path>
              <a:path fill="darken" w="45102" h="21600">
                <a:moveTo>
                  <a:pt x="45102" y="0"/>
                </a:moveTo>
                <a:lnTo>
                  <a:pt x="45102" y="21600"/>
                </a:lnTo>
                <a:lnTo>
                  <a:pt x="43702" y="20200"/>
                </a:lnTo>
                <a:lnTo>
                  <a:pt x="43702" y="1400"/>
                </a:lnTo>
                <a:close/>
              </a:path>
              <a:path fill="darkenLess" w="45102" h="21600">
                <a:moveTo>
                  <a:pt x="4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02" y="20200"/>
                </a:lnTo>
                <a:close/>
              </a:path>
              <a:path fill="lighten" w="4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02" h="21600">
                <a:moveTo>
                  <a:pt x="15545" y="8406"/>
                </a:moveTo>
                <a:lnTo>
                  <a:pt x="19975" y="8406"/>
                </a:lnTo>
                <a:lnTo>
                  <a:pt x="24396" y="3794"/>
                </a:lnTo>
                <a:lnTo>
                  <a:pt x="24396" y="17806"/>
                </a:lnTo>
                <a:lnTo>
                  <a:pt x="19975" y="13194"/>
                </a:lnTo>
                <a:lnTo>
                  <a:pt x="15545" y="13194"/>
                </a:lnTo>
                <a:close/>
              </a:path>
              <a:path fill="darken" w="45102" h="21600">
                <a:moveTo>
                  <a:pt x="26050" y="10800"/>
                </a:moveTo>
                <a:lnTo>
                  <a:pt x="29558" y="10800"/>
                </a:lnTo>
              </a:path>
              <a:path fill="darken" w="45102" h="21600">
                <a:moveTo>
                  <a:pt x="26050" y="8406"/>
                </a:moveTo>
                <a:lnTo>
                  <a:pt x="29558" y="5639"/>
                </a:lnTo>
              </a:path>
              <a:path fill="darken" w="45102" h="21600">
                <a:moveTo>
                  <a:pt x="26050" y="13194"/>
                </a:moveTo>
                <a:lnTo>
                  <a:pt x="2955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000000"/>
                </a:solidFill>
                <a:latin typeface="Arial Rounded MT Bold"/>
              </a:rPr>
              <a:t>Bate, bate, chocolat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700280"/>
            <a:ext cx="842472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0" spc="-1" strike="noStrike">
                <a:solidFill>
                  <a:srgbClr val="000000"/>
                </a:solidFill>
                <a:latin typeface="Arial Rounded MT Bold"/>
              </a:rPr>
              <a:t>Tu nariz de cacahuat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CH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C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LA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0680" y="1699920"/>
            <a:ext cx="84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Uno, dos, tres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 Rounded MT Bold"/>
              </a:rPr>
              <a:t>T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48428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Arial Rounded MT Bold"/>
              </a:rPr>
              <a:t>Chocolate, chocola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0:17:33Z</dcterms:created>
  <dc:creator>CSeccombe</dc:creator>
  <dc:description/>
  <dc:language>en-US</dc:language>
  <cp:lastModifiedBy>Clare</cp:lastModifiedBy>
  <dcterms:modified xsi:type="dcterms:W3CDTF">2010-03-22T20:18:33Z</dcterms:modified>
  <cp:revision>25</cp:revision>
  <dc:subject/>
  <dc:title>Slide 1</dc:title>
</cp:coreProperties>
</file>