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9C49E-47AE-4C72-A267-10B5B30806D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1D636-8D6F-42E7-B0ED-94A28471C30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18C8A-32FB-4FEF-8B40-4D110282F8F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14AF6-AC4F-41F9-B838-DE0F470183B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99771-378F-4F3A-84EF-16B2FEE3D99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C9419-7273-492F-A116-BBEB472DFAA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732B5-CDCB-482A-9D69-1B0BA0DF10E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A2BAF-93B4-4082-B14D-DFB51883B97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3420-AAC3-4C83-A3CF-BB7143BD4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1847-BBFC-4CBD-AB99-2181F87E4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96BA-EB32-404D-B7B2-FB61CADF4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4F58-5B1A-45C5-967E-9C9834372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25FE0-6D48-4BA0-8C1D-1D4CD0185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5F3F0-2F4A-476B-948C-3E017D581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9E81A-5E89-4972-BF3B-EC6690AD2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A173A-4E7D-4103-84F3-27AF555F9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0E574-CF82-4011-8928-0F10B4110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F3C4F-A142-42A1-BB2B-356CC993F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91C8F-1F7E-40EE-8063-729BB81A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619E-B93A-4824-8D1B-F0EDAF4EC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3EEA3-3D6D-4177-8AB9-4375C11D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5F01A-6668-4614-88F5-6CB2E9E3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36E42-9E6D-4731-9F71-46B0ED447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676EB-70CA-4DF1-921D-B9FC5B69A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899DC-043E-4B53-9491-D5C73A79E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AD3E3-E64E-4C44-8C0E-8D3F06884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7E30A-ED28-40F2-9B91-18A6FAC67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0F6B9-C833-406F-A2B0-B76428762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91661-0200-446D-9C95-724BA3D53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8EA2D-C3F3-449F-8AE5-F6707F742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027B-E4BD-4ED6-82F1-6DC3D0EE1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90A07-B3E2-4358-A9BD-ADB2EF407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7397E-CA80-4FA7-B03F-4DB26BA4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561A5-15BC-4A91-B261-9404D69E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71F32-9D3F-4DA4-A0ED-2AC92393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0E315-F396-4DDF-8D53-1697BCBA4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78F94-591C-4123-BD81-E27A8E3B5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D1337-53F3-4BCB-937D-19697E07B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5EB0-8E21-41BC-8F50-C0F7B46B5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C681-B842-453D-ACB1-C6A09DDD1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73F0-FE08-4514-A976-AAE91E204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42B2-66F0-48E0-9D2A-BDD09E4B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C29B-917F-4D5C-A025-B89CBF07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AA31-C350-4994-8291-CD45B3B1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8E316-D4A7-4E2D-8AFF-CD929C14CE2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4BAE7-A29E-4180-B4C0-F169F003FE4D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CFBAC-1E6C-4F1F-9715-96F6A60319EB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292428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200" spc="-1" strike="noStrike">
                <a:solidFill>
                  <a:srgbClr val="fffff7"/>
                </a:solidFill>
                <a:latin typeface="Comic Sans MS"/>
              </a:rPr>
              <a:t>_i_ _ue_ _ _   y   _ _ h_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51280" y="260280"/>
            <a:ext cx="4897440" cy="1556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números entre</a:t>
            </a:r>
            <a:br>
              <a:rPr sz="4800"/>
            </a:b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30 y 1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1497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200" spc="-1" strike="noStrike">
                <a:solidFill>
                  <a:srgbClr val="66ffff"/>
                </a:solidFill>
                <a:latin typeface="Comic Sans MS"/>
              </a:rPr>
              <a:t>cincuenta y ocho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292428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200" spc="-1" strike="noStrike">
                <a:solidFill>
                  <a:srgbClr val="fffff7"/>
                </a:solidFill>
                <a:latin typeface="Comic Sans MS"/>
              </a:rPr>
              <a:t>_ _ v_ _ t_   y   _ _ _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51280" y="260280"/>
            <a:ext cx="4897440" cy="1556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números entre</a:t>
            </a:r>
            <a:br>
              <a:rPr sz="4800"/>
            </a:b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30 y 1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41497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200" spc="-1" strike="noStrike">
                <a:solidFill>
                  <a:srgbClr val="66ffff"/>
                </a:solidFill>
                <a:latin typeface="Comic Sans MS"/>
              </a:rPr>
              <a:t>noventa y dos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292428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200" spc="-1" strike="noStrike">
                <a:solidFill>
                  <a:srgbClr val="fffff7"/>
                </a:solidFill>
                <a:latin typeface="Comic Sans MS"/>
              </a:rPr>
              <a:t>c_ _ _enta  y   _r_ _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51280" y="260280"/>
            <a:ext cx="4897440" cy="1556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números entre</a:t>
            </a:r>
            <a:br>
              <a:rPr sz="4800"/>
            </a:b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30 y 1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41497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200" spc="-1" strike="noStrike">
                <a:solidFill>
                  <a:srgbClr val="66ffff"/>
                </a:solidFill>
                <a:latin typeface="Comic Sans MS"/>
              </a:rPr>
              <a:t>cuarenta y tres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292428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200" spc="-1" strike="noStrike">
                <a:solidFill>
                  <a:srgbClr val="fffff7"/>
                </a:solidFill>
                <a:latin typeface="Comic Sans MS"/>
              </a:rPr>
              <a:t>se_ _ _ta   y   _ _ e_ _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51280" y="260280"/>
            <a:ext cx="4897440" cy="1556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números entre</a:t>
            </a:r>
            <a:br>
              <a:rPr sz="4800"/>
            </a:b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30 y 1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41497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200" spc="-1" strike="noStrike">
                <a:solidFill>
                  <a:srgbClr val="66ffff"/>
                </a:solidFill>
                <a:latin typeface="Comic Sans MS"/>
              </a:rPr>
              <a:t>setenta y nueve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292428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200" spc="-1" strike="noStrike">
                <a:solidFill>
                  <a:srgbClr val="fffff7"/>
                </a:solidFill>
                <a:latin typeface="Comic Sans MS"/>
              </a:rPr>
              <a:t>_r_ _ nta   y   _ _ e_e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51280" y="260280"/>
            <a:ext cx="4897440" cy="1556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números entre</a:t>
            </a:r>
            <a:br>
              <a:rPr sz="4800"/>
            </a:b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30 y 1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41497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200" spc="-1" strike="noStrike">
                <a:solidFill>
                  <a:srgbClr val="66ffff"/>
                </a:solidFill>
                <a:latin typeface="Comic Sans MS"/>
              </a:rPr>
              <a:t>treinta y siete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292428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200" spc="-1" strike="noStrike">
                <a:solidFill>
                  <a:srgbClr val="fffff7"/>
                </a:solidFill>
                <a:latin typeface="Comic Sans MS"/>
              </a:rPr>
              <a:t>_ _ _ cientos    _ ei_ _ _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51280" y="260280"/>
            <a:ext cx="4897440" cy="1556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números entre</a:t>
            </a:r>
            <a:br>
              <a:rPr sz="4800"/>
            </a:b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00 y 99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41497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200" spc="-1" strike="noStrike">
                <a:solidFill>
                  <a:srgbClr val="66ffff"/>
                </a:solidFill>
                <a:latin typeface="Comic Sans MS"/>
              </a:rPr>
              <a:t>doscientos veinte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292428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200" spc="-1" strike="noStrike">
                <a:solidFill>
                  <a:srgbClr val="fffff7"/>
                </a:solidFill>
                <a:latin typeface="Comic Sans MS"/>
              </a:rPr>
              <a:t>se_ _ _ _ _ ntos  _ _ _enta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51280" y="260280"/>
            <a:ext cx="4897440" cy="1556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números entre</a:t>
            </a:r>
            <a:br>
              <a:rPr sz="4800"/>
            </a:b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00 y 99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1497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200" spc="-1" strike="noStrike">
                <a:solidFill>
                  <a:srgbClr val="66ffff"/>
                </a:solidFill>
                <a:latin typeface="Comic Sans MS"/>
              </a:rPr>
              <a:t>seiscientos ochenta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2-06-18T09:58:50Z</dcterms:modified>
  <cp:revision>242</cp:revision>
  <dc:subject/>
  <dc:title>TITLE</dc:title>
</cp:coreProperties>
</file>