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655C5-9E90-402B-A64A-3330B7A5B11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5F6A8-3789-4AAE-ABE6-8AEC1925CA3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BCDBA-A950-4A26-A594-D4D9DF4F6D3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1E68C-CEC9-4F35-9448-6EF9353FDA5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5C2AA-F56D-40CD-891F-1977D1FD5F8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3D503-A95F-4280-86F1-5797B1D07D1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06246-B7DA-4C45-BC2A-3D9FCD6E370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90D1F-72C7-4207-9567-7E0FD5B592A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D4A5-0DD9-4BF5-A0FE-755336ACC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D9D3-23BB-4F8A-B443-884CDC822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957B-5E61-4780-888A-868B76550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4C58-C9F3-4D69-AF12-CA03C2B77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D21B6-950A-4F49-8B94-C7389786B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D912A-091E-40A6-AE3F-7F13ECED9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280ED-DE84-4B15-94F1-218250934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BC127-8C42-4A33-B01F-C8241A9EF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12F72-86A6-4372-A1AB-C7BD0C267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7491C-77F2-41F3-B3DA-6303BF09C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CEDD9-6994-438B-8126-61C0858A4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0649-CC2B-447B-A20B-25DCFC731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CEBD6-B4CC-4FB9-8B51-FBCE3998C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47502-87B4-4559-9BF9-67BDD74C4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0E8DA-12DA-434F-9BA3-63B26989E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3F9BD-9E82-478A-935F-A64504254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0752C-E9D4-4963-97CC-5A0B127BF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22AE0-88A2-4D29-8E65-8498BF4A2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8764F-0C2C-4BE0-89B9-CD800D023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EE0A3-C730-4134-B9EE-F15AD6549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4ADF8-3C6A-4608-9B66-C3C9CEFD9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CF956-B293-4D08-971D-425B01E5F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7198-DF7D-4E5F-9531-8DCEBC974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AE7C4-F161-492D-8B07-3DE24DD3E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016AE-675A-408A-B19D-B38EBD5E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2E420-9DF7-49DE-8A7B-EC62C9729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C652E-4DD6-4C28-8BD5-31803A35E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7F782-2DC5-494D-82B1-9CD2401B6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F00D4-28D4-4034-B9BA-F09F327AA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ACFFB-FA45-4C5B-BD89-82E1BC9B1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3519-F99D-43A8-AA3B-FDB543F16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BEA3-DB0A-419C-BF0E-5CC61405B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59B7-9BE6-42F4-B60A-8EA443D21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DE84-3AF5-4F06-8308-02DFDF38C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58F1-CA12-469B-947E-C291F43E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2E15-C51B-464B-825B-28855A36D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BD672-D06F-4E42-A1C8-59CD164570E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7C839-5456-47AD-A9DA-CFD544D7AB22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2FC26-F489-4B43-883F-FC7460B045D0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292428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200" spc="-1" strike="noStrike">
                <a:solidFill>
                  <a:srgbClr val="fffff7"/>
                </a:solidFill>
                <a:latin typeface="Comic Sans MS"/>
              </a:rPr>
              <a:t>_i_ _ue_ _ _   y   _ _ h_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51280" y="260280"/>
            <a:ext cx="4897440" cy="1556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números entre</a:t>
            </a:r>
            <a:br>
              <a:rPr sz="4800"/>
            </a:b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30 y 1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1497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200" spc="-1" strike="noStrike">
                <a:solidFill>
                  <a:srgbClr val="66ffff"/>
                </a:solidFill>
                <a:latin typeface="Comic Sans MS"/>
              </a:rPr>
              <a:t>cincuenta y ocho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292428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200" spc="-1" strike="noStrike">
                <a:solidFill>
                  <a:srgbClr val="fffff7"/>
                </a:solidFill>
                <a:latin typeface="Comic Sans MS"/>
              </a:rPr>
              <a:t>_ _ v_ _ t_   y   _ _ _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51280" y="260280"/>
            <a:ext cx="4897440" cy="1556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números entre</a:t>
            </a:r>
            <a:br>
              <a:rPr sz="4800"/>
            </a:b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30 y 1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41497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200" spc="-1" strike="noStrike">
                <a:solidFill>
                  <a:srgbClr val="66ffff"/>
                </a:solidFill>
                <a:latin typeface="Comic Sans MS"/>
              </a:rPr>
              <a:t>noventa y dos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292428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200" spc="-1" strike="noStrike">
                <a:solidFill>
                  <a:srgbClr val="fffff7"/>
                </a:solidFill>
                <a:latin typeface="Comic Sans MS"/>
              </a:rPr>
              <a:t>c_ _ _enta  y   _r_ _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51280" y="260280"/>
            <a:ext cx="4897440" cy="1556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números entre</a:t>
            </a:r>
            <a:br>
              <a:rPr sz="4800"/>
            </a:b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30 y 1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41497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200" spc="-1" strike="noStrike">
                <a:solidFill>
                  <a:srgbClr val="66ffff"/>
                </a:solidFill>
                <a:latin typeface="Comic Sans MS"/>
              </a:rPr>
              <a:t>cuarenta y tres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292428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200" spc="-1" strike="noStrike">
                <a:solidFill>
                  <a:srgbClr val="fffff7"/>
                </a:solidFill>
                <a:latin typeface="Comic Sans MS"/>
              </a:rPr>
              <a:t>se_ _ _ta   y   _ _ e_ _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51280" y="260280"/>
            <a:ext cx="4897440" cy="1556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números entre</a:t>
            </a:r>
            <a:br>
              <a:rPr sz="4800"/>
            </a:b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30 y 1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41497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200" spc="-1" strike="noStrike">
                <a:solidFill>
                  <a:srgbClr val="66ffff"/>
                </a:solidFill>
                <a:latin typeface="Comic Sans MS"/>
              </a:rPr>
              <a:t>setenta y nueve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292428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200" spc="-1" strike="noStrike">
                <a:solidFill>
                  <a:srgbClr val="fffff7"/>
                </a:solidFill>
                <a:latin typeface="Comic Sans MS"/>
              </a:rPr>
              <a:t>_r_ _ nta   y   _ _ e_e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51280" y="260280"/>
            <a:ext cx="4897440" cy="1556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números entre</a:t>
            </a:r>
            <a:br>
              <a:rPr sz="4800"/>
            </a:b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30 y 1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41497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200" spc="-1" strike="noStrike">
                <a:solidFill>
                  <a:srgbClr val="66ffff"/>
                </a:solidFill>
                <a:latin typeface="Comic Sans MS"/>
              </a:rPr>
              <a:t>treinta y siete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292428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200" spc="-1" strike="noStrike">
                <a:solidFill>
                  <a:srgbClr val="fffff7"/>
                </a:solidFill>
                <a:latin typeface="Comic Sans MS"/>
              </a:rPr>
              <a:t>_ _ _ cientos    _ ei_ _ _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51280" y="260280"/>
            <a:ext cx="4897440" cy="1556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números entre</a:t>
            </a:r>
            <a:br>
              <a:rPr sz="4800"/>
            </a:b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00 y 99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41497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200" spc="-1" strike="noStrike">
                <a:solidFill>
                  <a:srgbClr val="66ffff"/>
                </a:solidFill>
                <a:latin typeface="Comic Sans MS"/>
              </a:rPr>
              <a:t>doscientos veinte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292428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200" spc="-1" strike="noStrike">
                <a:solidFill>
                  <a:srgbClr val="fffff7"/>
                </a:solidFill>
                <a:latin typeface="Comic Sans MS"/>
              </a:rPr>
              <a:t>se_ _ _ _ _ ntos  _ _ _enta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51280" y="260280"/>
            <a:ext cx="4897440" cy="1556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números entre</a:t>
            </a:r>
            <a:br>
              <a:rPr sz="4800"/>
            </a:b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00 y 99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1497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200" spc="-1" strike="noStrike">
                <a:solidFill>
                  <a:srgbClr val="66ffff"/>
                </a:solidFill>
                <a:latin typeface="Comic Sans MS"/>
              </a:rPr>
              <a:t>seiscientos ochenta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2-06-18T09:58:50Z</dcterms:modified>
  <cp:revision>242</cp:revision>
  <dc:subject/>
  <dc:title>TITLE</dc:title>
</cp:coreProperties>
</file>