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A674-878F-41FC-8D5D-84AB697F85A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7D31-46F7-4A2F-8BD5-5BDADBC593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B13A-875E-402C-B1BC-975B3AD229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8CBB-1E0D-4D1B-A35B-4ADA841E1D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AB12-006B-4AD5-B56E-FD61F700474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37BA-78A3-4D0A-877D-13D064F6B3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477D-D186-41B8-92E3-5797C25D4D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C66-8E2A-4E2A-AF09-C5074A45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C43-F9D2-45DC-AADE-D7D718C1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617-9D5D-4CBB-8797-FCC2CA7D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989-632F-422C-80FB-AAB87C92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BE9B-0461-4A9D-8B60-89E99EB7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975F-1B65-4B8B-9DB0-B2D27472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2621-7413-4539-B984-98B8E622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4B85-1595-4B84-9B97-F8180A9A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64C2-4AE7-450D-88FD-00CEE768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48CD-9AE0-431A-A5EF-AADCD9B0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67DA-3792-4F1D-833C-02AAE40E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7C9-59EC-413E-93AB-99801DB3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8445-1A5F-475F-9AEB-F65289AA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C5AB-3E5B-44B3-BB9F-87B63B7A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2E8F-DAE4-4B95-A437-52A7809E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8A8D-3FBC-4F2B-AFCA-01A8A2A2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62C3-54AC-46AF-AA27-492770A3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FF73E-5453-4A66-8429-CBD14AD4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60B8-7988-4E3C-9859-FDB9ECE0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A6DE8-A397-40C6-9553-30AFDADC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290AC-525C-498E-B139-D4496F9A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82E0-264B-4128-A34F-E6B3797E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A54-C52E-4B79-BC01-C69B12A5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2F4E-D271-4B08-ADCC-68F8FB4D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3A6FF-3FE4-49F7-B5CF-CAE16E2A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A2A8D-1EA3-4747-B558-B8438BA7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AABD8-6617-4AB2-BB6D-125C7173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ABD5-204A-4117-B4E1-78CDB51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BAB21-649E-43BF-B37C-4EE5C7EA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72E8-F7E7-435A-9C9A-534C22B7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F87-99CA-4BB1-8FBA-F0F4A839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324-DAFD-4DBC-91A5-13F70C23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480-675C-4043-9A34-502CDE7C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DDD-7E62-4BC9-B1EE-9497FE4F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09D-FDB0-4C12-B4E7-6A2DA002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111-26C2-4338-96CF-9F83F7A0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8D55-1B04-40C6-A4E8-13DE84EFC5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DCCE-C3E2-4BDF-ACF5-521671BEE11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1F0A-35F6-4127-80FA-63446993E15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8000" y="0"/>
          <a:ext cx="5616360" cy="6858000"/>
        </p:xfrm>
        <a:graphic>
          <a:graphicData uri="http://schemas.openxmlformats.org/drawingml/2006/table">
            <a:tbl>
              <a:tblPr/>
              <a:tblGrid>
                <a:gridCol w="1379520"/>
                <a:gridCol w="4236840"/>
              </a:tblGrid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inte  (veinti-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re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e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357336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184464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47628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uare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53006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incue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86064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se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189000"/>
            <a:ext cx="30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che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458136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i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06064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te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2997360"/>
            <a:ext cx="37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ove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83664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et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5013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progra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4005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puen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260280"/>
            <a:ext cx="35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34936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och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03640" y="5759280"/>
            <a:ext cx="38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uev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206064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uar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es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3429000"/>
            <a:ext cx="42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i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06864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126828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ov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36572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incu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700280"/>
            <a:ext cx="53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bot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501336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5759280"/>
            <a:ext cx="42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repas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2852640"/>
            <a:ext cx="374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aj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8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835280" y="0"/>
          <a:ext cx="5545080" cy="7016760"/>
        </p:xfrm>
        <a:graphic>
          <a:graphicData uri="http://schemas.openxmlformats.org/drawingml/2006/table">
            <a:tbl>
              <a:tblPr/>
              <a:tblGrid>
                <a:gridCol w="1396800"/>
                <a:gridCol w="414828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 / cient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is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e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o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22050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q_ _n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3336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_ _s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94172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_s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2360" y="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_v_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4005360"/>
            <a:ext cx="70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_ _tr_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148428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_ _ 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335772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tr_s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14130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_t_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3141720"/>
            <a:ext cx="19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_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92360" y="54450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ch_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164360" y="6021360"/>
            <a:ext cx="1979640" cy="836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9690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10-22T10:23:52Z</dcterms:modified>
  <cp:revision>252</cp:revision>
  <dc:subject/>
  <dc:title>TITLE</dc:title>
</cp:coreProperties>
</file>