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A6D7-BA8C-4B20-BADA-389028D1906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E4AD-9C8A-4D5B-A588-590193FBDE2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2491-FE6E-42B5-9639-25DF234C63F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805C-D822-4504-AED4-49539D2F016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FDE5-1E79-4972-A1B6-F90A75BACAF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6E4B-BADE-41FC-8C0D-1F216980189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316C-BC73-4F7F-87BA-D2C199A68BD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EF35-F915-4DA7-8555-BDECE6F0F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EF84-71C4-497B-A847-C9E68E45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58AE-D486-4E94-A8D1-1D011368A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2A25-400C-41CC-8817-92B1983E6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9B1FF-95D3-496E-8B3B-7C132D8D6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3A5D-3E9B-46B8-8FB7-7D5BC21C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6B6A-EB25-4B98-A050-09E0DE79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C7EC-FA72-4CDD-BD9C-6D8CAB99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30A5-C16B-4B8D-9AD9-C081C526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AFC8-4319-475A-9506-CA2B3C6C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86F5-EC79-478A-8BAF-97C739E6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0243-1DAF-41DA-9710-88883125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F787-AEB8-4801-8E6C-23A67720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20AF-19DE-4322-9242-C67BF344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6B5C-3953-4DC0-973D-AC1FA12E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D2FB-3DCD-4E38-9AC1-C99F88DB9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1907-F882-4C7A-A411-68D1389DA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D3BC9-48C0-4B7E-8AEB-D47CBF3AF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CD1FB-DCA6-4EB5-90C0-7E255304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01330-0DAF-4F12-A165-CC11D61D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CBF1D-5E3F-48B2-BB83-DA40D201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E3C07-7213-477A-BC8D-8FBFECD1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4B83-FC32-4382-916B-9506799C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FDF5C-2741-4363-8BDD-9D1DE8C1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DBF50-635A-4559-8FB8-F34FEE11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7F587-2254-4925-94BA-F19B063A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05AE0-DF83-4805-BE39-38B6FA2C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9A9A7-A32D-4359-8D26-3E2D9D31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AD702-7489-4225-9FE2-DF0238F75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03263-954D-429D-8508-60DEF2E35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C995-77C5-4C1E-9398-3A192DFB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4E76-6896-4F99-8806-731C7E3F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103A-8749-4424-BB0B-B340C493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E802-22F3-4BF1-87D0-D2DF49F9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1C45-BB19-4FB0-8A93-DA8185F9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65CA-7566-47F9-A202-98443790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98FC-D03B-43CD-9508-B4A94DCB0A1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F7AD-01D4-4867-8724-3F58A00062C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9538-C5B1-4993-A139-CB84FBA63D4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908000" y="0"/>
          <a:ext cx="5616360" cy="6858000"/>
        </p:xfrm>
        <a:graphic>
          <a:graphicData uri="http://schemas.openxmlformats.org/drawingml/2006/table">
            <a:tbl>
              <a:tblPr/>
              <a:tblGrid>
                <a:gridCol w="1379520"/>
                <a:gridCol w="4236840"/>
              </a:tblGrid>
              <a:tr h="85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einte  (veinti-)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in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ren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cuen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sen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ten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hen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vent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58920" y="357336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vei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48360" y="1844640"/>
            <a:ext cx="28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reint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1640" y="476280"/>
            <a:ext cx="48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cuarent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43280" y="5300640"/>
            <a:ext cx="48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cincuent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860640"/>
            <a:ext cx="29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esent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189000"/>
            <a:ext cx="309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ochent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4581360"/>
            <a:ext cx="30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ci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2060640"/>
            <a:ext cx="31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etent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51280" y="2997360"/>
            <a:ext cx="374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novent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cc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836640"/>
            <a:ext cx="504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etent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5013360"/>
            <a:ext cx="50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progra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08360" y="4005360"/>
            <a:ext cx="50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puen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64000" y="260280"/>
            <a:ext cx="352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vein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2349360"/>
            <a:ext cx="504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ochent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03640" y="5759280"/>
            <a:ext cx="385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nuev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80000" y="2060640"/>
            <a:ext cx="504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cuarent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16000" y="0"/>
            <a:ext cx="50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esent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92360" y="3429000"/>
            <a:ext cx="42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cie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3068640"/>
            <a:ext cx="403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treint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00720" y="1268280"/>
            <a:ext cx="504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novent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4365720"/>
            <a:ext cx="50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cincuent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1700280"/>
            <a:ext cx="532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botell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2360" y="5013360"/>
            <a:ext cx="421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cuadr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08000" y="5759280"/>
            <a:ext cx="42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repasa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000" y="2852640"/>
            <a:ext cx="374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caj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8" dur="1" fill="hold"/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835280" y="0"/>
          <a:ext cx="5545080" cy="7016760"/>
        </p:xfrm>
        <a:graphic>
          <a:graphicData uri="http://schemas.openxmlformats.org/drawingml/2006/table">
            <a:tbl>
              <a:tblPr/>
              <a:tblGrid>
                <a:gridCol w="1396800"/>
                <a:gridCol w="414828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en / cient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ciento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sciento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ciento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iniento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isciento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teciento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hociento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veciento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11280" y="2205000"/>
            <a:ext cx="65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q_ _n_ _nt_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333360"/>
            <a:ext cx="65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_ _sc_ _nt_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4941720"/>
            <a:ext cx="65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d_sc_ _nt_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92360" y="0"/>
            <a:ext cx="65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n_v_c_ _nt_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4005360"/>
            <a:ext cx="709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c_ _tr_c_ _nt_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4360" y="1484280"/>
            <a:ext cx="586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c_ _ 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5640" y="3357720"/>
            <a:ext cx="65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tr_sc_ _nt_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1413000"/>
            <a:ext cx="65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_t_c_ _nt_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164360" y="3141720"/>
            <a:ext cx="197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m_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92360" y="5445000"/>
            <a:ext cx="65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_ch_c_ _nt_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164360" y="6021360"/>
            <a:ext cx="1979640" cy="83664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124000" y="1413000"/>
            <a:ext cx="496908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</cp:lastModifiedBy>
  <dcterms:modified xsi:type="dcterms:W3CDTF">2012-10-22T10:23:52Z</dcterms:modified>
  <cp:revision>252</cp:revision>
  <dc:subject/>
  <dc:title>TITLE</dc:title>
</cp:coreProperties>
</file>