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750A-CB07-490B-8C6F-77DE357AB2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E9C8-64A9-4921-822D-280CC26ABD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BF59-63D4-413A-8CED-91703CD1EC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D6FC-2458-4585-A280-BA0AD400BB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3327-CA86-4176-BBDA-F6121EBD8B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C51A-839C-49F2-8137-1E96AB0555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5E6D-B017-420A-808B-593B6F98E9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A4A-78E6-43EA-8180-BA17AF5F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929-7E50-4096-843B-09DD615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10E-E88A-436E-B32A-7D35DB10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AC6-6235-484E-842E-AE1E838F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FDFF-96E5-4B37-8B87-7600FE27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76F-A49B-4EFE-923B-FE7EEA9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E3C-0052-4B54-A0F0-8DAC095B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1C6-5E15-4016-A252-3C8AD96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7CBF-0E5C-4740-9531-94B81283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A5AF-B43E-4C67-AB17-2940294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A718-29CF-44A0-9F77-85B8EC1B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D44-DC0D-4D64-B504-640962C2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E845-A2C5-4E13-B41F-152CCC6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9BE-7D20-491D-9E81-34FDF29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8A45-699E-4258-A587-BDB4F77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1E7-D08C-4213-ADE3-9BC2F1CD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0F19-0959-486C-A9F6-3B8EF031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5611-8112-42D1-BEFE-213EAEB7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63BC-FAF6-4ACF-B211-EF3B8D77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0CEB-ED43-4913-BDA0-B91216A5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3072-E94C-45D3-9B43-9BE2F12F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C611-7776-475E-AA8E-0FBC2A2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FDE-4B33-4252-9F3A-0F4FF18F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CF5F-9639-465E-A2BD-A2BB247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BF39-76E7-4DA0-9DAA-EC8DCCE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1E74-B8E6-4420-9423-96029FC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4BC9-290E-4142-8834-4FEEAC5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F153-2FBC-47BE-A9A4-D4C233E0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35F0-6C96-4BF7-A2AC-592B613C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E7B1-0D80-4578-8226-2224598A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C22-733B-4F82-BECA-A3BC9903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87E-FF00-441F-B7A9-058FBABC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BE4-02AF-4CFC-A33A-41728F8F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3F2-5565-471A-88E6-544A0A7B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D64-E81E-44D0-B81C-79D05CF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95D-F580-49AC-B109-0E2F417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42F3-0834-4D4F-B8B6-734BDC74D6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8CF-06A9-49F3-B84B-830BE90671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2DFF-8E7C-488F-AD24-E7C367E60DE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 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870</a:t>
                      </a: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216000" y="42696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cribe en cifra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49120" y="1557360"/>
          <a:ext cx="8499600" cy="4967280"/>
        </p:xfrm>
        <a:graphic>
          <a:graphicData uri="http://schemas.openxmlformats.org/drawingml/2006/table">
            <a:tbl>
              <a:tblPr/>
              <a:tblGrid>
                <a:gridCol w="8499600"/>
              </a:tblGrid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 trescientos cincuenta y nueve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3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os mil doscientos ochenta y d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 mil ciento treinta y seis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diez mil ochocientos setenta       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870</a:t>
                      </a:r>
                      <a:r>
                        <a:rPr b="0" lang="en-GB" sz="32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9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 mil quinientos       </a:t>
                      </a: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5:14Z</dcterms:modified>
  <cp:revision>272</cp:revision>
  <dc:subject/>
  <dc:title>TITLE</dc:title>
</cp:coreProperties>
</file>