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E611-89B5-4D95-88E3-652EBAA6F9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A034-37E8-4435-A2A7-6D3E6436AF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3D11-E4E8-4B30-85E1-09696E4114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8125-8EE0-446E-A8E9-24A3C765E4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58BE-5C35-4407-BCE9-8ED85D2943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1465-C905-44D1-9515-8D84FB411A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CCF7-7A1E-4F3F-AD87-B08ACA786E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2E7-8276-4BA5-AB5A-B62DEEAB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A6D-5416-4182-9E1E-76A19CFD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566-F79A-4B98-BFCE-E80ECF3F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BE8-A012-428B-BE2D-2F4FCCEC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F90B-7D2D-407D-B9D9-5964CA42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5260-3293-43AA-8D07-2B93CD55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164E-7A5F-48C5-9D28-C8811DEC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CA9A-197D-4BEE-9051-D7F0841F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FE0B-F306-4E7B-942B-5031437F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FB0E-3F42-4A54-859B-4AAC98E5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DA5B-B459-4FD3-A172-EEEE533E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2BA-1F43-49BF-B3C5-2E99B689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1A40-279D-4DDC-9C6C-23BAD828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C19E-BC46-498B-A07D-8152240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7C24-506E-48A6-9230-68E14B8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1C5F-A392-41B9-B161-091A63EF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A7E9-E35E-4AAA-90F2-FEB0707D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A874-1D0E-4904-9184-2BB19234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2BC3B-82AC-453A-AFD6-00BE2DB5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FE81-9EBD-446D-A210-676AD8F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251E-9D07-455E-A137-71B84EF6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1255-BBB2-412E-A563-EDDFEC31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AAC-1510-420C-A0C2-5B3A6B7E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72B9-578B-41D4-A6A2-B1AD06AC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CBB3-C59A-43D9-8178-75F4654E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8F87-17D1-42AF-8353-6975DD1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4273-0D23-47F3-8C9F-A3D2E3C6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1D85-383F-4ABC-9CED-13511F00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A241A-707A-4BEF-83FA-9726C468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4119-B31D-44B8-9E98-F0F3C085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2DE-3A90-4C37-ACE1-3CD625AC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F0F-FA42-4E3C-9FCB-5790A3BD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CFF-67D3-4A25-AAEC-78F8CDFB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DFF-230D-4514-86E8-564BEABA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1B6-EFA0-4588-B183-69CA9062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0AB-1F78-4B45-B1D3-6B4910F4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CFFC-F812-4A79-B915-516B6088C2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D9C5-257C-46FD-8603-1362D9BFC3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A8CA-7A0A-4BA5-BDF7-A2AE4BBB632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3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3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3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     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3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     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      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0870</a:t>
                      </a: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3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     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      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0870</a:t>
                      </a: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5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55:14Z</dcterms:modified>
  <cp:revision>272</cp:revision>
  <dc:subject/>
  <dc:title>TITLE</dc:title>
</cp:coreProperties>
</file>