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34F5-C702-4D1A-A9CC-FECF7599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7377-FA67-4613-882D-E0BD314A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8E55-0406-4819-B8E8-7C96C0EA2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2462-6086-426A-92E5-5A9FBCB4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8EBC-3D2F-469A-A2ED-9D46EB8F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9A1D-0F34-48D7-8DBE-5F230A01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2A8E-3C7F-42D9-81AF-DCA192ED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A76D-04AF-49CC-9FD3-3F973EDD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6C78-300B-4752-8E54-E4A2B153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61DF-0618-429A-97B5-6CE8331D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0B6E-E481-475C-A414-795A957A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4055-AB28-4776-9A92-FD1A6EE6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26E3-4ADC-4ABC-85D0-5D059A46E8D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68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7640" y="260280"/>
            <a:ext cx="9117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108000" y="115920"/>
            <a:ext cx="89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Find the words that are extra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0" y="763560"/>
            <a:ext cx="9144000" cy="60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35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a"/>
                </a:solidFill>
                <a:latin typeface="Comic Sans MS"/>
              </a:rPr>
              <a:t>Mi cumpleaños abaco es el catorce de febrer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35000"/>
              </a:lnSpc>
              <a:buClr>
                <a:srgbClr val="adebeb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debeb"/>
                </a:solidFill>
                <a:latin typeface="Comic Sans MS"/>
              </a:rPr>
              <a:t>Mi cumpleaños es el veintitrés de flor abril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35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a"/>
                </a:solidFill>
                <a:latin typeface="Comic Sans MS"/>
              </a:rPr>
              <a:t>Mi cumpleaños es el treinta café y uno de diciembr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35000"/>
              </a:lnSpc>
              <a:buClr>
                <a:srgbClr val="adebeb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debeb"/>
                </a:solidFill>
                <a:latin typeface="Comic Sans MS"/>
              </a:rPr>
              <a:t>Mi cumpleaños es león el nueve de juli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108000" y="115920"/>
            <a:ext cx="89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Find the words that are extra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0" y="763560"/>
            <a:ext cx="9144000" cy="60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35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a"/>
                </a:solidFill>
                <a:latin typeface="Comic Sans MS"/>
              </a:rPr>
              <a:t>Mi cumpleaños abaco es el catorce de febrer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35000"/>
              </a:lnSpc>
              <a:buClr>
                <a:srgbClr val="adebeb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debeb"/>
                </a:solidFill>
                <a:latin typeface="Comic Sans MS"/>
              </a:rPr>
              <a:t>Mi cumpleaños es el veintitrés de flor abril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35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a"/>
                </a:solidFill>
                <a:latin typeface="Comic Sans MS"/>
              </a:rPr>
              <a:t>Mi cumpleaños es el treinta café y uno de diciembr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35000"/>
              </a:lnSpc>
              <a:buClr>
                <a:srgbClr val="adebeb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debeb"/>
                </a:solidFill>
                <a:latin typeface="Comic Sans MS"/>
              </a:rPr>
              <a:t>Mi cumpleaños es león el nueve de juli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3995640" y="1125360"/>
            <a:ext cx="1297080" cy="2160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7956720" y="2565360"/>
            <a:ext cx="936360" cy="2160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804000" y="4076640"/>
            <a:ext cx="1008000" cy="2160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4572000" y="5589720"/>
            <a:ext cx="936720" cy="21564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108000" y="115920"/>
            <a:ext cx="89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Which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words are missing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0" y="76356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20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Mi es el tres de octubr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200000"/>
              </a:lnSpc>
              <a:buClr>
                <a:srgbClr val="adebeb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adebeb"/>
                </a:solidFill>
                <a:latin typeface="Comic Sans MS"/>
              </a:rPr>
              <a:t>Mi cumpleaños el quince de junio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20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Mi cumpleaños es el veintisiete d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200000"/>
              </a:lnSpc>
              <a:buClr>
                <a:srgbClr val="adebeb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adebeb"/>
                </a:solidFill>
                <a:latin typeface="Comic Sans MS"/>
              </a:rPr>
              <a:t>Mi cumpleaños es el once marzo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108000" y="115920"/>
            <a:ext cx="89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Which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words are missing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0" y="76356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20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Mi es el tres de octubr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200000"/>
              </a:lnSpc>
              <a:buClr>
                <a:srgbClr val="adebeb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adebeb"/>
                </a:solidFill>
                <a:latin typeface="Comic Sans MS"/>
              </a:rPr>
              <a:t>Mi cumpleaños el quince de junio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20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a"/>
                </a:solidFill>
                <a:latin typeface="Comic Sans MS"/>
              </a:rPr>
              <a:t>Mi cumpleaños es el veintisiete d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200000"/>
              </a:lnSpc>
              <a:buClr>
                <a:srgbClr val="adebeb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adebeb"/>
                </a:solidFill>
                <a:latin typeface="Comic Sans MS"/>
              </a:rPr>
              <a:t>Mi cumpleaños es el once marzo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" name="Group 7"/>
          <p:cNvGrpSpPr/>
          <p:nvPr/>
        </p:nvGrpSpPr>
        <p:grpSpPr>
          <a:xfrm>
            <a:off x="250920" y="692280"/>
            <a:ext cx="2808360" cy="792000"/>
            <a:chOff x="250920" y="692280"/>
            <a:chExt cx="2808360" cy="792000"/>
          </a:xfrm>
        </p:grpSpPr>
        <p:sp>
          <p:nvSpPr>
            <p:cNvPr id="60" name="Rectangle 4"/>
            <p:cNvSpPr/>
            <p:nvPr/>
          </p:nvSpPr>
          <p:spPr>
            <a:xfrm>
              <a:off x="250920" y="692280"/>
              <a:ext cx="2808360" cy="501480"/>
            </a:xfrm>
            <a:prstGeom prst="rect">
              <a:avLst/>
            </a:prstGeom>
            <a:solidFill>
              <a:srgbClr val="fffffa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cumpleaños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61" name="Straight Arrow Connector 5"/>
            <p:cNvCxnSpPr>
              <a:stCxn id="60" idx="2"/>
            </p:cNvCxnSpPr>
            <p:nvPr/>
          </p:nvCxnSpPr>
          <p:spPr>
            <a:xfrm flipH="1">
              <a:off x="1474560" y="1193400"/>
              <a:ext cx="181440" cy="291240"/>
            </a:xfrm>
            <a:prstGeom prst="straightConnector1">
              <a:avLst/>
            </a:prstGeom>
            <a:ln w="57240">
              <a:solidFill>
                <a:srgbClr val="00b0f0"/>
              </a:solidFill>
              <a:miter/>
              <a:tailEnd len="med" type="arrow" w="med"/>
            </a:ln>
          </p:spPr>
        </p:cxnSp>
      </p:grpSp>
      <p:grpSp>
        <p:nvGrpSpPr>
          <p:cNvPr id="62" name="Group 11"/>
          <p:cNvGrpSpPr/>
          <p:nvPr/>
        </p:nvGrpSpPr>
        <p:grpSpPr>
          <a:xfrm>
            <a:off x="3924360" y="1989000"/>
            <a:ext cx="792000" cy="792360"/>
            <a:chOff x="3924360" y="1989000"/>
            <a:chExt cx="792000" cy="792360"/>
          </a:xfrm>
        </p:grpSpPr>
        <p:sp>
          <p:nvSpPr>
            <p:cNvPr id="63" name="Rectangle 9"/>
            <p:cNvSpPr/>
            <p:nvPr/>
          </p:nvSpPr>
          <p:spPr>
            <a:xfrm>
              <a:off x="3924360" y="1989000"/>
              <a:ext cx="792000" cy="501840"/>
            </a:xfrm>
            <a:prstGeom prst="rect">
              <a:avLst/>
            </a:prstGeom>
            <a:solidFill>
              <a:srgbClr val="fffffa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es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64" name="Straight Arrow Connector 10"/>
            <p:cNvCxnSpPr>
              <a:stCxn id="63" idx="2"/>
            </p:cNvCxnSpPr>
            <p:nvPr/>
          </p:nvCxnSpPr>
          <p:spPr>
            <a:xfrm>
              <a:off x="4320720" y="2490480"/>
              <a:ext cx="1080" cy="291240"/>
            </a:xfrm>
            <a:prstGeom prst="straightConnector1">
              <a:avLst/>
            </a:prstGeom>
            <a:ln w="57240">
              <a:solidFill>
                <a:srgbClr val="00b0f0"/>
              </a:solidFill>
              <a:miter/>
              <a:tailEnd len="med" type="arrow" w="med"/>
            </a:ln>
          </p:spPr>
        </p:cxnSp>
      </p:grpSp>
      <p:grpSp>
        <p:nvGrpSpPr>
          <p:cNvPr id="65" name="Group 15"/>
          <p:cNvGrpSpPr/>
          <p:nvPr/>
        </p:nvGrpSpPr>
        <p:grpSpPr>
          <a:xfrm>
            <a:off x="7308720" y="3181320"/>
            <a:ext cx="1835280" cy="824040"/>
            <a:chOff x="7308720" y="3181320"/>
            <a:chExt cx="1835280" cy="824040"/>
          </a:xfrm>
        </p:grpSpPr>
        <p:sp>
          <p:nvSpPr>
            <p:cNvPr id="66" name="Rectangle 13"/>
            <p:cNvSpPr/>
            <p:nvPr/>
          </p:nvSpPr>
          <p:spPr>
            <a:xfrm>
              <a:off x="7308720" y="3181320"/>
              <a:ext cx="1835280" cy="503280"/>
            </a:xfrm>
            <a:prstGeom prst="rect">
              <a:avLst/>
            </a:prstGeom>
            <a:solidFill>
              <a:srgbClr val="fffffa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i="1" lang="en-GB" sz="3600" spc="-1" strike="noStrike">
                  <a:solidFill>
                    <a:srgbClr val="000000"/>
                  </a:solidFill>
                  <a:latin typeface="Comic Sans MS"/>
                </a:rPr>
                <a:t>month</a:t>
              </a: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67" name="Straight Arrow Connector 14"/>
            <p:cNvCxnSpPr/>
            <p:nvPr/>
          </p:nvCxnSpPr>
          <p:spPr>
            <a:xfrm>
              <a:off x="8893080" y="3684240"/>
              <a:ext cx="1080" cy="321480"/>
            </a:xfrm>
            <a:prstGeom prst="straightConnector1">
              <a:avLst/>
            </a:prstGeom>
            <a:ln w="57240">
              <a:solidFill>
                <a:srgbClr val="00b0f0"/>
              </a:solidFill>
              <a:miter/>
              <a:tailEnd len="med" type="arrow" w="med"/>
            </a:ln>
          </p:spPr>
        </p:cxnSp>
      </p:grpSp>
      <p:sp>
        <p:nvSpPr>
          <p:cNvPr id="68" name="Rectangle 17"/>
          <p:cNvSpPr/>
          <p:nvPr/>
        </p:nvSpPr>
        <p:spPr>
          <a:xfrm>
            <a:off x="6300720" y="4365720"/>
            <a:ext cx="792360" cy="501480"/>
          </a:xfrm>
          <a:prstGeom prst="rect">
            <a:avLst/>
          </a:prstGeom>
          <a:solidFill>
            <a:srgbClr val="fffffa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9" name="Straight Arrow Connector 18"/>
          <p:cNvCxnSpPr>
            <a:stCxn id="68" idx="2"/>
          </p:cNvCxnSpPr>
          <p:nvPr/>
        </p:nvCxnSpPr>
        <p:spPr>
          <a:xfrm>
            <a:off x="6696000" y="4867200"/>
            <a:ext cx="37440" cy="36252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11-23T09:46:37Z</dcterms:modified>
  <cp:revision>137</cp:revision>
  <dc:subject/>
  <dc:title>TITLE</dc:title>
</cp:coreProperties>
</file>