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277-1223-44B3-A1B7-07C4538F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BFE-43E3-47AE-8E30-362FA89B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E61-AA62-4372-9B19-2DA9C868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049-3860-41FE-A90D-061A6E1D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910-0740-48ED-8430-26F22ACA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986-E8A8-401E-9C76-AC1BD60E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3F0-38F0-46FD-BBEC-7058339F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CE0-9816-42CC-BC9C-43A978BA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3F7-A3C0-40DC-A7BF-B4D4714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9B7-A066-45EF-9D75-B3AD047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40E-EA75-4A47-8CD1-D60669C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1DB-F281-484A-AFC6-C6615A38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C299-CF29-4648-AAB2-0F2AFA1CC8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640" y="260280"/>
            <a:ext cx="9117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ind the words that are extra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0" y="763560"/>
            <a:ext cx="914400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Mi cumpleaños abaco es el catorce de febre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debeb"/>
                </a:solidFill>
                <a:latin typeface="Comic Sans MS"/>
              </a:rPr>
              <a:t>Mi cumpleaños es el veintitrés de flor abri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Mi cumpleaños es el treinta café y uno de diciemb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debeb"/>
                </a:solidFill>
                <a:latin typeface="Comic Sans MS"/>
              </a:rPr>
              <a:t>Mi cumpleaños es león el nueve de juli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ind the words that are extra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763560"/>
            <a:ext cx="914400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Mi cumpleaños abaco es el catorce de febre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debeb"/>
                </a:solidFill>
                <a:latin typeface="Comic Sans MS"/>
              </a:rPr>
              <a:t>Mi cumpleaños es el veintitrés de flor abri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Mi cumpleaños es el treinta café y uno de diciemb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debeb"/>
                </a:solidFill>
                <a:latin typeface="Comic Sans MS"/>
              </a:rPr>
              <a:t>Mi cumpleaños es león el nueve de juli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995640" y="1125360"/>
            <a:ext cx="1297080" cy="21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956720" y="2565360"/>
            <a:ext cx="936360" cy="21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04000" y="4076640"/>
            <a:ext cx="1008000" cy="21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0" y="5589720"/>
            <a:ext cx="936720" cy="2156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08000" y="11592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Which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words are missing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7635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2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es el tres de octubr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debeb"/>
                </a:solidFill>
                <a:latin typeface="Comic Sans MS"/>
              </a:rPr>
              <a:t>Mi cumpleaños el quince de juni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cumpleaños es el veintisiete d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debeb"/>
                </a:solidFill>
                <a:latin typeface="Comic Sans MS"/>
              </a:rPr>
              <a:t>Mi cumpleaños es el once marz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08000" y="11592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Which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words are missing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7635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2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es el tres de octubr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debeb"/>
                </a:solidFill>
                <a:latin typeface="Comic Sans MS"/>
              </a:rPr>
              <a:t>Mi cumpleaños el quince de juni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cumpleaños es el veintisiete d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debeb"/>
                </a:solidFill>
                <a:latin typeface="Comic Sans MS"/>
              </a:rPr>
              <a:t>Mi cumpleaños es el once marz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250920" y="692280"/>
            <a:ext cx="2808360" cy="792000"/>
            <a:chOff x="250920" y="692280"/>
            <a:chExt cx="2808360" cy="792000"/>
          </a:xfrm>
        </p:grpSpPr>
        <p:sp>
          <p:nvSpPr>
            <p:cNvPr id="60" name="Rectangle 4"/>
            <p:cNvSpPr/>
            <p:nvPr/>
          </p:nvSpPr>
          <p:spPr>
            <a:xfrm>
              <a:off x="250920" y="692280"/>
              <a:ext cx="2808360" cy="50148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cumpleaño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1" name="Straight Arrow Connector 5"/>
            <p:cNvCxnSpPr>
              <a:stCxn id="60" idx="2"/>
            </p:cNvCxnSpPr>
            <p:nvPr/>
          </p:nvCxnSpPr>
          <p:spPr>
            <a:xfrm flipH="1">
              <a:off x="1474560" y="1193400"/>
              <a:ext cx="181440" cy="29124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tailEnd len="med" type="arrow" w="med"/>
            </a:ln>
          </p:spPr>
        </p:cxnSp>
      </p:grpSp>
      <p:grpSp>
        <p:nvGrpSpPr>
          <p:cNvPr id="62" name="Group 11"/>
          <p:cNvGrpSpPr/>
          <p:nvPr/>
        </p:nvGrpSpPr>
        <p:grpSpPr>
          <a:xfrm>
            <a:off x="3924360" y="1989000"/>
            <a:ext cx="792000" cy="792360"/>
            <a:chOff x="3924360" y="1989000"/>
            <a:chExt cx="792000" cy="792360"/>
          </a:xfrm>
        </p:grpSpPr>
        <p:sp>
          <p:nvSpPr>
            <p:cNvPr id="63" name="Rectangle 9"/>
            <p:cNvSpPr/>
            <p:nvPr/>
          </p:nvSpPr>
          <p:spPr>
            <a:xfrm>
              <a:off x="3924360" y="1989000"/>
              <a:ext cx="792000" cy="50184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e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4" name="Straight Arrow Connector 10"/>
            <p:cNvCxnSpPr>
              <a:stCxn id="63" idx="2"/>
            </p:cNvCxnSpPr>
            <p:nvPr/>
          </p:nvCxnSpPr>
          <p:spPr>
            <a:xfrm>
              <a:off x="4320720" y="2490480"/>
              <a:ext cx="1080" cy="29124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tailEnd len="med" type="arrow" w="med"/>
            </a:ln>
          </p:spPr>
        </p:cxnSp>
      </p:grpSp>
      <p:grpSp>
        <p:nvGrpSpPr>
          <p:cNvPr id="65" name="Group 15"/>
          <p:cNvGrpSpPr/>
          <p:nvPr/>
        </p:nvGrpSpPr>
        <p:grpSpPr>
          <a:xfrm>
            <a:off x="7308720" y="3181320"/>
            <a:ext cx="1835280" cy="824040"/>
            <a:chOff x="7308720" y="3181320"/>
            <a:chExt cx="1835280" cy="824040"/>
          </a:xfrm>
        </p:grpSpPr>
        <p:sp>
          <p:nvSpPr>
            <p:cNvPr id="66" name="Rectangle 13"/>
            <p:cNvSpPr/>
            <p:nvPr/>
          </p:nvSpPr>
          <p:spPr>
            <a:xfrm>
              <a:off x="7308720" y="3181320"/>
              <a:ext cx="1835280" cy="50328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GB" sz="3600" spc="-1" strike="noStrike">
                  <a:solidFill>
                    <a:srgbClr val="000000"/>
                  </a:solidFill>
                  <a:latin typeface="Comic Sans MS"/>
                </a:rPr>
                <a:t>month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7" name="Straight Arrow Connector 14"/>
            <p:cNvCxnSpPr/>
            <p:nvPr/>
          </p:nvCxnSpPr>
          <p:spPr>
            <a:xfrm>
              <a:off x="8893080" y="3684240"/>
              <a:ext cx="1080" cy="32148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tailEnd len="med" type="arrow" w="med"/>
            </a:ln>
          </p:spPr>
        </p:cxnSp>
      </p:grpSp>
      <p:sp>
        <p:nvSpPr>
          <p:cNvPr id="68" name="Rectangle 17"/>
          <p:cNvSpPr/>
          <p:nvPr/>
        </p:nvSpPr>
        <p:spPr>
          <a:xfrm>
            <a:off x="6300720" y="4365720"/>
            <a:ext cx="792360" cy="501480"/>
          </a:xfrm>
          <a:prstGeom prst="rect">
            <a:avLst/>
          </a:prstGeom>
          <a:solidFill>
            <a:srgbClr val="fffffa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" name="Straight Arrow Connector 18"/>
          <p:cNvCxnSpPr>
            <a:stCxn id="68" idx="2"/>
          </p:cNvCxnSpPr>
          <p:nvPr/>
        </p:nvCxnSpPr>
        <p:spPr>
          <a:xfrm>
            <a:off x="6696000" y="4867200"/>
            <a:ext cx="37440" cy="3625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6:37Z</dcterms:modified>
  <cp:revision>137</cp:revision>
  <dc:subject/>
  <dc:title>TITLE</dc:title>
</cp:coreProperties>
</file>