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FD9-596B-4C29-A3B0-AF13505B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279-814C-4C1F-A613-1B113B12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CE5-61F0-49C8-9D13-3A1AD22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DC2-872D-4F02-8899-4FD16822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5FD-CF10-4044-A9B5-61CC471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028-5039-410E-B229-BC45D4C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EA2-8EA9-4B69-A79B-7329487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ABE-B24B-44C4-8F48-E843D86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646-D9A4-4E42-9301-038FD985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EE6-D83A-4938-A2F3-54859AE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55C-8D3D-42B5-B0E4-198ADCF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400-2614-4ED6-99BB-FFC8E3E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773A-F93A-4E78-B366-F979E074D5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770440" y="4233960"/>
            <a:ext cx="144000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inc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7308720" y="4233960"/>
            <a:ext cx="79236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84360" y="5084640"/>
            <a:ext cx="298764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eptiemb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Septemb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749920" y="4233960"/>
            <a:ext cx="324792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einta y un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73200" y="5084640"/>
            <a:ext cx="79200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547640" y="5084640"/>
            <a:ext cx="165600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er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Januar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749920" y="4233960"/>
            <a:ext cx="1701720" cy="131292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qui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7524720" y="4232160"/>
            <a:ext cx="79236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76440" y="5084640"/>
            <a:ext cx="1511280" cy="131292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uni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1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Ju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76440" y="4233960"/>
            <a:ext cx="4284360" cy="1312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i cumpleaños 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59440" y="4233960"/>
            <a:ext cx="611280" cy="703440"/>
          </a:xfrm>
          <a:prstGeom prst="rect">
            <a:avLst/>
          </a:prstGeom>
          <a:solidFill>
            <a:srgbClr val="ffffc5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749920" y="4233960"/>
            <a:ext cx="2567160" cy="703440"/>
          </a:xfrm>
          <a:prstGeom prst="rect">
            <a:avLst/>
          </a:prstGeom>
          <a:solidFill>
            <a:srgbClr val="adebeb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eintitré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76440" y="5084640"/>
            <a:ext cx="792000" cy="703440"/>
          </a:xfrm>
          <a:prstGeom prst="rect">
            <a:avLst/>
          </a:prstGeom>
          <a:solidFill>
            <a:srgbClr val="ff99ff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547640" y="5084640"/>
            <a:ext cx="1872000" cy="703440"/>
          </a:xfrm>
          <a:prstGeom prst="rect">
            <a:avLst/>
          </a:prstGeom>
          <a:solidFill>
            <a:srgbClr val="92d05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zo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08000" y="2763720"/>
            <a:ext cx="8856720" cy="642600"/>
          </a:xfrm>
          <a:prstGeom prst="rect">
            <a:avLst/>
          </a:prstGeom>
          <a:solidFill>
            <a:srgbClr val="ffffaa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y birthday is the 23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f Marc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4:40Z</dcterms:modified>
  <cp:revision>144</cp:revision>
  <dc:subject/>
  <dc:title>TITLE</dc:title>
</cp:coreProperties>
</file>