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CA1D-B21C-4B77-AACB-21C628F84B7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49BA-0790-4913-A849-FD2D1D8F28E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9055-81C0-4CC2-A5A2-91409BDF194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24EA-7594-4600-979B-A9EBD24D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7241-11E2-44A5-82AC-196C7CCD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E54-9937-4DEB-BBDF-B2AD68C5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7C66-69C9-4227-AAB9-06D12998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7C27-B0EF-408D-A738-497903EC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40B-DE2B-45E6-B28A-635CBAC0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C21A-4BE0-4065-84D7-F1CF3D90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A5DD-CB8A-4E0E-A42D-7CA47A50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11CB-C76E-4428-B72D-EC417DB1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C948-FB40-425E-BAD4-96474AE5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085-FCBF-4080-B838-0DD84CA8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7E4D-5F7B-4032-8B0A-ABF2E5EB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893E-F242-4ACF-94D6-992CCE655C7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0920" y="765000"/>
          <a:ext cx="8713440" cy="3024360"/>
        </p:xfrm>
        <a:graphic>
          <a:graphicData uri="http://schemas.openxmlformats.org/drawingml/2006/table">
            <a:tbl>
              <a:tblPr/>
              <a:tblGrid>
                <a:gridCol w="1060560"/>
                <a:gridCol w="1969560"/>
                <a:gridCol w="2728080"/>
                <a:gridCol w="529560"/>
                <a:gridCol w="2425680"/>
              </a:tblGrid>
              <a:tr h="393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nariz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cabez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boc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orej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grand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pequeñ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puntiagud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enorm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roj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amarill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marró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gri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 txBox="1"/>
          <p:nvPr/>
        </p:nvSpPr>
        <p:spPr>
          <a:xfrm>
            <a:off x="2340000" y="4149720"/>
            <a:ext cx="34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luedo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765000"/>
          <a:ext cx="8353440" cy="3024360"/>
        </p:xfrm>
        <a:graphic>
          <a:graphicData uri="http://schemas.openxmlformats.org/drawingml/2006/table">
            <a:tbl>
              <a:tblPr/>
              <a:tblGrid>
                <a:gridCol w="622440"/>
                <a:gridCol w="2259000"/>
                <a:gridCol w="2808000"/>
                <a:gridCol w="503280"/>
                <a:gridCol w="2160720"/>
              </a:tblGrid>
              <a:tr h="35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naric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cabez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boc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orej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larg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pequeñ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cort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minúscul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negr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violet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blanc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azu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53" name=""/>
          <p:cNvSpPr txBox="1"/>
          <p:nvPr/>
        </p:nvSpPr>
        <p:spPr>
          <a:xfrm>
            <a:off x="2340000" y="4149720"/>
            <a:ext cx="34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luedo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12-03T21:33:19Z</dcterms:modified>
  <cp:revision>129</cp:revision>
  <dc:subject/>
  <dc:title>TITLE</dc:title>
</cp:coreProperties>
</file>