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86E-F277-4F44-B526-4FD9EC4763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CB2-C2DF-446F-8BC8-D8C4424894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4B6D-90A1-4BE8-8E73-518E3E006B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487-6390-4D9D-9DDC-2C343653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8EE-7DD4-4A75-BE52-59E75A07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B2E-8F32-4204-8331-8C3B13E6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CFF-D05E-4B4D-8C51-92ECE284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0E4-9BF0-4F1C-84FD-99784F7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1A3-B128-406C-BE43-CD8E57C7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CCA-CB5C-43C1-8CDF-1849282B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9B4-F03A-458A-B2CA-2B970D6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6C6-5F68-49F1-BD9A-EB465D08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4DD-B248-41C8-9B32-E24A0D1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3F4-F096-4EEF-B828-638E2EE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130-7739-43DE-A435-34C6F495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9690-3354-4C44-A1D5-E27EE5092F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765000"/>
          <a:ext cx="8713440" cy="3024360"/>
        </p:xfrm>
        <a:graphic>
          <a:graphicData uri="http://schemas.openxmlformats.org/drawingml/2006/table">
            <a:tbl>
              <a:tblPr/>
              <a:tblGrid>
                <a:gridCol w="1060560"/>
                <a:gridCol w="1969560"/>
                <a:gridCol w="2728080"/>
                <a:gridCol w="529560"/>
                <a:gridCol w="2425680"/>
              </a:tblGrid>
              <a:tr h="39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ari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abez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o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ore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equeñ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untiagu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enor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ro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maril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marró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2340000" y="4149720"/>
            <a:ext cx="34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765000"/>
          <a:ext cx="8353440" cy="3024360"/>
        </p:xfrm>
        <a:graphic>
          <a:graphicData uri="http://schemas.openxmlformats.org/drawingml/2006/table">
            <a:tbl>
              <a:tblPr/>
              <a:tblGrid>
                <a:gridCol w="622440"/>
                <a:gridCol w="2259000"/>
                <a:gridCol w="2808000"/>
                <a:gridCol w="503280"/>
                <a:gridCol w="2160720"/>
              </a:tblGrid>
              <a:tr h="35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aric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abez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oc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orej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arg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equeñ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rt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minúscul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egr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violet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lanc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zu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2340000" y="4149720"/>
            <a:ext cx="345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33:19Z</dcterms:modified>
  <cp:revision>129</cp:revision>
  <dc:subject/>
  <dc:title>TITLE</dc:title>
</cp:coreProperties>
</file>