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058-2EA9-45F8-8422-C346B3B49A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0AC-2338-44C5-B41A-923EE8C918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7297-7797-4435-A661-7EE81DAD97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790-1362-4BE3-AA46-461E22AD2D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E09-2567-4043-8E07-64FAC89EA5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390-0ECE-466F-BAE6-CFCE80AA2B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44C-D62A-4EAD-BF4A-2FFAA81683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712-07D2-4CEC-ADCD-3834D4CC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B89-1D02-41C7-8170-F5E59F51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F5E-2884-4CF3-BA31-8975A12A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329-EA3C-47E7-A927-626FBD03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F98-24B3-4BE5-8E41-ABA0EFDA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596-AFAE-47ED-865A-3ABA281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F33-FCC0-4CF7-818D-A94D7484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8F0-6B28-45E4-B549-E3AF182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7C0-75D1-47F6-A6FD-F91F284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1C4-9517-4C88-9364-5FB4EBF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A1-0CB8-4A0F-8967-749D70F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FC2-4934-4807-9A50-1D2C28D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436-C511-4BE0-9355-3C865DF5F7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a pequeña rojo cab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cabeza pequeña y r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dos dientes grande blan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0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os dientes grandes y blan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a nariz larga y az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nariz larga y az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quatro ojos rojos y gran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uatro ojos rojos y gran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os nariz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s naric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o ojo enormo amar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 ojo enorme y amari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0:44Z</dcterms:modified>
  <cp:revision>129</cp:revision>
  <dc:subject/>
  <dc:title>TITLE</dc:title>
</cp:coreProperties>
</file>