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AD81-602E-479B-AD5D-C8D8273679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4603-C0B1-4395-A8F9-81C63BD6E1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7CED-9D49-4C87-BF6A-BEC09A838E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899F-9DEA-40DB-B939-BDCAE19741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0A1F-AD79-4BE9-86B3-17A56D3725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A130-DA22-4EE8-9D8B-BC5EA283397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0D55-228D-4CA3-AE46-1179D6E2E24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04B-A1F4-439C-9AE3-959A42EF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AF53-9667-4DDD-8AD9-04D785D6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481-5BA6-4EC7-9B10-AFCF404F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71C9-35B4-4E04-A021-E3B45C96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8BE-40CA-42E5-BA82-045ACE61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C10-7BC3-450C-A7F0-DAB9C5C1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529-E9E1-4930-8370-F4E19A77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241-3277-48A6-B136-82309DB9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AA8-C5E6-42C1-B6F6-1EB004A5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E2A-D541-4C45-997B-DBD2DBA6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33E-2F09-4EE8-ACB2-D414756C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532-8CD0-4CD2-8CFD-7847902A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BF21-A6BF-452D-A8B5-E4F6A0D81D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8000"/>
                </a:solidFill>
                <a:latin typeface="Comic Sans MS"/>
              </a:rPr>
              <a:t>¿ Hay errore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13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una pequeña rojo cabe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00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una cabeza pequeña y ro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8000"/>
                </a:solidFill>
                <a:latin typeface="Comic Sans MS"/>
              </a:rPr>
              <a:t>¿ Hay errore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13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dos dientes grande blan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005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dos dientes grandes y blan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8000"/>
                </a:solidFill>
                <a:latin typeface="Comic Sans MS"/>
              </a:rPr>
              <a:t>¿ Hay errore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13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una nariz larga y az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00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una nariz larga y az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8000"/>
                </a:solidFill>
                <a:latin typeface="Comic Sans MS"/>
              </a:rPr>
              <a:t>¿ Hay errore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13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quatro ojos rojos y gran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00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cuatro ojos rojos y gran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8000"/>
                </a:solidFill>
                <a:latin typeface="Comic Sans MS"/>
              </a:rPr>
              <a:t>¿ Hay errore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13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unos narizes ver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00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unas narices ver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8000"/>
                </a:solidFill>
                <a:latin typeface="Comic Sans MS"/>
              </a:rPr>
              <a:t>¿ Hay errore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13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uno ojo enormo amaril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00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un ojo enorme y amaril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3-29T15:10:44Z</dcterms:modified>
  <cp:revision>129</cp:revision>
  <dc:subject/>
  <dc:title>TITLE</dc:title>
</cp:coreProperties>
</file>