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DF4A9-AFDC-44D8-823B-6340B222314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B25AA-6845-4459-86BA-0DBD4B250EF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6F0EF-DC3A-4843-9A33-2290B94180A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73EBF-B404-49F7-B155-906429CBBDD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CA804-7C4D-43C1-B4DB-EF8DBC93B18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6FA1F-9390-4B76-B068-6F12B3BB9BD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F72F5-ECC1-4943-BB91-AA8C6C022E2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3080A-B757-44BF-B910-4E2106AF58A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17E99-D9EC-4A12-87A7-7EA7D1B1540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5AA7A-FAE7-42AE-8A0A-06C47FC5156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5F56E-0446-440A-974F-25283D7B8A8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47438-9B83-4611-829E-EDD04CC567D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8E7E4-829D-466D-B33A-1EE71D2B73B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4EEBD-160B-4967-981B-6C94594C57F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A781D-3FB2-4722-97F1-15F50A86616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7F2B-5773-46BC-94E1-1721D3AD4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0415-83AB-4478-AE90-1CE002B3C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39BA-3E20-4672-9B6D-5914F5498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0F97-9776-4CA0-86F8-6742A3AE7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5620-3FC4-4636-A483-132D45E21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03DE-488C-4134-ABF3-C026E5661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7393-E552-4D50-BC4D-0D021CD85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5156-A3EF-4C02-B08F-636E233F7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7871-134C-47A2-84ED-8AC879B66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2557-BC11-46DC-85E0-A70F6C7C7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F0A6-4436-42D2-976E-407173FD3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E4C9-6428-4E43-B536-B8255CD33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3C493-0F24-4561-BD68-E41EF67431F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2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2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26920" y="2924280"/>
            <a:ext cx="2087640" cy="2663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00000" y="2997360"/>
            <a:ext cx="1908360" cy="2447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516720" y="404640"/>
            <a:ext cx="2197080" cy="21099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250920" y="404640"/>
            <a:ext cx="2214360" cy="2232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rcRect l="6185" t="0" r="7916" b="0"/>
          <a:stretch/>
        </p:blipFill>
        <p:spPr>
          <a:xfrm>
            <a:off x="3564000" y="3284640"/>
            <a:ext cx="1917720" cy="2232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rcRect l="8731" t="11172" r="11150" b="23819"/>
          <a:stretch/>
        </p:blipFill>
        <p:spPr>
          <a:xfrm>
            <a:off x="3419640" y="476280"/>
            <a:ext cx="2484360" cy="2016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372360" y="2924280"/>
            <a:ext cx="2340000" cy="12240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6372360" y="3068640"/>
            <a:ext cx="2376360" cy="1065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796000" y="4554360"/>
            <a:ext cx="1727280" cy="2303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7"/>
          <a:stretch/>
        </p:blipFill>
        <p:spPr>
          <a:xfrm>
            <a:off x="5940360" y="4653000"/>
            <a:ext cx="1362240" cy="2016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79280" y="5734080"/>
            <a:ext cx="540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d9"/>
                </a:solidFill>
                <a:latin typeface="Comic Sans MS"/>
              </a:rPr>
              <a:t>¿Qué falta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755640" y="404640"/>
            <a:ext cx="2087640" cy="26640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1908360" cy="2448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6227640" y="1268280"/>
            <a:ext cx="2197080" cy="21099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6443640" y="4076640"/>
            <a:ext cx="2214720" cy="2232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rcRect l="8731" t="11172" r="11150" b="23819"/>
          <a:stretch/>
        </p:blipFill>
        <p:spPr>
          <a:xfrm>
            <a:off x="3348000" y="3429000"/>
            <a:ext cx="2484360" cy="2016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539640" y="3645000"/>
            <a:ext cx="2340000" cy="12240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468360" y="3716280"/>
            <a:ext cx="2376360" cy="10652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0" y="5734080"/>
            <a:ext cx="608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d9"/>
                </a:solidFill>
                <a:latin typeface="Comic Sans MS"/>
              </a:rPr>
              <a:t>¿Qué falta? (II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2197080" cy="21099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492360" y="765000"/>
            <a:ext cx="2214720" cy="2232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rcRect l="8731" t="11172" r="11150" b="23819"/>
          <a:stretch/>
        </p:blipFill>
        <p:spPr>
          <a:xfrm>
            <a:off x="6012000" y="1268280"/>
            <a:ext cx="2484360" cy="20163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156360" y="3933720"/>
            <a:ext cx="2340000" cy="12240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6156360" y="4005360"/>
            <a:ext cx="2376360" cy="10652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0" y="5734080"/>
            <a:ext cx="608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d9"/>
                </a:solidFill>
                <a:latin typeface="Comic Sans MS"/>
              </a:rPr>
              <a:t>¿Qué falta? (II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443640" y="333360"/>
            <a:ext cx="2214720" cy="2232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rcRect l="8731" t="11172" r="11150" b="23819"/>
          <a:stretch/>
        </p:blipFill>
        <p:spPr>
          <a:xfrm>
            <a:off x="1258920" y="3573360"/>
            <a:ext cx="2484360" cy="20163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916360" y="1052640"/>
            <a:ext cx="2340000" cy="12240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2916360" y="1125360"/>
            <a:ext cx="2376360" cy="10652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0" y="5734080"/>
            <a:ext cx="608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d9"/>
                </a:solidFill>
                <a:latin typeface="Comic Sans MS"/>
              </a:rPr>
              <a:t>¿Qué falta? (II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619280" y="3141720"/>
            <a:ext cx="2214360" cy="2232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300720" y="3068640"/>
            <a:ext cx="2340000" cy="12240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300720" y="3141720"/>
            <a:ext cx="2376720" cy="10652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0" y="5734080"/>
            <a:ext cx="608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d9"/>
                </a:solidFill>
                <a:latin typeface="Comic Sans MS"/>
              </a:rPr>
              <a:t>¿Qué falta? (II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484360" y="1700280"/>
            <a:ext cx="2340000" cy="12240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484360" y="1773360"/>
            <a:ext cx="2376720" cy="10652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0" y="5734080"/>
            <a:ext cx="608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d9"/>
                </a:solidFill>
                <a:latin typeface="Comic Sans MS"/>
              </a:rPr>
              <a:t>¿Qué falta? (II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826920" y="2924280"/>
            <a:ext cx="2087640" cy="2663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00000" y="2997360"/>
            <a:ext cx="1908360" cy="24476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372360" y="4508640"/>
            <a:ext cx="2197080" cy="21096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3564000" y="620640"/>
            <a:ext cx="2214360" cy="2232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rcRect l="6185" t="0" r="7916" b="0"/>
          <a:stretch/>
        </p:blipFill>
        <p:spPr>
          <a:xfrm>
            <a:off x="6588000" y="260280"/>
            <a:ext cx="1917720" cy="2232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372360" y="2924280"/>
            <a:ext cx="2340000" cy="12240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6372360" y="3068640"/>
            <a:ext cx="2376360" cy="10652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84360" y="404640"/>
            <a:ext cx="1726920" cy="2303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826920" y="620640"/>
            <a:ext cx="1362240" cy="20163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79280" y="5734080"/>
            <a:ext cx="540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d9"/>
                </a:solidFill>
                <a:latin typeface="Comic Sans MS"/>
              </a:rPr>
              <a:t>¿Qué falta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39640" y="620640"/>
            <a:ext cx="2197080" cy="2109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084720" y="4365720"/>
            <a:ext cx="2214720" cy="2232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rcRect l="6185" t="0" r="7916" b="0"/>
          <a:stretch/>
        </p:blipFill>
        <p:spPr>
          <a:xfrm>
            <a:off x="4500720" y="260280"/>
            <a:ext cx="1917720" cy="2232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516720" y="2637000"/>
            <a:ext cx="2340000" cy="1223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6588000" y="2708280"/>
            <a:ext cx="2376720" cy="10652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124000" y="3213000"/>
            <a:ext cx="1727280" cy="2303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2268360" y="3357720"/>
            <a:ext cx="1362240" cy="2016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79280" y="5734080"/>
            <a:ext cx="540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d9"/>
                </a:solidFill>
                <a:latin typeface="Comic Sans MS"/>
              </a:rPr>
              <a:t>¿Qué falta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843280" y="3213000"/>
            <a:ext cx="2214360" cy="2232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rcRect l="6185" t="0" r="7916" b="0"/>
          <a:stretch/>
        </p:blipFill>
        <p:spPr>
          <a:xfrm>
            <a:off x="6443640" y="4221000"/>
            <a:ext cx="1917720" cy="22323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11280" y="333360"/>
            <a:ext cx="2340000" cy="12240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611280" y="404640"/>
            <a:ext cx="2376360" cy="10652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427640" y="692280"/>
            <a:ext cx="1726920" cy="2303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4500720" y="836640"/>
            <a:ext cx="1361880" cy="2016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79280" y="5734080"/>
            <a:ext cx="540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d9"/>
                </a:solidFill>
                <a:latin typeface="Comic Sans MS"/>
              </a:rPr>
              <a:t>¿Qué falta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rcRect l="6185" t="0" r="7916" b="0"/>
          <a:stretch/>
        </p:blipFill>
        <p:spPr>
          <a:xfrm>
            <a:off x="2124000" y="549360"/>
            <a:ext cx="1917720" cy="2232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050920" y="4149720"/>
            <a:ext cx="2340000" cy="12240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050920" y="4221000"/>
            <a:ext cx="2376720" cy="10652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659640" y="1844640"/>
            <a:ext cx="1727280" cy="2303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04000" y="1989000"/>
            <a:ext cx="1362240" cy="2016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79280" y="5734080"/>
            <a:ext cx="540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d9"/>
                </a:solidFill>
                <a:latin typeface="Comic Sans MS"/>
              </a:rPr>
              <a:t>¿Qué falta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rcRect l="6185" t="0" r="7916" b="0"/>
          <a:stretch/>
        </p:blipFill>
        <p:spPr>
          <a:xfrm>
            <a:off x="3851280" y="2997360"/>
            <a:ext cx="1917720" cy="2232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771640" y="333360"/>
            <a:ext cx="1727280" cy="2303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916360" y="404640"/>
            <a:ext cx="1361880" cy="20163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79280" y="5734080"/>
            <a:ext cx="540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d9"/>
                </a:solidFill>
                <a:latin typeface="Comic Sans MS"/>
              </a:rPr>
              <a:t>¿Qué falta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6185" t="0" r="7916" b="0"/>
          <a:stretch/>
        </p:blipFill>
        <p:spPr>
          <a:xfrm>
            <a:off x="3348000" y="1268280"/>
            <a:ext cx="1917720" cy="2232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79280" y="5734080"/>
            <a:ext cx="540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d9"/>
                </a:solidFill>
                <a:latin typeface="Comic Sans MS"/>
              </a:rPr>
              <a:t>¿Qué falta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826920" y="2924280"/>
            <a:ext cx="2087640" cy="2663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900000" y="2997360"/>
            <a:ext cx="1908360" cy="24476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516720" y="404640"/>
            <a:ext cx="2197080" cy="21099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250920" y="404640"/>
            <a:ext cx="2214360" cy="2232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rcRect l="6185" t="0" r="7916" b="0"/>
          <a:stretch/>
        </p:blipFill>
        <p:spPr>
          <a:xfrm>
            <a:off x="3564000" y="3284640"/>
            <a:ext cx="1917720" cy="2232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rcRect l="8731" t="11172" r="11150" b="23819"/>
          <a:stretch/>
        </p:blipFill>
        <p:spPr>
          <a:xfrm>
            <a:off x="3419640" y="476280"/>
            <a:ext cx="2484360" cy="2016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6372360" y="2924280"/>
            <a:ext cx="2340000" cy="12240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6372360" y="3068640"/>
            <a:ext cx="2376360" cy="10652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156360" y="4554360"/>
            <a:ext cx="1727280" cy="2303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7"/>
          <a:stretch/>
        </p:blipFill>
        <p:spPr>
          <a:xfrm>
            <a:off x="6300720" y="4653000"/>
            <a:ext cx="1362240" cy="2016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0" y="5734080"/>
            <a:ext cx="608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d9"/>
                </a:solidFill>
                <a:latin typeface="Comic Sans MS"/>
              </a:rPr>
              <a:t>¿Qué falta? (II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635280" y="333360"/>
            <a:ext cx="2087640" cy="26640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708360" y="404640"/>
            <a:ext cx="1908360" cy="2448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708360" y="3357720"/>
            <a:ext cx="2197080" cy="21096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6300720" y="189000"/>
            <a:ext cx="2214720" cy="2232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rcRect l="6185" t="0" r="7916" b="0"/>
          <a:stretch/>
        </p:blipFill>
        <p:spPr>
          <a:xfrm>
            <a:off x="6300720" y="4365720"/>
            <a:ext cx="1917720" cy="2232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rcRect l="8731" t="11172" r="11150" b="23819"/>
          <a:stretch/>
        </p:blipFill>
        <p:spPr>
          <a:xfrm>
            <a:off x="468360" y="620640"/>
            <a:ext cx="2484360" cy="20163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39640" y="3645000"/>
            <a:ext cx="2340000" cy="12240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468360" y="3716280"/>
            <a:ext cx="2376360" cy="10652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0" y="5734080"/>
            <a:ext cx="608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d9"/>
                </a:solidFill>
                <a:latin typeface="Comic Sans MS"/>
              </a:rPr>
              <a:t>¿Qué falta? (II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1-01-31T09:16:31Z</dcterms:modified>
  <cp:revision>119</cp:revision>
  <dc:subject/>
  <dc:title>TITLE</dc:title>
</cp:coreProperties>
</file>