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0A369-79BF-4870-84AB-90B96095B9D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E7BA5-2D55-4701-AEFF-6BBAB593EE4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47FBD-A881-409C-9780-88D1F9E846E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6D892-3077-46B2-9089-D62CED1E3F2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340D1-8A47-4823-915C-3D9447C466D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49F42-509A-4FA6-ADB4-26F615C36F9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F09F8-E3A4-45D4-B779-C15A9EC684A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D5274-3AE9-46AE-8786-614DC34327D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136BF-902B-4F68-9A11-60ED5A9A59A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707C2-D7ED-4DF1-AB6D-B4444EBC916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2ED04-35E0-4420-B458-E46DB009CB5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D7783-8326-4D05-9649-F5C004F4A1C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C111A-77BE-4419-A247-AB65BCD6315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F4DEE-DB80-4B14-887D-71D7437F782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1F7B5-4A1B-4D37-9528-3DD909E917B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CEC0-105A-426E-8E79-E1C62C421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55DA-9A24-4BDF-A1FF-B279FBCC3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52F0-16A3-4419-880A-C9AF9B895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0E2B-18DD-4439-83ED-8482E2E95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2D1C-15F9-4886-93C5-5E8E90E23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1D96-B6B4-4E37-A788-8A46557AD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550E-B47A-4494-BC07-2AA6D47A0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D3E3-49BD-4045-B900-0A67DA9C6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678D-EB49-4C54-9E91-07ECC71EF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7AE0-6C67-4430-AB83-B970A1F5D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C300-C0CE-4ABB-9BA6-F1AF8C18B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B1CD-B6B5-475C-8160-DACE97E92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F0C09-DD61-45C3-B333-2512D17E5FD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7.png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2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7.png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2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7.png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2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2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26920" y="2924280"/>
            <a:ext cx="2087640" cy="266364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00000" y="2997360"/>
            <a:ext cx="1908360" cy="2447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516720" y="404640"/>
            <a:ext cx="2197080" cy="21099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250920" y="404640"/>
            <a:ext cx="2214360" cy="22323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rcRect l="6185" t="0" r="7916" b="0"/>
          <a:stretch/>
        </p:blipFill>
        <p:spPr>
          <a:xfrm>
            <a:off x="3564000" y="3284640"/>
            <a:ext cx="1917720" cy="2232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rcRect l="8731" t="11172" r="11150" b="23819"/>
          <a:stretch/>
        </p:blipFill>
        <p:spPr>
          <a:xfrm>
            <a:off x="3419640" y="476280"/>
            <a:ext cx="2484360" cy="2016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372360" y="2924280"/>
            <a:ext cx="2340000" cy="122400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6"/>
          <a:stretch/>
        </p:blipFill>
        <p:spPr>
          <a:xfrm>
            <a:off x="6372360" y="3068640"/>
            <a:ext cx="2376360" cy="1065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796000" y="4554360"/>
            <a:ext cx="1727280" cy="230364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7"/>
          <a:stretch/>
        </p:blipFill>
        <p:spPr>
          <a:xfrm>
            <a:off x="5940360" y="4653000"/>
            <a:ext cx="1362240" cy="2016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79280" y="5734080"/>
            <a:ext cx="540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d9"/>
                </a:solidFill>
                <a:latin typeface="Comic Sans MS"/>
              </a:rPr>
              <a:t>¿Qué falta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755640" y="404640"/>
            <a:ext cx="2087640" cy="266400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755640" y="476280"/>
            <a:ext cx="1908360" cy="24480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6227640" y="1268280"/>
            <a:ext cx="2197080" cy="21099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6443640" y="4076640"/>
            <a:ext cx="2214720" cy="22320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rcRect l="8731" t="11172" r="11150" b="23819"/>
          <a:stretch/>
        </p:blipFill>
        <p:spPr>
          <a:xfrm>
            <a:off x="3348000" y="3429000"/>
            <a:ext cx="2484360" cy="2016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539640" y="3645000"/>
            <a:ext cx="2340000" cy="122400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5"/>
          <a:stretch/>
        </p:blipFill>
        <p:spPr>
          <a:xfrm>
            <a:off x="468360" y="3716280"/>
            <a:ext cx="2376360" cy="10652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0" y="5734080"/>
            <a:ext cx="608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d9"/>
                </a:solidFill>
                <a:latin typeface="Comic Sans MS"/>
              </a:rPr>
              <a:t>¿Qué falta? (II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84360" y="404640"/>
            <a:ext cx="2197080" cy="21099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3492360" y="765000"/>
            <a:ext cx="2214720" cy="22323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rcRect l="8731" t="11172" r="11150" b="23819"/>
          <a:stretch/>
        </p:blipFill>
        <p:spPr>
          <a:xfrm>
            <a:off x="6012000" y="1268280"/>
            <a:ext cx="2484360" cy="20163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6156360" y="3933720"/>
            <a:ext cx="2340000" cy="122400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6156360" y="4005360"/>
            <a:ext cx="2376360" cy="10652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0" y="5734080"/>
            <a:ext cx="608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d9"/>
                </a:solidFill>
                <a:latin typeface="Comic Sans MS"/>
              </a:rPr>
              <a:t>¿Qué falta? (II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443640" y="333360"/>
            <a:ext cx="2214720" cy="2232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rcRect l="8731" t="11172" r="11150" b="23819"/>
          <a:stretch/>
        </p:blipFill>
        <p:spPr>
          <a:xfrm>
            <a:off x="1258920" y="3573360"/>
            <a:ext cx="2484360" cy="20163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2916360" y="1052640"/>
            <a:ext cx="2340000" cy="122400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2916360" y="1125360"/>
            <a:ext cx="2376360" cy="10652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0" y="5734080"/>
            <a:ext cx="608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d9"/>
                </a:solidFill>
                <a:latin typeface="Comic Sans MS"/>
              </a:rPr>
              <a:t>¿Qué falta? (II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619280" y="3141720"/>
            <a:ext cx="2214360" cy="22320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6300720" y="3068640"/>
            <a:ext cx="2340000" cy="122400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6300720" y="3141720"/>
            <a:ext cx="2376720" cy="10652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0" y="5734080"/>
            <a:ext cx="608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d9"/>
                </a:solidFill>
                <a:latin typeface="Comic Sans MS"/>
              </a:rPr>
              <a:t>¿Qué falta? (II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484360" y="1700280"/>
            <a:ext cx="2340000" cy="122400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484360" y="1773360"/>
            <a:ext cx="2376720" cy="10652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0" y="5734080"/>
            <a:ext cx="608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d9"/>
                </a:solidFill>
                <a:latin typeface="Comic Sans MS"/>
              </a:rPr>
              <a:t>¿Qué falta? (II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826920" y="2924280"/>
            <a:ext cx="2087640" cy="266364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900000" y="2997360"/>
            <a:ext cx="1908360" cy="24476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6372360" y="4508640"/>
            <a:ext cx="2197080" cy="21096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3564000" y="620640"/>
            <a:ext cx="2214360" cy="2232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rcRect l="6185" t="0" r="7916" b="0"/>
          <a:stretch/>
        </p:blipFill>
        <p:spPr>
          <a:xfrm>
            <a:off x="6588000" y="260280"/>
            <a:ext cx="1917720" cy="2232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372360" y="2924280"/>
            <a:ext cx="2340000" cy="122400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>
            <a:off x="6372360" y="3068640"/>
            <a:ext cx="2376360" cy="10652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84360" y="404640"/>
            <a:ext cx="1726920" cy="230364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6"/>
          <a:stretch/>
        </p:blipFill>
        <p:spPr>
          <a:xfrm>
            <a:off x="826920" y="620640"/>
            <a:ext cx="1362240" cy="20163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79280" y="5734080"/>
            <a:ext cx="540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d9"/>
                </a:solidFill>
                <a:latin typeface="Comic Sans MS"/>
              </a:rPr>
              <a:t>¿Qué falta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539640" y="620640"/>
            <a:ext cx="2197080" cy="2109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6084720" y="4365720"/>
            <a:ext cx="2214720" cy="22320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rcRect l="6185" t="0" r="7916" b="0"/>
          <a:stretch/>
        </p:blipFill>
        <p:spPr>
          <a:xfrm>
            <a:off x="4500720" y="260280"/>
            <a:ext cx="1917720" cy="2232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6516720" y="2637000"/>
            <a:ext cx="2340000" cy="122364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6588000" y="2708280"/>
            <a:ext cx="2376720" cy="10652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2124000" y="3213000"/>
            <a:ext cx="1727280" cy="230364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5"/>
          <a:stretch/>
        </p:blipFill>
        <p:spPr>
          <a:xfrm>
            <a:off x="2268360" y="3357720"/>
            <a:ext cx="1362240" cy="2016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79280" y="5734080"/>
            <a:ext cx="540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d9"/>
                </a:solidFill>
                <a:latin typeface="Comic Sans MS"/>
              </a:rPr>
              <a:t>¿Qué falta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843280" y="3213000"/>
            <a:ext cx="2214360" cy="2232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rcRect l="6185" t="0" r="7916" b="0"/>
          <a:stretch/>
        </p:blipFill>
        <p:spPr>
          <a:xfrm>
            <a:off x="6443640" y="4221000"/>
            <a:ext cx="1917720" cy="22323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611280" y="333360"/>
            <a:ext cx="2340000" cy="122400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611280" y="404640"/>
            <a:ext cx="2376360" cy="10652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427640" y="692280"/>
            <a:ext cx="1726920" cy="230328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4500720" y="836640"/>
            <a:ext cx="1361880" cy="2016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79280" y="5734080"/>
            <a:ext cx="540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d9"/>
                </a:solidFill>
                <a:latin typeface="Comic Sans MS"/>
              </a:rPr>
              <a:t>¿Qué falta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rcRect l="6185" t="0" r="7916" b="0"/>
          <a:stretch/>
        </p:blipFill>
        <p:spPr>
          <a:xfrm>
            <a:off x="2124000" y="549360"/>
            <a:ext cx="1917720" cy="2232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050920" y="4149720"/>
            <a:ext cx="2340000" cy="122400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2050920" y="4221000"/>
            <a:ext cx="2376720" cy="10652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6659640" y="1844640"/>
            <a:ext cx="1727280" cy="230364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04000" y="1989000"/>
            <a:ext cx="1362240" cy="20163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79280" y="5734080"/>
            <a:ext cx="540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d9"/>
                </a:solidFill>
                <a:latin typeface="Comic Sans MS"/>
              </a:rPr>
              <a:t>¿Qué falta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rcRect l="6185" t="0" r="7916" b="0"/>
          <a:stretch/>
        </p:blipFill>
        <p:spPr>
          <a:xfrm>
            <a:off x="3851280" y="2997360"/>
            <a:ext cx="1917720" cy="2232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771640" y="333360"/>
            <a:ext cx="1727280" cy="230364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2916360" y="404640"/>
            <a:ext cx="1361880" cy="20163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79280" y="5734080"/>
            <a:ext cx="540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d9"/>
                </a:solidFill>
                <a:latin typeface="Comic Sans MS"/>
              </a:rPr>
              <a:t>¿Qué falta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6185" t="0" r="7916" b="0"/>
          <a:stretch/>
        </p:blipFill>
        <p:spPr>
          <a:xfrm>
            <a:off x="3348000" y="1268280"/>
            <a:ext cx="1917720" cy="2232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79280" y="5734080"/>
            <a:ext cx="540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d9"/>
                </a:solidFill>
                <a:latin typeface="Comic Sans MS"/>
              </a:rPr>
              <a:t>¿Qué falta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826920" y="2924280"/>
            <a:ext cx="2087640" cy="266364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900000" y="2997360"/>
            <a:ext cx="1908360" cy="24476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6516720" y="404640"/>
            <a:ext cx="2197080" cy="21099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250920" y="404640"/>
            <a:ext cx="2214360" cy="22323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rcRect l="6185" t="0" r="7916" b="0"/>
          <a:stretch/>
        </p:blipFill>
        <p:spPr>
          <a:xfrm>
            <a:off x="3564000" y="3284640"/>
            <a:ext cx="1917720" cy="22320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5"/>
          <a:srcRect l="8731" t="11172" r="11150" b="23819"/>
          <a:stretch/>
        </p:blipFill>
        <p:spPr>
          <a:xfrm>
            <a:off x="3419640" y="476280"/>
            <a:ext cx="2484360" cy="2016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6372360" y="2924280"/>
            <a:ext cx="2340000" cy="122400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6"/>
          <a:stretch/>
        </p:blipFill>
        <p:spPr>
          <a:xfrm>
            <a:off x="6372360" y="3068640"/>
            <a:ext cx="2376360" cy="10652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6156360" y="4554360"/>
            <a:ext cx="1727280" cy="230364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7"/>
          <a:stretch/>
        </p:blipFill>
        <p:spPr>
          <a:xfrm>
            <a:off x="6300720" y="4653000"/>
            <a:ext cx="1362240" cy="2016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0" y="5734080"/>
            <a:ext cx="608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d9"/>
                </a:solidFill>
                <a:latin typeface="Comic Sans MS"/>
              </a:rPr>
              <a:t>¿Qué falta? (II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635280" y="333360"/>
            <a:ext cx="2087640" cy="266400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708360" y="404640"/>
            <a:ext cx="1908360" cy="24480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3708360" y="3357720"/>
            <a:ext cx="2197080" cy="21096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6300720" y="189000"/>
            <a:ext cx="2214720" cy="22320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rcRect l="6185" t="0" r="7916" b="0"/>
          <a:stretch/>
        </p:blipFill>
        <p:spPr>
          <a:xfrm>
            <a:off x="6300720" y="4365720"/>
            <a:ext cx="1917720" cy="22320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5"/>
          <a:srcRect l="8731" t="11172" r="11150" b="23819"/>
          <a:stretch/>
        </p:blipFill>
        <p:spPr>
          <a:xfrm>
            <a:off x="468360" y="620640"/>
            <a:ext cx="2484360" cy="20163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539640" y="3645000"/>
            <a:ext cx="2340000" cy="122400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6"/>
          <a:stretch/>
        </p:blipFill>
        <p:spPr>
          <a:xfrm>
            <a:off x="468360" y="3716280"/>
            <a:ext cx="2376360" cy="10652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0" y="5734080"/>
            <a:ext cx="608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d9"/>
                </a:solidFill>
                <a:latin typeface="Comic Sans MS"/>
              </a:rPr>
              <a:t>¿Qué falta? (II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11-01-31T09:16:31Z</dcterms:modified>
  <cp:revision>119</cp:revision>
  <dc:subject/>
  <dc:title>TITLE</dc:title>
</cp:coreProperties>
</file>