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F03-7B8F-4C58-9D2D-B5CAA80056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92F-3D38-4841-B5FF-0023F95500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A93-1EB2-44AF-825B-F6928CD4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3A8-BFD6-4300-BDB5-466AB717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B1C-45BC-4615-AA92-E2281A8D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CC8-AC56-4D83-A87A-907C746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4A9-4DAA-4491-9F92-7B958D73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878-C299-417E-9E42-4CC2F075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DD6-8DFB-4E8A-BD41-C6B5D63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A25-4703-40E8-BE42-708A0C8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E57-AADB-42A6-A4B2-C772D34C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ED6-3882-45D5-B310-2C6D3F7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5D5-AB8A-49B4-B031-B5096D9F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8E4-62D3-45C6-9945-2642344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D2B8-CC27-4490-A5D9-71891BF47F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9144000" cy="68072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LAT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ITALI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FREN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SPAN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u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ch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e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cchi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cc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p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s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ê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m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mb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e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c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c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uch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r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ecch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eil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nocch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o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gi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ig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p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p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mach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ma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oma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umer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l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pau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n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n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508720" y="404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ar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836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2682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17002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ab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213372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56536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pier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299736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p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342900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8720" y="3860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r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292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47242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e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515772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558972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59500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om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64310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43640" y="404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43640" y="836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y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3640" y="12682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43640" y="17002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213372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3640" y="256536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43640" y="299736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342900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3640" y="3860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43640" y="4292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kn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47242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i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3640" y="515772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43640" y="558972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43640" y="59500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shou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3640" y="64310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e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48:19Z</dcterms:modified>
  <cp:revision>152</cp:revision>
  <dc:subject/>
  <dc:title>TITLE</dc:title>
</cp:coreProperties>
</file>