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002-69D7-495E-AC3B-12C2CAFEBA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6C6-E32A-4BD1-9AD3-4401457766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E5C-6C70-4883-BB32-89EA9FD3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BD4-7207-4949-9870-A57337C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4B3-305E-4E05-B844-AF899AA9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518-DAEC-4708-9778-33F09E8A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618-24D4-4C20-9D88-76F281F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697-CBA0-4551-BECE-09DE320F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99F-BC14-4273-8297-AE6E11D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3F6-AAC8-42BF-80E7-F908DE6E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FBC-98BC-4412-B86F-A8CE307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2DC-1D2E-42F4-9149-093D7E46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C25-0C62-4A06-AF38-4FA6A85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3DD-5B6B-46B7-B148-B389551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9C8-94FC-41FF-A1F6-EBFD4D3E72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9144000" cy="68072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LAT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ITALI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FREN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SPAN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9360">
                      <a:solidFill>
                        <a:srgbClr val="fffff7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7"/>
                          </a:solidFill>
                          <a:latin typeface="Comic Sans MS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7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u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ch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e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cch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cc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p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ê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m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b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c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c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uc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ecch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eil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nocch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o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gi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ig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mach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ma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oma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umer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l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pau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508720" y="404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ari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836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268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1700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ab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2133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56536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pi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299736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42900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08720" y="3860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or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2926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rod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47242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5157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558972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stóm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595008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om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6431040"/>
            <a:ext cx="180000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43640" y="404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3640" y="836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3640" y="1268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43640" y="1700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2133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3640" y="256536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43640" y="299736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342900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3640" y="3860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43640" y="42926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kn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47242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3640" y="5157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43640" y="558972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43640" y="595008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shou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3640" y="6431040"/>
            <a:ext cx="1800360" cy="429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e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48:19Z</dcterms:modified>
  <cp:revision>152</cp:revision>
  <dc:subject/>
  <dc:title>TITLE</dc:title>
</cp:coreProperties>
</file>