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D5F4-E940-4234-9808-19D5F137D2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C70-C26F-440A-925D-B8514B98FF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36F-1BFE-4E78-8715-2013047690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F791-FF4C-4AEE-9EB7-C255D0183E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D1F-64D2-4515-8C67-5FACECD9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D9C-BD38-4C16-9B1B-822F5CB3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929-E937-48CF-904A-68D5870A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E49-666A-4785-8294-05BB76B3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396-2636-4E82-B57E-DB558F27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DD4-3C31-4BD8-9A02-586AFC7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887-63BC-4745-B2D0-BC2F5208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295-4BF4-4EDE-BDCB-15A441B3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F56-C130-48E5-99BE-E7CAF23D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BB1-2B70-4E17-93CE-B8885EFA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E0C-40F2-4CA1-A433-9F818461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09E-CBF9-4229-AF60-1BE997A7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1497-B674-45D8-8781-AE43C03E81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4194000"/>
            <a:ext cx="2087640" cy="266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4410000"/>
            <a:ext cx="190800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2627280" y="4292640"/>
            <a:ext cx="191772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rcRect l="8731" t="11172" r="11150" b="23819"/>
          <a:stretch/>
        </p:blipFill>
        <p:spPr>
          <a:xfrm>
            <a:off x="3419640" y="476280"/>
            <a:ext cx="2484360" cy="201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04000" y="422100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767640" y="4292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422100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4365720"/>
            <a:ext cx="1362240" cy="201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2492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2492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24720" y="3429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429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50028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500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539640" y="404640"/>
            <a:ext cx="2880000" cy="233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3645000"/>
            <a:ext cx="8280360" cy="201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237672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56000" y="4508640"/>
            <a:ext cx="2376360" cy="1065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500720" y="3716280"/>
            <a:ext cx="2376360" cy="1065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227640" y="4508640"/>
            <a:ext cx="2376720" cy="1065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rcRect l="8731" t="11172" r="11150" b="23819"/>
          <a:stretch/>
        </p:blipFill>
        <p:spPr>
          <a:xfrm>
            <a:off x="6264360" y="404640"/>
            <a:ext cx="2879640" cy="2337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rcRect l="8731" t="11172" r="11150" b="23819"/>
          <a:stretch/>
        </p:blipFill>
        <p:spPr>
          <a:xfrm>
            <a:off x="3419640" y="404640"/>
            <a:ext cx="287964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8642160" cy="28814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751040" cy="259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050920" y="333360"/>
            <a:ext cx="1751040" cy="2592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708360" y="404640"/>
            <a:ext cx="1751040" cy="2592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435640" y="404640"/>
            <a:ext cx="1751040" cy="259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020000" y="404640"/>
            <a:ext cx="1751040" cy="259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3789360"/>
            <a:ext cx="7993080" cy="2808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95280" y="3933720"/>
            <a:ext cx="2357280" cy="23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987640" y="3933720"/>
            <a:ext cx="2357640" cy="23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5580000" y="4005360"/>
            <a:ext cx="235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20:54Z</dcterms:modified>
  <cp:revision>109</cp:revision>
  <dc:subject/>
  <dc:title>TITLE</dc:title>
</cp:coreProperties>
</file>