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0543-C185-406C-9C26-FD8F414687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7991-310F-41D0-BEBD-1AD630E135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1C82-2D22-4770-AEB8-793BB1218F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A06-737A-46D9-87D3-EA87C92F81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A7D-E40B-46B1-B006-985F4B8D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E26-9098-4522-AE0D-DCF4C6CE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ACC-E713-4694-A1D2-B1695515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EFF-EA9E-47A3-A1CA-A4CBDF10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2AE-FE89-40A1-9CC7-5C06CBD8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E44-3907-459B-9C2B-3111159E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299-5C8D-424B-B0C3-44BB6CA9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6EB-A177-4CBB-ABDE-BED0759B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937-9C43-4453-AA7B-4BC3161D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7AC-1EB7-461E-9277-6F7CB8F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603-F38A-4D7E-BC38-677276B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A65-8BF7-40AB-A549-1A356D1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177D-4AB7-44B2-92FA-6EBB70AF94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4194000"/>
            <a:ext cx="2087640" cy="266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4410000"/>
            <a:ext cx="190800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16720" y="40464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21472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6185" t="0" r="7916" b="0"/>
          <a:stretch/>
        </p:blipFill>
        <p:spPr>
          <a:xfrm>
            <a:off x="2627280" y="4292640"/>
            <a:ext cx="191772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rcRect l="8731" t="11172" r="11150" b="23819"/>
          <a:stretch/>
        </p:blipFill>
        <p:spPr>
          <a:xfrm>
            <a:off x="3419640" y="476280"/>
            <a:ext cx="2484360" cy="201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04000" y="422100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767640" y="429264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422100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003640" y="4365720"/>
            <a:ext cx="1362240" cy="201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03280" y="24922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24922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49228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24720" y="3429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429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50028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5002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8731" t="11172" r="11150" b="23819"/>
          <a:stretch/>
        </p:blipFill>
        <p:spPr>
          <a:xfrm>
            <a:off x="539640" y="404640"/>
            <a:ext cx="2880000" cy="233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3645000"/>
            <a:ext cx="8280360" cy="201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2376720" cy="106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556000" y="4508640"/>
            <a:ext cx="2376360" cy="1065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500720" y="3716280"/>
            <a:ext cx="2376360" cy="1065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227640" y="4508640"/>
            <a:ext cx="2376720" cy="1065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rcRect l="8731" t="11172" r="11150" b="23819"/>
          <a:stretch/>
        </p:blipFill>
        <p:spPr>
          <a:xfrm>
            <a:off x="6264360" y="404640"/>
            <a:ext cx="2879640" cy="2337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rcRect l="8731" t="11172" r="11150" b="23819"/>
          <a:stretch/>
        </p:blipFill>
        <p:spPr>
          <a:xfrm>
            <a:off x="3419640" y="404640"/>
            <a:ext cx="287964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8642160" cy="28814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751040" cy="259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050920" y="333360"/>
            <a:ext cx="1751040" cy="2592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708360" y="404640"/>
            <a:ext cx="1751040" cy="2592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435640" y="404640"/>
            <a:ext cx="1751040" cy="2592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020000" y="404640"/>
            <a:ext cx="1751040" cy="2592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3789360"/>
            <a:ext cx="7993080" cy="2808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95280" y="3933720"/>
            <a:ext cx="2357280" cy="237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987640" y="3933720"/>
            <a:ext cx="2357640" cy="237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5580000" y="4005360"/>
            <a:ext cx="235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1-31T09:20:54Z</dcterms:modified>
  <cp:revision>109</cp:revision>
  <dc:subject/>
  <dc:title>TITLE</dc:title>
</cp:coreProperties>
</file>