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785C-97AD-4864-A0EC-974EC1D5B17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Swim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yc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Horse-ri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Gymna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Basket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Athle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Foot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able tenn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Rug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Squ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enn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Ho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Sai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E9D5-1C4D-426E-B6AA-CB53B542CDA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Swim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yc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Horse-ri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Gymna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Basket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Athle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Foot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able tenn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Rug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Squ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enn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Ho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Sai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6D44-9448-46B4-BCAC-509F683313C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00C9-E718-4675-B26C-65DD7237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DA73-9C7B-4B0B-90B2-691E1615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EC57-75E5-4F94-81B3-9541D771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26F8-60DD-43E9-B656-1F53473E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839-78F0-4501-AD19-7D61F01B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707-216B-4E28-8BAB-EE806157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275F-C16A-464D-8CEA-26FEBA09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734-226F-4651-90F4-6D645DF9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B07D-15D0-46B4-B1C3-BAAFCEB4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C4E3-FBC5-4179-812E-F4F509D0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850-7220-4BC8-83BA-AAE85502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09D8-7988-42FC-A5A8-D3293414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3838-78B3-4E3D-9C11-4136DBEA7B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Deportistas británicos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Adam Peat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Me llamo </a:t>
            </a:r>
            <a:r>
              <a:rPr b="0" lang="en-GB" sz="3200" spc="-1" strike="noStrike">
                <a:solidFill>
                  <a:srgbClr val="9a0000"/>
                </a:solidFill>
                <a:latin typeface="Comic Sans MS"/>
              </a:rPr>
              <a:t>Chris Froom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Pippa Funnel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. Me llamo </a:t>
            </a:r>
            <a:r>
              <a:rPr b="0" lang="en-GB" sz="3200" spc="-1" strike="noStrike">
                <a:solidFill>
                  <a:srgbClr val="9a0000"/>
                </a:solidFill>
                <a:latin typeface="Comic Sans MS"/>
              </a:rPr>
              <a:t>Max Whitlock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Ashley Hamilt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. Me llamo </a:t>
            </a:r>
            <a:r>
              <a:rPr b="0" lang="en-GB" sz="3200" spc="-1" strike="noStrike">
                <a:solidFill>
                  <a:srgbClr val="9a0000"/>
                </a:solidFill>
                <a:latin typeface="Comic Sans MS"/>
              </a:rPr>
              <a:t>Dina Asher-Smi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7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Jordan Pickfo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8. Me llamo </a:t>
            </a:r>
            <a:r>
              <a:rPr b="0" lang="en-GB" sz="3200" spc="-1" strike="noStrike">
                <a:solidFill>
                  <a:srgbClr val="9a0000"/>
                </a:solidFill>
                <a:latin typeface="Comic Sans MS"/>
              </a:rPr>
              <a:t>Will Bayle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9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Owen Farrel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0. Me llamo </a:t>
            </a:r>
            <a:r>
              <a:rPr b="0" lang="en-GB" sz="3200" spc="-1" strike="noStrike">
                <a:solidFill>
                  <a:srgbClr val="9a0000"/>
                </a:solidFill>
                <a:latin typeface="Comic Sans MS"/>
              </a:rPr>
              <a:t>Sarah-Jane Perr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1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Andy Murra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2. Me llamo </a:t>
            </a:r>
            <a:r>
              <a:rPr b="0" lang="en-GB" sz="3200" spc="-1" strike="noStrike">
                <a:solidFill>
                  <a:srgbClr val="9a0000"/>
                </a:solidFill>
                <a:latin typeface="Comic Sans MS"/>
              </a:rPr>
              <a:t>Maddie Hinc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3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Nick Thomps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MC900129223[1]"/>
          <p:cNvPicPr/>
          <p:nvPr/>
        </p:nvPicPr>
        <p:blipFill>
          <a:blip r:embed="rId1"/>
          <a:stretch/>
        </p:blipFill>
        <p:spPr>
          <a:xfrm>
            <a:off x="7380360" y="5799240"/>
            <a:ext cx="1547640" cy="1058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5364000" y="44280"/>
            <a:ext cx="3745080" cy="885960"/>
          </a:xfrm>
          <a:prstGeom prst="rect">
            <a:avLst/>
          </a:prstGeom>
          <a:solidFill>
            <a:srgbClr val="fbf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juego al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+ spor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practico el/la +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spor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Deportistas británicos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Adam Peat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Me llamo </a:t>
            </a:r>
            <a:r>
              <a:rPr b="0" lang="en-GB" sz="3200" spc="-1" strike="noStrike">
                <a:solidFill>
                  <a:srgbClr val="9a0000"/>
                </a:solidFill>
                <a:latin typeface="Comic Sans MS"/>
              </a:rPr>
              <a:t>Chris Froom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Pippa Funnel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. Me llamo </a:t>
            </a:r>
            <a:r>
              <a:rPr b="0" lang="en-GB" sz="3200" spc="-1" strike="noStrike">
                <a:solidFill>
                  <a:srgbClr val="9a0000"/>
                </a:solidFill>
                <a:latin typeface="Comic Sans MS"/>
              </a:rPr>
              <a:t>Max Whitlock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Ashley Hamilt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. Me llamo </a:t>
            </a:r>
            <a:r>
              <a:rPr b="0" lang="en-GB" sz="3200" spc="-1" strike="noStrike">
                <a:solidFill>
                  <a:srgbClr val="9a0000"/>
                </a:solidFill>
                <a:latin typeface="Comic Sans MS"/>
              </a:rPr>
              <a:t>Dina Asher-Smi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7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Jordan Pickfo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8. Me llamo </a:t>
            </a:r>
            <a:r>
              <a:rPr b="0" lang="en-GB" sz="3200" spc="-1" strike="noStrike">
                <a:solidFill>
                  <a:srgbClr val="9a0000"/>
                </a:solidFill>
                <a:latin typeface="Comic Sans MS"/>
              </a:rPr>
              <a:t>Will Bayle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9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Owen Farrel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0. Me llamo </a:t>
            </a:r>
            <a:r>
              <a:rPr b="0" lang="en-GB" sz="3200" spc="-1" strike="noStrike">
                <a:solidFill>
                  <a:srgbClr val="9a0000"/>
                </a:solidFill>
                <a:latin typeface="Comic Sans MS"/>
              </a:rPr>
              <a:t>Sarah-Jane Perr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1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Andy Murra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2. Me llamo </a:t>
            </a:r>
            <a:r>
              <a:rPr b="0" lang="en-GB" sz="3200" spc="-1" strike="noStrike">
                <a:solidFill>
                  <a:srgbClr val="9a0000"/>
                </a:solidFill>
                <a:latin typeface="Comic Sans MS"/>
              </a:rPr>
              <a:t>Maddie Hinc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3. Me llamo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Nick Thomps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y …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9" descr="MC900129223[1]"/>
          <p:cNvPicPr/>
          <p:nvPr/>
        </p:nvPicPr>
        <p:blipFill>
          <a:blip r:embed="rId1"/>
          <a:stretch/>
        </p:blipFill>
        <p:spPr>
          <a:xfrm>
            <a:off x="7380360" y="5799240"/>
            <a:ext cx="1547640" cy="1058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MC900129223[1]"/>
          <p:cNvPicPr/>
          <p:nvPr/>
        </p:nvPicPr>
        <p:blipFill>
          <a:blip r:embed="rId2"/>
          <a:stretch/>
        </p:blipFill>
        <p:spPr>
          <a:xfrm>
            <a:off x="7380360" y="5799240"/>
            <a:ext cx="1547640" cy="105876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5076720" y="549360"/>
            <a:ext cx="3780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actico la natació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5435640" y="1009800"/>
            <a:ext cx="37796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actico el ciclism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292720" y="1558800"/>
            <a:ext cx="3780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actico la equitación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580000" y="2021040"/>
            <a:ext cx="3780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actico la gimnasi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6012000" y="2494080"/>
            <a:ext cx="37796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uego al balonces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6084720" y="2965320"/>
            <a:ext cx="3780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actico el atletism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6012000" y="3505320"/>
            <a:ext cx="37796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uego al fútbo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5003640" y="3998880"/>
            <a:ext cx="3781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uego al tenis de mes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5364000" y="4460760"/>
            <a:ext cx="3780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uego al rug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6443640" y="4967280"/>
            <a:ext cx="3780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uego al squas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5435640" y="5438880"/>
            <a:ext cx="37796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uego al ten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16"/>
          <p:cNvSpPr/>
          <p:nvPr/>
        </p:nvSpPr>
        <p:spPr>
          <a:xfrm>
            <a:off x="5651640" y="5918040"/>
            <a:ext cx="37796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uego al hocke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5940360" y="6411960"/>
            <a:ext cx="3780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actico la vel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3-26T10:13:37Z</dcterms:modified>
  <cp:revision>174</cp:revision>
  <dc:subject/>
  <dc:title>TITLE</dc:title>
</cp:coreProperties>
</file>