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A49F-A60E-4DE1-AC5E-891EB0DD38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wi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yc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rse-r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Gymna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Basket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Athle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Foot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able tenn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Rug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enn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ai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3E94-F134-42D0-B52E-1CE6122C181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wi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yc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rse-r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Gymna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Basket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Athle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Foot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able tenn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Rug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enn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ai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60F6-8571-48BD-BAB3-EF672DB332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BDA-3D73-4A60-9011-FFBA3E10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992-9C15-466D-9282-9C012159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B51-A7AE-4953-8BBA-91535C3E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044-FD0D-4598-BA27-8D1835AB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AB64-E953-44CC-8BF4-B343E7B7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8ED-1E74-4395-9AB0-25FB92F8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CBD-A476-49EF-A048-50EBB638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6E2-F65B-47E2-8E76-DA8156DE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E2B-7A4F-4968-BB67-4FC699E5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586-B595-44B1-8504-6EA89EB4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CA1-372A-4378-BE3C-E6C8B526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030-ABDF-4AC8-AEA9-82D95C76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A1C8-4FB3-4C41-9528-63A530DBC7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Deportistas británicos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Adam Peat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Chris Froom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Pippa Funnel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Max Whitlock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Ashley Hamilt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Dina Asher-Smi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7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Jordan Pickfo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8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Will Bayle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9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Owen Farrel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0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Sarah-Jane Perr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1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Andy Murra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2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Maddie Hinc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3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Nick Thomps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MC900129223[1]"/>
          <p:cNvPicPr/>
          <p:nvPr/>
        </p:nvPicPr>
        <p:blipFill>
          <a:blip r:embed="rId1"/>
          <a:stretch/>
        </p:blipFill>
        <p:spPr>
          <a:xfrm>
            <a:off x="7380360" y="5799240"/>
            <a:ext cx="1547640" cy="1058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5364000" y="44280"/>
            <a:ext cx="3745080" cy="885960"/>
          </a:xfrm>
          <a:prstGeom prst="rect">
            <a:avLst/>
          </a:prstGeom>
          <a:solidFill>
            <a:srgbClr val="fbf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juego al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+ spor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practico el/la +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por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Deportistas británicos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Adam Peat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Chris Froom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Pippa Funnel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Max Whitlock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Ashley Hamilt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Dina Asher-Smi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7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Jordan Pickfo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8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Will Bayle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9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Owen Farrel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0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Sarah-Jane Perr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1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Andy Murra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2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Maddie Hinc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3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Nick Thomps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9" descr="MC900129223[1]"/>
          <p:cNvPicPr/>
          <p:nvPr/>
        </p:nvPicPr>
        <p:blipFill>
          <a:blip r:embed="rId1"/>
          <a:stretch/>
        </p:blipFill>
        <p:spPr>
          <a:xfrm>
            <a:off x="7380360" y="5799240"/>
            <a:ext cx="1547640" cy="1058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MC900129223[1]"/>
          <p:cNvPicPr/>
          <p:nvPr/>
        </p:nvPicPr>
        <p:blipFill>
          <a:blip r:embed="rId2"/>
          <a:stretch/>
        </p:blipFill>
        <p:spPr>
          <a:xfrm>
            <a:off x="7380360" y="5799240"/>
            <a:ext cx="1547640" cy="105876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5076720" y="549360"/>
            <a:ext cx="3780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actico la natació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5435640" y="1009800"/>
            <a:ext cx="37796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actico el ciclism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292720" y="1558800"/>
            <a:ext cx="3780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actico la equitación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580000" y="2021040"/>
            <a:ext cx="3780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actico la gimnasi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6012000" y="2494080"/>
            <a:ext cx="37796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uego al balonces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084720" y="2965320"/>
            <a:ext cx="3780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actico el atletism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6012000" y="3505320"/>
            <a:ext cx="37796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uego al fútbo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003640" y="3998880"/>
            <a:ext cx="3781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uego al tenis de mes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5364000" y="4460760"/>
            <a:ext cx="3780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uego al rug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6443640" y="4967280"/>
            <a:ext cx="3780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uego al squas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5435640" y="5438880"/>
            <a:ext cx="37796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uego al ten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6"/>
          <p:cNvSpPr/>
          <p:nvPr/>
        </p:nvSpPr>
        <p:spPr>
          <a:xfrm>
            <a:off x="5651640" y="5918040"/>
            <a:ext cx="37796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uego al hocke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5940360" y="6411960"/>
            <a:ext cx="3780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actico la vel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13:37Z</dcterms:modified>
  <cp:revision>174</cp:revision>
  <dc:subject/>
  <dc:title>TITLE</dc:title>
</cp:coreProperties>
</file>